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22E-4B00-4DF5-B653-3A385F40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855-A6B9-4B5A-9714-DFD105DC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80B-90B2-4E6D-BCE8-994FDD08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DFE-66A8-41F0-A160-18460F70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D14-9C4F-4DED-A9CB-B7AAF71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05F-641B-483B-8850-0FFBE14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796-C956-4984-BD40-41F1E44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E42-61E4-4797-AE43-AD40D414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DE4-CE39-42D8-83F3-DD66FF9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F35-28FC-475C-84F5-4ABD72D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FE2-239F-402E-88AB-B0076FB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5D2-582D-4B48-AA13-106BE88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97B-B6F7-4E54-97CF-352406AC8C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beason/Desktop/Part_Two__Identities.as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November 24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Give back/Go over tes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97000" y="3340080"/>
            <a:ext cx="384120" cy="419040"/>
          </a:xfrm>
          <a:custGeom>
            <a:avLst/>
            <a:gdLst/>
            <a:ahLst/>
            <a:rect l="l" t="t" r="r" b="b"/>
            <a:pathLst>
              <a:path w="1067" h="1167">
                <a:moveTo>
                  <a:pt x="3497" y="9277"/>
                </a:moveTo>
                <a:cubicBezTo>
                  <a:pt x="3497" y="9336"/>
                  <a:pt x="3487" y="9376"/>
                  <a:pt x="3473" y="9426"/>
                </a:cubicBezTo>
                <a:cubicBezTo>
                  <a:pt x="3457" y="9482"/>
                  <a:pt x="3433" y="9565"/>
                  <a:pt x="3423" y="9624"/>
                </a:cubicBezTo>
                <a:cubicBezTo>
                  <a:pt x="3412" y="9684"/>
                  <a:pt x="3383" y="9747"/>
                  <a:pt x="3373" y="9798"/>
                </a:cubicBezTo>
                <a:cubicBezTo>
                  <a:pt x="3362" y="9851"/>
                  <a:pt x="3379" y="9903"/>
                  <a:pt x="3349" y="9947"/>
                </a:cubicBezTo>
                <a:cubicBezTo>
                  <a:pt x="3314" y="9999"/>
                  <a:pt x="3308" y="9994"/>
                  <a:pt x="3349" y="9947"/>
                </a:cubicBezTo>
                <a:cubicBezTo>
                  <a:pt x="3379" y="9913"/>
                  <a:pt x="3405" y="9922"/>
                  <a:pt x="3448" y="9922"/>
                </a:cubicBezTo>
                <a:cubicBezTo>
                  <a:pt x="3513" y="9922"/>
                  <a:pt x="3558" y="9943"/>
                  <a:pt x="3621" y="9947"/>
                </a:cubicBezTo>
                <a:cubicBezTo>
                  <a:pt x="3704" y="9952"/>
                  <a:pt x="3771" y="9930"/>
                  <a:pt x="3845" y="9922"/>
                </a:cubicBezTo>
                <a:cubicBezTo>
                  <a:pt x="3922" y="9914"/>
                  <a:pt x="3996" y="9904"/>
                  <a:pt x="4068" y="9897"/>
                </a:cubicBezTo>
                <a:cubicBezTo>
                  <a:pt x="4105" y="9893"/>
                  <a:pt x="4139" y="9871"/>
                  <a:pt x="4167" y="9847"/>
                </a:cubicBezTo>
                <a:cubicBezTo>
                  <a:pt x="4175" y="9839"/>
                  <a:pt x="4184" y="9831"/>
                  <a:pt x="4192" y="9823"/>
                </a:cubicBezTo>
              </a:path>
              <a:path w="1067" h="1167">
                <a:moveTo>
                  <a:pt x="4167" y="9302"/>
                </a:moveTo>
                <a:cubicBezTo>
                  <a:pt x="4159" y="9360"/>
                  <a:pt x="4155" y="9414"/>
                  <a:pt x="4142" y="9475"/>
                </a:cubicBezTo>
                <a:cubicBezTo>
                  <a:pt x="4118" y="9589"/>
                  <a:pt x="4097" y="9706"/>
                  <a:pt x="4093" y="9823"/>
                </a:cubicBezTo>
                <a:cubicBezTo>
                  <a:pt x="4089" y="9935"/>
                  <a:pt x="4073" y="10036"/>
                  <a:pt x="4068" y="10145"/>
                </a:cubicBezTo>
                <a:cubicBezTo>
                  <a:pt x="4065" y="10216"/>
                  <a:pt x="4043" y="10270"/>
                  <a:pt x="4043" y="10344"/>
                </a:cubicBezTo>
                <a:cubicBezTo>
                  <a:pt x="4043" y="10377"/>
                  <a:pt x="4043" y="10410"/>
                  <a:pt x="4043" y="10443"/>
                </a:cubicBezTo>
              </a:path>
              <a:path w="1067" h="1167">
                <a:moveTo>
                  <a:pt x="4390" y="10368"/>
                </a:moveTo>
                <a:cubicBezTo>
                  <a:pt x="4368" y="10346"/>
                  <a:pt x="4360" y="10341"/>
                  <a:pt x="4366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47880" y="3295800"/>
            <a:ext cx="2921040" cy="544320"/>
          </a:xfrm>
          <a:custGeom>
            <a:avLst/>
            <a:gdLst/>
            <a:ahLst/>
            <a:rect l="l" t="t" r="r" b="b"/>
            <a:pathLst>
              <a:path w="8112" h="1514">
                <a:moveTo>
                  <a:pt x="5259" y="9550"/>
                </a:moveTo>
                <a:cubicBezTo>
                  <a:pt x="5259" y="9591"/>
                  <a:pt x="5259" y="9599"/>
                  <a:pt x="5259" y="9624"/>
                </a:cubicBezTo>
                <a:cubicBezTo>
                  <a:pt x="5259" y="9568"/>
                  <a:pt x="5265" y="9546"/>
                  <a:pt x="5283" y="9500"/>
                </a:cubicBezTo>
                <a:cubicBezTo>
                  <a:pt x="5315" y="9419"/>
                  <a:pt x="5316" y="9416"/>
                  <a:pt x="5358" y="9351"/>
                </a:cubicBezTo>
                <a:cubicBezTo>
                  <a:pt x="5395" y="9294"/>
                  <a:pt x="5412" y="9286"/>
                  <a:pt x="5457" y="9252"/>
                </a:cubicBezTo>
                <a:cubicBezTo>
                  <a:pt x="5498" y="9221"/>
                  <a:pt x="5530" y="9227"/>
                  <a:pt x="5581" y="9227"/>
                </a:cubicBezTo>
                <a:cubicBezTo>
                  <a:pt x="5621" y="9227"/>
                  <a:pt x="5691" y="9253"/>
                  <a:pt x="5705" y="9302"/>
                </a:cubicBezTo>
                <a:cubicBezTo>
                  <a:pt x="5725" y="9371"/>
                  <a:pt x="5751" y="9421"/>
                  <a:pt x="5755" y="9500"/>
                </a:cubicBezTo>
                <a:cubicBezTo>
                  <a:pt x="5760" y="9596"/>
                  <a:pt x="5757" y="9682"/>
                  <a:pt x="5730" y="9773"/>
                </a:cubicBezTo>
                <a:cubicBezTo>
                  <a:pt x="5682" y="9934"/>
                  <a:pt x="5639" y="10064"/>
                  <a:pt x="5531" y="10195"/>
                </a:cubicBezTo>
                <a:cubicBezTo>
                  <a:pt x="5481" y="10256"/>
                  <a:pt x="5422" y="10331"/>
                  <a:pt x="5358" y="10368"/>
                </a:cubicBezTo>
                <a:cubicBezTo>
                  <a:pt x="5303" y="10400"/>
                  <a:pt x="5248" y="10413"/>
                  <a:pt x="5209" y="10393"/>
                </a:cubicBezTo>
                <a:cubicBezTo>
                  <a:pt x="5154" y="10366"/>
                  <a:pt x="5139" y="10366"/>
                  <a:pt x="5135" y="10294"/>
                </a:cubicBezTo>
                <a:cubicBezTo>
                  <a:pt x="5132" y="10244"/>
                  <a:pt x="5152" y="10208"/>
                  <a:pt x="5159" y="10170"/>
                </a:cubicBezTo>
                <a:cubicBezTo>
                  <a:pt x="5168" y="10123"/>
                  <a:pt x="5192" y="10057"/>
                  <a:pt x="5234" y="10021"/>
                </a:cubicBezTo>
                <a:cubicBezTo>
                  <a:pt x="5251" y="10006"/>
                  <a:pt x="5303" y="9989"/>
                  <a:pt x="5333" y="9996"/>
                </a:cubicBezTo>
                <a:cubicBezTo>
                  <a:pt x="5397" y="10011"/>
                  <a:pt x="5414" y="10023"/>
                  <a:pt x="5457" y="10071"/>
                </a:cubicBezTo>
                <a:cubicBezTo>
                  <a:pt x="5492" y="10110"/>
                  <a:pt x="5506" y="10170"/>
                  <a:pt x="5531" y="10220"/>
                </a:cubicBezTo>
                <a:cubicBezTo>
                  <a:pt x="5554" y="10267"/>
                  <a:pt x="5542" y="10314"/>
                  <a:pt x="5556" y="10368"/>
                </a:cubicBezTo>
                <a:cubicBezTo>
                  <a:pt x="5585" y="10478"/>
                  <a:pt x="5592" y="10396"/>
                  <a:pt x="5606" y="10393"/>
                </a:cubicBezTo>
              </a:path>
              <a:path w="8112" h="1514">
                <a:moveTo>
                  <a:pt x="6400" y="9748"/>
                </a:moveTo>
                <a:cubicBezTo>
                  <a:pt x="6343" y="9748"/>
                  <a:pt x="6325" y="9760"/>
                  <a:pt x="6300" y="9773"/>
                </a:cubicBezTo>
                <a:cubicBezTo>
                  <a:pt x="6270" y="9788"/>
                  <a:pt x="6207" y="9812"/>
                  <a:pt x="6176" y="9823"/>
                </a:cubicBezTo>
                <a:cubicBezTo>
                  <a:pt x="6144" y="9834"/>
                  <a:pt x="6146" y="9862"/>
                  <a:pt x="6127" y="9872"/>
                </a:cubicBezTo>
                <a:cubicBezTo>
                  <a:pt x="6102" y="9872"/>
                  <a:pt x="6094" y="9872"/>
                  <a:pt x="6102" y="9897"/>
                </a:cubicBezTo>
                <a:cubicBezTo>
                  <a:pt x="6115" y="9936"/>
                  <a:pt x="6141" y="9924"/>
                  <a:pt x="6176" y="9947"/>
                </a:cubicBezTo>
                <a:cubicBezTo>
                  <a:pt x="6200" y="9963"/>
                  <a:pt x="6249" y="10013"/>
                  <a:pt x="6276" y="10021"/>
                </a:cubicBezTo>
                <a:cubicBezTo>
                  <a:pt x="6336" y="10038"/>
                  <a:pt x="6371" y="10049"/>
                  <a:pt x="6424" y="10096"/>
                </a:cubicBezTo>
                <a:cubicBezTo>
                  <a:pt x="6480" y="10146"/>
                  <a:pt x="6483" y="10203"/>
                  <a:pt x="6474" y="10244"/>
                </a:cubicBezTo>
                <a:cubicBezTo>
                  <a:pt x="6464" y="10288"/>
                  <a:pt x="6438" y="10297"/>
                  <a:pt x="6400" y="10319"/>
                </a:cubicBezTo>
                <a:cubicBezTo>
                  <a:pt x="6349" y="10349"/>
                  <a:pt x="6282" y="10365"/>
                  <a:pt x="6226" y="10368"/>
                </a:cubicBezTo>
                <a:cubicBezTo>
                  <a:pt x="6172" y="10371"/>
                  <a:pt x="6096" y="10366"/>
                  <a:pt x="6052" y="10344"/>
                </a:cubicBezTo>
                <a:cubicBezTo>
                  <a:pt x="6017" y="10326"/>
                  <a:pt x="5992" y="10296"/>
                  <a:pt x="5978" y="10269"/>
                </a:cubicBezTo>
                <a:cubicBezTo>
                  <a:pt x="6003" y="10244"/>
                  <a:pt x="6028" y="10220"/>
                  <a:pt x="6052" y="10195"/>
                </a:cubicBezTo>
              </a:path>
              <a:path w="8112" h="1514">
                <a:moveTo>
                  <a:pt x="6796" y="9823"/>
                </a:moveTo>
                <a:cubicBezTo>
                  <a:pt x="6778" y="9886"/>
                  <a:pt x="6757" y="9959"/>
                  <a:pt x="6747" y="10021"/>
                </a:cubicBezTo>
                <a:cubicBezTo>
                  <a:pt x="6735" y="10096"/>
                  <a:pt x="6703" y="10191"/>
                  <a:pt x="6722" y="10269"/>
                </a:cubicBezTo>
                <a:cubicBezTo>
                  <a:pt x="6732" y="10311"/>
                  <a:pt x="6747" y="10436"/>
                  <a:pt x="6747" y="10393"/>
                </a:cubicBezTo>
                <a:cubicBezTo>
                  <a:pt x="6747" y="10335"/>
                  <a:pt x="6747" y="10278"/>
                  <a:pt x="6747" y="10220"/>
                </a:cubicBezTo>
              </a:path>
              <a:path w="8112" h="1514">
                <a:moveTo>
                  <a:pt x="6896" y="9475"/>
                </a:moveTo>
                <a:cubicBezTo>
                  <a:pt x="6921" y="9443"/>
                  <a:pt x="6928" y="9399"/>
                  <a:pt x="6945" y="9451"/>
                </a:cubicBezTo>
              </a:path>
              <a:path w="8112" h="1514">
                <a:moveTo>
                  <a:pt x="7020" y="10170"/>
                </a:moveTo>
                <a:cubicBezTo>
                  <a:pt x="7005" y="10256"/>
                  <a:pt x="6993" y="10324"/>
                  <a:pt x="6970" y="10393"/>
                </a:cubicBezTo>
                <a:cubicBezTo>
                  <a:pt x="6970" y="10401"/>
                  <a:pt x="6970" y="10410"/>
                  <a:pt x="6970" y="10418"/>
                </a:cubicBezTo>
                <a:cubicBezTo>
                  <a:pt x="6970" y="10360"/>
                  <a:pt x="6986" y="10315"/>
                  <a:pt x="6995" y="10269"/>
                </a:cubicBezTo>
                <a:cubicBezTo>
                  <a:pt x="7008" y="10203"/>
                  <a:pt x="6999" y="10135"/>
                  <a:pt x="7020" y="10071"/>
                </a:cubicBezTo>
                <a:cubicBezTo>
                  <a:pt x="7045" y="9997"/>
                  <a:pt x="7086" y="9920"/>
                  <a:pt x="7119" y="9847"/>
                </a:cubicBezTo>
                <a:cubicBezTo>
                  <a:pt x="7143" y="9795"/>
                  <a:pt x="7190" y="9744"/>
                  <a:pt x="7243" y="9723"/>
                </a:cubicBezTo>
                <a:cubicBezTo>
                  <a:pt x="7287" y="9705"/>
                  <a:pt x="7328" y="9697"/>
                  <a:pt x="7367" y="9723"/>
                </a:cubicBezTo>
                <a:cubicBezTo>
                  <a:pt x="7411" y="9752"/>
                  <a:pt x="7442" y="9803"/>
                  <a:pt x="7466" y="9847"/>
                </a:cubicBezTo>
                <a:cubicBezTo>
                  <a:pt x="7491" y="9894"/>
                  <a:pt x="7521" y="10025"/>
                  <a:pt x="7516" y="10071"/>
                </a:cubicBezTo>
                <a:cubicBezTo>
                  <a:pt x="7510" y="10129"/>
                  <a:pt x="7508" y="10234"/>
                  <a:pt x="7491" y="10294"/>
                </a:cubicBezTo>
                <a:cubicBezTo>
                  <a:pt x="7478" y="10342"/>
                  <a:pt x="7465" y="10427"/>
                  <a:pt x="7441" y="10468"/>
                </a:cubicBezTo>
                <a:cubicBezTo>
                  <a:pt x="7419" y="10505"/>
                  <a:pt x="7417" y="10497"/>
                  <a:pt x="7417" y="10542"/>
                </a:cubicBezTo>
                <a:cubicBezTo>
                  <a:pt x="7427" y="10501"/>
                  <a:pt x="7458" y="10456"/>
                  <a:pt x="7466" y="10418"/>
                </a:cubicBezTo>
                <a:cubicBezTo>
                  <a:pt x="7466" y="10351"/>
                  <a:pt x="7470" y="10317"/>
                  <a:pt x="7491" y="10269"/>
                </a:cubicBezTo>
              </a:path>
              <a:path w="8112" h="1514">
                <a:moveTo>
                  <a:pt x="7689" y="9302"/>
                </a:moveTo>
                <a:cubicBezTo>
                  <a:pt x="7740" y="9229"/>
                  <a:pt x="7754" y="9218"/>
                  <a:pt x="7813" y="9178"/>
                </a:cubicBezTo>
                <a:cubicBezTo>
                  <a:pt x="7861" y="9145"/>
                  <a:pt x="7901" y="9153"/>
                  <a:pt x="7962" y="9153"/>
                </a:cubicBezTo>
                <a:cubicBezTo>
                  <a:pt x="7992" y="9153"/>
                  <a:pt x="8008" y="9194"/>
                  <a:pt x="8012" y="9227"/>
                </a:cubicBezTo>
                <a:cubicBezTo>
                  <a:pt x="8019" y="9289"/>
                  <a:pt x="7999" y="9327"/>
                  <a:pt x="7962" y="9376"/>
                </a:cubicBezTo>
                <a:cubicBezTo>
                  <a:pt x="7927" y="9424"/>
                  <a:pt x="7883" y="9442"/>
                  <a:pt x="7838" y="9475"/>
                </a:cubicBezTo>
                <a:cubicBezTo>
                  <a:pt x="7802" y="9502"/>
                  <a:pt x="7774" y="9536"/>
                  <a:pt x="7764" y="9575"/>
                </a:cubicBezTo>
                <a:cubicBezTo>
                  <a:pt x="7809" y="9575"/>
                  <a:pt x="7822" y="9555"/>
                  <a:pt x="7863" y="9550"/>
                </a:cubicBezTo>
                <a:cubicBezTo>
                  <a:pt x="7903" y="9546"/>
                  <a:pt x="7917" y="9525"/>
                  <a:pt x="7962" y="9525"/>
                </a:cubicBezTo>
                <a:cubicBezTo>
                  <a:pt x="7987" y="9525"/>
                  <a:pt x="7995" y="9525"/>
                  <a:pt x="8012" y="9525"/>
                </a:cubicBezTo>
              </a:path>
              <a:path w="8112" h="1514">
                <a:moveTo>
                  <a:pt x="8136" y="9798"/>
                </a:moveTo>
                <a:cubicBezTo>
                  <a:pt x="8136" y="9859"/>
                  <a:pt x="8157" y="9878"/>
                  <a:pt x="8161" y="9947"/>
                </a:cubicBezTo>
                <a:cubicBezTo>
                  <a:pt x="8165" y="10019"/>
                  <a:pt x="8199" y="10077"/>
                  <a:pt x="8210" y="10145"/>
                </a:cubicBezTo>
                <a:cubicBezTo>
                  <a:pt x="8224" y="10232"/>
                  <a:pt x="8288" y="10272"/>
                  <a:pt x="8310" y="10344"/>
                </a:cubicBezTo>
                <a:cubicBezTo>
                  <a:pt x="8339" y="10438"/>
                  <a:pt x="8344" y="10483"/>
                  <a:pt x="8409" y="10567"/>
                </a:cubicBezTo>
                <a:cubicBezTo>
                  <a:pt x="8433" y="10598"/>
                  <a:pt x="8431" y="10695"/>
                  <a:pt x="8458" y="10666"/>
                </a:cubicBezTo>
                <a:cubicBezTo>
                  <a:pt x="8458" y="10641"/>
                  <a:pt x="8458" y="10633"/>
                  <a:pt x="8458" y="10616"/>
                </a:cubicBezTo>
              </a:path>
              <a:path w="8112" h="1514">
                <a:moveTo>
                  <a:pt x="8508" y="9872"/>
                </a:moveTo>
                <a:cubicBezTo>
                  <a:pt x="8534" y="9872"/>
                  <a:pt x="8519" y="9906"/>
                  <a:pt x="8483" y="9947"/>
                </a:cubicBezTo>
                <a:cubicBezTo>
                  <a:pt x="8436" y="10001"/>
                  <a:pt x="8375" y="10061"/>
                  <a:pt x="8334" y="10120"/>
                </a:cubicBezTo>
                <a:cubicBezTo>
                  <a:pt x="8289" y="10185"/>
                  <a:pt x="8230" y="10238"/>
                  <a:pt x="8186" y="10294"/>
                </a:cubicBezTo>
                <a:cubicBezTo>
                  <a:pt x="8146" y="10345"/>
                  <a:pt x="8109" y="10395"/>
                  <a:pt x="8062" y="10443"/>
                </a:cubicBezTo>
                <a:cubicBezTo>
                  <a:pt x="8027" y="10479"/>
                  <a:pt x="7999" y="10489"/>
                  <a:pt x="7962" y="10517"/>
                </a:cubicBezTo>
                <a:cubicBezTo>
                  <a:pt x="7973" y="10483"/>
                  <a:pt x="8002" y="10489"/>
                  <a:pt x="8012" y="10468"/>
                </a:cubicBezTo>
                <a:cubicBezTo>
                  <a:pt x="8012" y="10440"/>
                  <a:pt x="8014" y="10429"/>
                  <a:pt x="8037" y="10418"/>
                </a:cubicBezTo>
              </a:path>
              <a:path w="8112" h="1514">
                <a:moveTo>
                  <a:pt x="8731" y="10145"/>
                </a:moveTo>
                <a:cubicBezTo>
                  <a:pt x="8832" y="10127"/>
                  <a:pt x="8904" y="10120"/>
                  <a:pt x="9004" y="10120"/>
                </a:cubicBezTo>
                <a:cubicBezTo>
                  <a:pt x="9066" y="10120"/>
                  <a:pt x="9101" y="10111"/>
                  <a:pt x="9153" y="10096"/>
                </a:cubicBezTo>
                <a:cubicBezTo>
                  <a:pt x="9178" y="10096"/>
                  <a:pt x="9186" y="10096"/>
                  <a:pt x="9203" y="10096"/>
                </a:cubicBezTo>
              </a:path>
              <a:path w="8112" h="1514">
                <a:moveTo>
                  <a:pt x="9649" y="9624"/>
                </a:moveTo>
                <a:cubicBezTo>
                  <a:pt x="9704" y="9555"/>
                  <a:pt x="9748" y="9520"/>
                  <a:pt x="9823" y="9475"/>
                </a:cubicBezTo>
                <a:cubicBezTo>
                  <a:pt x="9883" y="9439"/>
                  <a:pt x="9927" y="9426"/>
                  <a:pt x="9996" y="9426"/>
                </a:cubicBezTo>
                <a:cubicBezTo>
                  <a:pt x="10042" y="9426"/>
                  <a:pt x="10114" y="9439"/>
                  <a:pt x="10145" y="9475"/>
                </a:cubicBezTo>
                <a:cubicBezTo>
                  <a:pt x="10189" y="9525"/>
                  <a:pt x="10170" y="9613"/>
                  <a:pt x="10170" y="9674"/>
                </a:cubicBezTo>
                <a:cubicBezTo>
                  <a:pt x="10170" y="9774"/>
                  <a:pt x="10166" y="9875"/>
                  <a:pt x="10145" y="9971"/>
                </a:cubicBezTo>
                <a:cubicBezTo>
                  <a:pt x="10124" y="10064"/>
                  <a:pt x="10074" y="10170"/>
                  <a:pt x="10021" y="10244"/>
                </a:cubicBezTo>
                <a:cubicBezTo>
                  <a:pt x="9971" y="10314"/>
                  <a:pt x="9923" y="10375"/>
                  <a:pt x="9847" y="10418"/>
                </a:cubicBezTo>
                <a:cubicBezTo>
                  <a:pt x="9810" y="10439"/>
                  <a:pt x="9740" y="10494"/>
                  <a:pt x="9699" y="10492"/>
                </a:cubicBezTo>
                <a:cubicBezTo>
                  <a:pt x="9653" y="10490"/>
                  <a:pt x="9604" y="10460"/>
                  <a:pt x="9599" y="10418"/>
                </a:cubicBezTo>
                <a:cubicBezTo>
                  <a:pt x="9593" y="10367"/>
                  <a:pt x="9601" y="10315"/>
                  <a:pt x="9624" y="10269"/>
                </a:cubicBezTo>
                <a:cubicBezTo>
                  <a:pt x="9642" y="10232"/>
                  <a:pt x="9737" y="10223"/>
                  <a:pt x="9773" y="10220"/>
                </a:cubicBezTo>
                <a:cubicBezTo>
                  <a:pt x="9828" y="10216"/>
                  <a:pt x="9880" y="10211"/>
                  <a:pt x="9922" y="10244"/>
                </a:cubicBezTo>
                <a:cubicBezTo>
                  <a:pt x="9967" y="10280"/>
                  <a:pt x="9988" y="10324"/>
                  <a:pt x="10021" y="10368"/>
                </a:cubicBezTo>
                <a:cubicBezTo>
                  <a:pt x="10052" y="10409"/>
                  <a:pt x="10051" y="10433"/>
                  <a:pt x="10071" y="10468"/>
                </a:cubicBezTo>
                <a:cubicBezTo>
                  <a:pt x="10113" y="10542"/>
                  <a:pt x="10089" y="10492"/>
                  <a:pt x="10120" y="10468"/>
                </a:cubicBezTo>
                <a:cubicBezTo>
                  <a:pt x="10137" y="10460"/>
                  <a:pt x="10153" y="10451"/>
                  <a:pt x="10170" y="10443"/>
                </a:cubicBezTo>
              </a:path>
              <a:path w="8112" h="1514">
                <a:moveTo>
                  <a:pt x="10716" y="9971"/>
                </a:moveTo>
                <a:cubicBezTo>
                  <a:pt x="10665" y="9935"/>
                  <a:pt x="10662" y="9936"/>
                  <a:pt x="10616" y="9947"/>
                </a:cubicBezTo>
                <a:cubicBezTo>
                  <a:pt x="10588" y="9953"/>
                  <a:pt x="10572" y="9969"/>
                  <a:pt x="10542" y="9996"/>
                </a:cubicBezTo>
                <a:cubicBezTo>
                  <a:pt x="10521" y="10014"/>
                  <a:pt x="10500" y="10066"/>
                  <a:pt x="10517" y="10096"/>
                </a:cubicBezTo>
                <a:cubicBezTo>
                  <a:pt x="10551" y="10156"/>
                  <a:pt x="10586" y="10182"/>
                  <a:pt x="10641" y="10220"/>
                </a:cubicBezTo>
                <a:cubicBezTo>
                  <a:pt x="10725" y="10279"/>
                  <a:pt x="10784" y="10343"/>
                  <a:pt x="10815" y="10443"/>
                </a:cubicBezTo>
                <a:cubicBezTo>
                  <a:pt x="10827" y="10483"/>
                  <a:pt x="10770" y="10515"/>
                  <a:pt x="10740" y="10517"/>
                </a:cubicBezTo>
                <a:cubicBezTo>
                  <a:pt x="10673" y="10522"/>
                  <a:pt x="10600" y="10527"/>
                  <a:pt x="10542" y="10492"/>
                </a:cubicBezTo>
                <a:cubicBezTo>
                  <a:pt x="10503" y="10468"/>
                  <a:pt x="10441" y="10470"/>
                  <a:pt x="10418" y="10418"/>
                </a:cubicBezTo>
                <a:cubicBezTo>
                  <a:pt x="10397" y="10371"/>
                  <a:pt x="10494" y="10354"/>
                  <a:pt x="10517" y="10344"/>
                </a:cubicBezTo>
              </a:path>
              <a:path w="8112" h="1514">
                <a:moveTo>
                  <a:pt x="11063" y="9996"/>
                </a:moveTo>
                <a:cubicBezTo>
                  <a:pt x="11063" y="10090"/>
                  <a:pt x="11043" y="10157"/>
                  <a:pt x="11038" y="10244"/>
                </a:cubicBezTo>
                <a:cubicBezTo>
                  <a:pt x="11032" y="10351"/>
                  <a:pt x="11038" y="10460"/>
                  <a:pt x="11038" y="10567"/>
                </a:cubicBezTo>
                <a:cubicBezTo>
                  <a:pt x="11071" y="10523"/>
                  <a:pt x="11063" y="10501"/>
                  <a:pt x="11063" y="10443"/>
                </a:cubicBezTo>
              </a:path>
              <a:path w="8112" h="1514">
                <a:moveTo>
                  <a:pt x="11212" y="9699"/>
                </a:moveTo>
                <a:cubicBezTo>
                  <a:pt x="11248" y="9645"/>
                  <a:pt x="11258" y="9622"/>
                  <a:pt x="11311" y="9649"/>
                </a:cubicBezTo>
              </a:path>
              <a:path w="8112" h="1514">
                <a:moveTo>
                  <a:pt x="11311" y="10344"/>
                </a:moveTo>
                <a:cubicBezTo>
                  <a:pt x="11311" y="10402"/>
                  <a:pt x="11311" y="10459"/>
                  <a:pt x="11311" y="10517"/>
                </a:cubicBezTo>
                <a:cubicBezTo>
                  <a:pt x="11311" y="10454"/>
                  <a:pt x="11332" y="10427"/>
                  <a:pt x="11336" y="10368"/>
                </a:cubicBezTo>
                <a:cubicBezTo>
                  <a:pt x="11339" y="10310"/>
                  <a:pt x="11375" y="10271"/>
                  <a:pt x="11385" y="10220"/>
                </a:cubicBezTo>
                <a:cubicBezTo>
                  <a:pt x="11397" y="10158"/>
                  <a:pt x="11414" y="10122"/>
                  <a:pt x="11460" y="10071"/>
                </a:cubicBezTo>
                <a:cubicBezTo>
                  <a:pt x="11497" y="10030"/>
                  <a:pt x="11528" y="10002"/>
                  <a:pt x="11584" y="9996"/>
                </a:cubicBezTo>
                <a:cubicBezTo>
                  <a:pt x="11620" y="9992"/>
                  <a:pt x="11692" y="9979"/>
                  <a:pt x="11708" y="10021"/>
                </a:cubicBezTo>
                <a:cubicBezTo>
                  <a:pt x="11729" y="10075"/>
                  <a:pt x="11733" y="10132"/>
                  <a:pt x="11733" y="10195"/>
                </a:cubicBezTo>
                <a:cubicBezTo>
                  <a:pt x="11733" y="10285"/>
                  <a:pt x="11722" y="10359"/>
                  <a:pt x="11708" y="10443"/>
                </a:cubicBezTo>
                <a:cubicBezTo>
                  <a:pt x="11706" y="10455"/>
                  <a:pt x="11694" y="10579"/>
                  <a:pt x="11683" y="10492"/>
                </a:cubicBezTo>
                <a:cubicBezTo>
                  <a:pt x="11683" y="10459"/>
                  <a:pt x="11683" y="10443"/>
                  <a:pt x="11683" y="10418"/>
                </a:cubicBezTo>
              </a:path>
              <a:path w="8112" h="1514">
                <a:moveTo>
                  <a:pt x="12055" y="9451"/>
                </a:moveTo>
                <a:cubicBezTo>
                  <a:pt x="12055" y="9487"/>
                  <a:pt x="12048" y="9524"/>
                  <a:pt x="12030" y="9550"/>
                </a:cubicBezTo>
                <a:cubicBezTo>
                  <a:pt x="12006" y="9586"/>
                  <a:pt x="11969" y="9610"/>
                  <a:pt x="11956" y="9649"/>
                </a:cubicBezTo>
                <a:cubicBezTo>
                  <a:pt x="11945" y="9682"/>
                  <a:pt x="11970" y="9738"/>
                  <a:pt x="12005" y="9748"/>
                </a:cubicBezTo>
                <a:cubicBezTo>
                  <a:pt x="12088" y="9772"/>
                  <a:pt x="12228" y="9756"/>
                  <a:pt x="12303" y="9723"/>
                </a:cubicBezTo>
              </a:path>
              <a:path w="8112" h="1514">
                <a:moveTo>
                  <a:pt x="12402" y="9277"/>
                </a:moveTo>
                <a:cubicBezTo>
                  <a:pt x="12381" y="9306"/>
                  <a:pt x="12360" y="9364"/>
                  <a:pt x="12353" y="9401"/>
                </a:cubicBezTo>
                <a:cubicBezTo>
                  <a:pt x="12339" y="9483"/>
                  <a:pt x="12348" y="9568"/>
                  <a:pt x="12328" y="9649"/>
                </a:cubicBezTo>
                <a:cubicBezTo>
                  <a:pt x="12306" y="9738"/>
                  <a:pt x="12282" y="9830"/>
                  <a:pt x="12278" y="9922"/>
                </a:cubicBezTo>
                <a:cubicBezTo>
                  <a:pt x="12275" y="10002"/>
                  <a:pt x="12256" y="10132"/>
                  <a:pt x="12303" y="10195"/>
                </a:cubicBezTo>
              </a:path>
              <a:path w="8112" h="1514">
                <a:moveTo>
                  <a:pt x="12700" y="10021"/>
                </a:moveTo>
                <a:cubicBezTo>
                  <a:pt x="12728" y="10098"/>
                  <a:pt x="12769" y="10168"/>
                  <a:pt x="12799" y="10244"/>
                </a:cubicBezTo>
                <a:cubicBezTo>
                  <a:pt x="12837" y="10341"/>
                  <a:pt x="12901" y="10415"/>
                  <a:pt x="12973" y="10492"/>
                </a:cubicBezTo>
                <a:cubicBezTo>
                  <a:pt x="13025" y="10547"/>
                  <a:pt x="13079" y="10638"/>
                  <a:pt x="13146" y="10666"/>
                </a:cubicBezTo>
                <a:cubicBezTo>
                  <a:pt x="13179" y="10680"/>
                  <a:pt x="13220" y="10652"/>
                  <a:pt x="13246" y="10641"/>
                </a:cubicBezTo>
              </a:path>
              <a:path w="8112" h="1514">
                <a:moveTo>
                  <a:pt x="13221" y="10096"/>
                </a:moveTo>
                <a:cubicBezTo>
                  <a:pt x="13153" y="10186"/>
                  <a:pt x="13078" y="10264"/>
                  <a:pt x="12998" y="10344"/>
                </a:cubicBezTo>
                <a:cubicBezTo>
                  <a:pt x="12933" y="10408"/>
                  <a:pt x="12864" y="10455"/>
                  <a:pt x="12799" y="10517"/>
                </a:cubicBezTo>
                <a:cubicBezTo>
                  <a:pt x="12739" y="10574"/>
                  <a:pt x="12701" y="10604"/>
                  <a:pt x="12626" y="10641"/>
                </a:cubicBezTo>
                <a:cubicBezTo>
                  <a:pt x="12609" y="10649"/>
                  <a:pt x="12593" y="10658"/>
                  <a:pt x="12576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7680" y="3697200"/>
            <a:ext cx="3187440" cy="357120"/>
          </a:xfrm>
          <a:custGeom>
            <a:avLst/>
            <a:gdLst/>
            <a:ahLst/>
            <a:rect l="l" t="t" r="r" b="b"/>
            <a:pathLst>
              <a:path w="8856" h="993">
                <a:moveTo>
                  <a:pt x="4787" y="10269"/>
                </a:moveTo>
                <a:cubicBezTo>
                  <a:pt x="4776" y="10313"/>
                  <a:pt x="4773" y="10344"/>
                  <a:pt x="4762" y="10393"/>
                </a:cubicBezTo>
                <a:cubicBezTo>
                  <a:pt x="4751" y="10442"/>
                  <a:pt x="4749" y="10493"/>
                  <a:pt x="4738" y="10542"/>
                </a:cubicBezTo>
                <a:cubicBezTo>
                  <a:pt x="4730" y="10578"/>
                  <a:pt x="4693" y="10636"/>
                  <a:pt x="4688" y="10666"/>
                </a:cubicBezTo>
                <a:cubicBezTo>
                  <a:pt x="4684" y="10690"/>
                  <a:pt x="4690" y="10716"/>
                  <a:pt x="4688" y="10740"/>
                </a:cubicBezTo>
                <a:cubicBezTo>
                  <a:pt x="4722" y="10728"/>
                  <a:pt x="4726" y="10696"/>
                  <a:pt x="4762" y="10691"/>
                </a:cubicBezTo>
                <a:cubicBezTo>
                  <a:pt x="4824" y="10682"/>
                  <a:pt x="4904" y="10670"/>
                  <a:pt x="4961" y="10666"/>
                </a:cubicBezTo>
                <a:cubicBezTo>
                  <a:pt x="5480" y="10627"/>
                  <a:pt x="6010" y="10687"/>
                  <a:pt x="6524" y="10716"/>
                </a:cubicBezTo>
                <a:cubicBezTo>
                  <a:pt x="6725" y="10727"/>
                  <a:pt x="6919" y="10749"/>
                  <a:pt x="7119" y="10765"/>
                </a:cubicBezTo>
                <a:cubicBezTo>
                  <a:pt x="7290" y="10779"/>
                  <a:pt x="7470" y="10769"/>
                  <a:pt x="7640" y="10790"/>
                </a:cubicBezTo>
                <a:cubicBezTo>
                  <a:pt x="7774" y="10807"/>
                  <a:pt x="7900" y="10815"/>
                  <a:pt x="8037" y="10815"/>
                </a:cubicBezTo>
                <a:cubicBezTo>
                  <a:pt x="8136" y="10815"/>
                  <a:pt x="8351" y="10844"/>
                  <a:pt x="8409" y="10790"/>
                </a:cubicBezTo>
                <a:cubicBezTo>
                  <a:pt x="8421" y="10779"/>
                  <a:pt x="8453" y="10748"/>
                  <a:pt x="8458" y="10716"/>
                </a:cubicBezTo>
                <a:cubicBezTo>
                  <a:pt x="8468" y="10655"/>
                  <a:pt x="8465" y="10601"/>
                  <a:pt x="8483" y="10542"/>
                </a:cubicBezTo>
                <a:cubicBezTo>
                  <a:pt x="8498" y="10491"/>
                  <a:pt x="8493" y="10446"/>
                  <a:pt x="8508" y="10393"/>
                </a:cubicBezTo>
                <a:cubicBezTo>
                  <a:pt x="8519" y="10352"/>
                  <a:pt x="8520" y="10384"/>
                  <a:pt x="8533" y="10344"/>
                </a:cubicBezTo>
              </a:path>
              <a:path w="8856" h="993">
                <a:moveTo>
                  <a:pt x="9327" y="10468"/>
                </a:moveTo>
                <a:cubicBezTo>
                  <a:pt x="9319" y="10512"/>
                  <a:pt x="9306" y="10540"/>
                  <a:pt x="9302" y="10592"/>
                </a:cubicBezTo>
                <a:cubicBezTo>
                  <a:pt x="9295" y="10689"/>
                  <a:pt x="9273" y="10934"/>
                  <a:pt x="9327" y="10988"/>
                </a:cubicBezTo>
                <a:cubicBezTo>
                  <a:pt x="9380" y="11041"/>
                  <a:pt x="9356" y="10991"/>
                  <a:pt x="9401" y="10988"/>
                </a:cubicBezTo>
                <a:cubicBezTo>
                  <a:pt x="9444" y="10985"/>
                  <a:pt x="9461" y="10968"/>
                  <a:pt x="9500" y="10964"/>
                </a:cubicBezTo>
                <a:cubicBezTo>
                  <a:pt x="9724" y="10940"/>
                  <a:pt x="9949" y="10984"/>
                  <a:pt x="10170" y="10988"/>
                </a:cubicBezTo>
                <a:cubicBezTo>
                  <a:pt x="10329" y="10991"/>
                  <a:pt x="10484" y="11027"/>
                  <a:pt x="10641" y="11038"/>
                </a:cubicBezTo>
                <a:cubicBezTo>
                  <a:pt x="10808" y="11050"/>
                  <a:pt x="10971" y="11062"/>
                  <a:pt x="11137" y="11088"/>
                </a:cubicBezTo>
                <a:cubicBezTo>
                  <a:pt x="11315" y="11115"/>
                  <a:pt x="11504" y="11148"/>
                  <a:pt x="11683" y="11162"/>
                </a:cubicBezTo>
                <a:cubicBezTo>
                  <a:pt x="11946" y="11183"/>
                  <a:pt x="12215" y="11205"/>
                  <a:pt x="12477" y="11237"/>
                </a:cubicBezTo>
                <a:cubicBezTo>
                  <a:pt x="12620" y="11254"/>
                  <a:pt x="12753" y="11261"/>
                  <a:pt x="12898" y="11261"/>
                </a:cubicBezTo>
                <a:cubicBezTo>
                  <a:pt x="13080" y="11261"/>
                  <a:pt x="13262" y="11261"/>
                  <a:pt x="13444" y="11261"/>
                </a:cubicBezTo>
                <a:cubicBezTo>
                  <a:pt x="13447" y="11256"/>
                  <a:pt x="13461" y="11260"/>
                  <a:pt x="13469" y="11237"/>
                </a:cubicBezTo>
                <a:cubicBezTo>
                  <a:pt x="13485" y="11192"/>
                  <a:pt x="13480" y="11133"/>
                  <a:pt x="13494" y="11088"/>
                </a:cubicBezTo>
                <a:cubicBezTo>
                  <a:pt x="13514" y="11023"/>
                  <a:pt x="13546" y="10916"/>
                  <a:pt x="13543" y="10840"/>
                </a:cubicBezTo>
                <a:cubicBezTo>
                  <a:pt x="13540" y="10776"/>
                  <a:pt x="13522" y="10728"/>
                  <a:pt x="13519" y="10666"/>
                </a:cubicBezTo>
                <a:cubicBezTo>
                  <a:pt x="13516" y="10608"/>
                  <a:pt x="13556" y="10586"/>
                  <a:pt x="13519" y="10542"/>
                </a:cubicBezTo>
                <a:cubicBezTo>
                  <a:pt x="13512" y="10533"/>
                  <a:pt x="13455" y="10525"/>
                  <a:pt x="13444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5040" y="4330800"/>
            <a:ext cx="1974960" cy="563400"/>
          </a:xfrm>
          <a:custGeom>
            <a:avLst/>
            <a:gdLst/>
            <a:ahLst/>
            <a:rect l="l" t="t" r="r" b="b"/>
            <a:pathLst>
              <a:path w="5483" h="1564">
                <a:moveTo>
                  <a:pt x="4490" y="12278"/>
                </a:moveTo>
                <a:cubicBezTo>
                  <a:pt x="4519" y="12227"/>
                  <a:pt x="4547" y="12196"/>
                  <a:pt x="4589" y="12154"/>
                </a:cubicBezTo>
                <a:cubicBezTo>
                  <a:pt x="4602" y="12141"/>
                  <a:pt x="4651" y="12110"/>
                  <a:pt x="4688" y="12105"/>
                </a:cubicBezTo>
                <a:cubicBezTo>
                  <a:pt x="4754" y="12095"/>
                  <a:pt x="4787" y="12111"/>
                  <a:pt x="4837" y="12129"/>
                </a:cubicBezTo>
                <a:cubicBezTo>
                  <a:pt x="4891" y="12148"/>
                  <a:pt x="4919" y="12162"/>
                  <a:pt x="4961" y="12204"/>
                </a:cubicBezTo>
                <a:cubicBezTo>
                  <a:pt x="4998" y="12241"/>
                  <a:pt x="5025" y="12303"/>
                  <a:pt x="5035" y="12353"/>
                </a:cubicBezTo>
                <a:cubicBezTo>
                  <a:pt x="5054" y="12445"/>
                  <a:pt x="5043" y="12589"/>
                  <a:pt x="5011" y="12675"/>
                </a:cubicBezTo>
                <a:cubicBezTo>
                  <a:pt x="4985" y="12743"/>
                  <a:pt x="4953" y="12841"/>
                  <a:pt x="4911" y="12898"/>
                </a:cubicBezTo>
                <a:cubicBezTo>
                  <a:pt x="4857" y="12972"/>
                  <a:pt x="4795" y="13053"/>
                  <a:pt x="4738" y="13122"/>
                </a:cubicBezTo>
                <a:cubicBezTo>
                  <a:pt x="4682" y="13189"/>
                  <a:pt x="4607" y="13199"/>
                  <a:pt x="4539" y="13246"/>
                </a:cubicBezTo>
                <a:cubicBezTo>
                  <a:pt x="4499" y="13274"/>
                  <a:pt x="4443" y="13284"/>
                  <a:pt x="4390" y="13271"/>
                </a:cubicBezTo>
                <a:cubicBezTo>
                  <a:pt x="4332" y="13257"/>
                  <a:pt x="4309" y="13214"/>
                  <a:pt x="4291" y="13171"/>
                </a:cubicBezTo>
                <a:cubicBezTo>
                  <a:pt x="4264" y="13106"/>
                  <a:pt x="4285" y="13096"/>
                  <a:pt x="4291" y="13047"/>
                </a:cubicBezTo>
                <a:cubicBezTo>
                  <a:pt x="4300" y="12976"/>
                  <a:pt x="4288" y="12976"/>
                  <a:pt x="4341" y="12923"/>
                </a:cubicBezTo>
                <a:cubicBezTo>
                  <a:pt x="4372" y="12892"/>
                  <a:pt x="4422" y="12888"/>
                  <a:pt x="4465" y="12898"/>
                </a:cubicBezTo>
                <a:cubicBezTo>
                  <a:pt x="4522" y="12910"/>
                  <a:pt x="4548" y="12932"/>
                  <a:pt x="4589" y="12973"/>
                </a:cubicBezTo>
                <a:cubicBezTo>
                  <a:pt x="4628" y="13012"/>
                  <a:pt x="4694" y="13070"/>
                  <a:pt x="4713" y="13122"/>
                </a:cubicBezTo>
                <a:cubicBezTo>
                  <a:pt x="4743" y="13204"/>
                  <a:pt x="4749" y="13232"/>
                  <a:pt x="4787" y="13295"/>
                </a:cubicBezTo>
                <a:cubicBezTo>
                  <a:pt x="4823" y="13355"/>
                  <a:pt x="4786" y="13339"/>
                  <a:pt x="4837" y="13295"/>
                </a:cubicBezTo>
                <a:cubicBezTo>
                  <a:pt x="4845" y="13287"/>
                  <a:pt x="4854" y="13279"/>
                  <a:pt x="4862" y="13271"/>
                </a:cubicBezTo>
              </a:path>
              <a:path w="5483" h="1564">
                <a:moveTo>
                  <a:pt x="5631" y="12725"/>
                </a:moveTo>
                <a:cubicBezTo>
                  <a:pt x="5653" y="12747"/>
                  <a:pt x="5664" y="12756"/>
                  <a:pt x="5631" y="12750"/>
                </a:cubicBezTo>
                <a:cubicBezTo>
                  <a:pt x="5631" y="12719"/>
                  <a:pt x="5623" y="12683"/>
                  <a:pt x="5606" y="12675"/>
                </a:cubicBezTo>
                <a:cubicBezTo>
                  <a:pt x="5573" y="12659"/>
                  <a:pt x="5581" y="12650"/>
                  <a:pt x="5531" y="12650"/>
                </a:cubicBezTo>
                <a:cubicBezTo>
                  <a:pt x="5479" y="12650"/>
                  <a:pt x="5449" y="12662"/>
                  <a:pt x="5407" y="12675"/>
                </a:cubicBezTo>
                <a:cubicBezTo>
                  <a:pt x="5392" y="12680"/>
                  <a:pt x="5346" y="12699"/>
                  <a:pt x="5333" y="12725"/>
                </a:cubicBezTo>
                <a:cubicBezTo>
                  <a:pt x="5309" y="12773"/>
                  <a:pt x="5363" y="12808"/>
                  <a:pt x="5383" y="12824"/>
                </a:cubicBezTo>
                <a:cubicBezTo>
                  <a:pt x="5415" y="12850"/>
                  <a:pt x="5451" y="12854"/>
                  <a:pt x="5482" y="12874"/>
                </a:cubicBezTo>
                <a:cubicBezTo>
                  <a:pt x="5545" y="12914"/>
                  <a:pt x="5586" y="12943"/>
                  <a:pt x="5631" y="12998"/>
                </a:cubicBezTo>
                <a:cubicBezTo>
                  <a:pt x="5660" y="13034"/>
                  <a:pt x="5655" y="13051"/>
                  <a:pt x="5655" y="13097"/>
                </a:cubicBezTo>
                <a:cubicBezTo>
                  <a:pt x="5655" y="13148"/>
                  <a:pt x="5638" y="13185"/>
                  <a:pt x="5606" y="13221"/>
                </a:cubicBezTo>
                <a:cubicBezTo>
                  <a:pt x="5585" y="13244"/>
                  <a:pt x="5489" y="13280"/>
                  <a:pt x="5457" y="13271"/>
                </a:cubicBezTo>
                <a:cubicBezTo>
                  <a:pt x="5412" y="13259"/>
                  <a:pt x="5349" y="13238"/>
                  <a:pt x="5308" y="13221"/>
                </a:cubicBezTo>
                <a:cubicBezTo>
                  <a:pt x="5273" y="13207"/>
                  <a:pt x="5201" y="13160"/>
                  <a:pt x="5184" y="13122"/>
                </a:cubicBezTo>
                <a:cubicBezTo>
                  <a:pt x="5170" y="13092"/>
                  <a:pt x="5142" y="13039"/>
                  <a:pt x="5159" y="12998"/>
                </a:cubicBezTo>
                <a:cubicBezTo>
                  <a:pt x="5167" y="12990"/>
                  <a:pt x="5176" y="12981"/>
                  <a:pt x="5184" y="12973"/>
                </a:cubicBezTo>
              </a:path>
              <a:path w="5483" h="1564">
                <a:moveTo>
                  <a:pt x="5854" y="12750"/>
                </a:moveTo>
                <a:cubicBezTo>
                  <a:pt x="5854" y="12864"/>
                  <a:pt x="5844" y="12940"/>
                  <a:pt x="5829" y="13047"/>
                </a:cubicBezTo>
                <a:cubicBezTo>
                  <a:pt x="5819" y="13119"/>
                  <a:pt x="5829" y="13199"/>
                  <a:pt x="5829" y="13271"/>
                </a:cubicBezTo>
                <a:cubicBezTo>
                  <a:pt x="5829" y="13205"/>
                  <a:pt x="5830" y="13159"/>
                  <a:pt x="5854" y="13097"/>
                </a:cubicBezTo>
              </a:path>
              <a:path w="5483" h="1564">
                <a:moveTo>
                  <a:pt x="5928" y="12502"/>
                </a:moveTo>
                <a:cubicBezTo>
                  <a:pt x="5948" y="12456"/>
                  <a:pt x="5944" y="12413"/>
                  <a:pt x="5978" y="12402"/>
                </a:cubicBezTo>
              </a:path>
              <a:path w="5483" h="1564">
                <a:moveTo>
                  <a:pt x="6003" y="13097"/>
                </a:moveTo>
                <a:cubicBezTo>
                  <a:pt x="6003" y="13203"/>
                  <a:pt x="6024" y="13210"/>
                  <a:pt x="5978" y="13271"/>
                </a:cubicBezTo>
                <a:cubicBezTo>
                  <a:pt x="5978" y="13213"/>
                  <a:pt x="5994" y="13168"/>
                  <a:pt x="6003" y="13122"/>
                </a:cubicBezTo>
                <a:cubicBezTo>
                  <a:pt x="6016" y="13058"/>
                  <a:pt x="6001" y="12982"/>
                  <a:pt x="6028" y="12923"/>
                </a:cubicBezTo>
                <a:cubicBezTo>
                  <a:pt x="6056" y="12860"/>
                  <a:pt x="6110" y="12781"/>
                  <a:pt x="6152" y="12725"/>
                </a:cubicBezTo>
                <a:cubicBezTo>
                  <a:pt x="6174" y="12695"/>
                  <a:pt x="6219" y="12661"/>
                  <a:pt x="6251" y="12650"/>
                </a:cubicBezTo>
                <a:cubicBezTo>
                  <a:pt x="6270" y="12644"/>
                  <a:pt x="6341" y="12681"/>
                  <a:pt x="6350" y="12700"/>
                </a:cubicBezTo>
                <a:cubicBezTo>
                  <a:pt x="6391" y="12782"/>
                  <a:pt x="6396" y="12853"/>
                  <a:pt x="6400" y="12948"/>
                </a:cubicBezTo>
                <a:cubicBezTo>
                  <a:pt x="6403" y="13026"/>
                  <a:pt x="6400" y="13272"/>
                  <a:pt x="6400" y="13271"/>
                </a:cubicBezTo>
              </a:path>
              <a:path w="5483" h="1564">
                <a:moveTo>
                  <a:pt x="6573" y="12278"/>
                </a:moveTo>
                <a:cubicBezTo>
                  <a:pt x="6643" y="12219"/>
                  <a:pt x="6636" y="12220"/>
                  <a:pt x="6697" y="12229"/>
                </a:cubicBezTo>
                <a:cubicBezTo>
                  <a:pt x="6772" y="12240"/>
                  <a:pt x="6784" y="12258"/>
                  <a:pt x="6821" y="12328"/>
                </a:cubicBezTo>
                <a:cubicBezTo>
                  <a:pt x="6855" y="12392"/>
                  <a:pt x="6861" y="12462"/>
                  <a:pt x="6821" y="12526"/>
                </a:cubicBezTo>
                <a:cubicBezTo>
                  <a:pt x="6797" y="12565"/>
                  <a:pt x="6740" y="12612"/>
                  <a:pt x="6697" y="12626"/>
                </a:cubicBezTo>
                <a:cubicBezTo>
                  <a:pt x="6671" y="12635"/>
                  <a:pt x="6626" y="12626"/>
                  <a:pt x="6598" y="12626"/>
                </a:cubicBezTo>
                <a:cubicBezTo>
                  <a:pt x="6598" y="12580"/>
                  <a:pt x="6596" y="12557"/>
                  <a:pt x="6648" y="12551"/>
                </a:cubicBezTo>
                <a:cubicBezTo>
                  <a:pt x="6664" y="12549"/>
                  <a:pt x="6756" y="12568"/>
                  <a:pt x="6772" y="12576"/>
                </a:cubicBezTo>
                <a:cubicBezTo>
                  <a:pt x="6797" y="12593"/>
                  <a:pt x="6821" y="12609"/>
                  <a:pt x="6846" y="12626"/>
                </a:cubicBezTo>
              </a:path>
              <a:path w="5483" h="1564">
                <a:moveTo>
                  <a:pt x="7020" y="12799"/>
                </a:moveTo>
                <a:cubicBezTo>
                  <a:pt x="7028" y="12890"/>
                  <a:pt x="7053" y="12940"/>
                  <a:pt x="7094" y="13022"/>
                </a:cubicBezTo>
                <a:cubicBezTo>
                  <a:pt x="7129" y="13092"/>
                  <a:pt x="7169" y="13162"/>
                  <a:pt x="7218" y="13221"/>
                </a:cubicBezTo>
                <a:cubicBezTo>
                  <a:pt x="7262" y="13274"/>
                  <a:pt x="7327" y="13345"/>
                  <a:pt x="7392" y="13370"/>
                </a:cubicBezTo>
                <a:cubicBezTo>
                  <a:pt x="7420" y="13370"/>
                  <a:pt x="7431" y="13372"/>
                  <a:pt x="7441" y="13395"/>
                </a:cubicBezTo>
              </a:path>
              <a:path w="5483" h="1564">
                <a:moveTo>
                  <a:pt x="7342" y="12774"/>
                </a:moveTo>
                <a:cubicBezTo>
                  <a:pt x="7256" y="12824"/>
                  <a:pt x="7212" y="12901"/>
                  <a:pt x="7144" y="12973"/>
                </a:cubicBezTo>
                <a:cubicBezTo>
                  <a:pt x="7063" y="13057"/>
                  <a:pt x="6978" y="13138"/>
                  <a:pt x="6896" y="13221"/>
                </a:cubicBezTo>
                <a:cubicBezTo>
                  <a:pt x="6858" y="13260"/>
                  <a:pt x="6811" y="13280"/>
                  <a:pt x="6772" y="13320"/>
                </a:cubicBezTo>
              </a:path>
              <a:path w="5483" h="1564">
                <a:moveTo>
                  <a:pt x="7938" y="12030"/>
                </a:moveTo>
                <a:cubicBezTo>
                  <a:pt x="7883" y="12128"/>
                  <a:pt x="7805" y="12247"/>
                  <a:pt x="7764" y="12353"/>
                </a:cubicBezTo>
                <a:cubicBezTo>
                  <a:pt x="7712" y="12487"/>
                  <a:pt x="7635" y="12629"/>
                  <a:pt x="7615" y="12774"/>
                </a:cubicBezTo>
                <a:cubicBezTo>
                  <a:pt x="7599" y="12889"/>
                  <a:pt x="7572" y="13029"/>
                  <a:pt x="7590" y="13146"/>
                </a:cubicBezTo>
                <a:cubicBezTo>
                  <a:pt x="7605" y="13246"/>
                  <a:pt x="7649" y="13351"/>
                  <a:pt x="7689" y="13444"/>
                </a:cubicBezTo>
                <a:cubicBezTo>
                  <a:pt x="7711" y="13495"/>
                  <a:pt x="7742" y="13549"/>
                  <a:pt x="7764" y="13593"/>
                </a:cubicBezTo>
              </a:path>
              <a:path w="5483" h="1564">
                <a:moveTo>
                  <a:pt x="8359" y="12402"/>
                </a:moveTo>
                <a:cubicBezTo>
                  <a:pt x="8388" y="12440"/>
                  <a:pt x="8384" y="12453"/>
                  <a:pt x="8384" y="12502"/>
                </a:cubicBezTo>
                <a:cubicBezTo>
                  <a:pt x="8384" y="12791"/>
                  <a:pt x="8424" y="13118"/>
                  <a:pt x="8359" y="13395"/>
                </a:cubicBezTo>
                <a:cubicBezTo>
                  <a:pt x="8348" y="13443"/>
                  <a:pt x="8346" y="13471"/>
                  <a:pt x="8334" y="13494"/>
                </a:cubicBezTo>
                <a:cubicBezTo>
                  <a:pt x="8313" y="13536"/>
                  <a:pt x="8334" y="13475"/>
                  <a:pt x="8334" y="13444"/>
                </a:cubicBezTo>
              </a:path>
              <a:path w="5483" h="1564">
                <a:moveTo>
                  <a:pt x="8830" y="12849"/>
                </a:moveTo>
                <a:cubicBezTo>
                  <a:pt x="8777" y="12849"/>
                  <a:pt x="8861" y="12872"/>
                  <a:pt x="8880" y="12874"/>
                </a:cubicBezTo>
                <a:cubicBezTo>
                  <a:pt x="8936" y="12880"/>
                  <a:pt x="9002" y="12881"/>
                  <a:pt x="9054" y="12898"/>
                </a:cubicBezTo>
                <a:cubicBezTo>
                  <a:pt x="9165" y="12933"/>
                  <a:pt x="9284" y="12943"/>
                  <a:pt x="9401" y="12973"/>
                </a:cubicBezTo>
                <a:cubicBezTo>
                  <a:pt x="9474" y="12991"/>
                  <a:pt x="9552" y="13010"/>
                  <a:pt x="9624" y="13022"/>
                </a:cubicBezTo>
                <a:cubicBezTo>
                  <a:pt x="9670" y="13029"/>
                  <a:pt x="9736" y="13033"/>
                  <a:pt x="9748" y="12998"/>
                </a:cubicBezTo>
                <a:cubicBezTo>
                  <a:pt x="9719" y="13007"/>
                  <a:pt x="9699" y="13029"/>
                  <a:pt x="9723" y="12948"/>
                </a:cubicBezTo>
                <a:cubicBezTo>
                  <a:pt x="9747" y="12900"/>
                  <a:pt x="9755" y="12886"/>
                  <a:pt x="9748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1840" y="4330800"/>
            <a:ext cx="1179360" cy="669960"/>
          </a:xfrm>
          <a:custGeom>
            <a:avLst/>
            <a:gdLst/>
            <a:ahLst/>
            <a:rect l="l" t="t" r="r" b="b"/>
            <a:pathLst>
              <a:path w="3275" h="1862">
                <a:moveTo>
                  <a:pt x="10939" y="12849"/>
                </a:moveTo>
                <a:cubicBezTo>
                  <a:pt x="10939" y="12898"/>
                  <a:pt x="10928" y="12817"/>
                  <a:pt x="10889" y="12799"/>
                </a:cubicBezTo>
                <a:cubicBezTo>
                  <a:pt x="10848" y="12781"/>
                  <a:pt x="10816" y="12774"/>
                  <a:pt x="10765" y="12774"/>
                </a:cubicBezTo>
                <a:cubicBezTo>
                  <a:pt x="10698" y="12774"/>
                  <a:pt x="10625" y="12760"/>
                  <a:pt x="10567" y="12799"/>
                </a:cubicBezTo>
                <a:cubicBezTo>
                  <a:pt x="10536" y="12820"/>
                  <a:pt x="10502" y="12857"/>
                  <a:pt x="10517" y="12898"/>
                </a:cubicBezTo>
                <a:cubicBezTo>
                  <a:pt x="10543" y="12970"/>
                  <a:pt x="10586" y="12981"/>
                  <a:pt x="10641" y="13022"/>
                </a:cubicBezTo>
                <a:cubicBezTo>
                  <a:pt x="10681" y="13052"/>
                  <a:pt x="10758" y="13085"/>
                  <a:pt x="10790" y="13122"/>
                </a:cubicBezTo>
                <a:cubicBezTo>
                  <a:pt x="10830" y="13168"/>
                  <a:pt x="10869" y="13201"/>
                  <a:pt x="10914" y="13246"/>
                </a:cubicBezTo>
                <a:cubicBezTo>
                  <a:pt x="10962" y="13294"/>
                  <a:pt x="10930" y="13298"/>
                  <a:pt x="10914" y="13345"/>
                </a:cubicBezTo>
                <a:cubicBezTo>
                  <a:pt x="10895" y="13403"/>
                  <a:pt x="10878" y="13395"/>
                  <a:pt x="10815" y="13395"/>
                </a:cubicBezTo>
                <a:cubicBezTo>
                  <a:pt x="10748" y="13395"/>
                  <a:pt x="10703" y="13398"/>
                  <a:pt x="10641" y="13370"/>
                </a:cubicBezTo>
                <a:cubicBezTo>
                  <a:pt x="10586" y="13345"/>
                  <a:pt x="10517" y="13327"/>
                  <a:pt x="10468" y="13295"/>
                </a:cubicBezTo>
                <a:cubicBezTo>
                  <a:pt x="10434" y="13273"/>
                  <a:pt x="10397" y="13234"/>
                  <a:pt x="10393" y="13196"/>
                </a:cubicBezTo>
                <a:cubicBezTo>
                  <a:pt x="10393" y="13188"/>
                  <a:pt x="10393" y="13179"/>
                  <a:pt x="10393" y="13171"/>
                </a:cubicBezTo>
              </a:path>
              <a:path w="3275" h="1862">
                <a:moveTo>
                  <a:pt x="11286" y="12874"/>
                </a:moveTo>
                <a:cubicBezTo>
                  <a:pt x="11265" y="12980"/>
                  <a:pt x="11242" y="13088"/>
                  <a:pt x="11237" y="13196"/>
                </a:cubicBezTo>
                <a:cubicBezTo>
                  <a:pt x="11236" y="13226"/>
                  <a:pt x="11237" y="13395"/>
                  <a:pt x="11237" y="13345"/>
                </a:cubicBezTo>
                <a:cubicBezTo>
                  <a:pt x="11237" y="13320"/>
                  <a:pt x="11237" y="13312"/>
                  <a:pt x="11237" y="13295"/>
                </a:cubicBezTo>
              </a:path>
              <a:path w="3275" h="1862">
                <a:moveTo>
                  <a:pt x="11385" y="12502"/>
                </a:moveTo>
                <a:cubicBezTo>
                  <a:pt x="11410" y="12502"/>
                  <a:pt x="11418" y="12502"/>
                  <a:pt x="11435" y="12502"/>
                </a:cubicBezTo>
                <a:cubicBezTo>
                  <a:pt x="11445" y="12542"/>
                  <a:pt x="11475" y="12561"/>
                  <a:pt x="11485" y="12601"/>
                </a:cubicBezTo>
              </a:path>
              <a:path w="3275" h="1862">
                <a:moveTo>
                  <a:pt x="11534" y="13097"/>
                </a:moveTo>
                <a:cubicBezTo>
                  <a:pt x="11519" y="13180"/>
                  <a:pt x="11509" y="13240"/>
                  <a:pt x="11509" y="13320"/>
                </a:cubicBezTo>
                <a:cubicBezTo>
                  <a:pt x="11509" y="13345"/>
                  <a:pt x="11509" y="13353"/>
                  <a:pt x="11509" y="13370"/>
                </a:cubicBezTo>
                <a:cubicBezTo>
                  <a:pt x="11509" y="13319"/>
                  <a:pt x="11527" y="13294"/>
                  <a:pt x="11534" y="13246"/>
                </a:cubicBezTo>
                <a:cubicBezTo>
                  <a:pt x="11544" y="13175"/>
                  <a:pt x="11555" y="13112"/>
                  <a:pt x="11559" y="13047"/>
                </a:cubicBezTo>
                <a:cubicBezTo>
                  <a:pt x="11563" y="12982"/>
                  <a:pt x="11582" y="12926"/>
                  <a:pt x="11609" y="12874"/>
                </a:cubicBezTo>
                <a:cubicBezTo>
                  <a:pt x="11627" y="12840"/>
                  <a:pt x="11636" y="12763"/>
                  <a:pt x="11683" y="12750"/>
                </a:cubicBezTo>
                <a:cubicBezTo>
                  <a:pt x="11712" y="12742"/>
                  <a:pt x="11790" y="12741"/>
                  <a:pt x="11807" y="12774"/>
                </a:cubicBezTo>
                <a:cubicBezTo>
                  <a:pt x="11830" y="12820"/>
                  <a:pt x="11855" y="12874"/>
                  <a:pt x="11881" y="12923"/>
                </a:cubicBezTo>
                <a:cubicBezTo>
                  <a:pt x="11914" y="12986"/>
                  <a:pt x="11920" y="13079"/>
                  <a:pt x="11931" y="13146"/>
                </a:cubicBezTo>
                <a:cubicBezTo>
                  <a:pt x="11934" y="13162"/>
                  <a:pt x="11937" y="13420"/>
                  <a:pt x="11956" y="13395"/>
                </a:cubicBezTo>
                <a:cubicBezTo>
                  <a:pt x="11956" y="13387"/>
                  <a:pt x="11956" y="13378"/>
                  <a:pt x="11956" y="13370"/>
                </a:cubicBezTo>
              </a:path>
              <a:path w="3275" h="1862">
                <a:moveTo>
                  <a:pt x="12129" y="12328"/>
                </a:moveTo>
                <a:cubicBezTo>
                  <a:pt x="12193" y="12304"/>
                  <a:pt x="12272" y="12255"/>
                  <a:pt x="12328" y="12328"/>
                </a:cubicBezTo>
                <a:cubicBezTo>
                  <a:pt x="12378" y="12394"/>
                  <a:pt x="12378" y="12473"/>
                  <a:pt x="12378" y="12551"/>
                </a:cubicBezTo>
                <a:cubicBezTo>
                  <a:pt x="12378" y="12623"/>
                  <a:pt x="12351" y="12652"/>
                  <a:pt x="12303" y="12700"/>
                </a:cubicBezTo>
                <a:cubicBezTo>
                  <a:pt x="12279" y="12724"/>
                  <a:pt x="12240" y="12738"/>
                  <a:pt x="12204" y="12725"/>
                </a:cubicBezTo>
                <a:cubicBezTo>
                  <a:pt x="12163" y="12705"/>
                  <a:pt x="12147" y="12707"/>
                  <a:pt x="12154" y="12675"/>
                </a:cubicBezTo>
                <a:cubicBezTo>
                  <a:pt x="12197" y="12675"/>
                  <a:pt x="12239" y="12686"/>
                  <a:pt x="12278" y="12700"/>
                </a:cubicBezTo>
                <a:cubicBezTo>
                  <a:pt x="12335" y="12720"/>
                  <a:pt x="12375" y="12775"/>
                  <a:pt x="12427" y="12799"/>
                </a:cubicBezTo>
                <a:cubicBezTo>
                  <a:pt x="12452" y="12807"/>
                  <a:pt x="12477" y="12816"/>
                  <a:pt x="12502" y="12824"/>
                </a:cubicBezTo>
              </a:path>
              <a:path w="3275" h="1862">
                <a:moveTo>
                  <a:pt x="12774" y="12402"/>
                </a:moveTo>
                <a:cubicBezTo>
                  <a:pt x="12817" y="12478"/>
                  <a:pt x="12848" y="12520"/>
                  <a:pt x="12874" y="12601"/>
                </a:cubicBezTo>
                <a:cubicBezTo>
                  <a:pt x="12899" y="12677"/>
                  <a:pt x="12946" y="12747"/>
                  <a:pt x="12973" y="12824"/>
                </a:cubicBezTo>
                <a:cubicBezTo>
                  <a:pt x="13017" y="12949"/>
                  <a:pt x="13067" y="13059"/>
                  <a:pt x="13122" y="13171"/>
                </a:cubicBezTo>
                <a:cubicBezTo>
                  <a:pt x="13150" y="13228"/>
                  <a:pt x="13209" y="13360"/>
                  <a:pt x="13271" y="13395"/>
                </a:cubicBezTo>
                <a:cubicBezTo>
                  <a:pt x="13295" y="13395"/>
                  <a:pt x="13304" y="13395"/>
                  <a:pt x="13320" y="13395"/>
                </a:cubicBezTo>
              </a:path>
              <a:path w="3275" h="1862">
                <a:moveTo>
                  <a:pt x="13246" y="12725"/>
                </a:moveTo>
                <a:cubicBezTo>
                  <a:pt x="13160" y="12774"/>
                  <a:pt x="13093" y="12862"/>
                  <a:pt x="13047" y="12948"/>
                </a:cubicBezTo>
                <a:cubicBezTo>
                  <a:pt x="12994" y="13046"/>
                  <a:pt x="12948" y="13134"/>
                  <a:pt x="12874" y="13221"/>
                </a:cubicBezTo>
                <a:cubicBezTo>
                  <a:pt x="12824" y="13279"/>
                  <a:pt x="12768" y="13341"/>
                  <a:pt x="12725" y="13395"/>
                </a:cubicBezTo>
                <a:cubicBezTo>
                  <a:pt x="12681" y="13450"/>
                  <a:pt x="12723" y="13453"/>
                  <a:pt x="12675" y="13469"/>
                </a:cubicBezTo>
              </a:path>
              <a:path w="3275" h="1862">
                <a:moveTo>
                  <a:pt x="13370" y="12030"/>
                </a:moveTo>
                <a:cubicBezTo>
                  <a:pt x="13455" y="12149"/>
                  <a:pt x="13493" y="12242"/>
                  <a:pt x="13543" y="12378"/>
                </a:cubicBezTo>
                <a:cubicBezTo>
                  <a:pt x="13600" y="12535"/>
                  <a:pt x="13652" y="12706"/>
                  <a:pt x="13667" y="12874"/>
                </a:cubicBezTo>
                <a:cubicBezTo>
                  <a:pt x="13683" y="13057"/>
                  <a:pt x="13658" y="13241"/>
                  <a:pt x="13618" y="13419"/>
                </a:cubicBezTo>
                <a:cubicBezTo>
                  <a:pt x="13590" y="13542"/>
                  <a:pt x="13572" y="13657"/>
                  <a:pt x="13469" y="13742"/>
                </a:cubicBezTo>
                <a:cubicBezTo>
                  <a:pt x="13379" y="13816"/>
                  <a:pt x="13306" y="13854"/>
                  <a:pt x="1319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8960" y="5054760"/>
            <a:ext cx="2170080" cy="500040"/>
          </a:xfrm>
          <a:custGeom>
            <a:avLst/>
            <a:gdLst/>
            <a:ahLst/>
            <a:rect l="l" t="t" r="r" b="b"/>
            <a:pathLst>
              <a:path w="6028" h="1391">
                <a:moveTo>
                  <a:pt x="5011" y="14188"/>
                </a:moveTo>
                <a:cubicBezTo>
                  <a:pt x="5011" y="14246"/>
                  <a:pt x="5002" y="14261"/>
                  <a:pt x="4986" y="14288"/>
                </a:cubicBezTo>
                <a:cubicBezTo>
                  <a:pt x="4986" y="14255"/>
                  <a:pt x="4976" y="14269"/>
                  <a:pt x="4986" y="14238"/>
                </a:cubicBezTo>
                <a:cubicBezTo>
                  <a:pt x="4995" y="14210"/>
                  <a:pt x="4998" y="14165"/>
                  <a:pt x="5011" y="14139"/>
                </a:cubicBezTo>
                <a:cubicBezTo>
                  <a:pt x="5032" y="14097"/>
                  <a:pt x="5083" y="14084"/>
                  <a:pt x="5110" y="14064"/>
                </a:cubicBezTo>
                <a:cubicBezTo>
                  <a:pt x="5160" y="14027"/>
                  <a:pt x="5159" y="14037"/>
                  <a:pt x="5209" y="14064"/>
                </a:cubicBezTo>
                <a:cubicBezTo>
                  <a:pt x="5251" y="14086"/>
                  <a:pt x="5294" y="14102"/>
                  <a:pt x="5308" y="14163"/>
                </a:cubicBezTo>
                <a:cubicBezTo>
                  <a:pt x="5322" y="14225"/>
                  <a:pt x="5350" y="14300"/>
                  <a:pt x="5358" y="14362"/>
                </a:cubicBezTo>
                <a:cubicBezTo>
                  <a:pt x="5371" y="14459"/>
                  <a:pt x="5344" y="14547"/>
                  <a:pt x="5333" y="14635"/>
                </a:cubicBezTo>
                <a:cubicBezTo>
                  <a:pt x="5320" y="14734"/>
                  <a:pt x="5299" y="14873"/>
                  <a:pt x="5234" y="14957"/>
                </a:cubicBezTo>
                <a:cubicBezTo>
                  <a:pt x="5185" y="15020"/>
                  <a:pt x="5122" y="15065"/>
                  <a:pt x="5060" y="15106"/>
                </a:cubicBezTo>
                <a:cubicBezTo>
                  <a:pt x="5009" y="15140"/>
                  <a:pt x="4984" y="15141"/>
                  <a:pt x="4936" y="15106"/>
                </a:cubicBezTo>
                <a:cubicBezTo>
                  <a:pt x="4884" y="15068"/>
                  <a:pt x="4890" y="15041"/>
                  <a:pt x="4887" y="14982"/>
                </a:cubicBezTo>
                <a:cubicBezTo>
                  <a:pt x="4885" y="14936"/>
                  <a:pt x="4883" y="14918"/>
                  <a:pt x="4911" y="14883"/>
                </a:cubicBezTo>
                <a:cubicBezTo>
                  <a:pt x="4955" y="14827"/>
                  <a:pt x="4930" y="14838"/>
                  <a:pt x="5011" y="14833"/>
                </a:cubicBezTo>
                <a:cubicBezTo>
                  <a:pt x="5052" y="14831"/>
                  <a:pt x="5108" y="14851"/>
                  <a:pt x="5135" y="14883"/>
                </a:cubicBezTo>
                <a:cubicBezTo>
                  <a:pt x="5173" y="14927"/>
                  <a:pt x="5212" y="15001"/>
                  <a:pt x="5234" y="15056"/>
                </a:cubicBezTo>
                <a:cubicBezTo>
                  <a:pt x="5251" y="15098"/>
                  <a:pt x="5274" y="15213"/>
                  <a:pt x="5333" y="15230"/>
                </a:cubicBezTo>
                <a:cubicBezTo>
                  <a:pt x="5381" y="15244"/>
                  <a:pt x="5402" y="15210"/>
                  <a:pt x="5432" y="15180"/>
                </a:cubicBezTo>
                <a:cubicBezTo>
                  <a:pt x="5440" y="15172"/>
                  <a:pt x="5449" y="15164"/>
                  <a:pt x="5457" y="15156"/>
                </a:cubicBezTo>
              </a:path>
              <a:path w="6028" h="1391">
                <a:moveTo>
                  <a:pt x="5978" y="14486"/>
                </a:moveTo>
                <a:cubicBezTo>
                  <a:pt x="5895" y="14486"/>
                  <a:pt x="5825" y="14487"/>
                  <a:pt x="5755" y="14511"/>
                </a:cubicBezTo>
                <a:cubicBezTo>
                  <a:pt x="5707" y="14527"/>
                  <a:pt x="5705" y="14532"/>
                  <a:pt x="5705" y="14585"/>
                </a:cubicBezTo>
                <a:cubicBezTo>
                  <a:pt x="5705" y="14620"/>
                  <a:pt x="5732" y="14658"/>
                  <a:pt x="5755" y="14684"/>
                </a:cubicBezTo>
                <a:cubicBezTo>
                  <a:pt x="5823" y="14762"/>
                  <a:pt x="5927" y="14832"/>
                  <a:pt x="6003" y="14908"/>
                </a:cubicBezTo>
                <a:cubicBezTo>
                  <a:pt x="6042" y="14947"/>
                  <a:pt x="6052" y="14979"/>
                  <a:pt x="6052" y="15032"/>
                </a:cubicBezTo>
                <a:cubicBezTo>
                  <a:pt x="6052" y="15088"/>
                  <a:pt x="6058" y="15112"/>
                  <a:pt x="6003" y="15131"/>
                </a:cubicBezTo>
                <a:cubicBezTo>
                  <a:pt x="5934" y="15154"/>
                  <a:pt x="5866" y="15117"/>
                  <a:pt x="5804" y="15106"/>
                </a:cubicBezTo>
                <a:cubicBezTo>
                  <a:pt x="5739" y="15094"/>
                  <a:pt x="5729" y="15080"/>
                  <a:pt x="5680" y="15032"/>
                </a:cubicBezTo>
                <a:cubicBezTo>
                  <a:pt x="5619" y="14971"/>
                  <a:pt x="5669" y="14917"/>
                  <a:pt x="5705" y="14858"/>
                </a:cubicBezTo>
              </a:path>
              <a:path w="6028" h="1391">
                <a:moveTo>
                  <a:pt x="6276" y="14660"/>
                </a:moveTo>
                <a:cubicBezTo>
                  <a:pt x="6276" y="14784"/>
                  <a:pt x="6257" y="14887"/>
                  <a:pt x="6251" y="15007"/>
                </a:cubicBezTo>
                <a:cubicBezTo>
                  <a:pt x="6248" y="15059"/>
                  <a:pt x="6276" y="15208"/>
                  <a:pt x="6276" y="15156"/>
                </a:cubicBezTo>
                <a:cubicBezTo>
                  <a:pt x="6276" y="15123"/>
                  <a:pt x="6276" y="15106"/>
                  <a:pt x="6276" y="15081"/>
                </a:cubicBezTo>
              </a:path>
              <a:path w="6028" h="1391">
                <a:moveTo>
                  <a:pt x="6300" y="14288"/>
                </a:moveTo>
                <a:cubicBezTo>
                  <a:pt x="6338" y="14230"/>
                  <a:pt x="6315" y="14238"/>
                  <a:pt x="6375" y="14238"/>
                </a:cubicBezTo>
              </a:path>
              <a:path w="6028" h="1391">
                <a:moveTo>
                  <a:pt x="6548" y="15032"/>
                </a:moveTo>
                <a:cubicBezTo>
                  <a:pt x="6548" y="15073"/>
                  <a:pt x="6548" y="15115"/>
                  <a:pt x="6548" y="15156"/>
                </a:cubicBezTo>
                <a:cubicBezTo>
                  <a:pt x="6548" y="15110"/>
                  <a:pt x="6570" y="15097"/>
                  <a:pt x="6573" y="15056"/>
                </a:cubicBezTo>
                <a:cubicBezTo>
                  <a:pt x="6578" y="14993"/>
                  <a:pt x="6593" y="14945"/>
                  <a:pt x="6598" y="14883"/>
                </a:cubicBezTo>
                <a:cubicBezTo>
                  <a:pt x="6603" y="14823"/>
                  <a:pt x="6634" y="14767"/>
                  <a:pt x="6648" y="14709"/>
                </a:cubicBezTo>
                <a:cubicBezTo>
                  <a:pt x="6655" y="14677"/>
                  <a:pt x="6686" y="14626"/>
                  <a:pt x="6722" y="14610"/>
                </a:cubicBezTo>
                <a:cubicBezTo>
                  <a:pt x="6789" y="14580"/>
                  <a:pt x="6785" y="14600"/>
                  <a:pt x="6846" y="14660"/>
                </a:cubicBezTo>
                <a:cubicBezTo>
                  <a:pt x="6912" y="14725"/>
                  <a:pt x="6899" y="14779"/>
                  <a:pt x="6921" y="14858"/>
                </a:cubicBezTo>
                <a:cubicBezTo>
                  <a:pt x="6941" y="14930"/>
                  <a:pt x="6958" y="15009"/>
                  <a:pt x="6970" y="15081"/>
                </a:cubicBezTo>
                <a:cubicBezTo>
                  <a:pt x="6979" y="15138"/>
                  <a:pt x="6989" y="15200"/>
                  <a:pt x="6995" y="15255"/>
                </a:cubicBezTo>
                <a:cubicBezTo>
                  <a:pt x="6999" y="15296"/>
                  <a:pt x="6995" y="15222"/>
                  <a:pt x="6995" y="15180"/>
                </a:cubicBezTo>
              </a:path>
              <a:path w="6028" h="1391">
                <a:moveTo>
                  <a:pt x="7045" y="14188"/>
                </a:moveTo>
                <a:cubicBezTo>
                  <a:pt x="7121" y="14170"/>
                  <a:pt x="7188" y="14136"/>
                  <a:pt x="7243" y="14213"/>
                </a:cubicBezTo>
                <a:cubicBezTo>
                  <a:pt x="7290" y="14279"/>
                  <a:pt x="7293" y="14335"/>
                  <a:pt x="7293" y="14412"/>
                </a:cubicBezTo>
                <a:cubicBezTo>
                  <a:pt x="7293" y="14457"/>
                  <a:pt x="7274" y="14544"/>
                  <a:pt x="7218" y="14560"/>
                </a:cubicBezTo>
                <a:cubicBezTo>
                  <a:pt x="7159" y="14577"/>
                  <a:pt x="7114" y="14551"/>
                  <a:pt x="7069" y="14536"/>
                </a:cubicBezTo>
                <a:cubicBezTo>
                  <a:pt x="7056" y="14532"/>
                  <a:pt x="7017" y="14484"/>
                  <a:pt x="7045" y="14461"/>
                </a:cubicBezTo>
                <a:cubicBezTo>
                  <a:pt x="7086" y="14427"/>
                  <a:pt x="7074" y="14444"/>
                  <a:pt x="7144" y="14461"/>
                </a:cubicBezTo>
                <a:cubicBezTo>
                  <a:pt x="7201" y="14475"/>
                  <a:pt x="7226" y="14495"/>
                  <a:pt x="7268" y="14536"/>
                </a:cubicBezTo>
                <a:cubicBezTo>
                  <a:pt x="7303" y="14570"/>
                  <a:pt x="7352" y="14574"/>
                  <a:pt x="7392" y="14610"/>
                </a:cubicBezTo>
                <a:cubicBezTo>
                  <a:pt x="7400" y="14618"/>
                  <a:pt x="7409" y="14627"/>
                  <a:pt x="7417" y="14635"/>
                </a:cubicBezTo>
              </a:path>
              <a:path w="6028" h="1391">
                <a:moveTo>
                  <a:pt x="7640" y="14833"/>
                </a:moveTo>
                <a:cubicBezTo>
                  <a:pt x="7729" y="14985"/>
                  <a:pt x="7792" y="15084"/>
                  <a:pt x="7913" y="15205"/>
                </a:cubicBezTo>
                <a:cubicBezTo>
                  <a:pt x="7967" y="15259"/>
                  <a:pt x="8061" y="15380"/>
                  <a:pt x="8136" y="15404"/>
                </a:cubicBezTo>
                <a:cubicBezTo>
                  <a:pt x="8158" y="15411"/>
                  <a:pt x="8209" y="15404"/>
                  <a:pt x="8235" y="15404"/>
                </a:cubicBezTo>
              </a:path>
              <a:path w="6028" h="1391">
                <a:moveTo>
                  <a:pt x="8037" y="14858"/>
                </a:moveTo>
                <a:cubicBezTo>
                  <a:pt x="7921" y="14929"/>
                  <a:pt x="7815" y="14996"/>
                  <a:pt x="7714" y="15081"/>
                </a:cubicBezTo>
                <a:cubicBezTo>
                  <a:pt x="7660" y="15126"/>
                  <a:pt x="7630" y="15167"/>
                  <a:pt x="7565" y="15180"/>
                </a:cubicBezTo>
                <a:cubicBezTo>
                  <a:pt x="7549" y="15180"/>
                  <a:pt x="7532" y="15180"/>
                  <a:pt x="7516" y="15180"/>
                </a:cubicBezTo>
              </a:path>
              <a:path w="6028" h="1391">
                <a:moveTo>
                  <a:pt x="8434" y="14610"/>
                </a:moveTo>
                <a:cubicBezTo>
                  <a:pt x="8490" y="14572"/>
                  <a:pt x="8515" y="14577"/>
                  <a:pt x="8508" y="14536"/>
                </a:cubicBezTo>
                <a:cubicBezTo>
                  <a:pt x="8533" y="14568"/>
                  <a:pt x="8554" y="14580"/>
                  <a:pt x="8558" y="14610"/>
                </a:cubicBezTo>
                <a:cubicBezTo>
                  <a:pt x="8558" y="14635"/>
                  <a:pt x="8558" y="14643"/>
                  <a:pt x="8558" y="14660"/>
                </a:cubicBezTo>
                <a:cubicBezTo>
                  <a:pt x="8508" y="14643"/>
                  <a:pt x="8558" y="14610"/>
                  <a:pt x="8483" y="14610"/>
                </a:cubicBezTo>
                <a:cubicBezTo>
                  <a:pt x="8470" y="14610"/>
                  <a:pt x="8420" y="14638"/>
                  <a:pt x="8409" y="14660"/>
                </a:cubicBezTo>
                <a:cubicBezTo>
                  <a:pt x="8387" y="14704"/>
                  <a:pt x="8362" y="14759"/>
                  <a:pt x="8359" y="14808"/>
                </a:cubicBezTo>
                <a:cubicBezTo>
                  <a:pt x="8354" y="14891"/>
                  <a:pt x="8327" y="14954"/>
                  <a:pt x="8359" y="15032"/>
                </a:cubicBezTo>
                <a:cubicBezTo>
                  <a:pt x="8387" y="15102"/>
                  <a:pt x="8420" y="15142"/>
                  <a:pt x="8483" y="15180"/>
                </a:cubicBezTo>
                <a:cubicBezTo>
                  <a:pt x="8541" y="15214"/>
                  <a:pt x="8612" y="15250"/>
                  <a:pt x="8682" y="15230"/>
                </a:cubicBezTo>
                <a:cubicBezTo>
                  <a:pt x="8734" y="15216"/>
                  <a:pt x="8770" y="15167"/>
                  <a:pt x="8806" y="15131"/>
                </a:cubicBezTo>
              </a:path>
              <a:path w="6028" h="1391">
                <a:moveTo>
                  <a:pt x="8855" y="14883"/>
                </a:moveTo>
                <a:cubicBezTo>
                  <a:pt x="8855" y="14842"/>
                  <a:pt x="8855" y="14767"/>
                  <a:pt x="8855" y="14808"/>
                </a:cubicBezTo>
                <a:cubicBezTo>
                  <a:pt x="8830" y="14867"/>
                  <a:pt x="8809" y="14917"/>
                  <a:pt x="8806" y="14982"/>
                </a:cubicBezTo>
                <a:cubicBezTo>
                  <a:pt x="8803" y="15044"/>
                  <a:pt x="8829" y="15107"/>
                  <a:pt x="8855" y="15156"/>
                </a:cubicBezTo>
                <a:cubicBezTo>
                  <a:pt x="8887" y="15216"/>
                  <a:pt x="8933" y="15285"/>
                  <a:pt x="9004" y="15304"/>
                </a:cubicBezTo>
                <a:cubicBezTo>
                  <a:pt x="9050" y="15317"/>
                  <a:pt x="9190" y="15320"/>
                  <a:pt x="9227" y="15280"/>
                </a:cubicBezTo>
                <a:cubicBezTo>
                  <a:pt x="9259" y="15245"/>
                  <a:pt x="9275" y="15150"/>
                  <a:pt x="9277" y="15106"/>
                </a:cubicBezTo>
                <a:cubicBezTo>
                  <a:pt x="9282" y="14991"/>
                  <a:pt x="9253" y="14913"/>
                  <a:pt x="9203" y="14808"/>
                </a:cubicBezTo>
                <a:cubicBezTo>
                  <a:pt x="9180" y="14759"/>
                  <a:pt x="9129" y="14685"/>
                  <a:pt x="9079" y="14660"/>
                </a:cubicBezTo>
                <a:cubicBezTo>
                  <a:pt x="9023" y="14632"/>
                  <a:pt x="9001" y="14634"/>
                  <a:pt x="8954" y="14660"/>
                </a:cubicBezTo>
                <a:cubicBezTo>
                  <a:pt x="8889" y="14697"/>
                  <a:pt x="8861" y="14737"/>
                  <a:pt x="8855" y="14808"/>
                </a:cubicBezTo>
                <a:cubicBezTo>
                  <a:pt x="8850" y="14869"/>
                  <a:pt x="8854" y="14909"/>
                  <a:pt x="8880" y="14957"/>
                </a:cubicBezTo>
                <a:cubicBezTo>
                  <a:pt x="8902" y="15001"/>
                  <a:pt x="8905" y="15013"/>
                  <a:pt x="8930" y="15032"/>
                </a:cubicBezTo>
              </a:path>
              <a:path w="6028" h="1391">
                <a:moveTo>
                  <a:pt x="9550" y="14610"/>
                </a:moveTo>
                <a:cubicBezTo>
                  <a:pt x="9481" y="14610"/>
                  <a:pt x="9482" y="14620"/>
                  <a:pt x="9451" y="14635"/>
                </a:cubicBezTo>
                <a:cubicBezTo>
                  <a:pt x="9426" y="14635"/>
                  <a:pt x="9418" y="14635"/>
                  <a:pt x="9426" y="14660"/>
                </a:cubicBezTo>
                <a:cubicBezTo>
                  <a:pt x="9440" y="14701"/>
                  <a:pt x="9456" y="14733"/>
                  <a:pt x="9500" y="14784"/>
                </a:cubicBezTo>
                <a:cubicBezTo>
                  <a:pt x="9541" y="14832"/>
                  <a:pt x="9578" y="14895"/>
                  <a:pt x="9624" y="14932"/>
                </a:cubicBezTo>
                <a:cubicBezTo>
                  <a:pt x="9674" y="14972"/>
                  <a:pt x="9733" y="15024"/>
                  <a:pt x="9773" y="15081"/>
                </a:cubicBezTo>
                <a:cubicBezTo>
                  <a:pt x="9790" y="15105"/>
                  <a:pt x="9831" y="15202"/>
                  <a:pt x="9823" y="15230"/>
                </a:cubicBezTo>
                <a:cubicBezTo>
                  <a:pt x="9805" y="15298"/>
                  <a:pt x="9782" y="15311"/>
                  <a:pt x="9723" y="15329"/>
                </a:cubicBezTo>
                <a:cubicBezTo>
                  <a:pt x="9656" y="15349"/>
                  <a:pt x="9601" y="15317"/>
                  <a:pt x="9550" y="15280"/>
                </a:cubicBezTo>
                <a:cubicBezTo>
                  <a:pt x="9506" y="15248"/>
                  <a:pt x="9485" y="15207"/>
                  <a:pt x="9475" y="15156"/>
                </a:cubicBezTo>
              </a:path>
              <a:path w="6028" h="1391">
                <a:moveTo>
                  <a:pt x="9823" y="14263"/>
                </a:moveTo>
                <a:cubicBezTo>
                  <a:pt x="9849" y="14252"/>
                  <a:pt x="9913" y="14219"/>
                  <a:pt x="9947" y="14238"/>
                </a:cubicBezTo>
                <a:cubicBezTo>
                  <a:pt x="9967" y="14249"/>
                  <a:pt x="10037" y="14277"/>
                  <a:pt x="10021" y="14312"/>
                </a:cubicBezTo>
                <a:cubicBezTo>
                  <a:pt x="10009" y="14339"/>
                  <a:pt x="9986" y="14389"/>
                  <a:pt x="9971" y="14412"/>
                </a:cubicBezTo>
                <a:cubicBezTo>
                  <a:pt x="9941" y="14458"/>
                  <a:pt x="9922" y="14453"/>
                  <a:pt x="9922" y="14511"/>
                </a:cubicBezTo>
                <a:cubicBezTo>
                  <a:pt x="9922" y="14542"/>
                  <a:pt x="9966" y="14596"/>
                  <a:pt x="9996" y="14610"/>
                </a:cubicBezTo>
                <a:cubicBezTo>
                  <a:pt x="10031" y="14626"/>
                  <a:pt x="10105" y="14610"/>
                  <a:pt x="10145" y="14610"/>
                </a:cubicBezTo>
              </a:path>
              <a:path w="6028" h="1391">
                <a:moveTo>
                  <a:pt x="10393" y="14709"/>
                </a:moveTo>
                <a:cubicBezTo>
                  <a:pt x="10421" y="14827"/>
                  <a:pt x="10458" y="14927"/>
                  <a:pt x="10517" y="15032"/>
                </a:cubicBezTo>
                <a:cubicBezTo>
                  <a:pt x="10595" y="15172"/>
                  <a:pt x="10728" y="15289"/>
                  <a:pt x="10840" y="15379"/>
                </a:cubicBezTo>
                <a:cubicBezTo>
                  <a:pt x="10869" y="15409"/>
                  <a:pt x="10883" y="15421"/>
                  <a:pt x="10914" y="15429"/>
                </a:cubicBezTo>
              </a:path>
              <a:path w="6028" h="1391">
                <a:moveTo>
                  <a:pt x="10716" y="14883"/>
                </a:moveTo>
                <a:cubicBezTo>
                  <a:pt x="10551" y="14924"/>
                  <a:pt x="10404" y="14990"/>
                  <a:pt x="10244" y="15032"/>
                </a:cubicBezTo>
                <a:cubicBezTo>
                  <a:pt x="10102" y="15059"/>
                  <a:pt x="10044" y="15072"/>
                  <a:pt x="9947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1120" y="4867200"/>
            <a:ext cx="2411280" cy="982800"/>
          </a:xfrm>
          <a:custGeom>
            <a:avLst/>
            <a:gdLst/>
            <a:ahLst/>
            <a:rect l="l" t="t" r="r" b="b"/>
            <a:pathLst>
              <a:path w="6699" h="2729">
                <a:moveTo>
                  <a:pt x="4589" y="13717"/>
                </a:moveTo>
                <a:cubicBezTo>
                  <a:pt x="4578" y="13783"/>
                  <a:pt x="4574" y="13847"/>
                  <a:pt x="4564" y="13915"/>
                </a:cubicBezTo>
                <a:cubicBezTo>
                  <a:pt x="4546" y="14041"/>
                  <a:pt x="4510" y="14162"/>
                  <a:pt x="4490" y="14288"/>
                </a:cubicBezTo>
                <a:cubicBezTo>
                  <a:pt x="4455" y="14508"/>
                  <a:pt x="4441" y="14735"/>
                  <a:pt x="4415" y="14957"/>
                </a:cubicBezTo>
                <a:cubicBezTo>
                  <a:pt x="4406" y="15032"/>
                  <a:pt x="4387" y="15056"/>
                  <a:pt x="4390" y="15131"/>
                </a:cubicBezTo>
                <a:cubicBezTo>
                  <a:pt x="4398" y="15114"/>
                  <a:pt x="4407" y="15098"/>
                  <a:pt x="4415" y="15081"/>
                </a:cubicBezTo>
                <a:cubicBezTo>
                  <a:pt x="4420" y="14953"/>
                  <a:pt x="4423" y="14834"/>
                  <a:pt x="4440" y="14709"/>
                </a:cubicBezTo>
                <a:cubicBezTo>
                  <a:pt x="4456" y="14589"/>
                  <a:pt x="4483" y="14458"/>
                  <a:pt x="4490" y="14337"/>
                </a:cubicBezTo>
                <a:cubicBezTo>
                  <a:pt x="4501" y="14136"/>
                  <a:pt x="4486" y="13939"/>
                  <a:pt x="4514" y="13742"/>
                </a:cubicBezTo>
                <a:cubicBezTo>
                  <a:pt x="4522" y="13686"/>
                  <a:pt x="4493" y="13633"/>
                  <a:pt x="4539" y="13593"/>
                </a:cubicBezTo>
                <a:cubicBezTo>
                  <a:pt x="4619" y="13522"/>
                  <a:pt x="4603" y="13529"/>
                  <a:pt x="4738" y="13519"/>
                </a:cubicBezTo>
                <a:cubicBezTo>
                  <a:pt x="4816" y="13513"/>
                  <a:pt x="4902" y="13542"/>
                  <a:pt x="4986" y="13543"/>
                </a:cubicBezTo>
                <a:cubicBezTo>
                  <a:pt x="5399" y="13549"/>
                  <a:pt x="5843" y="13603"/>
                  <a:pt x="6251" y="13568"/>
                </a:cubicBezTo>
                <a:cubicBezTo>
                  <a:pt x="6499" y="13547"/>
                  <a:pt x="6723" y="13556"/>
                  <a:pt x="6970" y="13568"/>
                </a:cubicBezTo>
                <a:cubicBezTo>
                  <a:pt x="7285" y="13583"/>
                  <a:pt x="7599" y="13567"/>
                  <a:pt x="7913" y="13593"/>
                </a:cubicBezTo>
                <a:cubicBezTo>
                  <a:pt x="8185" y="13615"/>
                  <a:pt x="8460" y="13636"/>
                  <a:pt x="8731" y="13667"/>
                </a:cubicBezTo>
                <a:cubicBezTo>
                  <a:pt x="9406" y="13743"/>
                  <a:pt x="10111" y="13801"/>
                  <a:pt x="10765" y="13990"/>
                </a:cubicBezTo>
                <a:cubicBezTo>
                  <a:pt x="10830" y="14009"/>
                  <a:pt x="10993" y="14049"/>
                  <a:pt x="11038" y="14089"/>
                </a:cubicBezTo>
                <a:cubicBezTo>
                  <a:pt x="11095" y="14140"/>
                  <a:pt x="11075" y="14144"/>
                  <a:pt x="11088" y="14213"/>
                </a:cubicBezTo>
                <a:cubicBezTo>
                  <a:pt x="11098" y="14264"/>
                  <a:pt x="11068" y="14311"/>
                  <a:pt x="11063" y="14362"/>
                </a:cubicBezTo>
                <a:cubicBezTo>
                  <a:pt x="11053" y="14462"/>
                  <a:pt x="11020" y="14558"/>
                  <a:pt x="11013" y="14660"/>
                </a:cubicBezTo>
                <a:cubicBezTo>
                  <a:pt x="10990" y="15012"/>
                  <a:pt x="11010" y="15377"/>
                  <a:pt x="11038" y="15726"/>
                </a:cubicBezTo>
                <a:cubicBezTo>
                  <a:pt x="11051" y="15890"/>
                  <a:pt x="11074" y="16045"/>
                  <a:pt x="11038" y="16197"/>
                </a:cubicBezTo>
                <a:cubicBezTo>
                  <a:pt x="11038" y="16225"/>
                  <a:pt x="11036" y="16236"/>
                  <a:pt x="11013" y="16247"/>
                </a:cubicBezTo>
                <a:cubicBezTo>
                  <a:pt x="10978" y="16236"/>
                  <a:pt x="10947" y="16236"/>
                  <a:pt x="10914" y="16222"/>
                </a:cubicBezTo>
                <a:cubicBezTo>
                  <a:pt x="10849" y="16195"/>
                  <a:pt x="10810" y="16165"/>
                  <a:pt x="10740" y="16148"/>
                </a:cubicBezTo>
                <a:cubicBezTo>
                  <a:pt x="10671" y="16131"/>
                  <a:pt x="10585" y="16106"/>
                  <a:pt x="10517" y="16098"/>
                </a:cubicBezTo>
                <a:cubicBezTo>
                  <a:pt x="10402" y="16085"/>
                  <a:pt x="10285" y="16078"/>
                  <a:pt x="10170" y="16073"/>
                </a:cubicBezTo>
                <a:cubicBezTo>
                  <a:pt x="9732" y="16054"/>
                  <a:pt x="9291" y="16090"/>
                  <a:pt x="8855" y="16049"/>
                </a:cubicBezTo>
                <a:cubicBezTo>
                  <a:pt x="8639" y="16029"/>
                  <a:pt x="8425" y="16005"/>
                  <a:pt x="8210" y="15974"/>
                </a:cubicBezTo>
                <a:cubicBezTo>
                  <a:pt x="7968" y="15939"/>
                  <a:pt x="7733" y="15913"/>
                  <a:pt x="7491" y="15875"/>
                </a:cubicBezTo>
                <a:cubicBezTo>
                  <a:pt x="7242" y="15836"/>
                  <a:pt x="6996" y="15785"/>
                  <a:pt x="6747" y="15751"/>
                </a:cubicBezTo>
                <a:cubicBezTo>
                  <a:pt x="6479" y="15715"/>
                  <a:pt x="6219" y="15667"/>
                  <a:pt x="5953" y="15627"/>
                </a:cubicBezTo>
                <a:cubicBezTo>
                  <a:pt x="5609" y="15575"/>
                  <a:pt x="5257" y="15505"/>
                  <a:pt x="4911" y="15478"/>
                </a:cubicBezTo>
                <a:cubicBezTo>
                  <a:pt x="4800" y="15469"/>
                  <a:pt x="4698" y="15469"/>
                  <a:pt x="4589" y="15453"/>
                </a:cubicBezTo>
                <a:cubicBezTo>
                  <a:pt x="4534" y="15445"/>
                  <a:pt x="4513" y="15443"/>
                  <a:pt x="4465" y="15429"/>
                </a:cubicBezTo>
                <a:cubicBezTo>
                  <a:pt x="4386" y="15405"/>
                  <a:pt x="4520" y="15427"/>
                  <a:pt x="4465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8080" y="1197000"/>
            <a:ext cx="2492640" cy="1652400"/>
          </a:xfrm>
          <a:custGeom>
            <a:avLst/>
            <a:gdLst/>
            <a:ahLst/>
            <a:rect l="l" t="t" r="r" b="b"/>
            <a:pathLst>
              <a:path w="6922" h="4590">
                <a:moveTo>
                  <a:pt x="9773" y="5407"/>
                </a:moveTo>
                <a:cubicBezTo>
                  <a:pt x="9741" y="5482"/>
                  <a:pt x="9743" y="5555"/>
                  <a:pt x="9723" y="5631"/>
                </a:cubicBezTo>
                <a:cubicBezTo>
                  <a:pt x="9699" y="5720"/>
                  <a:pt x="9694" y="5814"/>
                  <a:pt x="9674" y="5904"/>
                </a:cubicBezTo>
                <a:cubicBezTo>
                  <a:pt x="9652" y="6003"/>
                  <a:pt x="9624" y="6103"/>
                  <a:pt x="9599" y="6201"/>
                </a:cubicBezTo>
                <a:cubicBezTo>
                  <a:pt x="9583" y="6265"/>
                  <a:pt x="9612" y="6300"/>
                  <a:pt x="9624" y="6325"/>
                </a:cubicBezTo>
                <a:cubicBezTo>
                  <a:pt x="9624" y="6333"/>
                  <a:pt x="9624" y="6342"/>
                  <a:pt x="9624" y="6350"/>
                </a:cubicBezTo>
              </a:path>
              <a:path w="6922" h="4590">
                <a:moveTo>
                  <a:pt x="9004" y="6424"/>
                </a:moveTo>
                <a:cubicBezTo>
                  <a:pt x="9153" y="6424"/>
                  <a:pt x="10394" y="6403"/>
                  <a:pt x="10393" y="6449"/>
                </a:cubicBezTo>
                <a:cubicBezTo>
                  <a:pt x="10360" y="6449"/>
                  <a:pt x="10344" y="6449"/>
                  <a:pt x="10319" y="6449"/>
                </a:cubicBezTo>
              </a:path>
              <a:path w="6922" h="4590">
                <a:moveTo>
                  <a:pt x="9401" y="6970"/>
                </a:moveTo>
                <a:cubicBezTo>
                  <a:pt x="9459" y="6932"/>
                  <a:pt x="9451" y="6955"/>
                  <a:pt x="9451" y="6896"/>
                </a:cubicBezTo>
                <a:cubicBezTo>
                  <a:pt x="9441" y="6867"/>
                  <a:pt x="9376" y="6818"/>
                  <a:pt x="9327" y="6821"/>
                </a:cubicBezTo>
                <a:cubicBezTo>
                  <a:pt x="9277" y="6824"/>
                  <a:pt x="9181" y="6870"/>
                  <a:pt x="9128" y="6896"/>
                </a:cubicBezTo>
                <a:cubicBezTo>
                  <a:pt x="9054" y="6931"/>
                  <a:pt x="9012" y="6971"/>
                  <a:pt x="8954" y="7020"/>
                </a:cubicBezTo>
                <a:cubicBezTo>
                  <a:pt x="8909" y="7059"/>
                  <a:pt x="8922" y="7106"/>
                  <a:pt x="8930" y="7144"/>
                </a:cubicBezTo>
                <a:cubicBezTo>
                  <a:pt x="8941" y="7199"/>
                  <a:pt x="8979" y="7217"/>
                  <a:pt x="9029" y="7243"/>
                </a:cubicBezTo>
                <a:cubicBezTo>
                  <a:pt x="9103" y="7282"/>
                  <a:pt x="9218" y="7312"/>
                  <a:pt x="9277" y="7367"/>
                </a:cubicBezTo>
                <a:cubicBezTo>
                  <a:pt x="9330" y="7417"/>
                  <a:pt x="9351" y="7471"/>
                  <a:pt x="9351" y="7541"/>
                </a:cubicBezTo>
                <a:cubicBezTo>
                  <a:pt x="9351" y="7636"/>
                  <a:pt x="9281" y="7632"/>
                  <a:pt x="9203" y="7665"/>
                </a:cubicBezTo>
                <a:cubicBezTo>
                  <a:pt x="9093" y="7711"/>
                  <a:pt x="9033" y="7706"/>
                  <a:pt x="8930" y="7689"/>
                </a:cubicBezTo>
                <a:cubicBezTo>
                  <a:pt x="8908" y="7685"/>
                  <a:pt x="8813" y="7660"/>
                  <a:pt x="8830" y="7615"/>
                </a:cubicBezTo>
                <a:cubicBezTo>
                  <a:pt x="8847" y="7590"/>
                  <a:pt x="8863" y="7566"/>
                  <a:pt x="8880" y="7541"/>
                </a:cubicBezTo>
              </a:path>
              <a:path w="6922" h="4590">
                <a:moveTo>
                  <a:pt x="9500" y="7193"/>
                </a:moveTo>
                <a:cubicBezTo>
                  <a:pt x="9590" y="7227"/>
                  <a:pt x="9612" y="7204"/>
                  <a:pt x="9699" y="7193"/>
                </a:cubicBezTo>
                <a:cubicBezTo>
                  <a:pt x="9792" y="7181"/>
                  <a:pt x="9859" y="7194"/>
                  <a:pt x="9947" y="7144"/>
                </a:cubicBezTo>
                <a:cubicBezTo>
                  <a:pt x="9984" y="7123"/>
                  <a:pt x="10033" y="7059"/>
                  <a:pt x="10046" y="7020"/>
                </a:cubicBezTo>
                <a:cubicBezTo>
                  <a:pt x="10070" y="6948"/>
                  <a:pt x="9992" y="6925"/>
                  <a:pt x="9947" y="6921"/>
                </a:cubicBezTo>
                <a:cubicBezTo>
                  <a:pt x="9876" y="6915"/>
                  <a:pt x="9835" y="6939"/>
                  <a:pt x="9773" y="6970"/>
                </a:cubicBezTo>
                <a:cubicBezTo>
                  <a:pt x="9700" y="7006"/>
                  <a:pt x="9632" y="7068"/>
                  <a:pt x="9599" y="7144"/>
                </a:cubicBezTo>
                <a:cubicBezTo>
                  <a:pt x="9559" y="7238"/>
                  <a:pt x="9505" y="7339"/>
                  <a:pt x="9500" y="7441"/>
                </a:cubicBezTo>
                <a:cubicBezTo>
                  <a:pt x="9497" y="7499"/>
                  <a:pt x="9525" y="7579"/>
                  <a:pt x="9575" y="7615"/>
                </a:cubicBezTo>
                <a:cubicBezTo>
                  <a:pt x="9616" y="7645"/>
                  <a:pt x="9699" y="7654"/>
                  <a:pt x="9748" y="7640"/>
                </a:cubicBezTo>
                <a:cubicBezTo>
                  <a:pt x="9805" y="7612"/>
                  <a:pt x="9828" y="7601"/>
                  <a:pt x="9872" y="7590"/>
                </a:cubicBezTo>
              </a:path>
              <a:path w="6922" h="4590">
                <a:moveTo>
                  <a:pt x="10418" y="7094"/>
                </a:moveTo>
                <a:cubicBezTo>
                  <a:pt x="10426" y="7094"/>
                  <a:pt x="10435" y="7094"/>
                  <a:pt x="10443" y="7094"/>
                </a:cubicBezTo>
                <a:cubicBezTo>
                  <a:pt x="10434" y="7067"/>
                  <a:pt x="10425" y="7049"/>
                  <a:pt x="10393" y="7045"/>
                </a:cubicBezTo>
                <a:cubicBezTo>
                  <a:pt x="10336" y="7038"/>
                  <a:pt x="10337" y="7067"/>
                  <a:pt x="10294" y="7094"/>
                </a:cubicBezTo>
                <a:cubicBezTo>
                  <a:pt x="10224" y="7139"/>
                  <a:pt x="10208" y="7193"/>
                  <a:pt x="10170" y="7268"/>
                </a:cubicBezTo>
                <a:cubicBezTo>
                  <a:pt x="10138" y="7332"/>
                  <a:pt x="10123" y="7420"/>
                  <a:pt x="10120" y="7491"/>
                </a:cubicBezTo>
                <a:cubicBezTo>
                  <a:pt x="10116" y="7591"/>
                  <a:pt x="10115" y="7649"/>
                  <a:pt x="10220" y="7689"/>
                </a:cubicBezTo>
                <a:cubicBezTo>
                  <a:pt x="10290" y="7716"/>
                  <a:pt x="10359" y="7669"/>
                  <a:pt x="10418" y="7640"/>
                </a:cubicBezTo>
                <a:cubicBezTo>
                  <a:pt x="10468" y="7615"/>
                  <a:pt x="10484" y="7607"/>
                  <a:pt x="10517" y="7590"/>
                </a:cubicBezTo>
              </a:path>
              <a:path w="6922" h="4590">
                <a:moveTo>
                  <a:pt x="10666" y="7119"/>
                </a:moveTo>
                <a:cubicBezTo>
                  <a:pt x="10692" y="7210"/>
                  <a:pt x="10723" y="7282"/>
                  <a:pt x="10765" y="7367"/>
                </a:cubicBezTo>
                <a:cubicBezTo>
                  <a:pt x="10802" y="7442"/>
                  <a:pt x="10875" y="7486"/>
                  <a:pt x="10939" y="7541"/>
                </a:cubicBezTo>
                <a:cubicBezTo>
                  <a:pt x="10981" y="7577"/>
                  <a:pt x="11032" y="7611"/>
                  <a:pt x="11088" y="7615"/>
                </a:cubicBezTo>
                <a:cubicBezTo>
                  <a:pt x="11146" y="7619"/>
                  <a:pt x="11149" y="7603"/>
                  <a:pt x="11187" y="7565"/>
                </a:cubicBezTo>
              </a:path>
              <a:path w="6922" h="4590">
                <a:moveTo>
                  <a:pt x="11162" y="7069"/>
                </a:moveTo>
                <a:cubicBezTo>
                  <a:pt x="11057" y="7122"/>
                  <a:pt x="10996" y="7161"/>
                  <a:pt x="10914" y="7243"/>
                </a:cubicBezTo>
                <a:cubicBezTo>
                  <a:pt x="10844" y="7313"/>
                  <a:pt x="10790" y="7379"/>
                  <a:pt x="10716" y="7441"/>
                </a:cubicBezTo>
                <a:cubicBezTo>
                  <a:pt x="10678" y="7473"/>
                  <a:pt x="10610" y="7576"/>
                  <a:pt x="10592" y="7541"/>
                </a:cubicBezTo>
              </a:path>
              <a:path w="6922" h="4590">
                <a:moveTo>
                  <a:pt x="11881" y="6325"/>
                </a:moveTo>
                <a:cubicBezTo>
                  <a:pt x="11861" y="6366"/>
                  <a:pt x="11853" y="6372"/>
                  <a:pt x="11857" y="6400"/>
                </a:cubicBezTo>
                <a:cubicBezTo>
                  <a:pt x="11874" y="6396"/>
                  <a:pt x="11944" y="6356"/>
                  <a:pt x="11906" y="6325"/>
                </a:cubicBezTo>
                <a:cubicBezTo>
                  <a:pt x="11892" y="6314"/>
                  <a:pt x="11799" y="6321"/>
                  <a:pt x="11857" y="6350"/>
                </a:cubicBezTo>
              </a:path>
              <a:path w="6922" h="4590">
                <a:moveTo>
                  <a:pt x="13568" y="5383"/>
                </a:moveTo>
                <a:cubicBezTo>
                  <a:pt x="13561" y="5361"/>
                  <a:pt x="13526" y="5344"/>
                  <a:pt x="13494" y="5333"/>
                </a:cubicBezTo>
                <a:cubicBezTo>
                  <a:pt x="13450" y="5318"/>
                  <a:pt x="13404" y="5343"/>
                  <a:pt x="13370" y="5358"/>
                </a:cubicBezTo>
                <a:cubicBezTo>
                  <a:pt x="13310" y="5384"/>
                  <a:pt x="13245" y="5413"/>
                  <a:pt x="13196" y="5457"/>
                </a:cubicBezTo>
                <a:cubicBezTo>
                  <a:pt x="13158" y="5492"/>
                  <a:pt x="13109" y="5523"/>
                  <a:pt x="13122" y="5581"/>
                </a:cubicBezTo>
                <a:cubicBezTo>
                  <a:pt x="13138" y="5650"/>
                  <a:pt x="13224" y="5708"/>
                  <a:pt x="13271" y="5755"/>
                </a:cubicBezTo>
                <a:cubicBezTo>
                  <a:pt x="13335" y="5819"/>
                  <a:pt x="13400" y="5875"/>
                  <a:pt x="13444" y="5953"/>
                </a:cubicBezTo>
                <a:cubicBezTo>
                  <a:pt x="13463" y="5987"/>
                  <a:pt x="13489" y="6062"/>
                  <a:pt x="13469" y="6102"/>
                </a:cubicBezTo>
                <a:cubicBezTo>
                  <a:pt x="13445" y="6151"/>
                  <a:pt x="13365" y="6173"/>
                  <a:pt x="13320" y="6176"/>
                </a:cubicBezTo>
                <a:cubicBezTo>
                  <a:pt x="13254" y="6180"/>
                  <a:pt x="13180" y="6187"/>
                  <a:pt x="13122" y="6152"/>
                </a:cubicBezTo>
                <a:cubicBezTo>
                  <a:pt x="13066" y="6118"/>
                  <a:pt x="13075" y="6142"/>
                  <a:pt x="13097" y="6077"/>
                </a:cubicBezTo>
              </a:path>
              <a:path w="6922" h="4590">
                <a:moveTo>
                  <a:pt x="13791" y="5829"/>
                </a:moveTo>
                <a:cubicBezTo>
                  <a:pt x="13882" y="5769"/>
                  <a:pt x="14000" y="5723"/>
                  <a:pt x="14064" y="5631"/>
                </a:cubicBezTo>
                <a:cubicBezTo>
                  <a:pt x="14098" y="5582"/>
                  <a:pt x="14138" y="5493"/>
                  <a:pt x="14114" y="5432"/>
                </a:cubicBezTo>
                <a:cubicBezTo>
                  <a:pt x="14106" y="5411"/>
                  <a:pt x="14040" y="5347"/>
                  <a:pt x="14015" y="5358"/>
                </a:cubicBezTo>
                <a:cubicBezTo>
                  <a:pt x="13967" y="5380"/>
                  <a:pt x="13846" y="5457"/>
                  <a:pt x="13816" y="5507"/>
                </a:cubicBezTo>
                <a:cubicBezTo>
                  <a:pt x="13764" y="5594"/>
                  <a:pt x="13703" y="5681"/>
                  <a:pt x="13667" y="5779"/>
                </a:cubicBezTo>
                <a:cubicBezTo>
                  <a:pt x="13628" y="5886"/>
                  <a:pt x="13626" y="5927"/>
                  <a:pt x="13643" y="6028"/>
                </a:cubicBezTo>
                <a:cubicBezTo>
                  <a:pt x="13660" y="6127"/>
                  <a:pt x="13658" y="6123"/>
                  <a:pt x="13742" y="6152"/>
                </a:cubicBezTo>
                <a:cubicBezTo>
                  <a:pt x="13862" y="6194"/>
                  <a:pt x="13882" y="6155"/>
                  <a:pt x="13990" y="6077"/>
                </a:cubicBezTo>
              </a:path>
              <a:path w="6922" h="4590">
                <a:moveTo>
                  <a:pt x="14684" y="5581"/>
                </a:moveTo>
                <a:cubicBezTo>
                  <a:pt x="14747" y="5560"/>
                  <a:pt x="14677" y="5546"/>
                  <a:pt x="14660" y="5507"/>
                </a:cubicBezTo>
                <a:cubicBezTo>
                  <a:pt x="14647" y="5478"/>
                  <a:pt x="14612" y="5445"/>
                  <a:pt x="14560" y="5457"/>
                </a:cubicBezTo>
                <a:cubicBezTo>
                  <a:pt x="14484" y="5475"/>
                  <a:pt x="14455" y="5555"/>
                  <a:pt x="14412" y="5606"/>
                </a:cubicBezTo>
                <a:cubicBezTo>
                  <a:pt x="14287" y="5755"/>
                  <a:pt x="14238" y="5763"/>
                  <a:pt x="14238" y="6003"/>
                </a:cubicBezTo>
                <a:cubicBezTo>
                  <a:pt x="14238" y="6071"/>
                  <a:pt x="14387" y="6118"/>
                  <a:pt x="14436" y="6127"/>
                </a:cubicBezTo>
                <a:cubicBezTo>
                  <a:pt x="14514" y="6142"/>
                  <a:pt x="14634" y="6096"/>
                  <a:pt x="14709" y="6077"/>
                </a:cubicBezTo>
              </a:path>
              <a:path w="6922" h="4590">
                <a:moveTo>
                  <a:pt x="15156" y="5482"/>
                </a:moveTo>
                <a:cubicBezTo>
                  <a:pt x="15163" y="5566"/>
                  <a:pt x="15174" y="5649"/>
                  <a:pt x="15205" y="5730"/>
                </a:cubicBezTo>
                <a:cubicBezTo>
                  <a:pt x="15240" y="5822"/>
                  <a:pt x="15311" y="5886"/>
                  <a:pt x="15379" y="5953"/>
                </a:cubicBezTo>
                <a:cubicBezTo>
                  <a:pt x="15443" y="6016"/>
                  <a:pt x="15538" y="6055"/>
                  <a:pt x="15627" y="6077"/>
                </a:cubicBezTo>
                <a:cubicBezTo>
                  <a:pt x="15677" y="6089"/>
                  <a:pt x="15715" y="6079"/>
                  <a:pt x="15751" y="6052"/>
                </a:cubicBezTo>
              </a:path>
              <a:path w="6922" h="4590">
                <a:moveTo>
                  <a:pt x="15528" y="5606"/>
                </a:moveTo>
                <a:cubicBezTo>
                  <a:pt x="15437" y="5715"/>
                  <a:pt x="15314" y="5814"/>
                  <a:pt x="15230" y="5928"/>
                </a:cubicBezTo>
                <a:cubicBezTo>
                  <a:pt x="15191" y="5981"/>
                  <a:pt x="15140" y="6037"/>
                  <a:pt x="15081" y="6077"/>
                </a:cubicBezTo>
                <a:cubicBezTo>
                  <a:pt x="15032" y="6102"/>
                  <a:pt x="15015" y="6111"/>
                  <a:pt x="14982" y="6127"/>
                </a:cubicBezTo>
              </a:path>
              <a:path w="6922" h="4590">
                <a:moveTo>
                  <a:pt x="10145" y="3324"/>
                </a:moveTo>
                <a:cubicBezTo>
                  <a:pt x="10129" y="3371"/>
                  <a:pt x="10120" y="3346"/>
                  <a:pt x="10120" y="3423"/>
                </a:cubicBezTo>
                <a:cubicBezTo>
                  <a:pt x="10120" y="3515"/>
                  <a:pt x="10096" y="3601"/>
                  <a:pt x="10096" y="3696"/>
                </a:cubicBezTo>
                <a:cubicBezTo>
                  <a:pt x="10096" y="3815"/>
                  <a:pt x="10083" y="3948"/>
                  <a:pt x="10071" y="4068"/>
                </a:cubicBezTo>
                <a:cubicBezTo>
                  <a:pt x="10058" y="4203"/>
                  <a:pt x="10039" y="4334"/>
                  <a:pt x="10021" y="4465"/>
                </a:cubicBezTo>
                <a:cubicBezTo>
                  <a:pt x="10010" y="4548"/>
                  <a:pt x="10038" y="4619"/>
                  <a:pt x="9996" y="4688"/>
                </a:cubicBezTo>
                <a:cubicBezTo>
                  <a:pt x="9996" y="4640"/>
                  <a:pt x="9994" y="4627"/>
                  <a:pt x="9971" y="4589"/>
                </a:cubicBezTo>
              </a:path>
              <a:path w="6922" h="4590">
                <a:moveTo>
                  <a:pt x="9748" y="4366"/>
                </a:moveTo>
                <a:cubicBezTo>
                  <a:pt x="9748" y="4420"/>
                  <a:pt x="9753" y="4465"/>
                  <a:pt x="9773" y="4514"/>
                </a:cubicBezTo>
                <a:cubicBezTo>
                  <a:pt x="9795" y="4569"/>
                  <a:pt x="9822" y="4615"/>
                  <a:pt x="9847" y="4663"/>
                </a:cubicBezTo>
                <a:cubicBezTo>
                  <a:pt x="9873" y="4713"/>
                  <a:pt x="9919" y="4786"/>
                  <a:pt x="9971" y="4812"/>
                </a:cubicBezTo>
                <a:cubicBezTo>
                  <a:pt x="10009" y="4831"/>
                  <a:pt x="10053" y="4790"/>
                  <a:pt x="10071" y="4762"/>
                </a:cubicBezTo>
                <a:cubicBezTo>
                  <a:pt x="10130" y="4672"/>
                  <a:pt x="10199" y="4574"/>
                  <a:pt x="10269" y="4490"/>
                </a:cubicBezTo>
                <a:cubicBezTo>
                  <a:pt x="10319" y="4430"/>
                  <a:pt x="10370" y="4376"/>
                  <a:pt x="10418" y="4316"/>
                </a:cubicBezTo>
              </a:path>
              <a:path w="6922" h="4590">
                <a:moveTo>
                  <a:pt x="8930" y="7913"/>
                </a:moveTo>
                <a:cubicBezTo>
                  <a:pt x="8953" y="7885"/>
                  <a:pt x="8945" y="7882"/>
                  <a:pt x="8979" y="7863"/>
                </a:cubicBezTo>
                <a:cubicBezTo>
                  <a:pt x="9091" y="7799"/>
                  <a:pt x="9212" y="7749"/>
                  <a:pt x="9327" y="7689"/>
                </a:cubicBezTo>
                <a:cubicBezTo>
                  <a:pt x="9546" y="7575"/>
                  <a:pt x="9752" y="7428"/>
                  <a:pt x="9971" y="7317"/>
                </a:cubicBezTo>
                <a:cubicBezTo>
                  <a:pt x="10176" y="7213"/>
                  <a:pt x="10403" y="7107"/>
                  <a:pt x="10616" y="7020"/>
                </a:cubicBezTo>
                <a:cubicBezTo>
                  <a:pt x="10756" y="6963"/>
                  <a:pt x="10896" y="6897"/>
                  <a:pt x="11038" y="6846"/>
                </a:cubicBezTo>
                <a:cubicBezTo>
                  <a:pt x="11094" y="6826"/>
                  <a:pt x="11155" y="6812"/>
                  <a:pt x="11162" y="6747"/>
                </a:cubicBezTo>
                <a:cubicBezTo>
                  <a:pt x="11165" y="6719"/>
                  <a:pt x="11158" y="6725"/>
                  <a:pt x="11162" y="6697"/>
                </a:cubicBezTo>
              </a:path>
              <a:path w="6922" h="4590">
                <a:moveTo>
                  <a:pt x="12774" y="6251"/>
                </a:moveTo>
                <a:cubicBezTo>
                  <a:pt x="12797" y="6232"/>
                  <a:pt x="12822" y="6196"/>
                  <a:pt x="12874" y="6176"/>
                </a:cubicBezTo>
                <a:cubicBezTo>
                  <a:pt x="12995" y="6129"/>
                  <a:pt x="13099" y="6051"/>
                  <a:pt x="13221" y="6003"/>
                </a:cubicBezTo>
                <a:cubicBezTo>
                  <a:pt x="13492" y="5897"/>
                  <a:pt x="13758" y="5784"/>
                  <a:pt x="14039" y="5705"/>
                </a:cubicBezTo>
                <a:cubicBezTo>
                  <a:pt x="14268" y="5641"/>
                  <a:pt x="14508" y="5599"/>
                  <a:pt x="14734" y="5531"/>
                </a:cubicBezTo>
                <a:cubicBezTo>
                  <a:pt x="14841" y="5499"/>
                  <a:pt x="15023" y="5466"/>
                  <a:pt x="15106" y="5383"/>
                </a:cubicBezTo>
                <a:cubicBezTo>
                  <a:pt x="15142" y="5347"/>
                  <a:pt x="15125" y="5329"/>
                  <a:pt x="15131" y="5283"/>
                </a:cubicBezTo>
                <a:cubicBezTo>
                  <a:pt x="15097" y="5304"/>
                  <a:pt x="15067" y="5327"/>
                  <a:pt x="15032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1955880"/>
            <a:ext cx="563400" cy="393480"/>
          </a:xfrm>
          <a:custGeom>
            <a:avLst/>
            <a:gdLst/>
            <a:ahLst/>
            <a:rect l="l" t="t" r="r" b="b"/>
            <a:pathLst>
              <a:path w="1564" h="1093">
                <a:moveTo>
                  <a:pt x="17512" y="5854"/>
                </a:moveTo>
                <a:cubicBezTo>
                  <a:pt x="17777" y="5854"/>
                  <a:pt x="18521" y="5854"/>
                  <a:pt x="18256" y="5854"/>
                </a:cubicBezTo>
                <a:cubicBezTo>
                  <a:pt x="18248" y="5854"/>
                  <a:pt x="18239" y="5854"/>
                  <a:pt x="18231" y="5854"/>
                </a:cubicBezTo>
              </a:path>
              <a:path w="1564" h="1093">
                <a:moveTo>
                  <a:pt x="17462" y="6201"/>
                </a:moveTo>
                <a:cubicBezTo>
                  <a:pt x="17582" y="6201"/>
                  <a:pt x="17697" y="6212"/>
                  <a:pt x="17810" y="6226"/>
                </a:cubicBezTo>
                <a:cubicBezTo>
                  <a:pt x="17947" y="6243"/>
                  <a:pt x="18099" y="6237"/>
                  <a:pt x="18231" y="6251"/>
                </a:cubicBezTo>
                <a:cubicBezTo>
                  <a:pt x="18277" y="6256"/>
                  <a:pt x="18332" y="6251"/>
                  <a:pt x="18380" y="6251"/>
                </a:cubicBezTo>
              </a:path>
              <a:path w="1564" h="1093">
                <a:moveTo>
                  <a:pt x="19025" y="5432"/>
                </a:moveTo>
                <a:cubicBezTo>
                  <a:pt x="19025" y="5730"/>
                  <a:pt x="19042" y="6034"/>
                  <a:pt x="19000" y="6325"/>
                </a:cubicBezTo>
                <a:cubicBezTo>
                  <a:pt x="18989" y="6399"/>
                  <a:pt x="19000" y="6424"/>
                  <a:pt x="19000" y="6499"/>
                </a:cubicBezTo>
                <a:cubicBezTo>
                  <a:pt x="19000" y="6507"/>
                  <a:pt x="19000" y="6516"/>
                  <a:pt x="19000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91040" y="3178080"/>
            <a:ext cx="46080" cy="474840"/>
          </a:xfrm>
          <a:custGeom>
            <a:avLst/>
            <a:gdLst/>
            <a:ahLst/>
            <a:rect l="l" t="t" r="r" b="b"/>
            <a:pathLst>
              <a:path w="125" h="1316">
                <a:moveTo>
                  <a:pt x="13990" y="8855"/>
                </a:moveTo>
                <a:cubicBezTo>
                  <a:pt x="13990" y="8805"/>
                  <a:pt x="13990" y="8904"/>
                  <a:pt x="13990" y="8954"/>
                </a:cubicBezTo>
                <a:cubicBezTo>
                  <a:pt x="13990" y="9079"/>
                  <a:pt x="13984" y="9250"/>
                  <a:pt x="13965" y="9376"/>
                </a:cubicBezTo>
                <a:cubicBezTo>
                  <a:pt x="13943" y="9523"/>
                  <a:pt x="13920" y="9674"/>
                  <a:pt x="13915" y="9823"/>
                </a:cubicBezTo>
                <a:cubicBezTo>
                  <a:pt x="13912" y="9914"/>
                  <a:pt x="13885" y="9987"/>
                  <a:pt x="13866" y="10071"/>
                </a:cubicBezTo>
                <a:cubicBezTo>
                  <a:pt x="13864" y="10081"/>
                  <a:pt x="13866" y="10188"/>
                  <a:pt x="13866" y="10120"/>
                </a:cubicBezTo>
                <a:cubicBezTo>
                  <a:pt x="13866" y="10081"/>
                  <a:pt x="13877" y="10062"/>
                  <a:pt x="13915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1880" y="3446640"/>
            <a:ext cx="258840" cy="98280"/>
          </a:xfrm>
          <a:custGeom>
            <a:avLst/>
            <a:gdLst/>
            <a:ahLst/>
            <a:rect l="l" t="t" r="r" b="b"/>
            <a:pathLst>
              <a:path w="720" h="273">
                <a:moveTo>
                  <a:pt x="15081" y="9575"/>
                </a:moveTo>
                <a:cubicBezTo>
                  <a:pt x="15274" y="9575"/>
                  <a:pt x="15463" y="9574"/>
                  <a:pt x="15652" y="9599"/>
                </a:cubicBezTo>
                <a:cubicBezTo>
                  <a:pt x="15705" y="9606"/>
                  <a:pt x="15761" y="9571"/>
                  <a:pt x="15726" y="9624"/>
                </a:cubicBezTo>
              </a:path>
              <a:path w="720" h="273">
                <a:moveTo>
                  <a:pt x="15032" y="9798"/>
                </a:moveTo>
                <a:cubicBezTo>
                  <a:pt x="15103" y="9829"/>
                  <a:pt x="15150" y="9823"/>
                  <a:pt x="15230" y="9823"/>
                </a:cubicBezTo>
                <a:cubicBezTo>
                  <a:pt x="15311" y="9823"/>
                  <a:pt x="15376" y="9843"/>
                  <a:pt x="15453" y="9847"/>
                </a:cubicBezTo>
                <a:cubicBezTo>
                  <a:pt x="15552" y="9852"/>
                  <a:pt x="15652" y="9847"/>
                  <a:pt x="15751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0200" y="3251160"/>
            <a:ext cx="17640" cy="419040"/>
          </a:xfrm>
          <a:custGeom>
            <a:avLst/>
            <a:gdLst/>
            <a:ahLst/>
            <a:rect l="l" t="t" r="r" b="b"/>
            <a:pathLst>
              <a:path w="50" h="1167">
                <a:moveTo>
                  <a:pt x="16694" y="9079"/>
                </a:moveTo>
                <a:cubicBezTo>
                  <a:pt x="16694" y="9038"/>
                  <a:pt x="16685" y="9021"/>
                  <a:pt x="16718" y="9029"/>
                </a:cubicBezTo>
                <a:cubicBezTo>
                  <a:pt x="16718" y="9295"/>
                  <a:pt x="16714" y="9562"/>
                  <a:pt x="16743" y="9823"/>
                </a:cubicBezTo>
                <a:cubicBezTo>
                  <a:pt x="16757" y="9944"/>
                  <a:pt x="16743" y="10073"/>
                  <a:pt x="16743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38960" y="3178080"/>
            <a:ext cx="517320" cy="509760"/>
          </a:xfrm>
          <a:custGeom>
            <a:avLst/>
            <a:gdLst/>
            <a:ahLst/>
            <a:rect l="l" t="t" r="r" b="b"/>
            <a:pathLst>
              <a:path w="1440" h="1415">
                <a:moveTo>
                  <a:pt x="17884" y="9922"/>
                </a:moveTo>
                <a:cubicBezTo>
                  <a:pt x="17930" y="10021"/>
                  <a:pt x="17979" y="10145"/>
                  <a:pt x="18083" y="10195"/>
                </a:cubicBezTo>
                <a:cubicBezTo>
                  <a:pt x="18116" y="10211"/>
                  <a:pt x="18168" y="10248"/>
                  <a:pt x="18207" y="10244"/>
                </a:cubicBezTo>
                <a:cubicBezTo>
                  <a:pt x="18254" y="10239"/>
                  <a:pt x="18282" y="10180"/>
                  <a:pt x="18306" y="10145"/>
                </a:cubicBezTo>
                <a:cubicBezTo>
                  <a:pt x="18349" y="10081"/>
                  <a:pt x="18389" y="10013"/>
                  <a:pt x="18430" y="9947"/>
                </a:cubicBezTo>
                <a:cubicBezTo>
                  <a:pt x="18497" y="9838"/>
                  <a:pt x="18575" y="9748"/>
                  <a:pt x="18653" y="9649"/>
                </a:cubicBezTo>
                <a:cubicBezTo>
                  <a:pt x="18739" y="9539"/>
                  <a:pt x="18827" y="9444"/>
                  <a:pt x="18901" y="9327"/>
                </a:cubicBezTo>
                <a:cubicBezTo>
                  <a:pt x="18966" y="9225"/>
                  <a:pt x="19048" y="9122"/>
                  <a:pt x="19124" y="9029"/>
                </a:cubicBezTo>
                <a:cubicBezTo>
                  <a:pt x="19155" y="8991"/>
                  <a:pt x="19220" y="8905"/>
                  <a:pt x="19248" y="8880"/>
                </a:cubicBezTo>
                <a:cubicBezTo>
                  <a:pt x="19278" y="8854"/>
                  <a:pt x="19323" y="8895"/>
                  <a:pt x="19323" y="8855"/>
                </a:cubicBezTo>
                <a:cubicBezTo>
                  <a:pt x="19315" y="8855"/>
                  <a:pt x="19306" y="8855"/>
                  <a:pt x="19298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8840" y="1374840"/>
            <a:ext cx="946080" cy="1527120"/>
          </a:xfrm>
          <a:custGeom>
            <a:avLst/>
            <a:gdLst/>
            <a:ahLst/>
            <a:rect l="l" t="t" r="r" b="b"/>
            <a:pathLst>
              <a:path w="2630" h="4243">
                <a:moveTo>
                  <a:pt x="8310" y="3820"/>
                </a:moveTo>
                <a:cubicBezTo>
                  <a:pt x="8310" y="3872"/>
                  <a:pt x="8305" y="3906"/>
                  <a:pt x="8310" y="3944"/>
                </a:cubicBezTo>
                <a:cubicBezTo>
                  <a:pt x="8327" y="4069"/>
                  <a:pt x="8297" y="4197"/>
                  <a:pt x="8285" y="4316"/>
                </a:cubicBezTo>
                <a:cubicBezTo>
                  <a:pt x="8275" y="4408"/>
                  <a:pt x="8264" y="4498"/>
                  <a:pt x="8260" y="4589"/>
                </a:cubicBezTo>
                <a:cubicBezTo>
                  <a:pt x="8257" y="4649"/>
                  <a:pt x="8293" y="4826"/>
                  <a:pt x="8235" y="4787"/>
                </a:cubicBezTo>
              </a:path>
              <a:path w="2630" h="4243">
                <a:moveTo>
                  <a:pt x="7987" y="4638"/>
                </a:moveTo>
                <a:cubicBezTo>
                  <a:pt x="7998" y="4670"/>
                  <a:pt x="7997" y="4672"/>
                  <a:pt x="8012" y="4713"/>
                </a:cubicBezTo>
                <a:cubicBezTo>
                  <a:pt x="8035" y="4777"/>
                  <a:pt x="8065" y="4823"/>
                  <a:pt x="8086" y="4887"/>
                </a:cubicBezTo>
                <a:cubicBezTo>
                  <a:pt x="8103" y="4939"/>
                  <a:pt x="8140" y="4966"/>
                  <a:pt x="8161" y="5011"/>
                </a:cubicBezTo>
                <a:cubicBezTo>
                  <a:pt x="8172" y="5036"/>
                  <a:pt x="8178" y="5056"/>
                  <a:pt x="8210" y="5060"/>
                </a:cubicBezTo>
                <a:cubicBezTo>
                  <a:pt x="8267" y="5067"/>
                  <a:pt x="8250" y="5011"/>
                  <a:pt x="8285" y="4986"/>
                </a:cubicBezTo>
                <a:cubicBezTo>
                  <a:pt x="8327" y="4957"/>
                  <a:pt x="8400" y="4902"/>
                  <a:pt x="8434" y="4862"/>
                </a:cubicBezTo>
                <a:cubicBezTo>
                  <a:pt x="8472" y="4817"/>
                  <a:pt x="8523" y="4742"/>
                  <a:pt x="8582" y="4713"/>
                </a:cubicBezTo>
                <a:cubicBezTo>
                  <a:pt x="8604" y="4702"/>
                  <a:pt x="8634" y="4678"/>
                  <a:pt x="8582" y="4713"/>
                </a:cubicBezTo>
              </a:path>
              <a:path w="2630" h="4243">
                <a:moveTo>
                  <a:pt x="8235" y="5581"/>
                </a:moveTo>
                <a:cubicBezTo>
                  <a:pt x="8266" y="5652"/>
                  <a:pt x="8260" y="5699"/>
                  <a:pt x="8260" y="5779"/>
                </a:cubicBezTo>
                <a:cubicBezTo>
                  <a:pt x="8260" y="5877"/>
                  <a:pt x="8248" y="5958"/>
                  <a:pt x="8235" y="6052"/>
                </a:cubicBezTo>
                <a:cubicBezTo>
                  <a:pt x="8220" y="6160"/>
                  <a:pt x="8229" y="6278"/>
                  <a:pt x="8210" y="6375"/>
                </a:cubicBezTo>
                <a:cubicBezTo>
                  <a:pt x="8204" y="6405"/>
                  <a:pt x="8214" y="6480"/>
                  <a:pt x="8186" y="6499"/>
                </a:cubicBezTo>
                <a:cubicBezTo>
                  <a:pt x="8178" y="6499"/>
                  <a:pt x="8169" y="6499"/>
                  <a:pt x="8161" y="6499"/>
                </a:cubicBezTo>
              </a:path>
              <a:path w="2630" h="4243">
                <a:moveTo>
                  <a:pt x="7516" y="6598"/>
                </a:moveTo>
                <a:cubicBezTo>
                  <a:pt x="7938" y="6598"/>
                  <a:pt x="8362" y="6590"/>
                  <a:pt x="8781" y="6623"/>
                </a:cubicBezTo>
                <a:cubicBezTo>
                  <a:pt x="8890" y="6631"/>
                  <a:pt x="9115" y="6588"/>
                  <a:pt x="9178" y="6598"/>
                </a:cubicBezTo>
                <a:cubicBezTo>
                  <a:pt x="9201" y="6621"/>
                  <a:pt x="9212" y="6629"/>
                  <a:pt x="9178" y="6623"/>
                </a:cubicBezTo>
              </a:path>
              <a:path w="2630" h="4243">
                <a:moveTo>
                  <a:pt x="7590" y="6970"/>
                </a:moveTo>
                <a:cubicBezTo>
                  <a:pt x="7590" y="7057"/>
                  <a:pt x="7575" y="7137"/>
                  <a:pt x="7565" y="7218"/>
                </a:cubicBezTo>
                <a:cubicBezTo>
                  <a:pt x="7552" y="7324"/>
                  <a:pt x="7544" y="7435"/>
                  <a:pt x="7541" y="7541"/>
                </a:cubicBezTo>
                <a:cubicBezTo>
                  <a:pt x="7538" y="7628"/>
                  <a:pt x="7521" y="7704"/>
                  <a:pt x="7516" y="7789"/>
                </a:cubicBezTo>
                <a:cubicBezTo>
                  <a:pt x="7513" y="7851"/>
                  <a:pt x="7535" y="7862"/>
                  <a:pt x="7541" y="7913"/>
                </a:cubicBezTo>
                <a:cubicBezTo>
                  <a:pt x="7549" y="7986"/>
                  <a:pt x="7543" y="7866"/>
                  <a:pt x="7541" y="7863"/>
                </a:cubicBezTo>
                <a:cubicBezTo>
                  <a:pt x="7533" y="7855"/>
                  <a:pt x="7524" y="7846"/>
                  <a:pt x="7516" y="7838"/>
                </a:cubicBezTo>
              </a:path>
              <a:path w="2630" h="4243">
                <a:moveTo>
                  <a:pt x="7293" y="7491"/>
                </a:moveTo>
                <a:cubicBezTo>
                  <a:pt x="7413" y="7491"/>
                  <a:pt x="7527" y="7501"/>
                  <a:pt x="7640" y="7516"/>
                </a:cubicBezTo>
                <a:cubicBezTo>
                  <a:pt x="7706" y="7516"/>
                  <a:pt x="7723" y="7516"/>
                  <a:pt x="7764" y="7516"/>
                </a:cubicBezTo>
              </a:path>
              <a:path w="2630" h="4243">
                <a:moveTo>
                  <a:pt x="8310" y="7466"/>
                </a:moveTo>
                <a:cubicBezTo>
                  <a:pt x="8251" y="7422"/>
                  <a:pt x="8266" y="7454"/>
                  <a:pt x="8210" y="7466"/>
                </a:cubicBezTo>
                <a:cubicBezTo>
                  <a:pt x="8127" y="7484"/>
                  <a:pt x="8137" y="7496"/>
                  <a:pt x="8086" y="7565"/>
                </a:cubicBezTo>
                <a:cubicBezTo>
                  <a:pt x="8035" y="7634"/>
                  <a:pt x="7992" y="7648"/>
                  <a:pt x="7987" y="7739"/>
                </a:cubicBezTo>
                <a:cubicBezTo>
                  <a:pt x="7983" y="7814"/>
                  <a:pt x="7986" y="7837"/>
                  <a:pt x="8037" y="7888"/>
                </a:cubicBezTo>
                <a:cubicBezTo>
                  <a:pt x="8076" y="7927"/>
                  <a:pt x="8114" y="7919"/>
                  <a:pt x="8161" y="7888"/>
                </a:cubicBezTo>
                <a:cubicBezTo>
                  <a:pt x="8213" y="7853"/>
                  <a:pt x="8273" y="7798"/>
                  <a:pt x="8310" y="7739"/>
                </a:cubicBezTo>
                <a:cubicBezTo>
                  <a:pt x="8334" y="7701"/>
                  <a:pt x="8334" y="7637"/>
                  <a:pt x="8334" y="7590"/>
                </a:cubicBezTo>
                <a:cubicBezTo>
                  <a:pt x="8334" y="7565"/>
                  <a:pt x="8334" y="7541"/>
                  <a:pt x="8334" y="7516"/>
                </a:cubicBezTo>
                <a:cubicBezTo>
                  <a:pt x="8334" y="7599"/>
                  <a:pt x="8341" y="7661"/>
                  <a:pt x="8359" y="7739"/>
                </a:cubicBezTo>
                <a:cubicBezTo>
                  <a:pt x="8370" y="7785"/>
                  <a:pt x="8378" y="7828"/>
                  <a:pt x="8409" y="7863"/>
                </a:cubicBezTo>
                <a:cubicBezTo>
                  <a:pt x="8444" y="7902"/>
                  <a:pt x="8473" y="7894"/>
                  <a:pt x="8508" y="7863"/>
                </a:cubicBezTo>
                <a:cubicBezTo>
                  <a:pt x="8553" y="7823"/>
                  <a:pt x="8550" y="7822"/>
                  <a:pt x="8558" y="7764"/>
                </a:cubicBezTo>
              </a:path>
              <a:path w="2630" h="4243">
                <a:moveTo>
                  <a:pt x="8582" y="7491"/>
                </a:moveTo>
                <a:cubicBezTo>
                  <a:pt x="8582" y="7616"/>
                  <a:pt x="8570" y="7753"/>
                  <a:pt x="8607" y="7863"/>
                </a:cubicBezTo>
                <a:cubicBezTo>
                  <a:pt x="8622" y="7907"/>
                  <a:pt x="8586" y="7898"/>
                  <a:pt x="8632" y="7913"/>
                </a:cubicBezTo>
                <a:cubicBezTo>
                  <a:pt x="8632" y="7813"/>
                  <a:pt x="8617" y="7706"/>
                  <a:pt x="8657" y="7615"/>
                </a:cubicBezTo>
                <a:cubicBezTo>
                  <a:pt x="8690" y="7540"/>
                  <a:pt x="8726" y="7453"/>
                  <a:pt x="8781" y="7392"/>
                </a:cubicBezTo>
                <a:cubicBezTo>
                  <a:pt x="8805" y="7366"/>
                  <a:pt x="8865" y="7320"/>
                  <a:pt x="8905" y="7342"/>
                </a:cubicBezTo>
                <a:cubicBezTo>
                  <a:pt x="8940" y="7361"/>
                  <a:pt x="8975" y="7429"/>
                  <a:pt x="8979" y="7466"/>
                </a:cubicBezTo>
                <a:cubicBezTo>
                  <a:pt x="8988" y="7544"/>
                  <a:pt x="8994" y="7801"/>
                  <a:pt x="8954" y="7789"/>
                </a:cubicBezTo>
              </a:path>
              <a:path w="2630" h="4243">
                <a:moveTo>
                  <a:pt x="9054" y="6796"/>
                </a:moveTo>
                <a:cubicBezTo>
                  <a:pt x="9075" y="6787"/>
                  <a:pt x="9227" y="6705"/>
                  <a:pt x="9252" y="6772"/>
                </a:cubicBezTo>
                <a:cubicBezTo>
                  <a:pt x="9267" y="6812"/>
                  <a:pt x="9227" y="6869"/>
                  <a:pt x="9203" y="6896"/>
                </a:cubicBezTo>
                <a:cubicBezTo>
                  <a:pt x="9167" y="6937"/>
                  <a:pt x="9153" y="6940"/>
                  <a:pt x="9153" y="6995"/>
                </a:cubicBezTo>
                <a:cubicBezTo>
                  <a:pt x="9153" y="7050"/>
                  <a:pt x="9231" y="7062"/>
                  <a:pt x="9277" y="7069"/>
                </a:cubicBezTo>
                <a:cubicBezTo>
                  <a:pt x="9294" y="7069"/>
                  <a:pt x="9310" y="7069"/>
                  <a:pt x="9327" y="7069"/>
                </a:cubicBezTo>
              </a:path>
              <a:path w="2630" h="4243">
                <a:moveTo>
                  <a:pt x="9451" y="7392"/>
                </a:moveTo>
                <a:cubicBezTo>
                  <a:pt x="9460" y="7515"/>
                  <a:pt x="9493" y="7576"/>
                  <a:pt x="9550" y="7689"/>
                </a:cubicBezTo>
                <a:cubicBezTo>
                  <a:pt x="9590" y="7768"/>
                  <a:pt x="9610" y="7810"/>
                  <a:pt x="9674" y="7863"/>
                </a:cubicBezTo>
                <a:cubicBezTo>
                  <a:pt x="9716" y="7898"/>
                  <a:pt x="9717" y="7913"/>
                  <a:pt x="9773" y="7913"/>
                </a:cubicBezTo>
                <a:cubicBezTo>
                  <a:pt x="9821" y="7913"/>
                  <a:pt x="9798" y="7875"/>
                  <a:pt x="9798" y="7838"/>
                </a:cubicBezTo>
              </a:path>
              <a:path w="2630" h="4243">
                <a:moveTo>
                  <a:pt x="9847" y="7268"/>
                </a:moveTo>
                <a:cubicBezTo>
                  <a:pt x="9782" y="7360"/>
                  <a:pt x="9729" y="7437"/>
                  <a:pt x="9649" y="7516"/>
                </a:cubicBezTo>
                <a:cubicBezTo>
                  <a:pt x="9591" y="7573"/>
                  <a:pt x="9501" y="7632"/>
                  <a:pt x="9451" y="7689"/>
                </a:cubicBezTo>
                <a:cubicBezTo>
                  <a:pt x="9442" y="7700"/>
                  <a:pt x="9357" y="7820"/>
                  <a:pt x="9327" y="7789"/>
                </a:cubicBezTo>
                <a:cubicBezTo>
                  <a:pt x="9327" y="7764"/>
                  <a:pt x="9327" y="7756"/>
                  <a:pt x="9327" y="7739"/>
                </a:cubicBezTo>
              </a:path>
              <a:path w="2630" h="4243">
                <a:moveTo>
                  <a:pt x="7218" y="8062"/>
                </a:moveTo>
                <a:cubicBezTo>
                  <a:pt x="7232" y="8051"/>
                  <a:pt x="7269" y="8029"/>
                  <a:pt x="7293" y="8012"/>
                </a:cubicBezTo>
                <a:cubicBezTo>
                  <a:pt x="7382" y="7949"/>
                  <a:pt x="7463" y="7884"/>
                  <a:pt x="7565" y="7838"/>
                </a:cubicBezTo>
                <a:cubicBezTo>
                  <a:pt x="7751" y="7755"/>
                  <a:pt x="7925" y="7650"/>
                  <a:pt x="8111" y="7565"/>
                </a:cubicBezTo>
                <a:cubicBezTo>
                  <a:pt x="8330" y="7465"/>
                  <a:pt x="8565" y="7391"/>
                  <a:pt x="8781" y="7293"/>
                </a:cubicBezTo>
                <a:cubicBezTo>
                  <a:pt x="8838" y="7267"/>
                  <a:pt x="8820" y="7238"/>
                  <a:pt x="8880" y="7218"/>
                </a:cubicBezTo>
                <a:cubicBezTo>
                  <a:pt x="8905" y="7218"/>
                  <a:pt x="8913" y="7218"/>
                  <a:pt x="8930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9200" y="1258920"/>
            <a:ext cx="223920" cy="393840"/>
          </a:xfrm>
          <a:custGeom>
            <a:avLst/>
            <a:gdLst/>
            <a:ahLst/>
            <a:rect l="l" t="t" r="r" b="b"/>
            <a:pathLst>
              <a:path w="621" h="1093">
                <a:moveTo>
                  <a:pt x="13568" y="3497"/>
                </a:moveTo>
                <a:cubicBezTo>
                  <a:pt x="13542" y="3599"/>
                  <a:pt x="13528" y="3714"/>
                  <a:pt x="13519" y="3820"/>
                </a:cubicBezTo>
                <a:cubicBezTo>
                  <a:pt x="13509" y="3944"/>
                  <a:pt x="13499" y="4070"/>
                  <a:pt x="13494" y="4192"/>
                </a:cubicBezTo>
                <a:cubicBezTo>
                  <a:pt x="13491" y="4273"/>
                  <a:pt x="13490" y="4387"/>
                  <a:pt x="13469" y="4465"/>
                </a:cubicBezTo>
                <a:cubicBezTo>
                  <a:pt x="13449" y="4505"/>
                  <a:pt x="13440" y="4511"/>
                  <a:pt x="13444" y="4539"/>
                </a:cubicBezTo>
              </a:path>
              <a:path w="621" h="1093">
                <a:moveTo>
                  <a:pt x="13221" y="4242"/>
                </a:moveTo>
                <a:cubicBezTo>
                  <a:pt x="13260" y="4382"/>
                  <a:pt x="13284" y="4406"/>
                  <a:pt x="13320" y="4514"/>
                </a:cubicBezTo>
                <a:cubicBezTo>
                  <a:pt x="13331" y="4546"/>
                  <a:pt x="13357" y="4581"/>
                  <a:pt x="13395" y="4589"/>
                </a:cubicBezTo>
                <a:cubicBezTo>
                  <a:pt x="13454" y="4602"/>
                  <a:pt x="13498" y="4573"/>
                  <a:pt x="13543" y="4539"/>
                </a:cubicBezTo>
                <a:cubicBezTo>
                  <a:pt x="13614" y="4485"/>
                  <a:pt x="13679" y="4404"/>
                  <a:pt x="13742" y="4341"/>
                </a:cubicBezTo>
                <a:cubicBezTo>
                  <a:pt x="13791" y="4291"/>
                  <a:pt x="13807" y="4274"/>
                  <a:pt x="13841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3120" y="1785960"/>
            <a:ext cx="1366920" cy="519120"/>
          </a:xfrm>
          <a:custGeom>
            <a:avLst/>
            <a:gdLst/>
            <a:ahLst/>
            <a:rect l="l" t="t" r="r" b="b"/>
            <a:pathLst>
              <a:path w="3796" h="1440">
                <a:moveTo>
                  <a:pt x="10666" y="6325"/>
                </a:moveTo>
                <a:cubicBezTo>
                  <a:pt x="10666" y="6352"/>
                  <a:pt x="10686" y="6325"/>
                  <a:pt x="10641" y="6375"/>
                </a:cubicBezTo>
                <a:cubicBezTo>
                  <a:pt x="10601" y="6420"/>
                  <a:pt x="10601" y="6386"/>
                  <a:pt x="10592" y="6350"/>
                </a:cubicBezTo>
              </a:path>
              <a:path w="3796" h="1440">
                <a:moveTo>
                  <a:pt x="11733" y="5011"/>
                </a:moveTo>
                <a:cubicBezTo>
                  <a:pt x="11733" y="5139"/>
                  <a:pt x="11717" y="5255"/>
                  <a:pt x="11708" y="5383"/>
                </a:cubicBezTo>
                <a:cubicBezTo>
                  <a:pt x="11694" y="5582"/>
                  <a:pt x="11720" y="5794"/>
                  <a:pt x="11683" y="5978"/>
                </a:cubicBezTo>
                <a:cubicBezTo>
                  <a:pt x="11671" y="6037"/>
                  <a:pt x="11705" y="6037"/>
                  <a:pt x="11658" y="6052"/>
                </a:cubicBezTo>
              </a:path>
              <a:path w="3796" h="1440">
                <a:moveTo>
                  <a:pt x="11435" y="5606"/>
                </a:moveTo>
                <a:cubicBezTo>
                  <a:pt x="11505" y="5580"/>
                  <a:pt x="11557" y="5581"/>
                  <a:pt x="11633" y="5581"/>
                </a:cubicBezTo>
                <a:cubicBezTo>
                  <a:pt x="11734" y="5581"/>
                  <a:pt x="11834" y="5606"/>
                  <a:pt x="11931" y="5631"/>
                </a:cubicBezTo>
              </a:path>
              <a:path w="3796" h="1440">
                <a:moveTo>
                  <a:pt x="12427" y="5755"/>
                </a:moveTo>
                <a:cubicBezTo>
                  <a:pt x="12469" y="5699"/>
                  <a:pt x="12445" y="5709"/>
                  <a:pt x="12427" y="5655"/>
                </a:cubicBezTo>
                <a:cubicBezTo>
                  <a:pt x="12415" y="5620"/>
                  <a:pt x="12392" y="5594"/>
                  <a:pt x="12353" y="5581"/>
                </a:cubicBezTo>
                <a:cubicBezTo>
                  <a:pt x="12294" y="5561"/>
                  <a:pt x="12266" y="5594"/>
                  <a:pt x="12229" y="5631"/>
                </a:cubicBezTo>
                <a:cubicBezTo>
                  <a:pt x="12165" y="5695"/>
                  <a:pt x="12122" y="5774"/>
                  <a:pt x="12080" y="5854"/>
                </a:cubicBezTo>
                <a:cubicBezTo>
                  <a:pt x="12060" y="5893"/>
                  <a:pt x="12032" y="5983"/>
                  <a:pt x="12055" y="6028"/>
                </a:cubicBezTo>
                <a:cubicBezTo>
                  <a:pt x="12082" y="6082"/>
                  <a:pt x="12128" y="6077"/>
                  <a:pt x="12179" y="6077"/>
                </a:cubicBezTo>
                <a:cubicBezTo>
                  <a:pt x="12225" y="6077"/>
                  <a:pt x="12264" y="6026"/>
                  <a:pt x="12303" y="6003"/>
                </a:cubicBezTo>
                <a:cubicBezTo>
                  <a:pt x="12392" y="5950"/>
                  <a:pt x="12355" y="5935"/>
                  <a:pt x="12378" y="5854"/>
                </a:cubicBezTo>
                <a:cubicBezTo>
                  <a:pt x="12393" y="5801"/>
                  <a:pt x="12402" y="5784"/>
                  <a:pt x="12402" y="5730"/>
                </a:cubicBezTo>
                <a:cubicBezTo>
                  <a:pt x="12402" y="5820"/>
                  <a:pt x="12384" y="5923"/>
                  <a:pt x="12427" y="6003"/>
                </a:cubicBezTo>
                <a:cubicBezTo>
                  <a:pt x="12438" y="6024"/>
                  <a:pt x="12499" y="6089"/>
                  <a:pt x="12526" y="6077"/>
                </a:cubicBezTo>
                <a:cubicBezTo>
                  <a:pt x="12551" y="6052"/>
                  <a:pt x="12559" y="6044"/>
                  <a:pt x="12576" y="6028"/>
                </a:cubicBezTo>
              </a:path>
              <a:path w="3796" h="1440">
                <a:moveTo>
                  <a:pt x="12675" y="5755"/>
                </a:moveTo>
                <a:cubicBezTo>
                  <a:pt x="12675" y="5862"/>
                  <a:pt x="12675" y="5970"/>
                  <a:pt x="12675" y="6077"/>
                </a:cubicBezTo>
                <a:cubicBezTo>
                  <a:pt x="12675" y="6148"/>
                  <a:pt x="12671" y="6035"/>
                  <a:pt x="12675" y="6028"/>
                </a:cubicBezTo>
                <a:cubicBezTo>
                  <a:pt x="12704" y="5976"/>
                  <a:pt x="12720" y="5915"/>
                  <a:pt x="12750" y="5854"/>
                </a:cubicBezTo>
                <a:cubicBezTo>
                  <a:pt x="12776" y="5800"/>
                  <a:pt x="12848" y="5719"/>
                  <a:pt x="12898" y="5680"/>
                </a:cubicBezTo>
                <a:cubicBezTo>
                  <a:pt x="12950" y="5640"/>
                  <a:pt x="13026" y="5643"/>
                  <a:pt x="13072" y="5680"/>
                </a:cubicBezTo>
                <a:cubicBezTo>
                  <a:pt x="13117" y="5717"/>
                  <a:pt x="13160" y="5846"/>
                  <a:pt x="13171" y="5904"/>
                </a:cubicBezTo>
                <a:cubicBezTo>
                  <a:pt x="13183" y="5966"/>
                  <a:pt x="13136" y="6027"/>
                  <a:pt x="13122" y="6077"/>
                </a:cubicBezTo>
                <a:cubicBezTo>
                  <a:pt x="13111" y="6115"/>
                  <a:pt x="13108" y="6111"/>
                  <a:pt x="13097" y="6077"/>
                </a:cubicBezTo>
              </a:path>
              <a:path w="3796" h="1440">
                <a:moveTo>
                  <a:pt x="13370" y="5060"/>
                </a:moveTo>
                <a:cubicBezTo>
                  <a:pt x="13452" y="4986"/>
                  <a:pt x="13465" y="4961"/>
                  <a:pt x="13568" y="4961"/>
                </a:cubicBezTo>
                <a:cubicBezTo>
                  <a:pt x="13576" y="4961"/>
                  <a:pt x="13585" y="4961"/>
                  <a:pt x="13593" y="4961"/>
                </a:cubicBezTo>
                <a:cubicBezTo>
                  <a:pt x="13593" y="5046"/>
                  <a:pt x="13579" y="5072"/>
                  <a:pt x="13519" y="5135"/>
                </a:cubicBezTo>
                <a:cubicBezTo>
                  <a:pt x="13479" y="5178"/>
                  <a:pt x="13432" y="5205"/>
                  <a:pt x="13419" y="5259"/>
                </a:cubicBezTo>
                <a:cubicBezTo>
                  <a:pt x="13487" y="5311"/>
                  <a:pt x="13517" y="5291"/>
                  <a:pt x="13593" y="5308"/>
                </a:cubicBezTo>
                <a:cubicBezTo>
                  <a:pt x="13672" y="5325"/>
                  <a:pt x="13709" y="5333"/>
                  <a:pt x="13791" y="5333"/>
                </a:cubicBezTo>
              </a:path>
              <a:path w="3796" h="1440">
                <a:moveTo>
                  <a:pt x="13891" y="5507"/>
                </a:moveTo>
                <a:cubicBezTo>
                  <a:pt x="13912" y="5598"/>
                  <a:pt x="13930" y="5701"/>
                  <a:pt x="13990" y="5779"/>
                </a:cubicBezTo>
                <a:cubicBezTo>
                  <a:pt x="14046" y="5852"/>
                  <a:pt x="14080" y="5887"/>
                  <a:pt x="14163" y="5928"/>
                </a:cubicBezTo>
                <a:cubicBezTo>
                  <a:pt x="14202" y="5947"/>
                  <a:pt x="14266" y="6015"/>
                  <a:pt x="14312" y="6003"/>
                </a:cubicBezTo>
                <a:cubicBezTo>
                  <a:pt x="14361" y="5990"/>
                  <a:pt x="14377" y="5984"/>
                  <a:pt x="14387" y="5953"/>
                </a:cubicBezTo>
              </a:path>
              <a:path w="3796" h="1440">
                <a:moveTo>
                  <a:pt x="14312" y="5581"/>
                </a:moveTo>
                <a:cubicBezTo>
                  <a:pt x="14198" y="5727"/>
                  <a:pt x="14116" y="5785"/>
                  <a:pt x="13990" y="5904"/>
                </a:cubicBezTo>
                <a:cubicBezTo>
                  <a:pt x="13950" y="5942"/>
                  <a:pt x="13879" y="5979"/>
                  <a:pt x="13816" y="5953"/>
                </a:cubicBezTo>
                <a:cubicBezTo>
                  <a:pt x="13794" y="5931"/>
                  <a:pt x="13785" y="5926"/>
                  <a:pt x="13791" y="5904"/>
                </a:cubicBezTo>
              </a:path>
              <a:path w="3796" h="1440">
                <a:moveTo>
                  <a:pt x="11410" y="6201"/>
                </a:moveTo>
                <a:cubicBezTo>
                  <a:pt x="11453" y="6177"/>
                  <a:pt x="11486" y="6151"/>
                  <a:pt x="11534" y="6127"/>
                </a:cubicBezTo>
                <a:cubicBezTo>
                  <a:pt x="11646" y="6071"/>
                  <a:pt x="11768" y="6049"/>
                  <a:pt x="11881" y="6003"/>
                </a:cubicBezTo>
                <a:cubicBezTo>
                  <a:pt x="12157" y="5891"/>
                  <a:pt x="12411" y="5804"/>
                  <a:pt x="12700" y="5730"/>
                </a:cubicBezTo>
                <a:cubicBezTo>
                  <a:pt x="12983" y="5658"/>
                  <a:pt x="13292" y="5618"/>
                  <a:pt x="13568" y="5531"/>
                </a:cubicBezTo>
                <a:cubicBezTo>
                  <a:pt x="13665" y="5500"/>
                  <a:pt x="13778" y="5463"/>
                  <a:pt x="13866" y="5432"/>
                </a:cubicBezTo>
                <a:cubicBezTo>
                  <a:pt x="13891" y="5423"/>
                  <a:pt x="13994" y="5337"/>
                  <a:pt x="13915" y="5383"/>
                </a:cubicBezTo>
                <a:cubicBezTo>
                  <a:pt x="13907" y="5391"/>
                  <a:pt x="13899" y="5399"/>
                  <a:pt x="13891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183024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7190" y="5085"/>
                </a:moveTo>
                <a:cubicBezTo>
                  <a:pt x="17295" y="5085"/>
                  <a:pt x="17396" y="5092"/>
                  <a:pt x="17487" y="5110"/>
                </a:cubicBezTo>
                <a:cubicBezTo>
                  <a:pt x="17504" y="5110"/>
                  <a:pt x="17520" y="5110"/>
                  <a:pt x="17537" y="5110"/>
                </a:cubicBezTo>
              </a:path>
              <a:path w="472" h="224">
                <a:moveTo>
                  <a:pt x="17214" y="5283"/>
                </a:moveTo>
                <a:cubicBezTo>
                  <a:pt x="17227" y="5321"/>
                  <a:pt x="17289" y="5319"/>
                  <a:pt x="17338" y="5308"/>
                </a:cubicBezTo>
                <a:cubicBezTo>
                  <a:pt x="17446" y="5284"/>
                  <a:pt x="17551" y="5280"/>
                  <a:pt x="17661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8640" y="1571760"/>
            <a:ext cx="9360" cy="401400"/>
          </a:xfrm>
          <a:custGeom>
            <a:avLst/>
            <a:gdLst/>
            <a:ahLst/>
            <a:rect l="l" t="t" r="r" b="b"/>
            <a:pathLst>
              <a:path w="26" h="1117">
                <a:moveTo>
                  <a:pt x="19050" y="4366"/>
                </a:moveTo>
                <a:cubicBezTo>
                  <a:pt x="19050" y="4559"/>
                  <a:pt x="19039" y="4744"/>
                  <a:pt x="19025" y="4936"/>
                </a:cubicBezTo>
                <a:cubicBezTo>
                  <a:pt x="19015" y="5065"/>
                  <a:pt x="19031" y="5188"/>
                  <a:pt x="19050" y="5308"/>
                </a:cubicBezTo>
                <a:cubicBezTo>
                  <a:pt x="19060" y="5373"/>
                  <a:pt x="19050" y="5425"/>
                  <a:pt x="19025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760" y="2990880"/>
            <a:ext cx="36360" cy="376200"/>
          </a:xfrm>
          <a:custGeom>
            <a:avLst/>
            <a:gdLst/>
            <a:ahLst/>
            <a:rect l="l" t="t" r="r" b="b"/>
            <a:pathLst>
              <a:path w="100" h="1042">
                <a:moveTo>
                  <a:pt x="13915" y="8310"/>
                </a:moveTo>
                <a:cubicBezTo>
                  <a:pt x="13915" y="8405"/>
                  <a:pt x="13901" y="8490"/>
                  <a:pt x="13891" y="8582"/>
                </a:cubicBezTo>
                <a:cubicBezTo>
                  <a:pt x="13874" y="8741"/>
                  <a:pt x="13898" y="8901"/>
                  <a:pt x="13915" y="9054"/>
                </a:cubicBezTo>
                <a:cubicBezTo>
                  <a:pt x="13924" y="9137"/>
                  <a:pt x="13922" y="9199"/>
                  <a:pt x="13940" y="9277"/>
                </a:cubicBezTo>
                <a:cubicBezTo>
                  <a:pt x="13943" y="9290"/>
                  <a:pt x="13955" y="9398"/>
                  <a:pt x="13965" y="9327"/>
                </a:cubicBezTo>
                <a:cubicBezTo>
                  <a:pt x="13965" y="9299"/>
                  <a:pt x="13967" y="9288"/>
                  <a:pt x="13990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0800" y="3197160"/>
            <a:ext cx="223560" cy="71640"/>
          </a:xfrm>
          <a:custGeom>
            <a:avLst/>
            <a:gdLst/>
            <a:ahLst/>
            <a:rect l="l" t="t" r="r" b="b"/>
            <a:pathLst>
              <a:path w="621" h="200">
                <a:moveTo>
                  <a:pt x="15280" y="8880"/>
                </a:moveTo>
                <a:cubicBezTo>
                  <a:pt x="15381" y="8880"/>
                  <a:pt x="15618" y="8841"/>
                  <a:pt x="15701" y="8905"/>
                </a:cubicBezTo>
              </a:path>
              <a:path w="621" h="200">
                <a:moveTo>
                  <a:pt x="15354" y="9029"/>
                </a:moveTo>
                <a:cubicBezTo>
                  <a:pt x="15518" y="9056"/>
                  <a:pt x="15598" y="9060"/>
                  <a:pt x="15751" y="9054"/>
                </a:cubicBezTo>
                <a:cubicBezTo>
                  <a:pt x="15825" y="9054"/>
                  <a:pt x="15850" y="9054"/>
                  <a:pt x="15900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8920" y="2982960"/>
            <a:ext cx="27000" cy="411120"/>
          </a:xfrm>
          <a:custGeom>
            <a:avLst/>
            <a:gdLst/>
            <a:ahLst/>
            <a:rect l="l" t="t" r="r" b="b"/>
            <a:pathLst>
              <a:path w="76" h="1142">
                <a:moveTo>
                  <a:pt x="16570" y="8285"/>
                </a:moveTo>
                <a:cubicBezTo>
                  <a:pt x="16541" y="8360"/>
                  <a:pt x="16523" y="8426"/>
                  <a:pt x="16520" y="8508"/>
                </a:cubicBezTo>
                <a:cubicBezTo>
                  <a:pt x="16516" y="8618"/>
                  <a:pt x="16499" y="8721"/>
                  <a:pt x="16495" y="8830"/>
                </a:cubicBezTo>
                <a:cubicBezTo>
                  <a:pt x="16491" y="8939"/>
                  <a:pt x="16520" y="9042"/>
                  <a:pt x="16520" y="9153"/>
                </a:cubicBezTo>
                <a:cubicBezTo>
                  <a:pt x="16520" y="9247"/>
                  <a:pt x="16523" y="9315"/>
                  <a:pt x="16545" y="9401"/>
                </a:cubicBezTo>
                <a:cubicBezTo>
                  <a:pt x="16545" y="9429"/>
                  <a:pt x="16547" y="9435"/>
                  <a:pt x="16570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7880" y="2938320"/>
            <a:ext cx="322200" cy="446400"/>
          </a:xfrm>
          <a:custGeom>
            <a:avLst/>
            <a:gdLst/>
            <a:ahLst/>
            <a:rect l="l" t="t" r="r" b="b"/>
            <a:pathLst>
              <a:path w="894" h="1241">
                <a:moveTo>
                  <a:pt x="18132" y="9079"/>
                </a:moveTo>
                <a:cubicBezTo>
                  <a:pt x="18174" y="9175"/>
                  <a:pt x="18206" y="9220"/>
                  <a:pt x="18256" y="9302"/>
                </a:cubicBezTo>
                <a:cubicBezTo>
                  <a:pt x="18285" y="9349"/>
                  <a:pt x="18300" y="9391"/>
                  <a:pt x="18355" y="9401"/>
                </a:cubicBezTo>
                <a:cubicBezTo>
                  <a:pt x="18419" y="9413"/>
                  <a:pt x="18438" y="9392"/>
                  <a:pt x="18479" y="9351"/>
                </a:cubicBezTo>
                <a:cubicBezTo>
                  <a:pt x="18525" y="9306"/>
                  <a:pt x="18578" y="9210"/>
                  <a:pt x="18604" y="9153"/>
                </a:cubicBezTo>
                <a:cubicBezTo>
                  <a:pt x="18645" y="9063"/>
                  <a:pt x="18694" y="8973"/>
                  <a:pt x="18728" y="8880"/>
                </a:cubicBezTo>
                <a:cubicBezTo>
                  <a:pt x="18771" y="8762"/>
                  <a:pt x="18828" y="8657"/>
                  <a:pt x="18876" y="8533"/>
                </a:cubicBezTo>
                <a:cubicBezTo>
                  <a:pt x="18906" y="8456"/>
                  <a:pt x="18944" y="8356"/>
                  <a:pt x="18976" y="8285"/>
                </a:cubicBezTo>
                <a:cubicBezTo>
                  <a:pt x="18991" y="8252"/>
                  <a:pt x="19010" y="8217"/>
                  <a:pt x="19025" y="8186"/>
                </a:cubicBezTo>
                <a:cubicBezTo>
                  <a:pt x="19025" y="8161"/>
                  <a:pt x="19025" y="8153"/>
                  <a:pt x="19025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7000" y="1357200"/>
            <a:ext cx="276120" cy="4730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7193" y="3770"/>
                </a:moveTo>
                <a:cubicBezTo>
                  <a:pt x="7172" y="3799"/>
                  <a:pt x="7151" y="3857"/>
                  <a:pt x="7144" y="3894"/>
                </a:cubicBezTo>
                <a:cubicBezTo>
                  <a:pt x="7131" y="3968"/>
                  <a:pt x="7103" y="4042"/>
                  <a:pt x="7094" y="4118"/>
                </a:cubicBezTo>
                <a:cubicBezTo>
                  <a:pt x="7084" y="4206"/>
                  <a:pt x="7069" y="4306"/>
                  <a:pt x="7045" y="4390"/>
                </a:cubicBezTo>
                <a:cubicBezTo>
                  <a:pt x="7024" y="4464"/>
                  <a:pt x="6999" y="4536"/>
                  <a:pt x="6995" y="4614"/>
                </a:cubicBezTo>
                <a:cubicBezTo>
                  <a:pt x="6994" y="4631"/>
                  <a:pt x="6953" y="4761"/>
                  <a:pt x="6945" y="4762"/>
                </a:cubicBezTo>
                <a:cubicBezTo>
                  <a:pt x="6920" y="4764"/>
                  <a:pt x="6945" y="4713"/>
                  <a:pt x="6945" y="4688"/>
                </a:cubicBezTo>
              </a:path>
              <a:path w="770" h="1316">
                <a:moveTo>
                  <a:pt x="6573" y="4638"/>
                </a:moveTo>
                <a:cubicBezTo>
                  <a:pt x="6573" y="4714"/>
                  <a:pt x="6597" y="4723"/>
                  <a:pt x="6623" y="4787"/>
                </a:cubicBezTo>
                <a:cubicBezTo>
                  <a:pt x="6638" y="4825"/>
                  <a:pt x="6646" y="4872"/>
                  <a:pt x="6672" y="4911"/>
                </a:cubicBezTo>
                <a:cubicBezTo>
                  <a:pt x="6701" y="4954"/>
                  <a:pt x="6747" y="4996"/>
                  <a:pt x="6772" y="5035"/>
                </a:cubicBezTo>
                <a:cubicBezTo>
                  <a:pt x="6803" y="5083"/>
                  <a:pt x="6806" y="5039"/>
                  <a:pt x="6821" y="5085"/>
                </a:cubicBezTo>
                <a:cubicBezTo>
                  <a:pt x="6854" y="5074"/>
                  <a:pt x="6851" y="5045"/>
                  <a:pt x="6871" y="5035"/>
                </a:cubicBezTo>
                <a:cubicBezTo>
                  <a:pt x="6920" y="5010"/>
                  <a:pt x="6928" y="4980"/>
                  <a:pt x="6970" y="4936"/>
                </a:cubicBezTo>
                <a:cubicBezTo>
                  <a:pt x="7042" y="4861"/>
                  <a:pt x="7118" y="4807"/>
                  <a:pt x="7193" y="4738"/>
                </a:cubicBezTo>
                <a:cubicBezTo>
                  <a:pt x="7226" y="4707"/>
                  <a:pt x="7274" y="4668"/>
                  <a:pt x="7317" y="4663"/>
                </a:cubicBezTo>
                <a:cubicBezTo>
                  <a:pt x="7343" y="4660"/>
                  <a:pt x="7370" y="4628"/>
                  <a:pt x="7317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20920" y="1874880"/>
            <a:ext cx="992160" cy="420480"/>
          </a:xfrm>
          <a:custGeom>
            <a:avLst/>
            <a:gdLst/>
            <a:ahLst/>
            <a:rect l="l" t="t" r="r" b="b"/>
            <a:pathLst>
              <a:path w="2755" h="1167">
                <a:moveTo>
                  <a:pt x="6896" y="5705"/>
                </a:moveTo>
                <a:cubicBezTo>
                  <a:pt x="6857" y="5695"/>
                  <a:pt x="6841" y="5680"/>
                  <a:pt x="6796" y="5680"/>
                </a:cubicBezTo>
                <a:cubicBezTo>
                  <a:pt x="6742" y="5680"/>
                  <a:pt x="6713" y="5693"/>
                  <a:pt x="6672" y="5730"/>
                </a:cubicBezTo>
                <a:cubicBezTo>
                  <a:pt x="6619" y="5778"/>
                  <a:pt x="6591" y="5796"/>
                  <a:pt x="6548" y="5854"/>
                </a:cubicBezTo>
                <a:cubicBezTo>
                  <a:pt x="6508" y="5909"/>
                  <a:pt x="6531" y="5900"/>
                  <a:pt x="6548" y="5953"/>
                </a:cubicBezTo>
                <a:cubicBezTo>
                  <a:pt x="6570" y="6023"/>
                  <a:pt x="6610" y="5990"/>
                  <a:pt x="6672" y="6028"/>
                </a:cubicBezTo>
                <a:cubicBezTo>
                  <a:pt x="6731" y="6064"/>
                  <a:pt x="6758" y="6125"/>
                  <a:pt x="6796" y="6176"/>
                </a:cubicBezTo>
                <a:cubicBezTo>
                  <a:pt x="6850" y="6248"/>
                  <a:pt x="6844" y="6210"/>
                  <a:pt x="6821" y="6300"/>
                </a:cubicBezTo>
                <a:cubicBezTo>
                  <a:pt x="6815" y="6322"/>
                  <a:pt x="6755" y="6366"/>
                  <a:pt x="6722" y="6375"/>
                </a:cubicBezTo>
                <a:cubicBezTo>
                  <a:pt x="6646" y="6395"/>
                  <a:pt x="6568" y="6367"/>
                  <a:pt x="6499" y="6350"/>
                </a:cubicBezTo>
                <a:cubicBezTo>
                  <a:pt x="6458" y="6340"/>
                  <a:pt x="6459" y="6341"/>
                  <a:pt x="6449" y="6300"/>
                </a:cubicBezTo>
              </a:path>
              <a:path w="2755" h="1167">
                <a:moveTo>
                  <a:pt x="6995" y="6077"/>
                </a:moveTo>
                <a:cubicBezTo>
                  <a:pt x="7112" y="6068"/>
                  <a:pt x="7139" y="6057"/>
                  <a:pt x="7243" y="6003"/>
                </a:cubicBezTo>
                <a:cubicBezTo>
                  <a:pt x="7321" y="5962"/>
                  <a:pt x="7336" y="5957"/>
                  <a:pt x="7367" y="5879"/>
                </a:cubicBezTo>
                <a:cubicBezTo>
                  <a:pt x="7400" y="5798"/>
                  <a:pt x="7389" y="5821"/>
                  <a:pt x="7367" y="5755"/>
                </a:cubicBezTo>
                <a:cubicBezTo>
                  <a:pt x="7349" y="5701"/>
                  <a:pt x="7290" y="5732"/>
                  <a:pt x="7243" y="5755"/>
                </a:cubicBezTo>
                <a:cubicBezTo>
                  <a:pt x="7188" y="5782"/>
                  <a:pt x="7130" y="5828"/>
                  <a:pt x="7094" y="5879"/>
                </a:cubicBezTo>
                <a:cubicBezTo>
                  <a:pt x="7046" y="5946"/>
                  <a:pt x="6999" y="6047"/>
                  <a:pt x="6995" y="6127"/>
                </a:cubicBezTo>
                <a:cubicBezTo>
                  <a:pt x="6991" y="6201"/>
                  <a:pt x="6995" y="6244"/>
                  <a:pt x="7045" y="6300"/>
                </a:cubicBezTo>
                <a:cubicBezTo>
                  <a:pt x="7077" y="6336"/>
                  <a:pt x="7143" y="6387"/>
                  <a:pt x="7193" y="6375"/>
                </a:cubicBezTo>
                <a:cubicBezTo>
                  <a:pt x="7241" y="6364"/>
                  <a:pt x="7298" y="6323"/>
                  <a:pt x="7342" y="6300"/>
                </a:cubicBezTo>
              </a:path>
              <a:path w="2755" h="1167">
                <a:moveTo>
                  <a:pt x="7888" y="5804"/>
                </a:moveTo>
                <a:cubicBezTo>
                  <a:pt x="7905" y="5804"/>
                  <a:pt x="7921" y="5804"/>
                  <a:pt x="7938" y="5804"/>
                </a:cubicBezTo>
                <a:cubicBezTo>
                  <a:pt x="7909" y="5776"/>
                  <a:pt x="7873" y="5742"/>
                  <a:pt x="7838" y="5730"/>
                </a:cubicBezTo>
                <a:cubicBezTo>
                  <a:pt x="7817" y="5723"/>
                  <a:pt x="7751" y="5761"/>
                  <a:pt x="7739" y="5779"/>
                </a:cubicBezTo>
                <a:cubicBezTo>
                  <a:pt x="7694" y="5843"/>
                  <a:pt x="7676" y="5932"/>
                  <a:pt x="7640" y="6003"/>
                </a:cubicBezTo>
                <a:cubicBezTo>
                  <a:pt x="7607" y="6069"/>
                  <a:pt x="7615" y="6128"/>
                  <a:pt x="7615" y="6201"/>
                </a:cubicBezTo>
                <a:cubicBezTo>
                  <a:pt x="7615" y="6254"/>
                  <a:pt x="7609" y="6319"/>
                  <a:pt x="7665" y="6350"/>
                </a:cubicBezTo>
                <a:cubicBezTo>
                  <a:pt x="7701" y="6370"/>
                  <a:pt x="7783" y="6345"/>
                  <a:pt x="7813" y="6325"/>
                </a:cubicBezTo>
                <a:cubicBezTo>
                  <a:pt x="7846" y="6292"/>
                  <a:pt x="7863" y="6275"/>
                  <a:pt x="7888" y="6251"/>
                </a:cubicBezTo>
              </a:path>
              <a:path w="2755" h="1167">
                <a:moveTo>
                  <a:pt x="8186" y="5283"/>
                </a:moveTo>
                <a:cubicBezTo>
                  <a:pt x="8264" y="5234"/>
                  <a:pt x="8304" y="5185"/>
                  <a:pt x="8384" y="5234"/>
                </a:cubicBezTo>
                <a:cubicBezTo>
                  <a:pt x="8372" y="5280"/>
                  <a:pt x="8336" y="5315"/>
                  <a:pt x="8310" y="5358"/>
                </a:cubicBezTo>
                <a:cubicBezTo>
                  <a:pt x="8286" y="5398"/>
                  <a:pt x="8228" y="5442"/>
                  <a:pt x="8210" y="5482"/>
                </a:cubicBezTo>
                <a:cubicBezTo>
                  <a:pt x="8183" y="5543"/>
                  <a:pt x="8244" y="5554"/>
                  <a:pt x="8285" y="5556"/>
                </a:cubicBezTo>
                <a:cubicBezTo>
                  <a:pt x="8361" y="5561"/>
                  <a:pt x="8410" y="5553"/>
                  <a:pt x="8483" y="5531"/>
                </a:cubicBezTo>
              </a:path>
              <a:path w="2755" h="1167">
                <a:moveTo>
                  <a:pt x="8706" y="5631"/>
                </a:moveTo>
                <a:cubicBezTo>
                  <a:pt x="8719" y="5735"/>
                  <a:pt x="8744" y="5860"/>
                  <a:pt x="8806" y="5953"/>
                </a:cubicBezTo>
                <a:cubicBezTo>
                  <a:pt x="8842" y="6008"/>
                  <a:pt x="8932" y="6089"/>
                  <a:pt x="8979" y="6127"/>
                </a:cubicBezTo>
                <a:cubicBezTo>
                  <a:pt x="9019" y="6159"/>
                  <a:pt x="9103" y="6189"/>
                  <a:pt x="9153" y="6201"/>
                </a:cubicBezTo>
                <a:cubicBezTo>
                  <a:pt x="9202" y="6213"/>
                  <a:pt x="9197" y="6158"/>
                  <a:pt x="9203" y="6127"/>
                </a:cubicBezTo>
              </a:path>
              <a:path w="2755" h="1167">
                <a:moveTo>
                  <a:pt x="9203" y="5655"/>
                </a:moveTo>
                <a:cubicBezTo>
                  <a:pt x="9140" y="5741"/>
                  <a:pt x="9078" y="5827"/>
                  <a:pt x="9004" y="5904"/>
                </a:cubicBezTo>
                <a:cubicBezTo>
                  <a:pt x="8939" y="5972"/>
                  <a:pt x="8840" y="6014"/>
                  <a:pt x="8781" y="6077"/>
                </a:cubicBezTo>
                <a:cubicBezTo>
                  <a:pt x="8741" y="6121"/>
                  <a:pt x="8702" y="6156"/>
                  <a:pt x="8657" y="6201"/>
                </a:cubicBezTo>
                <a:cubicBezTo>
                  <a:pt x="8634" y="6224"/>
                  <a:pt x="8595" y="6257"/>
                  <a:pt x="8632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2920" y="202716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0294" y="5631"/>
                </a:moveTo>
                <a:cubicBezTo>
                  <a:pt x="10261" y="5663"/>
                  <a:pt x="10226" y="5684"/>
                  <a:pt x="10195" y="5705"/>
                </a:cubicBezTo>
                <a:cubicBezTo>
                  <a:pt x="10157" y="5730"/>
                  <a:pt x="10145" y="5764"/>
                  <a:pt x="10145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89240" y="1973160"/>
            <a:ext cx="16200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1807" y="5507"/>
                </a:moveTo>
                <a:cubicBezTo>
                  <a:pt x="11720" y="5483"/>
                  <a:pt x="11689" y="5470"/>
                  <a:pt x="11609" y="5507"/>
                </a:cubicBezTo>
                <a:cubicBezTo>
                  <a:pt x="11543" y="5537"/>
                  <a:pt x="11492" y="5530"/>
                  <a:pt x="11435" y="5581"/>
                </a:cubicBezTo>
                <a:cubicBezTo>
                  <a:pt x="11403" y="5610"/>
                  <a:pt x="11370" y="5628"/>
                  <a:pt x="11361" y="5655"/>
                </a:cubicBezTo>
                <a:cubicBezTo>
                  <a:pt x="11368" y="5678"/>
                  <a:pt x="11402" y="5709"/>
                  <a:pt x="11435" y="5730"/>
                </a:cubicBezTo>
                <a:cubicBezTo>
                  <a:pt x="11517" y="5783"/>
                  <a:pt x="11589" y="5824"/>
                  <a:pt x="11658" y="5879"/>
                </a:cubicBezTo>
                <a:cubicBezTo>
                  <a:pt x="11713" y="5923"/>
                  <a:pt x="11733" y="5929"/>
                  <a:pt x="11733" y="6003"/>
                </a:cubicBezTo>
                <a:cubicBezTo>
                  <a:pt x="11733" y="6070"/>
                  <a:pt x="11698" y="6102"/>
                  <a:pt x="11633" y="6127"/>
                </a:cubicBezTo>
                <a:cubicBezTo>
                  <a:pt x="11576" y="6149"/>
                  <a:pt x="11523" y="6152"/>
                  <a:pt x="11460" y="6152"/>
                </a:cubicBezTo>
                <a:cubicBezTo>
                  <a:pt x="11419" y="6152"/>
                  <a:pt x="11368" y="6174"/>
                  <a:pt x="11410" y="6127"/>
                </a:cubicBezTo>
                <a:cubicBezTo>
                  <a:pt x="11418" y="6119"/>
                  <a:pt x="11427" y="6110"/>
                  <a:pt x="11435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8800" y="1785960"/>
            <a:ext cx="812520" cy="420840"/>
          </a:xfrm>
          <a:custGeom>
            <a:avLst/>
            <a:gdLst/>
            <a:ahLst/>
            <a:rect l="l" t="t" r="r" b="b"/>
            <a:pathLst>
              <a:path w="2258" h="1167">
                <a:moveTo>
                  <a:pt x="12328" y="5655"/>
                </a:moveTo>
                <a:cubicBezTo>
                  <a:pt x="12342" y="5778"/>
                  <a:pt x="12359" y="5889"/>
                  <a:pt x="12378" y="6003"/>
                </a:cubicBezTo>
                <a:cubicBezTo>
                  <a:pt x="12379" y="6007"/>
                  <a:pt x="12366" y="6139"/>
                  <a:pt x="12402" y="6127"/>
                </a:cubicBezTo>
                <a:cubicBezTo>
                  <a:pt x="12402" y="6102"/>
                  <a:pt x="12402" y="6094"/>
                  <a:pt x="12402" y="6077"/>
                </a:cubicBezTo>
              </a:path>
              <a:path w="2258" h="1167">
                <a:moveTo>
                  <a:pt x="12427" y="5333"/>
                </a:moveTo>
                <a:cubicBezTo>
                  <a:pt x="12490" y="5253"/>
                  <a:pt x="12454" y="5259"/>
                  <a:pt x="12526" y="5259"/>
                </a:cubicBezTo>
              </a:path>
              <a:path w="2258" h="1167">
                <a:moveTo>
                  <a:pt x="12626" y="5804"/>
                </a:moveTo>
                <a:cubicBezTo>
                  <a:pt x="12626" y="5978"/>
                  <a:pt x="12638" y="5978"/>
                  <a:pt x="12650" y="6102"/>
                </a:cubicBezTo>
                <a:cubicBezTo>
                  <a:pt x="12650" y="6127"/>
                  <a:pt x="12650" y="6135"/>
                  <a:pt x="12650" y="6102"/>
                </a:cubicBezTo>
                <a:cubicBezTo>
                  <a:pt x="12650" y="6030"/>
                  <a:pt x="12612" y="5946"/>
                  <a:pt x="12626" y="5879"/>
                </a:cubicBezTo>
                <a:cubicBezTo>
                  <a:pt x="12642" y="5801"/>
                  <a:pt x="12647" y="5698"/>
                  <a:pt x="12700" y="5631"/>
                </a:cubicBezTo>
                <a:cubicBezTo>
                  <a:pt x="12728" y="5595"/>
                  <a:pt x="12829" y="5516"/>
                  <a:pt x="12874" y="5507"/>
                </a:cubicBezTo>
                <a:cubicBezTo>
                  <a:pt x="12967" y="5489"/>
                  <a:pt x="13027" y="5543"/>
                  <a:pt x="13047" y="5631"/>
                </a:cubicBezTo>
                <a:cubicBezTo>
                  <a:pt x="13065" y="5713"/>
                  <a:pt x="13072" y="5794"/>
                  <a:pt x="13072" y="5879"/>
                </a:cubicBezTo>
                <a:cubicBezTo>
                  <a:pt x="13072" y="5952"/>
                  <a:pt x="13061" y="6018"/>
                  <a:pt x="13097" y="6077"/>
                </a:cubicBezTo>
                <a:cubicBezTo>
                  <a:pt x="13097" y="6146"/>
                  <a:pt x="13122" y="5959"/>
                  <a:pt x="13122" y="5953"/>
                </a:cubicBezTo>
                <a:cubicBezTo>
                  <a:pt x="13122" y="5937"/>
                  <a:pt x="13122" y="5920"/>
                  <a:pt x="13122" y="5904"/>
                </a:cubicBezTo>
              </a:path>
              <a:path w="2258" h="1167">
                <a:moveTo>
                  <a:pt x="13345" y="5060"/>
                </a:moveTo>
                <a:cubicBezTo>
                  <a:pt x="13392" y="5027"/>
                  <a:pt x="13476" y="4940"/>
                  <a:pt x="13543" y="4961"/>
                </a:cubicBezTo>
                <a:cubicBezTo>
                  <a:pt x="13585" y="4974"/>
                  <a:pt x="13631" y="5006"/>
                  <a:pt x="13618" y="5060"/>
                </a:cubicBezTo>
                <a:cubicBezTo>
                  <a:pt x="13601" y="5131"/>
                  <a:pt x="13543" y="5185"/>
                  <a:pt x="13494" y="5234"/>
                </a:cubicBezTo>
                <a:cubicBezTo>
                  <a:pt x="13462" y="5266"/>
                  <a:pt x="13424" y="5288"/>
                  <a:pt x="13419" y="5333"/>
                </a:cubicBezTo>
                <a:cubicBezTo>
                  <a:pt x="13415" y="5367"/>
                  <a:pt x="13483" y="5392"/>
                  <a:pt x="13519" y="5383"/>
                </a:cubicBezTo>
                <a:cubicBezTo>
                  <a:pt x="13601" y="5364"/>
                  <a:pt x="13681" y="5351"/>
                  <a:pt x="13767" y="5333"/>
                </a:cubicBezTo>
              </a:path>
              <a:path w="2258" h="1167">
                <a:moveTo>
                  <a:pt x="14064" y="5482"/>
                </a:moveTo>
                <a:cubicBezTo>
                  <a:pt x="14123" y="5605"/>
                  <a:pt x="14182" y="5712"/>
                  <a:pt x="14238" y="5829"/>
                </a:cubicBezTo>
                <a:cubicBezTo>
                  <a:pt x="14273" y="5901"/>
                  <a:pt x="14369" y="5960"/>
                  <a:pt x="14436" y="6003"/>
                </a:cubicBezTo>
                <a:cubicBezTo>
                  <a:pt x="14461" y="6019"/>
                  <a:pt x="14524" y="6071"/>
                  <a:pt x="14560" y="6052"/>
                </a:cubicBezTo>
                <a:cubicBezTo>
                  <a:pt x="14568" y="6044"/>
                  <a:pt x="14577" y="6036"/>
                  <a:pt x="14585" y="6028"/>
                </a:cubicBezTo>
              </a:path>
              <a:path w="2258" h="1167">
                <a:moveTo>
                  <a:pt x="14536" y="5507"/>
                </a:moveTo>
                <a:cubicBezTo>
                  <a:pt x="14456" y="5610"/>
                  <a:pt x="14335" y="5817"/>
                  <a:pt x="14213" y="5904"/>
                </a:cubicBezTo>
                <a:cubicBezTo>
                  <a:pt x="14155" y="5945"/>
                  <a:pt x="14092" y="5980"/>
                  <a:pt x="14039" y="6028"/>
                </a:cubicBezTo>
                <a:cubicBezTo>
                  <a:pt x="14025" y="6040"/>
                  <a:pt x="13971" y="6085"/>
                  <a:pt x="13965" y="6077"/>
                </a:cubicBezTo>
                <a:cubicBezTo>
                  <a:pt x="13965" y="6069"/>
                  <a:pt x="13965" y="6060"/>
                  <a:pt x="13965" y="60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5240" y="1866960"/>
            <a:ext cx="268560" cy="106200"/>
          </a:xfrm>
          <a:custGeom>
            <a:avLst/>
            <a:gdLst/>
            <a:ahLst/>
            <a:rect l="l" t="t" r="r" b="b"/>
            <a:pathLst>
              <a:path w="745" h="299">
                <a:moveTo>
                  <a:pt x="17711" y="5209"/>
                </a:moveTo>
                <a:cubicBezTo>
                  <a:pt x="17766" y="5209"/>
                  <a:pt x="17804" y="5187"/>
                  <a:pt x="17859" y="5184"/>
                </a:cubicBezTo>
                <a:cubicBezTo>
                  <a:pt x="18066" y="5172"/>
                  <a:pt x="18637" y="5184"/>
                  <a:pt x="18430" y="5184"/>
                </a:cubicBezTo>
                <a:cubicBezTo>
                  <a:pt x="18397" y="5184"/>
                  <a:pt x="18364" y="5184"/>
                  <a:pt x="18331" y="5184"/>
                </a:cubicBezTo>
              </a:path>
              <a:path w="745" h="299">
                <a:moveTo>
                  <a:pt x="17785" y="5482"/>
                </a:moveTo>
                <a:cubicBezTo>
                  <a:pt x="17886" y="5482"/>
                  <a:pt x="18382" y="5527"/>
                  <a:pt x="18405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1660680"/>
            <a:ext cx="1000080" cy="49212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9298" y="4614"/>
                </a:moveTo>
                <a:cubicBezTo>
                  <a:pt x="19290" y="4701"/>
                  <a:pt x="19273" y="4772"/>
                  <a:pt x="19273" y="4862"/>
                </a:cubicBezTo>
                <a:cubicBezTo>
                  <a:pt x="19273" y="4979"/>
                  <a:pt x="19298" y="5090"/>
                  <a:pt x="19298" y="5209"/>
                </a:cubicBezTo>
                <a:cubicBezTo>
                  <a:pt x="19298" y="5314"/>
                  <a:pt x="19319" y="5405"/>
                  <a:pt x="19323" y="5507"/>
                </a:cubicBezTo>
                <a:cubicBezTo>
                  <a:pt x="19326" y="5586"/>
                  <a:pt x="19328" y="5639"/>
                  <a:pt x="19348" y="5705"/>
                </a:cubicBezTo>
                <a:cubicBezTo>
                  <a:pt x="19348" y="5738"/>
                  <a:pt x="19348" y="5754"/>
                  <a:pt x="19348" y="5779"/>
                </a:cubicBezTo>
                <a:cubicBezTo>
                  <a:pt x="19297" y="5763"/>
                  <a:pt x="19318" y="5759"/>
                  <a:pt x="19298" y="5705"/>
                </a:cubicBezTo>
                <a:cubicBezTo>
                  <a:pt x="19290" y="5688"/>
                  <a:pt x="19281" y="5672"/>
                  <a:pt x="19273" y="5655"/>
                </a:cubicBezTo>
              </a:path>
              <a:path w="2779" h="1365">
                <a:moveTo>
                  <a:pt x="19050" y="5283"/>
                </a:moveTo>
                <a:cubicBezTo>
                  <a:pt x="19096" y="5272"/>
                  <a:pt x="19123" y="5268"/>
                  <a:pt x="19174" y="5259"/>
                </a:cubicBezTo>
                <a:cubicBezTo>
                  <a:pt x="19287" y="5238"/>
                  <a:pt x="19383" y="5234"/>
                  <a:pt x="19496" y="5234"/>
                </a:cubicBezTo>
                <a:cubicBezTo>
                  <a:pt x="19565" y="5234"/>
                  <a:pt x="19677" y="5225"/>
                  <a:pt x="19745" y="5209"/>
                </a:cubicBezTo>
                <a:cubicBezTo>
                  <a:pt x="19793" y="5197"/>
                  <a:pt x="19846" y="5173"/>
                  <a:pt x="19893" y="5159"/>
                </a:cubicBezTo>
                <a:cubicBezTo>
                  <a:pt x="19864" y="5176"/>
                  <a:pt x="19794" y="5205"/>
                  <a:pt x="19769" y="5234"/>
                </a:cubicBezTo>
                <a:cubicBezTo>
                  <a:pt x="19710" y="5303"/>
                  <a:pt x="19688" y="5379"/>
                  <a:pt x="19645" y="5457"/>
                </a:cubicBezTo>
                <a:cubicBezTo>
                  <a:pt x="19622" y="5498"/>
                  <a:pt x="19601" y="5578"/>
                  <a:pt x="19621" y="5631"/>
                </a:cubicBezTo>
                <a:cubicBezTo>
                  <a:pt x="19634" y="5666"/>
                  <a:pt x="19672" y="5718"/>
                  <a:pt x="19720" y="5705"/>
                </a:cubicBezTo>
                <a:cubicBezTo>
                  <a:pt x="19779" y="5689"/>
                  <a:pt x="19823" y="5668"/>
                  <a:pt x="19844" y="5606"/>
                </a:cubicBezTo>
                <a:cubicBezTo>
                  <a:pt x="19860" y="5560"/>
                  <a:pt x="19879" y="5506"/>
                  <a:pt x="19893" y="5457"/>
                </a:cubicBezTo>
                <a:cubicBezTo>
                  <a:pt x="19903" y="5421"/>
                  <a:pt x="19893" y="5370"/>
                  <a:pt x="19893" y="5333"/>
                </a:cubicBezTo>
                <a:cubicBezTo>
                  <a:pt x="19893" y="5292"/>
                  <a:pt x="19893" y="5366"/>
                  <a:pt x="19893" y="5407"/>
                </a:cubicBezTo>
                <a:cubicBezTo>
                  <a:pt x="19893" y="5464"/>
                  <a:pt x="19894" y="5534"/>
                  <a:pt x="19918" y="5581"/>
                </a:cubicBezTo>
                <a:cubicBezTo>
                  <a:pt x="19941" y="5627"/>
                  <a:pt x="19992" y="5692"/>
                  <a:pt x="20042" y="5705"/>
                </a:cubicBezTo>
                <a:cubicBezTo>
                  <a:pt x="20087" y="5705"/>
                  <a:pt x="20100" y="5708"/>
                  <a:pt x="20117" y="5680"/>
                </a:cubicBezTo>
              </a:path>
              <a:path w="2779" h="1365">
                <a:moveTo>
                  <a:pt x="20166" y="5407"/>
                </a:moveTo>
                <a:cubicBezTo>
                  <a:pt x="20172" y="5483"/>
                  <a:pt x="20164" y="5609"/>
                  <a:pt x="20191" y="5680"/>
                </a:cubicBezTo>
                <a:cubicBezTo>
                  <a:pt x="20207" y="5722"/>
                  <a:pt x="20216" y="5728"/>
                  <a:pt x="20216" y="5779"/>
                </a:cubicBezTo>
                <a:cubicBezTo>
                  <a:pt x="20216" y="5804"/>
                  <a:pt x="20216" y="5812"/>
                  <a:pt x="20241" y="5804"/>
                </a:cubicBezTo>
                <a:cubicBezTo>
                  <a:pt x="20230" y="5759"/>
                  <a:pt x="20216" y="5734"/>
                  <a:pt x="20216" y="5680"/>
                </a:cubicBezTo>
                <a:cubicBezTo>
                  <a:pt x="20216" y="5623"/>
                  <a:pt x="20237" y="5584"/>
                  <a:pt x="20241" y="5531"/>
                </a:cubicBezTo>
                <a:cubicBezTo>
                  <a:pt x="20246" y="5462"/>
                  <a:pt x="20267" y="5409"/>
                  <a:pt x="20315" y="5358"/>
                </a:cubicBezTo>
                <a:cubicBezTo>
                  <a:pt x="20347" y="5324"/>
                  <a:pt x="20418" y="5253"/>
                  <a:pt x="20464" y="5259"/>
                </a:cubicBezTo>
                <a:cubicBezTo>
                  <a:pt x="20556" y="5271"/>
                  <a:pt x="20573" y="5304"/>
                  <a:pt x="20613" y="5383"/>
                </a:cubicBezTo>
                <a:cubicBezTo>
                  <a:pt x="20650" y="5457"/>
                  <a:pt x="20672" y="5525"/>
                  <a:pt x="20687" y="5606"/>
                </a:cubicBezTo>
                <a:cubicBezTo>
                  <a:pt x="20696" y="5655"/>
                  <a:pt x="20707" y="5707"/>
                  <a:pt x="20712" y="5755"/>
                </a:cubicBezTo>
                <a:cubicBezTo>
                  <a:pt x="20714" y="5776"/>
                  <a:pt x="20712" y="5865"/>
                  <a:pt x="20712" y="5755"/>
                </a:cubicBezTo>
              </a:path>
              <a:path w="2779" h="1365">
                <a:moveTo>
                  <a:pt x="20910" y="4762"/>
                </a:moveTo>
                <a:cubicBezTo>
                  <a:pt x="21011" y="4744"/>
                  <a:pt x="21072" y="4701"/>
                  <a:pt x="21109" y="4812"/>
                </a:cubicBezTo>
                <a:cubicBezTo>
                  <a:pt x="21122" y="4850"/>
                  <a:pt x="21055" y="4933"/>
                  <a:pt x="21034" y="4961"/>
                </a:cubicBezTo>
                <a:cubicBezTo>
                  <a:pt x="21014" y="4988"/>
                  <a:pt x="20984" y="5012"/>
                  <a:pt x="20960" y="5035"/>
                </a:cubicBezTo>
                <a:cubicBezTo>
                  <a:pt x="20969" y="5063"/>
                  <a:pt x="20994" y="5080"/>
                  <a:pt x="21034" y="5085"/>
                </a:cubicBezTo>
                <a:cubicBezTo>
                  <a:pt x="21067" y="5085"/>
                  <a:pt x="21084" y="5085"/>
                  <a:pt x="21109" y="5085"/>
                </a:cubicBezTo>
              </a:path>
              <a:path w="2779" h="1365">
                <a:moveTo>
                  <a:pt x="21357" y="5259"/>
                </a:moveTo>
                <a:cubicBezTo>
                  <a:pt x="21381" y="5342"/>
                  <a:pt x="21405" y="5434"/>
                  <a:pt x="21456" y="5507"/>
                </a:cubicBezTo>
                <a:cubicBezTo>
                  <a:pt x="21497" y="5566"/>
                  <a:pt x="21583" y="5656"/>
                  <a:pt x="21654" y="5680"/>
                </a:cubicBezTo>
                <a:cubicBezTo>
                  <a:pt x="21713" y="5700"/>
                  <a:pt x="21763" y="5705"/>
                  <a:pt x="21828" y="5705"/>
                </a:cubicBezTo>
              </a:path>
              <a:path w="2779" h="1365">
                <a:moveTo>
                  <a:pt x="21779" y="5234"/>
                </a:moveTo>
                <a:cubicBezTo>
                  <a:pt x="21677" y="5343"/>
                  <a:pt x="21642" y="5443"/>
                  <a:pt x="21555" y="5556"/>
                </a:cubicBezTo>
                <a:cubicBezTo>
                  <a:pt x="21501" y="5626"/>
                  <a:pt x="21448" y="5682"/>
                  <a:pt x="21406" y="5755"/>
                </a:cubicBezTo>
                <a:cubicBezTo>
                  <a:pt x="21370" y="5816"/>
                  <a:pt x="21324" y="5871"/>
                  <a:pt x="21282" y="5928"/>
                </a:cubicBezTo>
                <a:cubicBezTo>
                  <a:pt x="21258" y="5953"/>
                  <a:pt x="21250" y="5962"/>
                  <a:pt x="2123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1840" y="3241800"/>
            <a:ext cx="884160" cy="374400"/>
          </a:xfrm>
          <a:custGeom>
            <a:avLst/>
            <a:gdLst/>
            <a:ahLst/>
            <a:rect l="l" t="t" r="r" b="b"/>
            <a:pathLst>
              <a:path w="2456" h="1043">
                <a:moveTo>
                  <a:pt x="7590" y="9401"/>
                </a:moveTo>
                <a:cubicBezTo>
                  <a:pt x="7590" y="9458"/>
                  <a:pt x="7590" y="9500"/>
                  <a:pt x="7590" y="9451"/>
                </a:cubicBezTo>
                <a:cubicBezTo>
                  <a:pt x="7577" y="9434"/>
                  <a:pt x="7551" y="9358"/>
                  <a:pt x="7541" y="9351"/>
                </a:cubicBezTo>
                <a:cubicBezTo>
                  <a:pt x="7510" y="9330"/>
                  <a:pt x="7436" y="9288"/>
                  <a:pt x="7392" y="9302"/>
                </a:cubicBezTo>
                <a:cubicBezTo>
                  <a:pt x="7349" y="9315"/>
                  <a:pt x="7273" y="9421"/>
                  <a:pt x="7243" y="9451"/>
                </a:cubicBezTo>
                <a:cubicBezTo>
                  <a:pt x="7177" y="9516"/>
                  <a:pt x="7192" y="9570"/>
                  <a:pt x="7169" y="9649"/>
                </a:cubicBezTo>
                <a:cubicBezTo>
                  <a:pt x="7145" y="9735"/>
                  <a:pt x="7133" y="9784"/>
                  <a:pt x="7169" y="9872"/>
                </a:cubicBezTo>
                <a:cubicBezTo>
                  <a:pt x="7203" y="9954"/>
                  <a:pt x="7228" y="9971"/>
                  <a:pt x="7293" y="10021"/>
                </a:cubicBezTo>
                <a:cubicBezTo>
                  <a:pt x="7343" y="10059"/>
                  <a:pt x="7402" y="10046"/>
                  <a:pt x="7466" y="10046"/>
                </a:cubicBezTo>
                <a:cubicBezTo>
                  <a:pt x="7544" y="10046"/>
                  <a:pt x="7558" y="10021"/>
                  <a:pt x="7615" y="9971"/>
                </a:cubicBezTo>
              </a:path>
              <a:path w="2456" h="1043">
                <a:moveTo>
                  <a:pt x="7913" y="9500"/>
                </a:moveTo>
                <a:cubicBezTo>
                  <a:pt x="7899" y="9509"/>
                  <a:pt x="7870" y="9568"/>
                  <a:pt x="7863" y="9599"/>
                </a:cubicBezTo>
                <a:cubicBezTo>
                  <a:pt x="7848" y="9667"/>
                  <a:pt x="7838" y="9726"/>
                  <a:pt x="7838" y="9798"/>
                </a:cubicBezTo>
                <a:cubicBezTo>
                  <a:pt x="7838" y="9826"/>
                  <a:pt x="7865" y="9927"/>
                  <a:pt x="7888" y="9947"/>
                </a:cubicBezTo>
                <a:cubicBezTo>
                  <a:pt x="7917" y="9972"/>
                  <a:pt x="8022" y="9982"/>
                  <a:pt x="8062" y="9971"/>
                </a:cubicBezTo>
                <a:cubicBezTo>
                  <a:pt x="8120" y="9955"/>
                  <a:pt x="8191" y="9883"/>
                  <a:pt x="8235" y="9847"/>
                </a:cubicBezTo>
                <a:cubicBezTo>
                  <a:pt x="8291" y="9800"/>
                  <a:pt x="8339" y="9700"/>
                  <a:pt x="8310" y="9624"/>
                </a:cubicBezTo>
                <a:cubicBezTo>
                  <a:pt x="8289" y="9571"/>
                  <a:pt x="8267" y="9513"/>
                  <a:pt x="8210" y="9475"/>
                </a:cubicBezTo>
                <a:cubicBezTo>
                  <a:pt x="8161" y="9443"/>
                  <a:pt x="8117" y="9451"/>
                  <a:pt x="8062" y="9451"/>
                </a:cubicBezTo>
                <a:cubicBezTo>
                  <a:pt x="8006" y="9451"/>
                  <a:pt x="7953" y="9464"/>
                  <a:pt x="7913" y="9500"/>
                </a:cubicBezTo>
                <a:cubicBezTo>
                  <a:pt x="7901" y="9511"/>
                  <a:pt x="7864" y="9580"/>
                  <a:pt x="7888" y="9599"/>
                </a:cubicBezTo>
                <a:cubicBezTo>
                  <a:pt x="7902" y="9610"/>
                  <a:pt x="7942" y="9619"/>
                  <a:pt x="7962" y="9624"/>
                </a:cubicBezTo>
              </a:path>
              <a:path w="2456" h="1043">
                <a:moveTo>
                  <a:pt x="8558" y="9401"/>
                </a:moveTo>
                <a:cubicBezTo>
                  <a:pt x="8511" y="9425"/>
                  <a:pt x="8411" y="9452"/>
                  <a:pt x="8384" y="9500"/>
                </a:cubicBezTo>
                <a:cubicBezTo>
                  <a:pt x="8366" y="9532"/>
                  <a:pt x="8390" y="9578"/>
                  <a:pt x="8409" y="9599"/>
                </a:cubicBezTo>
                <a:cubicBezTo>
                  <a:pt x="8479" y="9675"/>
                  <a:pt x="8525" y="9741"/>
                  <a:pt x="8582" y="9823"/>
                </a:cubicBezTo>
                <a:cubicBezTo>
                  <a:pt x="8628" y="9889"/>
                  <a:pt x="8641" y="9888"/>
                  <a:pt x="8582" y="9947"/>
                </a:cubicBezTo>
                <a:cubicBezTo>
                  <a:pt x="8530" y="9999"/>
                  <a:pt x="8509" y="9996"/>
                  <a:pt x="8434" y="9996"/>
                </a:cubicBezTo>
                <a:cubicBezTo>
                  <a:pt x="8377" y="9996"/>
                  <a:pt x="8328" y="9973"/>
                  <a:pt x="8310" y="9922"/>
                </a:cubicBezTo>
                <a:cubicBezTo>
                  <a:pt x="8310" y="9871"/>
                  <a:pt x="8316" y="9838"/>
                  <a:pt x="8334" y="9798"/>
                </a:cubicBezTo>
              </a:path>
              <a:path w="2456" h="1043">
                <a:moveTo>
                  <a:pt x="8706" y="9054"/>
                </a:moveTo>
                <a:cubicBezTo>
                  <a:pt x="8752" y="9034"/>
                  <a:pt x="8883" y="8953"/>
                  <a:pt x="8930" y="9029"/>
                </a:cubicBezTo>
                <a:cubicBezTo>
                  <a:pt x="8957" y="9072"/>
                  <a:pt x="8897" y="9101"/>
                  <a:pt x="8880" y="9128"/>
                </a:cubicBezTo>
                <a:cubicBezTo>
                  <a:pt x="8844" y="9183"/>
                  <a:pt x="8803" y="9205"/>
                  <a:pt x="8756" y="9252"/>
                </a:cubicBezTo>
                <a:cubicBezTo>
                  <a:pt x="8789" y="9263"/>
                  <a:pt x="8802" y="9291"/>
                  <a:pt x="8855" y="9302"/>
                </a:cubicBezTo>
              </a:path>
              <a:path w="2456" h="1043">
                <a:moveTo>
                  <a:pt x="9054" y="9500"/>
                </a:moveTo>
                <a:cubicBezTo>
                  <a:pt x="9080" y="9591"/>
                  <a:pt x="9117" y="9769"/>
                  <a:pt x="9203" y="9823"/>
                </a:cubicBezTo>
                <a:cubicBezTo>
                  <a:pt x="9275" y="9869"/>
                  <a:pt x="9385" y="9980"/>
                  <a:pt x="9475" y="9996"/>
                </a:cubicBezTo>
                <a:cubicBezTo>
                  <a:pt x="9530" y="10005"/>
                  <a:pt x="9595" y="10010"/>
                  <a:pt x="9599" y="9947"/>
                </a:cubicBezTo>
                <a:cubicBezTo>
                  <a:pt x="9599" y="9897"/>
                  <a:pt x="9599" y="9880"/>
                  <a:pt x="9599" y="9847"/>
                </a:cubicBezTo>
              </a:path>
              <a:path w="2456" h="1043">
                <a:moveTo>
                  <a:pt x="9525" y="9475"/>
                </a:moveTo>
                <a:cubicBezTo>
                  <a:pt x="9436" y="9571"/>
                  <a:pt x="9370" y="9665"/>
                  <a:pt x="9277" y="9748"/>
                </a:cubicBezTo>
                <a:cubicBezTo>
                  <a:pt x="9201" y="9817"/>
                  <a:pt x="9135" y="9887"/>
                  <a:pt x="9054" y="9947"/>
                </a:cubicBezTo>
                <a:cubicBezTo>
                  <a:pt x="8978" y="10003"/>
                  <a:pt x="9027" y="9944"/>
                  <a:pt x="9054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6120" y="312588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0567" y="8756"/>
                </a:moveTo>
                <a:cubicBezTo>
                  <a:pt x="10544" y="8779"/>
                  <a:pt x="10540" y="8787"/>
                  <a:pt x="10517" y="8781"/>
                </a:cubicBezTo>
                <a:cubicBezTo>
                  <a:pt x="10526" y="8744"/>
                  <a:pt x="10545" y="8720"/>
                  <a:pt x="10567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6880" y="2670120"/>
            <a:ext cx="1009800" cy="419040"/>
          </a:xfrm>
          <a:custGeom>
            <a:avLst/>
            <a:gdLst/>
            <a:ahLst/>
            <a:rect l="l" t="t" r="r" b="b"/>
            <a:pathLst>
              <a:path w="2804" h="1166">
                <a:moveTo>
                  <a:pt x="11757" y="7962"/>
                </a:moveTo>
                <a:cubicBezTo>
                  <a:pt x="11673" y="7979"/>
                  <a:pt x="11539" y="8000"/>
                  <a:pt x="11460" y="8037"/>
                </a:cubicBezTo>
                <a:cubicBezTo>
                  <a:pt x="11407" y="8062"/>
                  <a:pt x="11401" y="8098"/>
                  <a:pt x="11435" y="8136"/>
                </a:cubicBezTo>
                <a:cubicBezTo>
                  <a:pt x="11475" y="8182"/>
                  <a:pt x="11580" y="8235"/>
                  <a:pt x="11633" y="8260"/>
                </a:cubicBezTo>
                <a:cubicBezTo>
                  <a:pt x="11715" y="8298"/>
                  <a:pt x="11805" y="8351"/>
                  <a:pt x="11857" y="8434"/>
                </a:cubicBezTo>
                <a:cubicBezTo>
                  <a:pt x="11876" y="8464"/>
                  <a:pt x="11861" y="8539"/>
                  <a:pt x="11832" y="8558"/>
                </a:cubicBezTo>
                <a:cubicBezTo>
                  <a:pt x="11771" y="8600"/>
                  <a:pt x="11679" y="8582"/>
                  <a:pt x="11609" y="8582"/>
                </a:cubicBezTo>
                <a:cubicBezTo>
                  <a:pt x="11558" y="8582"/>
                  <a:pt x="11473" y="8548"/>
                  <a:pt x="11460" y="8508"/>
                </a:cubicBezTo>
                <a:cubicBezTo>
                  <a:pt x="11448" y="8472"/>
                  <a:pt x="11466" y="8459"/>
                  <a:pt x="11485" y="8434"/>
                </a:cubicBezTo>
              </a:path>
              <a:path w="2804" h="1166">
                <a:moveTo>
                  <a:pt x="12179" y="8037"/>
                </a:moveTo>
                <a:cubicBezTo>
                  <a:pt x="12200" y="8215"/>
                  <a:pt x="12186" y="8257"/>
                  <a:pt x="12179" y="8409"/>
                </a:cubicBezTo>
                <a:cubicBezTo>
                  <a:pt x="12178" y="8434"/>
                  <a:pt x="12179" y="8634"/>
                  <a:pt x="12179" y="8508"/>
                </a:cubicBezTo>
                <a:cubicBezTo>
                  <a:pt x="12179" y="8500"/>
                  <a:pt x="12179" y="8491"/>
                  <a:pt x="12179" y="8483"/>
                </a:cubicBezTo>
              </a:path>
              <a:path w="2804" h="1166">
                <a:moveTo>
                  <a:pt x="12278" y="7789"/>
                </a:moveTo>
                <a:cubicBezTo>
                  <a:pt x="12307" y="7760"/>
                  <a:pt x="12316" y="7748"/>
                  <a:pt x="12353" y="7739"/>
                </a:cubicBezTo>
              </a:path>
              <a:path w="2804" h="1166">
                <a:moveTo>
                  <a:pt x="12427" y="8260"/>
                </a:moveTo>
                <a:cubicBezTo>
                  <a:pt x="12427" y="8280"/>
                  <a:pt x="12427" y="8508"/>
                  <a:pt x="12427" y="8458"/>
                </a:cubicBezTo>
                <a:cubicBezTo>
                  <a:pt x="12427" y="8363"/>
                  <a:pt x="12417" y="8273"/>
                  <a:pt x="12452" y="8186"/>
                </a:cubicBezTo>
                <a:cubicBezTo>
                  <a:pt x="12477" y="8123"/>
                  <a:pt x="12547" y="8029"/>
                  <a:pt x="12601" y="7987"/>
                </a:cubicBezTo>
                <a:cubicBezTo>
                  <a:pt x="12652" y="7948"/>
                  <a:pt x="12735" y="7921"/>
                  <a:pt x="12799" y="7938"/>
                </a:cubicBezTo>
                <a:cubicBezTo>
                  <a:pt x="12869" y="7957"/>
                  <a:pt x="12912" y="8071"/>
                  <a:pt x="12923" y="8136"/>
                </a:cubicBezTo>
                <a:cubicBezTo>
                  <a:pt x="12939" y="8230"/>
                  <a:pt x="12954" y="8458"/>
                  <a:pt x="12898" y="8533"/>
                </a:cubicBezTo>
                <a:cubicBezTo>
                  <a:pt x="12898" y="8492"/>
                  <a:pt x="12898" y="8467"/>
                  <a:pt x="12898" y="8434"/>
                </a:cubicBezTo>
              </a:path>
              <a:path w="2804" h="1166">
                <a:moveTo>
                  <a:pt x="13221" y="7466"/>
                </a:moveTo>
                <a:cubicBezTo>
                  <a:pt x="13296" y="7444"/>
                  <a:pt x="13396" y="7380"/>
                  <a:pt x="13419" y="7491"/>
                </a:cubicBezTo>
                <a:cubicBezTo>
                  <a:pt x="13437" y="7577"/>
                  <a:pt x="13371" y="7620"/>
                  <a:pt x="13320" y="7665"/>
                </a:cubicBezTo>
                <a:cubicBezTo>
                  <a:pt x="13284" y="7697"/>
                  <a:pt x="13226" y="7742"/>
                  <a:pt x="13221" y="7789"/>
                </a:cubicBezTo>
                <a:cubicBezTo>
                  <a:pt x="13213" y="7860"/>
                  <a:pt x="13282" y="7827"/>
                  <a:pt x="13320" y="7838"/>
                </a:cubicBezTo>
                <a:cubicBezTo>
                  <a:pt x="13368" y="7862"/>
                  <a:pt x="13382" y="7870"/>
                  <a:pt x="13419" y="7863"/>
                </a:cubicBezTo>
              </a:path>
              <a:path w="2804" h="1166">
                <a:moveTo>
                  <a:pt x="13742" y="8037"/>
                </a:moveTo>
                <a:cubicBezTo>
                  <a:pt x="13748" y="8138"/>
                  <a:pt x="13750" y="8225"/>
                  <a:pt x="13816" y="8310"/>
                </a:cubicBezTo>
                <a:cubicBezTo>
                  <a:pt x="13874" y="8384"/>
                  <a:pt x="13936" y="8405"/>
                  <a:pt x="14015" y="8434"/>
                </a:cubicBezTo>
                <a:cubicBezTo>
                  <a:pt x="14094" y="8463"/>
                  <a:pt x="14117" y="8454"/>
                  <a:pt x="14188" y="8434"/>
                </a:cubicBezTo>
                <a:cubicBezTo>
                  <a:pt x="14196" y="8434"/>
                  <a:pt x="14205" y="8434"/>
                  <a:pt x="14213" y="8434"/>
                </a:cubicBezTo>
              </a:path>
              <a:path w="2804" h="1166">
                <a:moveTo>
                  <a:pt x="14114" y="8012"/>
                </a:moveTo>
                <a:cubicBezTo>
                  <a:pt x="14000" y="8186"/>
                  <a:pt x="13951" y="8230"/>
                  <a:pt x="13816" y="8359"/>
                </a:cubicBezTo>
                <a:cubicBezTo>
                  <a:pt x="13752" y="8420"/>
                  <a:pt x="13668" y="8449"/>
                  <a:pt x="1366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3120" y="2768760"/>
            <a:ext cx="527040" cy="36648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8086" y="7714"/>
                </a:moveTo>
                <a:cubicBezTo>
                  <a:pt x="8086" y="7647"/>
                  <a:pt x="8086" y="7753"/>
                  <a:pt x="8086" y="7764"/>
                </a:cubicBezTo>
                <a:cubicBezTo>
                  <a:pt x="8086" y="7834"/>
                  <a:pt x="8065" y="7887"/>
                  <a:pt x="8062" y="7962"/>
                </a:cubicBezTo>
                <a:cubicBezTo>
                  <a:pt x="8059" y="8042"/>
                  <a:pt x="8041" y="8110"/>
                  <a:pt x="8037" y="8186"/>
                </a:cubicBezTo>
                <a:cubicBezTo>
                  <a:pt x="8033" y="8256"/>
                  <a:pt x="8012" y="8310"/>
                  <a:pt x="8012" y="8384"/>
                </a:cubicBezTo>
                <a:cubicBezTo>
                  <a:pt x="8012" y="8436"/>
                  <a:pt x="8030" y="8519"/>
                  <a:pt x="7987" y="8533"/>
                </a:cubicBezTo>
              </a:path>
              <a:path w="1465" h="1018">
                <a:moveTo>
                  <a:pt x="7342" y="8632"/>
                </a:moveTo>
                <a:cubicBezTo>
                  <a:pt x="7402" y="8668"/>
                  <a:pt x="7466" y="8657"/>
                  <a:pt x="7541" y="8657"/>
                </a:cubicBezTo>
                <a:cubicBezTo>
                  <a:pt x="7840" y="8657"/>
                  <a:pt x="8139" y="8657"/>
                  <a:pt x="8434" y="8682"/>
                </a:cubicBezTo>
                <a:cubicBezTo>
                  <a:pt x="8546" y="8691"/>
                  <a:pt x="8649" y="8685"/>
                  <a:pt x="8756" y="8706"/>
                </a:cubicBezTo>
                <a:cubicBezTo>
                  <a:pt x="8806" y="8716"/>
                  <a:pt x="8814" y="8706"/>
                  <a:pt x="8756" y="8706"/>
                </a:cubicBezTo>
                <a:cubicBezTo>
                  <a:pt x="8748" y="8706"/>
                  <a:pt x="8739" y="8706"/>
                  <a:pt x="8731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5920" y="2616120"/>
            <a:ext cx="1436760" cy="492120"/>
          </a:xfrm>
          <a:custGeom>
            <a:avLst/>
            <a:gdLst/>
            <a:ahLst/>
            <a:rect l="l" t="t" r="r" b="b"/>
            <a:pathLst>
              <a:path w="3994" h="1365">
                <a:moveTo>
                  <a:pt x="16570" y="8062"/>
                </a:moveTo>
                <a:cubicBezTo>
                  <a:pt x="16636" y="8037"/>
                  <a:pt x="16722" y="8020"/>
                  <a:pt x="16793" y="8012"/>
                </a:cubicBezTo>
                <a:cubicBezTo>
                  <a:pt x="16858" y="8004"/>
                  <a:pt x="16904" y="8029"/>
                  <a:pt x="16966" y="8037"/>
                </a:cubicBezTo>
              </a:path>
              <a:path w="3994" h="1365">
                <a:moveTo>
                  <a:pt x="16743" y="8359"/>
                </a:moveTo>
                <a:cubicBezTo>
                  <a:pt x="16841" y="8392"/>
                  <a:pt x="16935" y="8384"/>
                  <a:pt x="17041" y="8384"/>
                </a:cubicBezTo>
                <a:cubicBezTo>
                  <a:pt x="17133" y="8384"/>
                  <a:pt x="17159" y="8386"/>
                  <a:pt x="17214" y="8359"/>
                </a:cubicBezTo>
              </a:path>
              <a:path w="3994" h="1365">
                <a:moveTo>
                  <a:pt x="18207" y="7342"/>
                </a:moveTo>
                <a:cubicBezTo>
                  <a:pt x="18182" y="7497"/>
                  <a:pt x="18157" y="7633"/>
                  <a:pt x="18157" y="7789"/>
                </a:cubicBezTo>
                <a:cubicBezTo>
                  <a:pt x="18157" y="7927"/>
                  <a:pt x="18171" y="8050"/>
                  <a:pt x="18182" y="8186"/>
                </a:cubicBezTo>
                <a:cubicBezTo>
                  <a:pt x="18187" y="8242"/>
                  <a:pt x="18205" y="8418"/>
                  <a:pt x="18157" y="8434"/>
                </a:cubicBezTo>
              </a:path>
              <a:path w="3994" h="1365">
                <a:moveTo>
                  <a:pt x="17760" y="7913"/>
                </a:moveTo>
                <a:cubicBezTo>
                  <a:pt x="17856" y="7913"/>
                  <a:pt x="17939" y="7891"/>
                  <a:pt x="18033" y="7888"/>
                </a:cubicBezTo>
                <a:cubicBezTo>
                  <a:pt x="18182" y="7883"/>
                  <a:pt x="18555" y="7821"/>
                  <a:pt x="18678" y="7913"/>
                </a:cubicBezTo>
                <a:cubicBezTo>
                  <a:pt x="18638" y="7983"/>
                  <a:pt x="18582" y="8050"/>
                  <a:pt x="18529" y="8111"/>
                </a:cubicBezTo>
                <a:cubicBezTo>
                  <a:pt x="18491" y="8155"/>
                  <a:pt x="18402" y="8267"/>
                  <a:pt x="18405" y="8334"/>
                </a:cubicBezTo>
                <a:cubicBezTo>
                  <a:pt x="18408" y="8385"/>
                  <a:pt x="18458" y="8421"/>
                  <a:pt x="18504" y="8409"/>
                </a:cubicBezTo>
                <a:cubicBezTo>
                  <a:pt x="18559" y="8394"/>
                  <a:pt x="18614" y="8373"/>
                  <a:pt x="18628" y="8310"/>
                </a:cubicBezTo>
                <a:cubicBezTo>
                  <a:pt x="18643" y="8243"/>
                  <a:pt x="18653" y="8182"/>
                  <a:pt x="18653" y="8111"/>
                </a:cubicBezTo>
                <a:cubicBezTo>
                  <a:pt x="18653" y="8074"/>
                  <a:pt x="18653" y="7891"/>
                  <a:pt x="18653" y="7938"/>
                </a:cubicBezTo>
                <a:cubicBezTo>
                  <a:pt x="18653" y="8047"/>
                  <a:pt x="18658" y="8131"/>
                  <a:pt x="18678" y="8235"/>
                </a:cubicBezTo>
                <a:cubicBezTo>
                  <a:pt x="18689" y="8292"/>
                  <a:pt x="18712" y="8318"/>
                  <a:pt x="18752" y="8359"/>
                </a:cubicBezTo>
                <a:cubicBezTo>
                  <a:pt x="18791" y="8399"/>
                  <a:pt x="18812" y="8389"/>
                  <a:pt x="18852" y="8359"/>
                </a:cubicBezTo>
              </a:path>
              <a:path w="3994" h="1365">
                <a:moveTo>
                  <a:pt x="18976" y="7962"/>
                </a:moveTo>
                <a:cubicBezTo>
                  <a:pt x="19005" y="8072"/>
                  <a:pt x="18990" y="8125"/>
                  <a:pt x="18976" y="8235"/>
                </a:cubicBezTo>
                <a:cubicBezTo>
                  <a:pt x="18968" y="8295"/>
                  <a:pt x="19000" y="8347"/>
                  <a:pt x="19000" y="8409"/>
                </a:cubicBezTo>
                <a:cubicBezTo>
                  <a:pt x="19000" y="8425"/>
                  <a:pt x="19000" y="8442"/>
                  <a:pt x="19000" y="8458"/>
                </a:cubicBezTo>
                <a:cubicBezTo>
                  <a:pt x="19043" y="8444"/>
                  <a:pt x="19047" y="8388"/>
                  <a:pt x="19050" y="8334"/>
                </a:cubicBezTo>
                <a:cubicBezTo>
                  <a:pt x="19055" y="8253"/>
                  <a:pt x="19054" y="8163"/>
                  <a:pt x="19075" y="8086"/>
                </a:cubicBezTo>
                <a:cubicBezTo>
                  <a:pt x="19093" y="8021"/>
                  <a:pt x="19103" y="7941"/>
                  <a:pt x="19149" y="7888"/>
                </a:cubicBezTo>
                <a:cubicBezTo>
                  <a:pt x="19185" y="7847"/>
                  <a:pt x="19233" y="7786"/>
                  <a:pt x="19298" y="7813"/>
                </a:cubicBezTo>
                <a:cubicBezTo>
                  <a:pt x="19357" y="7838"/>
                  <a:pt x="19368" y="7988"/>
                  <a:pt x="19372" y="8037"/>
                </a:cubicBezTo>
                <a:cubicBezTo>
                  <a:pt x="19380" y="8131"/>
                  <a:pt x="19385" y="8222"/>
                  <a:pt x="19397" y="8310"/>
                </a:cubicBezTo>
                <a:cubicBezTo>
                  <a:pt x="19404" y="8363"/>
                  <a:pt x="19414" y="8462"/>
                  <a:pt x="19422" y="8409"/>
                </a:cubicBezTo>
                <a:cubicBezTo>
                  <a:pt x="19422" y="8401"/>
                  <a:pt x="19422" y="8392"/>
                  <a:pt x="19422" y="8384"/>
                </a:cubicBezTo>
              </a:path>
              <a:path w="3994" h="1365">
                <a:moveTo>
                  <a:pt x="19546" y="7293"/>
                </a:moveTo>
                <a:cubicBezTo>
                  <a:pt x="19660" y="7283"/>
                  <a:pt x="19850" y="7240"/>
                  <a:pt x="19968" y="7293"/>
                </a:cubicBezTo>
                <a:cubicBezTo>
                  <a:pt x="19976" y="7301"/>
                  <a:pt x="19985" y="7309"/>
                  <a:pt x="19993" y="7317"/>
                </a:cubicBezTo>
                <a:cubicBezTo>
                  <a:pt x="19978" y="7390"/>
                  <a:pt x="19929" y="7444"/>
                  <a:pt x="19869" y="7491"/>
                </a:cubicBezTo>
                <a:cubicBezTo>
                  <a:pt x="19809" y="7538"/>
                  <a:pt x="19778" y="7573"/>
                  <a:pt x="19720" y="7615"/>
                </a:cubicBezTo>
                <a:cubicBezTo>
                  <a:pt x="19729" y="7676"/>
                  <a:pt x="19749" y="7714"/>
                  <a:pt x="19794" y="7764"/>
                </a:cubicBezTo>
                <a:cubicBezTo>
                  <a:pt x="19824" y="7794"/>
                  <a:pt x="19838" y="7805"/>
                  <a:pt x="19869" y="7813"/>
                </a:cubicBezTo>
              </a:path>
              <a:path w="3994" h="1365">
                <a:moveTo>
                  <a:pt x="19993" y="7938"/>
                </a:moveTo>
                <a:cubicBezTo>
                  <a:pt x="20030" y="8070"/>
                  <a:pt x="20051" y="8107"/>
                  <a:pt x="20166" y="8186"/>
                </a:cubicBezTo>
                <a:cubicBezTo>
                  <a:pt x="20247" y="8242"/>
                  <a:pt x="20341" y="8292"/>
                  <a:pt x="20439" y="8310"/>
                </a:cubicBezTo>
                <a:cubicBezTo>
                  <a:pt x="20490" y="8319"/>
                  <a:pt x="20520" y="8285"/>
                  <a:pt x="20563" y="8260"/>
                </a:cubicBezTo>
              </a:path>
              <a:path w="3994" h="1365">
                <a:moveTo>
                  <a:pt x="20513" y="7888"/>
                </a:moveTo>
                <a:cubicBezTo>
                  <a:pt x="20401" y="7993"/>
                  <a:pt x="20288" y="8092"/>
                  <a:pt x="20166" y="8186"/>
                </a:cubicBezTo>
                <a:cubicBezTo>
                  <a:pt x="20055" y="8272"/>
                  <a:pt x="19950" y="8367"/>
                  <a:pt x="19844" y="8458"/>
                </a:cubicBezTo>
                <a:cubicBezTo>
                  <a:pt x="19782" y="8511"/>
                  <a:pt x="19728" y="8574"/>
                  <a:pt x="19670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919680"/>
            <a:ext cx="946080" cy="420480"/>
          </a:xfrm>
          <a:custGeom>
            <a:avLst/>
            <a:gdLst/>
            <a:ahLst/>
            <a:rect l="l" t="t" r="r" b="b"/>
            <a:pathLst>
              <a:path w="2630" h="1167">
                <a:moveTo>
                  <a:pt x="13122" y="11261"/>
                </a:moveTo>
                <a:cubicBezTo>
                  <a:pt x="13063" y="11273"/>
                  <a:pt x="13004" y="11286"/>
                  <a:pt x="12948" y="11311"/>
                </a:cubicBezTo>
                <a:cubicBezTo>
                  <a:pt x="12883" y="11340"/>
                  <a:pt x="12818" y="11363"/>
                  <a:pt x="12750" y="11385"/>
                </a:cubicBezTo>
                <a:cubicBezTo>
                  <a:pt x="12715" y="11385"/>
                  <a:pt x="12702" y="11394"/>
                  <a:pt x="12700" y="11435"/>
                </a:cubicBezTo>
                <a:cubicBezTo>
                  <a:pt x="12757" y="11505"/>
                  <a:pt x="12794" y="11532"/>
                  <a:pt x="12874" y="11584"/>
                </a:cubicBezTo>
                <a:cubicBezTo>
                  <a:pt x="12981" y="11654"/>
                  <a:pt x="13041" y="11712"/>
                  <a:pt x="13122" y="11807"/>
                </a:cubicBezTo>
                <a:cubicBezTo>
                  <a:pt x="13173" y="11867"/>
                  <a:pt x="13171" y="11844"/>
                  <a:pt x="13171" y="11906"/>
                </a:cubicBezTo>
                <a:cubicBezTo>
                  <a:pt x="13104" y="11946"/>
                  <a:pt x="13068" y="11939"/>
                  <a:pt x="12998" y="11931"/>
                </a:cubicBezTo>
                <a:cubicBezTo>
                  <a:pt x="12922" y="11922"/>
                  <a:pt x="12865" y="11894"/>
                  <a:pt x="12799" y="11857"/>
                </a:cubicBezTo>
                <a:cubicBezTo>
                  <a:pt x="12746" y="11827"/>
                  <a:pt x="12701" y="11806"/>
                  <a:pt x="12725" y="11733"/>
                </a:cubicBezTo>
                <a:cubicBezTo>
                  <a:pt x="12755" y="11673"/>
                  <a:pt x="12769" y="11647"/>
                  <a:pt x="12799" y="11609"/>
                </a:cubicBezTo>
              </a:path>
              <a:path w="2630" h="1167">
                <a:moveTo>
                  <a:pt x="13345" y="11385"/>
                </a:moveTo>
                <a:cubicBezTo>
                  <a:pt x="13418" y="11533"/>
                  <a:pt x="13437" y="11636"/>
                  <a:pt x="13444" y="11807"/>
                </a:cubicBezTo>
                <a:cubicBezTo>
                  <a:pt x="13447" y="11873"/>
                  <a:pt x="13453" y="11935"/>
                  <a:pt x="13444" y="11931"/>
                </a:cubicBezTo>
                <a:cubicBezTo>
                  <a:pt x="13411" y="11931"/>
                  <a:pt x="13402" y="11923"/>
                  <a:pt x="13419" y="11881"/>
                </a:cubicBezTo>
              </a:path>
              <a:path w="2630" h="1167">
                <a:moveTo>
                  <a:pt x="13444" y="11088"/>
                </a:moveTo>
                <a:cubicBezTo>
                  <a:pt x="13484" y="11029"/>
                  <a:pt x="13469" y="11050"/>
                  <a:pt x="13519" y="11013"/>
                </a:cubicBezTo>
                <a:cubicBezTo>
                  <a:pt x="13568" y="11051"/>
                  <a:pt x="13553" y="11029"/>
                  <a:pt x="13593" y="11088"/>
                </a:cubicBezTo>
              </a:path>
              <a:path w="2630" h="1167">
                <a:moveTo>
                  <a:pt x="13717" y="11633"/>
                </a:moveTo>
                <a:cubicBezTo>
                  <a:pt x="13717" y="11707"/>
                  <a:pt x="13685" y="11880"/>
                  <a:pt x="13742" y="11956"/>
                </a:cubicBezTo>
                <a:cubicBezTo>
                  <a:pt x="13742" y="12023"/>
                  <a:pt x="13742" y="11917"/>
                  <a:pt x="13742" y="11906"/>
                </a:cubicBezTo>
                <a:cubicBezTo>
                  <a:pt x="13742" y="11836"/>
                  <a:pt x="13750" y="11774"/>
                  <a:pt x="13767" y="11708"/>
                </a:cubicBezTo>
                <a:cubicBezTo>
                  <a:pt x="13788" y="11625"/>
                  <a:pt x="13802" y="11562"/>
                  <a:pt x="13841" y="11485"/>
                </a:cubicBezTo>
                <a:cubicBezTo>
                  <a:pt x="13866" y="11435"/>
                  <a:pt x="13926" y="11370"/>
                  <a:pt x="13990" y="11385"/>
                </a:cubicBezTo>
                <a:cubicBezTo>
                  <a:pt x="14086" y="11408"/>
                  <a:pt x="14149" y="11490"/>
                  <a:pt x="14163" y="11584"/>
                </a:cubicBezTo>
                <a:cubicBezTo>
                  <a:pt x="14175" y="11663"/>
                  <a:pt x="14208" y="11775"/>
                  <a:pt x="14188" y="11857"/>
                </a:cubicBezTo>
                <a:cubicBezTo>
                  <a:pt x="14183" y="11877"/>
                  <a:pt x="14163" y="12015"/>
                  <a:pt x="14163" y="11956"/>
                </a:cubicBezTo>
                <a:cubicBezTo>
                  <a:pt x="14163" y="11939"/>
                  <a:pt x="14163" y="11923"/>
                  <a:pt x="14163" y="11906"/>
                </a:cubicBezTo>
              </a:path>
              <a:path w="2630" h="1167">
                <a:moveTo>
                  <a:pt x="14263" y="10964"/>
                </a:moveTo>
                <a:cubicBezTo>
                  <a:pt x="14329" y="10926"/>
                  <a:pt x="14442" y="10849"/>
                  <a:pt x="14486" y="10988"/>
                </a:cubicBezTo>
                <a:cubicBezTo>
                  <a:pt x="14511" y="11066"/>
                  <a:pt x="14481" y="11171"/>
                  <a:pt x="14436" y="11237"/>
                </a:cubicBezTo>
                <a:cubicBezTo>
                  <a:pt x="14408" y="11278"/>
                  <a:pt x="14360" y="11331"/>
                  <a:pt x="14312" y="11336"/>
                </a:cubicBezTo>
                <a:cubicBezTo>
                  <a:pt x="14304" y="11336"/>
                  <a:pt x="14296" y="11336"/>
                  <a:pt x="14288" y="11336"/>
                </a:cubicBezTo>
                <a:cubicBezTo>
                  <a:pt x="14298" y="11305"/>
                  <a:pt x="14342" y="11297"/>
                  <a:pt x="14387" y="11311"/>
                </a:cubicBezTo>
                <a:cubicBezTo>
                  <a:pt x="14472" y="11336"/>
                  <a:pt x="14545" y="11394"/>
                  <a:pt x="14635" y="11410"/>
                </a:cubicBezTo>
                <a:cubicBezTo>
                  <a:pt x="14651" y="11410"/>
                  <a:pt x="14668" y="11410"/>
                  <a:pt x="14684" y="11410"/>
                </a:cubicBezTo>
              </a:path>
              <a:path w="2630" h="1167">
                <a:moveTo>
                  <a:pt x="14808" y="11435"/>
                </a:moveTo>
                <a:cubicBezTo>
                  <a:pt x="14817" y="11610"/>
                  <a:pt x="14815" y="11617"/>
                  <a:pt x="14932" y="11733"/>
                </a:cubicBezTo>
                <a:cubicBezTo>
                  <a:pt x="15024" y="11825"/>
                  <a:pt x="15088" y="11878"/>
                  <a:pt x="15205" y="11931"/>
                </a:cubicBezTo>
                <a:cubicBezTo>
                  <a:pt x="15260" y="11959"/>
                  <a:pt x="15283" y="11967"/>
                  <a:pt x="15329" y="11956"/>
                </a:cubicBezTo>
              </a:path>
              <a:path w="2630" h="1167">
                <a:moveTo>
                  <a:pt x="15329" y="11435"/>
                </a:moveTo>
                <a:cubicBezTo>
                  <a:pt x="15193" y="11445"/>
                  <a:pt x="15146" y="11472"/>
                  <a:pt x="15056" y="11584"/>
                </a:cubicBezTo>
                <a:cubicBezTo>
                  <a:pt x="14963" y="11699"/>
                  <a:pt x="14894" y="11856"/>
                  <a:pt x="14784" y="11956"/>
                </a:cubicBezTo>
                <a:cubicBezTo>
                  <a:pt x="14714" y="12001"/>
                  <a:pt x="14694" y="12013"/>
                  <a:pt x="14660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89640" y="4179960"/>
            <a:ext cx="2233440" cy="731880"/>
          </a:xfrm>
          <a:custGeom>
            <a:avLst/>
            <a:gdLst/>
            <a:ahLst/>
            <a:rect l="l" t="t" r="r" b="b"/>
            <a:pathLst>
              <a:path w="6202" h="2035">
                <a:moveTo>
                  <a:pt x="12750" y="12229"/>
                </a:moveTo>
                <a:cubicBezTo>
                  <a:pt x="12959" y="12229"/>
                  <a:pt x="13162" y="12244"/>
                  <a:pt x="13370" y="12254"/>
                </a:cubicBezTo>
                <a:cubicBezTo>
                  <a:pt x="13601" y="12265"/>
                  <a:pt x="13834" y="12254"/>
                  <a:pt x="14064" y="12278"/>
                </a:cubicBezTo>
                <a:cubicBezTo>
                  <a:pt x="14268" y="12299"/>
                  <a:pt x="14454" y="12328"/>
                  <a:pt x="14660" y="12328"/>
                </a:cubicBezTo>
                <a:cubicBezTo>
                  <a:pt x="14725" y="12328"/>
                  <a:pt x="14901" y="12334"/>
                  <a:pt x="14957" y="12278"/>
                </a:cubicBezTo>
                <a:cubicBezTo>
                  <a:pt x="14957" y="12270"/>
                  <a:pt x="14957" y="12262"/>
                  <a:pt x="14957" y="12254"/>
                </a:cubicBezTo>
              </a:path>
              <a:path w="6202" h="2035">
                <a:moveTo>
                  <a:pt x="13816" y="12799"/>
                </a:moveTo>
                <a:cubicBezTo>
                  <a:pt x="13816" y="12845"/>
                  <a:pt x="13831" y="12777"/>
                  <a:pt x="13791" y="12774"/>
                </a:cubicBezTo>
                <a:cubicBezTo>
                  <a:pt x="13703" y="12767"/>
                  <a:pt x="13631" y="12821"/>
                  <a:pt x="13568" y="12874"/>
                </a:cubicBezTo>
                <a:cubicBezTo>
                  <a:pt x="13506" y="12925"/>
                  <a:pt x="13459" y="13018"/>
                  <a:pt x="13444" y="13097"/>
                </a:cubicBezTo>
                <a:cubicBezTo>
                  <a:pt x="13431" y="13162"/>
                  <a:pt x="13446" y="13272"/>
                  <a:pt x="13494" y="13320"/>
                </a:cubicBezTo>
                <a:cubicBezTo>
                  <a:pt x="13547" y="13373"/>
                  <a:pt x="13617" y="13415"/>
                  <a:pt x="13692" y="13419"/>
                </a:cubicBezTo>
                <a:cubicBezTo>
                  <a:pt x="13709" y="13419"/>
                  <a:pt x="13725" y="13419"/>
                  <a:pt x="13742" y="13419"/>
                </a:cubicBezTo>
              </a:path>
              <a:path w="6202" h="2035">
                <a:moveTo>
                  <a:pt x="14015" y="12998"/>
                </a:moveTo>
                <a:cubicBezTo>
                  <a:pt x="13984" y="13082"/>
                  <a:pt x="13965" y="13133"/>
                  <a:pt x="13965" y="13221"/>
                </a:cubicBezTo>
                <a:cubicBezTo>
                  <a:pt x="13965" y="13318"/>
                  <a:pt x="14010" y="13330"/>
                  <a:pt x="14089" y="13370"/>
                </a:cubicBezTo>
                <a:cubicBezTo>
                  <a:pt x="14162" y="13407"/>
                  <a:pt x="14226" y="13436"/>
                  <a:pt x="14312" y="13419"/>
                </a:cubicBezTo>
                <a:cubicBezTo>
                  <a:pt x="14398" y="13402"/>
                  <a:pt x="14423" y="13343"/>
                  <a:pt x="14461" y="13271"/>
                </a:cubicBezTo>
                <a:cubicBezTo>
                  <a:pt x="14505" y="13187"/>
                  <a:pt x="14475" y="13151"/>
                  <a:pt x="14436" y="13072"/>
                </a:cubicBezTo>
                <a:cubicBezTo>
                  <a:pt x="14393" y="12985"/>
                  <a:pt x="14358" y="12937"/>
                  <a:pt x="14263" y="12898"/>
                </a:cubicBezTo>
                <a:cubicBezTo>
                  <a:pt x="14164" y="12857"/>
                  <a:pt x="14046" y="12882"/>
                  <a:pt x="13965" y="12948"/>
                </a:cubicBezTo>
                <a:cubicBezTo>
                  <a:pt x="13928" y="12979"/>
                  <a:pt x="13924" y="13043"/>
                  <a:pt x="13965" y="13072"/>
                </a:cubicBezTo>
                <a:cubicBezTo>
                  <a:pt x="13982" y="13080"/>
                  <a:pt x="13998" y="13089"/>
                  <a:pt x="14015" y="13097"/>
                </a:cubicBezTo>
              </a:path>
              <a:path w="6202" h="2035">
                <a:moveTo>
                  <a:pt x="14610" y="12923"/>
                </a:moveTo>
                <a:cubicBezTo>
                  <a:pt x="14575" y="12982"/>
                  <a:pt x="14580" y="13008"/>
                  <a:pt x="14610" y="13072"/>
                </a:cubicBezTo>
                <a:cubicBezTo>
                  <a:pt x="14651" y="13159"/>
                  <a:pt x="14700" y="13232"/>
                  <a:pt x="14734" y="13320"/>
                </a:cubicBezTo>
                <a:cubicBezTo>
                  <a:pt x="14750" y="13361"/>
                  <a:pt x="14783" y="13472"/>
                  <a:pt x="14759" y="13519"/>
                </a:cubicBezTo>
                <a:cubicBezTo>
                  <a:pt x="14738" y="13559"/>
                  <a:pt x="14652" y="13586"/>
                  <a:pt x="14610" y="13568"/>
                </a:cubicBezTo>
                <a:cubicBezTo>
                  <a:pt x="14554" y="13545"/>
                  <a:pt x="14560" y="13492"/>
                  <a:pt x="14560" y="13444"/>
                </a:cubicBezTo>
                <a:cubicBezTo>
                  <a:pt x="14560" y="13428"/>
                  <a:pt x="14560" y="13411"/>
                  <a:pt x="14560" y="13395"/>
                </a:cubicBezTo>
              </a:path>
              <a:path w="6202" h="2035">
                <a:moveTo>
                  <a:pt x="14858" y="12675"/>
                </a:moveTo>
                <a:cubicBezTo>
                  <a:pt x="14954" y="12653"/>
                  <a:pt x="14999" y="12636"/>
                  <a:pt x="15081" y="12700"/>
                </a:cubicBezTo>
                <a:cubicBezTo>
                  <a:pt x="15147" y="12752"/>
                  <a:pt x="15149" y="12828"/>
                  <a:pt x="15106" y="12898"/>
                </a:cubicBezTo>
                <a:cubicBezTo>
                  <a:pt x="15071" y="12955"/>
                  <a:pt x="15031" y="12979"/>
                  <a:pt x="14982" y="13022"/>
                </a:cubicBezTo>
                <a:cubicBezTo>
                  <a:pt x="14959" y="13045"/>
                  <a:pt x="14951" y="13049"/>
                  <a:pt x="14957" y="13072"/>
                </a:cubicBezTo>
                <a:cubicBezTo>
                  <a:pt x="14990" y="13072"/>
                  <a:pt x="15023" y="13072"/>
                  <a:pt x="15056" y="13072"/>
                </a:cubicBezTo>
              </a:path>
              <a:path w="6202" h="2035">
                <a:moveTo>
                  <a:pt x="15230" y="13097"/>
                </a:moveTo>
                <a:cubicBezTo>
                  <a:pt x="15241" y="13307"/>
                  <a:pt x="15232" y="13266"/>
                  <a:pt x="15379" y="13370"/>
                </a:cubicBezTo>
                <a:cubicBezTo>
                  <a:pt x="15456" y="13425"/>
                  <a:pt x="15527" y="13502"/>
                  <a:pt x="15627" y="13519"/>
                </a:cubicBezTo>
                <a:cubicBezTo>
                  <a:pt x="15652" y="13519"/>
                  <a:pt x="15676" y="13519"/>
                  <a:pt x="15701" y="13519"/>
                </a:cubicBezTo>
              </a:path>
              <a:path w="6202" h="2035">
                <a:moveTo>
                  <a:pt x="15627" y="12973"/>
                </a:moveTo>
                <a:cubicBezTo>
                  <a:pt x="15511" y="13048"/>
                  <a:pt x="15388" y="13131"/>
                  <a:pt x="15304" y="13246"/>
                </a:cubicBezTo>
                <a:cubicBezTo>
                  <a:pt x="15243" y="13330"/>
                  <a:pt x="15202" y="13427"/>
                  <a:pt x="15156" y="13519"/>
                </a:cubicBezTo>
                <a:cubicBezTo>
                  <a:pt x="15127" y="13578"/>
                  <a:pt x="15119" y="13594"/>
                  <a:pt x="15156" y="13643"/>
                </a:cubicBezTo>
              </a:path>
              <a:path w="6202" h="2035">
                <a:moveTo>
                  <a:pt x="16024" y="12427"/>
                </a:moveTo>
                <a:cubicBezTo>
                  <a:pt x="16112" y="12443"/>
                  <a:pt x="16163" y="12452"/>
                  <a:pt x="16247" y="12452"/>
                </a:cubicBezTo>
              </a:path>
              <a:path w="6202" h="2035">
                <a:moveTo>
                  <a:pt x="15999" y="12675"/>
                </a:moveTo>
                <a:cubicBezTo>
                  <a:pt x="16127" y="12701"/>
                  <a:pt x="16218" y="12709"/>
                  <a:pt x="16346" y="12675"/>
                </a:cubicBezTo>
                <a:cubicBezTo>
                  <a:pt x="16371" y="12667"/>
                  <a:pt x="16396" y="12658"/>
                  <a:pt x="16421" y="12650"/>
                </a:cubicBezTo>
              </a:path>
              <a:path w="6202" h="2035">
                <a:moveTo>
                  <a:pt x="16942" y="11708"/>
                </a:moveTo>
                <a:cubicBezTo>
                  <a:pt x="16905" y="11897"/>
                  <a:pt x="16892" y="12040"/>
                  <a:pt x="16892" y="12229"/>
                </a:cubicBezTo>
                <a:cubicBezTo>
                  <a:pt x="16892" y="12358"/>
                  <a:pt x="16940" y="12476"/>
                  <a:pt x="16966" y="12601"/>
                </a:cubicBezTo>
                <a:cubicBezTo>
                  <a:pt x="16976" y="12651"/>
                  <a:pt x="16989" y="12653"/>
                  <a:pt x="16966" y="12675"/>
                </a:cubicBezTo>
              </a:path>
              <a:path w="6202" h="2035">
                <a:moveTo>
                  <a:pt x="16644" y="12254"/>
                </a:moveTo>
                <a:cubicBezTo>
                  <a:pt x="16728" y="12198"/>
                  <a:pt x="16808" y="12182"/>
                  <a:pt x="16917" y="12179"/>
                </a:cubicBezTo>
                <a:cubicBezTo>
                  <a:pt x="17036" y="12175"/>
                  <a:pt x="17149" y="12176"/>
                  <a:pt x="17264" y="12154"/>
                </a:cubicBezTo>
                <a:cubicBezTo>
                  <a:pt x="17338" y="12135"/>
                  <a:pt x="17345" y="12127"/>
                  <a:pt x="17388" y="12129"/>
                </a:cubicBezTo>
                <a:cubicBezTo>
                  <a:pt x="17346" y="12182"/>
                  <a:pt x="17272" y="12222"/>
                  <a:pt x="17239" y="12278"/>
                </a:cubicBezTo>
                <a:cubicBezTo>
                  <a:pt x="17192" y="12358"/>
                  <a:pt x="17165" y="12409"/>
                  <a:pt x="17165" y="12502"/>
                </a:cubicBezTo>
                <a:cubicBezTo>
                  <a:pt x="17165" y="12577"/>
                  <a:pt x="17202" y="12596"/>
                  <a:pt x="17264" y="12601"/>
                </a:cubicBezTo>
                <a:cubicBezTo>
                  <a:pt x="17341" y="12607"/>
                  <a:pt x="17340" y="12562"/>
                  <a:pt x="17388" y="12502"/>
                </a:cubicBezTo>
                <a:cubicBezTo>
                  <a:pt x="17427" y="12453"/>
                  <a:pt x="17413" y="12391"/>
                  <a:pt x="17413" y="12328"/>
                </a:cubicBezTo>
                <a:cubicBezTo>
                  <a:pt x="17413" y="12300"/>
                  <a:pt x="17415" y="12289"/>
                  <a:pt x="17438" y="12278"/>
                </a:cubicBezTo>
                <a:cubicBezTo>
                  <a:pt x="17438" y="12361"/>
                  <a:pt x="17448" y="12432"/>
                  <a:pt x="17462" y="12502"/>
                </a:cubicBezTo>
                <a:cubicBezTo>
                  <a:pt x="17475" y="12571"/>
                  <a:pt x="17467" y="12551"/>
                  <a:pt x="17537" y="12551"/>
                </a:cubicBezTo>
              </a:path>
              <a:path w="6202" h="2035">
                <a:moveTo>
                  <a:pt x="17661" y="12179"/>
                </a:moveTo>
                <a:cubicBezTo>
                  <a:pt x="17673" y="12241"/>
                  <a:pt x="17686" y="12286"/>
                  <a:pt x="17686" y="12353"/>
                </a:cubicBezTo>
                <a:cubicBezTo>
                  <a:pt x="17686" y="12439"/>
                  <a:pt x="17687" y="12505"/>
                  <a:pt x="17711" y="12576"/>
                </a:cubicBezTo>
                <a:cubicBezTo>
                  <a:pt x="17711" y="12584"/>
                  <a:pt x="17711" y="12593"/>
                  <a:pt x="17711" y="12601"/>
                </a:cubicBezTo>
                <a:cubicBezTo>
                  <a:pt x="17737" y="12592"/>
                  <a:pt x="17753" y="12535"/>
                  <a:pt x="17760" y="12502"/>
                </a:cubicBezTo>
                <a:cubicBezTo>
                  <a:pt x="17780" y="12404"/>
                  <a:pt x="17764" y="12300"/>
                  <a:pt x="17785" y="12204"/>
                </a:cubicBezTo>
                <a:cubicBezTo>
                  <a:pt x="17791" y="12177"/>
                  <a:pt x="17818" y="12096"/>
                  <a:pt x="17859" y="12105"/>
                </a:cubicBezTo>
                <a:cubicBezTo>
                  <a:pt x="17920" y="12118"/>
                  <a:pt x="17919" y="12238"/>
                  <a:pt x="17934" y="12278"/>
                </a:cubicBezTo>
                <a:cubicBezTo>
                  <a:pt x="17954" y="12330"/>
                  <a:pt x="17989" y="12448"/>
                  <a:pt x="18033" y="12477"/>
                </a:cubicBezTo>
                <a:cubicBezTo>
                  <a:pt x="18058" y="12477"/>
                  <a:pt x="18066" y="12477"/>
                  <a:pt x="18083" y="12477"/>
                </a:cubicBezTo>
              </a:path>
              <a:path w="6202" h="2035">
                <a:moveTo>
                  <a:pt x="18033" y="11633"/>
                </a:moveTo>
                <a:cubicBezTo>
                  <a:pt x="18126" y="11611"/>
                  <a:pt x="18192" y="11594"/>
                  <a:pt x="18281" y="11633"/>
                </a:cubicBezTo>
                <a:cubicBezTo>
                  <a:pt x="18325" y="11655"/>
                  <a:pt x="18336" y="11658"/>
                  <a:pt x="18355" y="11683"/>
                </a:cubicBezTo>
                <a:cubicBezTo>
                  <a:pt x="18307" y="11745"/>
                  <a:pt x="18278" y="11792"/>
                  <a:pt x="18207" y="11832"/>
                </a:cubicBezTo>
                <a:cubicBezTo>
                  <a:pt x="18162" y="11857"/>
                  <a:pt x="18084" y="11888"/>
                  <a:pt x="18107" y="11956"/>
                </a:cubicBezTo>
                <a:cubicBezTo>
                  <a:pt x="18121" y="11997"/>
                  <a:pt x="18220" y="12049"/>
                  <a:pt x="18256" y="12055"/>
                </a:cubicBezTo>
                <a:cubicBezTo>
                  <a:pt x="18281" y="12055"/>
                  <a:pt x="18306" y="12055"/>
                  <a:pt x="18331" y="12055"/>
                </a:cubicBezTo>
              </a:path>
              <a:path w="6202" h="2035">
                <a:moveTo>
                  <a:pt x="18529" y="12204"/>
                </a:moveTo>
                <a:cubicBezTo>
                  <a:pt x="18655" y="12414"/>
                  <a:pt x="18726" y="12491"/>
                  <a:pt x="18901" y="12650"/>
                </a:cubicBezTo>
              </a:path>
              <a:path w="6202" h="2035">
                <a:moveTo>
                  <a:pt x="18951" y="12154"/>
                </a:moveTo>
                <a:cubicBezTo>
                  <a:pt x="18789" y="12316"/>
                  <a:pt x="18618" y="12468"/>
                  <a:pt x="18479" y="12650"/>
                </a:cubicBezTo>
                <a:cubicBezTo>
                  <a:pt x="18409" y="12745"/>
                  <a:pt x="18389" y="12773"/>
                  <a:pt x="18331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3040" y="5249880"/>
            <a:ext cx="2027160" cy="644400"/>
          </a:xfrm>
          <a:custGeom>
            <a:avLst/>
            <a:gdLst/>
            <a:ahLst/>
            <a:rect l="l" t="t" r="r" b="b"/>
            <a:pathLst>
              <a:path w="5632" h="1787">
                <a:moveTo>
                  <a:pt x="14635" y="14585"/>
                </a:moveTo>
                <a:cubicBezTo>
                  <a:pt x="14666" y="14726"/>
                  <a:pt x="14684" y="14838"/>
                  <a:pt x="14684" y="14982"/>
                </a:cubicBezTo>
                <a:cubicBezTo>
                  <a:pt x="14684" y="15124"/>
                  <a:pt x="14709" y="15260"/>
                  <a:pt x="14709" y="15404"/>
                </a:cubicBezTo>
                <a:cubicBezTo>
                  <a:pt x="14709" y="15511"/>
                  <a:pt x="14709" y="15619"/>
                  <a:pt x="14709" y="15726"/>
                </a:cubicBezTo>
              </a:path>
              <a:path w="5632" h="1787">
                <a:moveTo>
                  <a:pt x="14312" y="15205"/>
                </a:moveTo>
                <a:cubicBezTo>
                  <a:pt x="14403" y="15133"/>
                  <a:pt x="14423" y="15170"/>
                  <a:pt x="14536" y="15180"/>
                </a:cubicBezTo>
                <a:cubicBezTo>
                  <a:pt x="14686" y="15193"/>
                  <a:pt x="14832" y="15209"/>
                  <a:pt x="14982" y="15230"/>
                </a:cubicBezTo>
              </a:path>
              <a:path w="5632" h="1787">
                <a:moveTo>
                  <a:pt x="15205" y="15230"/>
                </a:moveTo>
                <a:cubicBezTo>
                  <a:pt x="15148" y="15244"/>
                  <a:pt x="15124" y="15308"/>
                  <a:pt x="15081" y="15354"/>
                </a:cubicBezTo>
                <a:cubicBezTo>
                  <a:pt x="15012" y="15428"/>
                  <a:pt x="14987" y="15503"/>
                  <a:pt x="14982" y="15602"/>
                </a:cubicBezTo>
                <a:cubicBezTo>
                  <a:pt x="14979" y="15675"/>
                  <a:pt x="15038" y="15749"/>
                  <a:pt x="15106" y="15776"/>
                </a:cubicBezTo>
                <a:cubicBezTo>
                  <a:pt x="15176" y="15803"/>
                  <a:pt x="15238" y="15738"/>
                  <a:pt x="15255" y="15677"/>
                </a:cubicBezTo>
                <a:cubicBezTo>
                  <a:pt x="15280" y="15589"/>
                  <a:pt x="15269" y="15535"/>
                  <a:pt x="15255" y="15453"/>
                </a:cubicBezTo>
                <a:cubicBezTo>
                  <a:pt x="15245" y="15395"/>
                  <a:pt x="15259" y="15378"/>
                  <a:pt x="15230" y="15329"/>
                </a:cubicBezTo>
                <a:cubicBezTo>
                  <a:pt x="15230" y="15405"/>
                  <a:pt x="15246" y="15460"/>
                  <a:pt x="15255" y="15528"/>
                </a:cubicBezTo>
                <a:cubicBezTo>
                  <a:pt x="15269" y="15632"/>
                  <a:pt x="15302" y="15662"/>
                  <a:pt x="15379" y="15726"/>
                </a:cubicBezTo>
                <a:cubicBezTo>
                  <a:pt x="15402" y="15749"/>
                  <a:pt x="15406" y="15757"/>
                  <a:pt x="15429" y="15751"/>
                </a:cubicBezTo>
              </a:path>
              <a:path w="5632" h="1787">
                <a:moveTo>
                  <a:pt x="15453" y="15379"/>
                </a:moveTo>
                <a:cubicBezTo>
                  <a:pt x="15507" y="15352"/>
                  <a:pt x="15519" y="15405"/>
                  <a:pt x="15528" y="15478"/>
                </a:cubicBezTo>
                <a:cubicBezTo>
                  <a:pt x="15540" y="15579"/>
                  <a:pt x="15529" y="15678"/>
                  <a:pt x="15553" y="15776"/>
                </a:cubicBezTo>
                <a:cubicBezTo>
                  <a:pt x="15567" y="15835"/>
                  <a:pt x="15575" y="15879"/>
                  <a:pt x="15602" y="15925"/>
                </a:cubicBezTo>
                <a:cubicBezTo>
                  <a:pt x="15602" y="15852"/>
                  <a:pt x="15623" y="15800"/>
                  <a:pt x="15627" y="15726"/>
                </a:cubicBezTo>
                <a:cubicBezTo>
                  <a:pt x="15631" y="15638"/>
                  <a:pt x="15639" y="15560"/>
                  <a:pt x="15652" y="15478"/>
                </a:cubicBezTo>
                <a:cubicBezTo>
                  <a:pt x="15661" y="15424"/>
                  <a:pt x="15657" y="15359"/>
                  <a:pt x="15726" y="15354"/>
                </a:cubicBezTo>
                <a:cubicBezTo>
                  <a:pt x="15826" y="15347"/>
                  <a:pt x="15840" y="15388"/>
                  <a:pt x="15875" y="15478"/>
                </a:cubicBezTo>
                <a:cubicBezTo>
                  <a:pt x="15901" y="15545"/>
                  <a:pt x="15979" y="15695"/>
                  <a:pt x="15999" y="15776"/>
                </a:cubicBezTo>
              </a:path>
              <a:path w="5632" h="1787">
                <a:moveTo>
                  <a:pt x="15875" y="14734"/>
                </a:moveTo>
                <a:cubicBezTo>
                  <a:pt x="16001" y="14718"/>
                  <a:pt x="16019" y="14714"/>
                  <a:pt x="16123" y="14784"/>
                </a:cubicBezTo>
                <a:cubicBezTo>
                  <a:pt x="16171" y="14817"/>
                  <a:pt x="16153" y="14874"/>
                  <a:pt x="16123" y="14908"/>
                </a:cubicBezTo>
                <a:cubicBezTo>
                  <a:pt x="16090" y="14944"/>
                  <a:pt x="16110" y="14945"/>
                  <a:pt x="16073" y="14957"/>
                </a:cubicBezTo>
                <a:cubicBezTo>
                  <a:pt x="16095" y="14987"/>
                  <a:pt x="16108" y="15023"/>
                  <a:pt x="16148" y="15032"/>
                </a:cubicBezTo>
                <a:cubicBezTo>
                  <a:pt x="16197" y="15032"/>
                  <a:pt x="16214" y="15032"/>
                  <a:pt x="16247" y="15032"/>
                </a:cubicBezTo>
              </a:path>
              <a:path w="5632" h="1787">
                <a:moveTo>
                  <a:pt x="16421" y="15379"/>
                </a:moveTo>
                <a:cubicBezTo>
                  <a:pt x="16489" y="15594"/>
                  <a:pt x="16560" y="15732"/>
                  <a:pt x="16718" y="15900"/>
                </a:cubicBezTo>
                <a:cubicBezTo>
                  <a:pt x="16791" y="15977"/>
                  <a:pt x="16825" y="16007"/>
                  <a:pt x="16917" y="16049"/>
                </a:cubicBezTo>
              </a:path>
              <a:path w="5632" h="1787">
                <a:moveTo>
                  <a:pt x="16793" y="15354"/>
                </a:moveTo>
                <a:cubicBezTo>
                  <a:pt x="16664" y="15461"/>
                  <a:pt x="16558" y="15541"/>
                  <a:pt x="16470" y="15677"/>
                </a:cubicBezTo>
                <a:cubicBezTo>
                  <a:pt x="16418" y="15757"/>
                  <a:pt x="16322" y="15830"/>
                  <a:pt x="16297" y="15925"/>
                </a:cubicBezTo>
                <a:cubicBezTo>
                  <a:pt x="16285" y="15973"/>
                  <a:pt x="16297" y="15991"/>
                  <a:pt x="16321" y="16024"/>
                </a:cubicBezTo>
              </a:path>
              <a:path w="5632" h="1787">
                <a:moveTo>
                  <a:pt x="16966" y="15429"/>
                </a:moveTo>
                <a:cubicBezTo>
                  <a:pt x="17055" y="15443"/>
                  <a:pt x="17133" y="15451"/>
                  <a:pt x="17214" y="15478"/>
                </a:cubicBezTo>
              </a:path>
              <a:path w="5632" h="1787">
                <a:moveTo>
                  <a:pt x="16991" y="15726"/>
                </a:moveTo>
                <a:cubicBezTo>
                  <a:pt x="17199" y="15726"/>
                  <a:pt x="17228" y="15747"/>
                  <a:pt x="17338" y="15701"/>
                </a:cubicBezTo>
              </a:path>
              <a:path w="5632" h="1787">
                <a:moveTo>
                  <a:pt x="17686" y="15007"/>
                </a:moveTo>
                <a:cubicBezTo>
                  <a:pt x="17640" y="15183"/>
                  <a:pt x="17611" y="15301"/>
                  <a:pt x="17611" y="15478"/>
                </a:cubicBezTo>
                <a:cubicBezTo>
                  <a:pt x="17611" y="15607"/>
                  <a:pt x="17606" y="15751"/>
                  <a:pt x="17636" y="15875"/>
                </a:cubicBezTo>
                <a:cubicBezTo>
                  <a:pt x="17647" y="15920"/>
                  <a:pt x="17681" y="15989"/>
                  <a:pt x="17711" y="15999"/>
                </a:cubicBezTo>
              </a:path>
              <a:path w="5632" h="1787">
                <a:moveTo>
                  <a:pt x="17413" y="15379"/>
                </a:moveTo>
                <a:cubicBezTo>
                  <a:pt x="17558" y="15413"/>
                  <a:pt x="17734" y="15482"/>
                  <a:pt x="17884" y="15503"/>
                </a:cubicBezTo>
                <a:cubicBezTo>
                  <a:pt x="17953" y="15513"/>
                  <a:pt x="18016" y="15488"/>
                  <a:pt x="18083" y="15478"/>
                </a:cubicBezTo>
                <a:cubicBezTo>
                  <a:pt x="18028" y="15489"/>
                  <a:pt x="17946" y="15534"/>
                  <a:pt x="17909" y="15577"/>
                </a:cubicBezTo>
                <a:cubicBezTo>
                  <a:pt x="17861" y="15633"/>
                  <a:pt x="17842" y="15754"/>
                  <a:pt x="17859" y="15825"/>
                </a:cubicBezTo>
                <a:cubicBezTo>
                  <a:pt x="17874" y="15887"/>
                  <a:pt x="17945" y="15982"/>
                  <a:pt x="18008" y="15999"/>
                </a:cubicBezTo>
                <a:cubicBezTo>
                  <a:pt x="18100" y="16024"/>
                  <a:pt x="18080" y="15969"/>
                  <a:pt x="18132" y="15925"/>
                </a:cubicBezTo>
                <a:cubicBezTo>
                  <a:pt x="18178" y="15886"/>
                  <a:pt x="18220" y="15802"/>
                  <a:pt x="18207" y="15726"/>
                </a:cubicBezTo>
                <a:cubicBezTo>
                  <a:pt x="18188" y="15669"/>
                  <a:pt x="18197" y="15644"/>
                  <a:pt x="18157" y="15652"/>
                </a:cubicBezTo>
                <a:cubicBezTo>
                  <a:pt x="18157" y="15719"/>
                  <a:pt x="18154" y="15763"/>
                  <a:pt x="18182" y="15825"/>
                </a:cubicBezTo>
                <a:cubicBezTo>
                  <a:pt x="18209" y="15885"/>
                  <a:pt x="18235" y="15965"/>
                  <a:pt x="18306" y="15974"/>
                </a:cubicBezTo>
                <a:cubicBezTo>
                  <a:pt x="18350" y="15974"/>
                  <a:pt x="18364" y="15977"/>
                  <a:pt x="18380" y="15949"/>
                </a:cubicBezTo>
              </a:path>
              <a:path w="5632" h="1787">
                <a:moveTo>
                  <a:pt x="18455" y="15553"/>
                </a:moveTo>
                <a:cubicBezTo>
                  <a:pt x="18426" y="15630"/>
                  <a:pt x="18430" y="15691"/>
                  <a:pt x="18430" y="15776"/>
                </a:cubicBezTo>
                <a:cubicBezTo>
                  <a:pt x="18430" y="15845"/>
                  <a:pt x="18465" y="15892"/>
                  <a:pt x="18479" y="15949"/>
                </a:cubicBezTo>
                <a:cubicBezTo>
                  <a:pt x="18518" y="15923"/>
                  <a:pt x="18526" y="15865"/>
                  <a:pt x="18529" y="15801"/>
                </a:cubicBezTo>
                <a:cubicBezTo>
                  <a:pt x="18532" y="15738"/>
                  <a:pt x="18495" y="15589"/>
                  <a:pt x="18554" y="15553"/>
                </a:cubicBezTo>
                <a:cubicBezTo>
                  <a:pt x="18562" y="15553"/>
                  <a:pt x="18571" y="15553"/>
                  <a:pt x="18579" y="15553"/>
                </a:cubicBezTo>
                <a:cubicBezTo>
                  <a:pt x="18667" y="15578"/>
                  <a:pt x="18693" y="15656"/>
                  <a:pt x="18728" y="15751"/>
                </a:cubicBezTo>
                <a:cubicBezTo>
                  <a:pt x="18767" y="15857"/>
                  <a:pt x="18784" y="15969"/>
                  <a:pt x="18827" y="16073"/>
                </a:cubicBezTo>
                <a:cubicBezTo>
                  <a:pt x="18867" y="16170"/>
                  <a:pt x="18873" y="16113"/>
                  <a:pt x="18901" y="16049"/>
                </a:cubicBezTo>
              </a:path>
              <a:path w="5632" h="1787">
                <a:moveTo>
                  <a:pt x="18901" y="15056"/>
                </a:moveTo>
                <a:cubicBezTo>
                  <a:pt x="19004" y="15046"/>
                  <a:pt x="19089" y="15081"/>
                  <a:pt x="19174" y="15156"/>
                </a:cubicBezTo>
                <a:cubicBezTo>
                  <a:pt x="19214" y="15191"/>
                  <a:pt x="19267" y="15252"/>
                  <a:pt x="19273" y="15304"/>
                </a:cubicBezTo>
                <a:cubicBezTo>
                  <a:pt x="19278" y="15345"/>
                  <a:pt x="19211" y="15406"/>
                  <a:pt x="19199" y="15453"/>
                </a:cubicBezTo>
                <a:cubicBezTo>
                  <a:pt x="19186" y="15506"/>
                  <a:pt x="19244" y="15570"/>
                  <a:pt x="19273" y="15602"/>
                </a:cubicBezTo>
                <a:cubicBezTo>
                  <a:pt x="19319" y="15652"/>
                  <a:pt x="19337" y="15662"/>
                  <a:pt x="19397" y="15677"/>
                </a:cubicBezTo>
              </a:path>
              <a:path w="5632" h="1787">
                <a:moveTo>
                  <a:pt x="19521" y="15627"/>
                </a:moveTo>
                <a:cubicBezTo>
                  <a:pt x="19567" y="15798"/>
                  <a:pt x="19617" y="15943"/>
                  <a:pt x="19695" y="16098"/>
                </a:cubicBezTo>
                <a:cubicBezTo>
                  <a:pt x="19754" y="16187"/>
                  <a:pt x="19783" y="16224"/>
                  <a:pt x="19844" y="16272"/>
                </a:cubicBezTo>
              </a:path>
              <a:path w="5632" h="1787">
                <a:moveTo>
                  <a:pt x="19943" y="15726"/>
                </a:moveTo>
                <a:cubicBezTo>
                  <a:pt x="19812" y="15795"/>
                  <a:pt x="19640" y="15879"/>
                  <a:pt x="19546" y="15999"/>
                </a:cubicBezTo>
                <a:cubicBezTo>
                  <a:pt x="19456" y="16113"/>
                  <a:pt x="19370" y="16243"/>
                  <a:pt x="19298" y="163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33680"/>
            <a:ext cx="6973920" cy="546120"/>
          </a:xfrm>
          <a:custGeom>
            <a:avLst/>
            <a:gdLst/>
            <a:ahLst/>
            <a:rect l="l" t="t" r="r" b="b"/>
            <a:pathLst>
              <a:path w="19373" h="1514">
                <a:moveTo>
                  <a:pt x="3746" y="4887"/>
                </a:moveTo>
                <a:cubicBezTo>
                  <a:pt x="3734" y="4839"/>
                  <a:pt x="3723" y="4806"/>
                  <a:pt x="3671" y="4787"/>
                </a:cubicBezTo>
                <a:cubicBezTo>
                  <a:pt x="3627" y="4771"/>
                  <a:pt x="3577" y="4746"/>
                  <a:pt x="3522" y="4762"/>
                </a:cubicBezTo>
                <a:cubicBezTo>
                  <a:pt x="3446" y="4783"/>
                  <a:pt x="3386" y="4810"/>
                  <a:pt x="3324" y="4862"/>
                </a:cubicBezTo>
                <a:cubicBezTo>
                  <a:pt x="3243" y="4929"/>
                  <a:pt x="3181" y="5036"/>
                  <a:pt x="3150" y="5135"/>
                </a:cubicBezTo>
                <a:cubicBezTo>
                  <a:pt x="3115" y="5247"/>
                  <a:pt x="3078" y="5388"/>
                  <a:pt x="3101" y="5507"/>
                </a:cubicBezTo>
                <a:cubicBezTo>
                  <a:pt x="3117" y="5588"/>
                  <a:pt x="3157" y="5665"/>
                  <a:pt x="3225" y="5705"/>
                </a:cubicBezTo>
                <a:cubicBezTo>
                  <a:pt x="3302" y="5751"/>
                  <a:pt x="3394" y="5737"/>
                  <a:pt x="3473" y="5705"/>
                </a:cubicBezTo>
                <a:cubicBezTo>
                  <a:pt x="3536" y="5679"/>
                  <a:pt x="3604" y="5651"/>
                  <a:pt x="3671" y="5631"/>
                </a:cubicBezTo>
                <a:cubicBezTo>
                  <a:pt x="3679" y="5631"/>
                  <a:pt x="3688" y="5631"/>
                  <a:pt x="3696" y="5631"/>
                </a:cubicBezTo>
              </a:path>
              <a:path w="19373" h="1514">
                <a:moveTo>
                  <a:pt x="4291" y="5011"/>
                </a:moveTo>
                <a:cubicBezTo>
                  <a:pt x="4242" y="4953"/>
                  <a:pt x="4242" y="4930"/>
                  <a:pt x="4167" y="4911"/>
                </a:cubicBezTo>
                <a:cubicBezTo>
                  <a:pt x="4104" y="4895"/>
                  <a:pt x="4050" y="4922"/>
                  <a:pt x="3994" y="4936"/>
                </a:cubicBezTo>
                <a:cubicBezTo>
                  <a:pt x="3928" y="4953"/>
                  <a:pt x="3895" y="4991"/>
                  <a:pt x="3845" y="5035"/>
                </a:cubicBezTo>
                <a:cubicBezTo>
                  <a:pt x="3776" y="5096"/>
                  <a:pt x="3737" y="5193"/>
                  <a:pt x="3721" y="5283"/>
                </a:cubicBezTo>
                <a:cubicBezTo>
                  <a:pt x="3707" y="5361"/>
                  <a:pt x="3700" y="5538"/>
                  <a:pt x="3746" y="5606"/>
                </a:cubicBezTo>
                <a:cubicBezTo>
                  <a:pt x="3787" y="5666"/>
                  <a:pt x="3842" y="5738"/>
                  <a:pt x="3919" y="5755"/>
                </a:cubicBezTo>
                <a:cubicBezTo>
                  <a:pt x="4014" y="5776"/>
                  <a:pt x="4137" y="5768"/>
                  <a:pt x="4217" y="5705"/>
                </a:cubicBezTo>
                <a:cubicBezTo>
                  <a:pt x="4286" y="5651"/>
                  <a:pt x="4347" y="5609"/>
                  <a:pt x="4390" y="5531"/>
                </a:cubicBezTo>
                <a:cubicBezTo>
                  <a:pt x="4434" y="5452"/>
                  <a:pt x="4461" y="5397"/>
                  <a:pt x="4465" y="5308"/>
                </a:cubicBezTo>
                <a:cubicBezTo>
                  <a:pt x="4469" y="5226"/>
                  <a:pt x="4452" y="5183"/>
                  <a:pt x="4415" y="5110"/>
                </a:cubicBezTo>
                <a:cubicBezTo>
                  <a:pt x="4389" y="5059"/>
                  <a:pt x="4337" y="5009"/>
                  <a:pt x="4316" y="4961"/>
                </a:cubicBezTo>
                <a:cubicBezTo>
                  <a:pt x="4296" y="4916"/>
                  <a:pt x="4298" y="4911"/>
                  <a:pt x="4242" y="4911"/>
                </a:cubicBezTo>
              </a:path>
              <a:path w="19373" h="1514">
                <a:moveTo>
                  <a:pt x="5085" y="4887"/>
                </a:moveTo>
                <a:cubicBezTo>
                  <a:pt x="5037" y="4873"/>
                  <a:pt x="4964" y="4844"/>
                  <a:pt x="4911" y="4862"/>
                </a:cubicBezTo>
                <a:cubicBezTo>
                  <a:pt x="4848" y="4883"/>
                  <a:pt x="4789" y="4888"/>
                  <a:pt x="4738" y="4936"/>
                </a:cubicBezTo>
                <a:cubicBezTo>
                  <a:pt x="4688" y="4983"/>
                  <a:pt x="4615" y="5019"/>
                  <a:pt x="4589" y="5085"/>
                </a:cubicBezTo>
                <a:cubicBezTo>
                  <a:pt x="4565" y="5145"/>
                  <a:pt x="4619" y="5206"/>
                  <a:pt x="4663" y="5234"/>
                </a:cubicBezTo>
                <a:cubicBezTo>
                  <a:pt x="4773" y="5305"/>
                  <a:pt x="4866" y="5345"/>
                  <a:pt x="4961" y="5432"/>
                </a:cubicBezTo>
                <a:cubicBezTo>
                  <a:pt x="5000" y="5468"/>
                  <a:pt x="5032" y="5528"/>
                  <a:pt x="5035" y="5581"/>
                </a:cubicBezTo>
                <a:cubicBezTo>
                  <a:pt x="5039" y="5643"/>
                  <a:pt x="5000" y="5708"/>
                  <a:pt x="4961" y="5755"/>
                </a:cubicBezTo>
                <a:cubicBezTo>
                  <a:pt x="4906" y="5821"/>
                  <a:pt x="4866" y="5829"/>
                  <a:pt x="4787" y="5829"/>
                </a:cubicBezTo>
                <a:cubicBezTo>
                  <a:pt x="4704" y="5829"/>
                  <a:pt x="4682" y="5809"/>
                  <a:pt x="4638" y="5755"/>
                </a:cubicBezTo>
                <a:cubicBezTo>
                  <a:pt x="4591" y="5697"/>
                  <a:pt x="4589" y="5686"/>
                  <a:pt x="4589" y="5606"/>
                </a:cubicBezTo>
                <a:cubicBezTo>
                  <a:pt x="4589" y="5598"/>
                  <a:pt x="4589" y="5589"/>
                  <a:pt x="4589" y="5581"/>
                </a:cubicBezTo>
              </a:path>
              <a:path w="19373" h="1514">
                <a:moveTo>
                  <a:pt x="5259" y="4738"/>
                </a:moveTo>
                <a:cubicBezTo>
                  <a:pt x="5218" y="4738"/>
                  <a:pt x="5292" y="4738"/>
                  <a:pt x="5333" y="4738"/>
                </a:cubicBezTo>
                <a:cubicBezTo>
                  <a:pt x="5402" y="4738"/>
                  <a:pt x="5469" y="4752"/>
                  <a:pt x="5531" y="4787"/>
                </a:cubicBezTo>
                <a:cubicBezTo>
                  <a:pt x="5577" y="4813"/>
                  <a:pt x="5581" y="4866"/>
                  <a:pt x="5581" y="4911"/>
                </a:cubicBezTo>
                <a:cubicBezTo>
                  <a:pt x="5581" y="4935"/>
                  <a:pt x="5525" y="5021"/>
                  <a:pt x="5507" y="5035"/>
                </a:cubicBezTo>
                <a:cubicBezTo>
                  <a:pt x="5478" y="5058"/>
                  <a:pt x="5370" y="5060"/>
                  <a:pt x="5407" y="5060"/>
                </a:cubicBezTo>
                <a:cubicBezTo>
                  <a:pt x="5449" y="5060"/>
                  <a:pt x="5479" y="5035"/>
                  <a:pt x="5531" y="5035"/>
                </a:cubicBezTo>
                <a:cubicBezTo>
                  <a:pt x="5586" y="5035"/>
                  <a:pt x="5631" y="5040"/>
                  <a:pt x="5680" y="5060"/>
                </a:cubicBezTo>
                <a:cubicBezTo>
                  <a:pt x="5752" y="5089"/>
                  <a:pt x="5750" y="5159"/>
                  <a:pt x="5755" y="5234"/>
                </a:cubicBezTo>
                <a:cubicBezTo>
                  <a:pt x="5760" y="5306"/>
                  <a:pt x="5721" y="5322"/>
                  <a:pt x="5680" y="5358"/>
                </a:cubicBezTo>
                <a:cubicBezTo>
                  <a:pt x="5639" y="5394"/>
                  <a:pt x="5566" y="5471"/>
                  <a:pt x="5507" y="5482"/>
                </a:cubicBezTo>
                <a:cubicBezTo>
                  <a:pt x="5463" y="5490"/>
                  <a:pt x="5288" y="5500"/>
                  <a:pt x="5283" y="5457"/>
                </a:cubicBezTo>
                <a:cubicBezTo>
                  <a:pt x="5283" y="5432"/>
                  <a:pt x="5283" y="5424"/>
                  <a:pt x="5283" y="5407"/>
                </a:cubicBezTo>
              </a:path>
              <a:path w="19373" h="1514">
                <a:moveTo>
                  <a:pt x="5928" y="4986"/>
                </a:moveTo>
                <a:cubicBezTo>
                  <a:pt x="5928" y="5045"/>
                  <a:pt x="5955" y="5054"/>
                  <a:pt x="5978" y="5110"/>
                </a:cubicBezTo>
                <a:cubicBezTo>
                  <a:pt x="6019" y="5209"/>
                  <a:pt x="6048" y="5290"/>
                  <a:pt x="6102" y="5383"/>
                </a:cubicBezTo>
                <a:cubicBezTo>
                  <a:pt x="6144" y="5456"/>
                  <a:pt x="6209" y="5511"/>
                  <a:pt x="6251" y="5581"/>
                </a:cubicBezTo>
                <a:cubicBezTo>
                  <a:pt x="6274" y="5619"/>
                  <a:pt x="6354" y="5710"/>
                  <a:pt x="6375" y="5755"/>
                </a:cubicBezTo>
                <a:cubicBezTo>
                  <a:pt x="6397" y="5802"/>
                  <a:pt x="6400" y="5771"/>
                  <a:pt x="6400" y="5730"/>
                </a:cubicBezTo>
              </a:path>
              <a:path w="19373" h="1514">
                <a:moveTo>
                  <a:pt x="6350" y="4936"/>
                </a:moveTo>
                <a:cubicBezTo>
                  <a:pt x="6340" y="5016"/>
                  <a:pt x="6303" y="5081"/>
                  <a:pt x="6276" y="5159"/>
                </a:cubicBezTo>
                <a:cubicBezTo>
                  <a:pt x="6240" y="5264"/>
                  <a:pt x="6202" y="5357"/>
                  <a:pt x="6152" y="5457"/>
                </a:cubicBezTo>
                <a:cubicBezTo>
                  <a:pt x="6108" y="5546"/>
                  <a:pt x="6054" y="5624"/>
                  <a:pt x="6003" y="5705"/>
                </a:cubicBezTo>
                <a:cubicBezTo>
                  <a:pt x="5973" y="5753"/>
                  <a:pt x="5924" y="5828"/>
                  <a:pt x="5904" y="5879"/>
                </a:cubicBezTo>
                <a:cubicBezTo>
                  <a:pt x="5884" y="5931"/>
                  <a:pt x="5879" y="5894"/>
                  <a:pt x="5879" y="5854"/>
                </a:cubicBezTo>
              </a:path>
              <a:path w="19373" h="1514">
                <a:moveTo>
                  <a:pt x="7119" y="5159"/>
                </a:moveTo>
                <a:cubicBezTo>
                  <a:pt x="7139" y="5089"/>
                  <a:pt x="7137" y="5092"/>
                  <a:pt x="7094" y="5060"/>
                </a:cubicBezTo>
                <a:cubicBezTo>
                  <a:pt x="7020" y="5005"/>
                  <a:pt x="6961" y="5028"/>
                  <a:pt x="6871" y="5035"/>
                </a:cubicBezTo>
                <a:cubicBezTo>
                  <a:pt x="6795" y="5041"/>
                  <a:pt x="6740" y="5075"/>
                  <a:pt x="6672" y="5110"/>
                </a:cubicBezTo>
                <a:cubicBezTo>
                  <a:pt x="6606" y="5143"/>
                  <a:pt x="6579" y="5190"/>
                  <a:pt x="6573" y="5259"/>
                </a:cubicBezTo>
                <a:cubicBezTo>
                  <a:pt x="6567" y="5333"/>
                  <a:pt x="6600" y="5340"/>
                  <a:pt x="6648" y="5383"/>
                </a:cubicBezTo>
                <a:cubicBezTo>
                  <a:pt x="6724" y="5450"/>
                  <a:pt x="6807" y="5483"/>
                  <a:pt x="6896" y="5531"/>
                </a:cubicBezTo>
                <a:cubicBezTo>
                  <a:pt x="6958" y="5565"/>
                  <a:pt x="7049" y="5603"/>
                  <a:pt x="7094" y="5655"/>
                </a:cubicBezTo>
                <a:cubicBezTo>
                  <a:pt x="7116" y="5681"/>
                  <a:pt x="7158" y="5741"/>
                  <a:pt x="7144" y="5779"/>
                </a:cubicBezTo>
                <a:cubicBezTo>
                  <a:pt x="7118" y="5850"/>
                  <a:pt x="7064" y="5867"/>
                  <a:pt x="6995" y="5879"/>
                </a:cubicBezTo>
                <a:cubicBezTo>
                  <a:pt x="6903" y="5894"/>
                  <a:pt x="6837" y="5889"/>
                  <a:pt x="6747" y="5879"/>
                </a:cubicBezTo>
                <a:cubicBezTo>
                  <a:pt x="6688" y="5873"/>
                  <a:pt x="6674" y="5833"/>
                  <a:pt x="6672" y="5779"/>
                </a:cubicBezTo>
                <a:cubicBezTo>
                  <a:pt x="6672" y="5754"/>
                  <a:pt x="6672" y="5730"/>
                  <a:pt x="6672" y="5705"/>
                </a:cubicBezTo>
              </a:path>
              <a:path w="19373" h="1514">
                <a:moveTo>
                  <a:pt x="7392" y="5135"/>
                </a:moveTo>
                <a:cubicBezTo>
                  <a:pt x="7392" y="5266"/>
                  <a:pt x="7400" y="5381"/>
                  <a:pt x="7417" y="5507"/>
                </a:cubicBezTo>
                <a:cubicBezTo>
                  <a:pt x="7428" y="5585"/>
                  <a:pt x="7449" y="5656"/>
                  <a:pt x="7466" y="5730"/>
                </a:cubicBezTo>
                <a:cubicBezTo>
                  <a:pt x="7474" y="5766"/>
                  <a:pt x="7491" y="5866"/>
                  <a:pt x="7491" y="5829"/>
                </a:cubicBezTo>
                <a:cubicBezTo>
                  <a:pt x="7491" y="5804"/>
                  <a:pt x="7491" y="5796"/>
                  <a:pt x="7491" y="5779"/>
                </a:cubicBezTo>
              </a:path>
              <a:path w="19373" h="1514">
                <a:moveTo>
                  <a:pt x="7491" y="4911"/>
                </a:moveTo>
                <a:cubicBezTo>
                  <a:pt x="7526" y="4886"/>
                  <a:pt x="7523" y="4887"/>
                  <a:pt x="7565" y="4887"/>
                </a:cubicBezTo>
              </a:path>
              <a:path w="19373" h="1514">
                <a:moveTo>
                  <a:pt x="7689" y="5110"/>
                </a:moveTo>
                <a:cubicBezTo>
                  <a:pt x="7689" y="5199"/>
                  <a:pt x="7703" y="5276"/>
                  <a:pt x="7714" y="5358"/>
                </a:cubicBezTo>
                <a:cubicBezTo>
                  <a:pt x="7725" y="5445"/>
                  <a:pt x="7750" y="5523"/>
                  <a:pt x="7764" y="5606"/>
                </a:cubicBezTo>
                <a:cubicBezTo>
                  <a:pt x="7776" y="5676"/>
                  <a:pt x="7790" y="5736"/>
                  <a:pt x="7813" y="5804"/>
                </a:cubicBezTo>
                <a:cubicBezTo>
                  <a:pt x="7831" y="5857"/>
                  <a:pt x="7844" y="5876"/>
                  <a:pt x="7863" y="5904"/>
                </a:cubicBezTo>
                <a:cubicBezTo>
                  <a:pt x="7881" y="5868"/>
                  <a:pt x="7871" y="5893"/>
                  <a:pt x="7863" y="5829"/>
                </a:cubicBezTo>
                <a:cubicBezTo>
                  <a:pt x="7853" y="5746"/>
                  <a:pt x="7842" y="5661"/>
                  <a:pt x="7838" y="5581"/>
                </a:cubicBezTo>
                <a:cubicBezTo>
                  <a:pt x="7833" y="5478"/>
                  <a:pt x="7830" y="5378"/>
                  <a:pt x="7863" y="5283"/>
                </a:cubicBezTo>
                <a:cubicBezTo>
                  <a:pt x="7891" y="5204"/>
                  <a:pt x="7917" y="5114"/>
                  <a:pt x="7987" y="5060"/>
                </a:cubicBezTo>
                <a:cubicBezTo>
                  <a:pt x="8052" y="5010"/>
                  <a:pt x="8132" y="4990"/>
                  <a:pt x="8210" y="4986"/>
                </a:cubicBezTo>
                <a:cubicBezTo>
                  <a:pt x="8344" y="4980"/>
                  <a:pt x="8419" y="5046"/>
                  <a:pt x="8508" y="5135"/>
                </a:cubicBezTo>
                <a:cubicBezTo>
                  <a:pt x="8581" y="5208"/>
                  <a:pt x="8587" y="5262"/>
                  <a:pt x="8607" y="5358"/>
                </a:cubicBezTo>
                <a:cubicBezTo>
                  <a:pt x="8627" y="5456"/>
                  <a:pt x="8632" y="5532"/>
                  <a:pt x="8632" y="5631"/>
                </a:cubicBezTo>
                <a:cubicBezTo>
                  <a:pt x="8632" y="5689"/>
                  <a:pt x="8632" y="5746"/>
                  <a:pt x="8632" y="5804"/>
                </a:cubicBezTo>
                <a:cubicBezTo>
                  <a:pt x="8602" y="5734"/>
                  <a:pt x="8617" y="5786"/>
                  <a:pt x="8607" y="5680"/>
                </a:cubicBezTo>
              </a:path>
              <a:path w="19373" h="1514">
                <a:moveTo>
                  <a:pt x="8582" y="4787"/>
                </a:moveTo>
                <a:cubicBezTo>
                  <a:pt x="8645" y="4709"/>
                  <a:pt x="8677" y="4669"/>
                  <a:pt x="8781" y="4663"/>
                </a:cubicBezTo>
                <a:cubicBezTo>
                  <a:pt x="8843" y="4659"/>
                  <a:pt x="8900" y="4669"/>
                  <a:pt x="8954" y="4688"/>
                </a:cubicBezTo>
                <a:cubicBezTo>
                  <a:pt x="8995" y="4703"/>
                  <a:pt x="9045" y="4745"/>
                  <a:pt x="9054" y="4787"/>
                </a:cubicBezTo>
                <a:cubicBezTo>
                  <a:pt x="9069" y="4856"/>
                  <a:pt x="9036" y="4884"/>
                  <a:pt x="9004" y="4936"/>
                </a:cubicBezTo>
                <a:cubicBezTo>
                  <a:pt x="8971" y="4990"/>
                  <a:pt x="8935" y="5048"/>
                  <a:pt x="8880" y="5085"/>
                </a:cubicBezTo>
                <a:cubicBezTo>
                  <a:pt x="8831" y="5118"/>
                  <a:pt x="8819" y="5106"/>
                  <a:pt x="8806" y="5159"/>
                </a:cubicBezTo>
                <a:cubicBezTo>
                  <a:pt x="8887" y="5159"/>
                  <a:pt x="8960" y="5148"/>
                  <a:pt x="9029" y="5135"/>
                </a:cubicBezTo>
                <a:cubicBezTo>
                  <a:pt x="9059" y="5129"/>
                  <a:pt x="9201" y="5106"/>
                  <a:pt x="9227" y="5110"/>
                </a:cubicBezTo>
                <a:cubicBezTo>
                  <a:pt x="9235" y="5118"/>
                  <a:pt x="9244" y="5127"/>
                  <a:pt x="9252" y="5135"/>
                </a:cubicBezTo>
              </a:path>
              <a:path w="19373" h="1514">
                <a:moveTo>
                  <a:pt x="9500" y="5011"/>
                </a:moveTo>
                <a:cubicBezTo>
                  <a:pt x="9511" y="5062"/>
                  <a:pt x="9527" y="5111"/>
                  <a:pt x="9550" y="5159"/>
                </a:cubicBezTo>
                <a:cubicBezTo>
                  <a:pt x="9582" y="5226"/>
                  <a:pt x="9616" y="5292"/>
                  <a:pt x="9649" y="5358"/>
                </a:cubicBezTo>
                <a:cubicBezTo>
                  <a:pt x="9680" y="5418"/>
                  <a:pt x="9714" y="5475"/>
                  <a:pt x="9748" y="5531"/>
                </a:cubicBezTo>
                <a:cubicBezTo>
                  <a:pt x="9780" y="5585"/>
                  <a:pt x="9790" y="5648"/>
                  <a:pt x="9798" y="5705"/>
                </a:cubicBezTo>
                <a:cubicBezTo>
                  <a:pt x="9837" y="5718"/>
                  <a:pt x="9829" y="5816"/>
                  <a:pt x="9847" y="5779"/>
                </a:cubicBezTo>
                <a:cubicBezTo>
                  <a:pt x="9847" y="5771"/>
                  <a:pt x="9847" y="5763"/>
                  <a:pt x="9847" y="5755"/>
                </a:cubicBezTo>
              </a:path>
              <a:path w="19373" h="1514">
                <a:moveTo>
                  <a:pt x="9847" y="4936"/>
                </a:moveTo>
                <a:cubicBezTo>
                  <a:pt x="9903" y="4955"/>
                  <a:pt x="9856" y="4985"/>
                  <a:pt x="9847" y="5035"/>
                </a:cubicBezTo>
                <a:cubicBezTo>
                  <a:pt x="9833" y="5113"/>
                  <a:pt x="9806" y="5184"/>
                  <a:pt x="9773" y="5259"/>
                </a:cubicBezTo>
                <a:cubicBezTo>
                  <a:pt x="9736" y="5345"/>
                  <a:pt x="9685" y="5422"/>
                  <a:pt x="9649" y="5507"/>
                </a:cubicBezTo>
                <a:cubicBezTo>
                  <a:pt x="9617" y="5583"/>
                  <a:pt x="9573" y="5661"/>
                  <a:pt x="9525" y="5730"/>
                </a:cubicBezTo>
                <a:cubicBezTo>
                  <a:pt x="9502" y="5763"/>
                  <a:pt x="9426" y="5835"/>
                  <a:pt x="9451" y="5804"/>
                </a:cubicBezTo>
                <a:cubicBezTo>
                  <a:pt x="9467" y="5788"/>
                  <a:pt x="9484" y="5771"/>
                  <a:pt x="9500" y="5755"/>
                </a:cubicBezTo>
              </a:path>
              <a:path w="19373" h="1514">
                <a:moveTo>
                  <a:pt x="10120" y="5209"/>
                </a:moveTo>
                <a:cubicBezTo>
                  <a:pt x="10159" y="5219"/>
                  <a:pt x="10175" y="5234"/>
                  <a:pt x="10220" y="5234"/>
                </a:cubicBezTo>
                <a:cubicBezTo>
                  <a:pt x="10294" y="5234"/>
                  <a:pt x="10369" y="5234"/>
                  <a:pt x="10443" y="5234"/>
                </a:cubicBezTo>
                <a:cubicBezTo>
                  <a:pt x="10443" y="5209"/>
                  <a:pt x="10443" y="5201"/>
                  <a:pt x="10468" y="5209"/>
                </a:cubicBezTo>
              </a:path>
              <a:path w="19373" h="1514">
                <a:moveTo>
                  <a:pt x="10170" y="5482"/>
                </a:moveTo>
                <a:cubicBezTo>
                  <a:pt x="10256" y="5494"/>
                  <a:pt x="10234" y="5497"/>
                  <a:pt x="10319" y="5482"/>
                </a:cubicBezTo>
                <a:cubicBezTo>
                  <a:pt x="10404" y="5467"/>
                  <a:pt x="10506" y="5482"/>
                  <a:pt x="10592" y="5482"/>
                </a:cubicBezTo>
              </a:path>
              <a:path w="19373" h="1514">
                <a:moveTo>
                  <a:pt x="11658" y="5110"/>
                </a:moveTo>
                <a:cubicBezTo>
                  <a:pt x="11671" y="5091"/>
                  <a:pt x="11680" y="5059"/>
                  <a:pt x="11633" y="5035"/>
                </a:cubicBezTo>
                <a:cubicBezTo>
                  <a:pt x="11592" y="5014"/>
                  <a:pt x="11561" y="5011"/>
                  <a:pt x="11509" y="5011"/>
                </a:cubicBezTo>
                <a:cubicBezTo>
                  <a:pt x="11441" y="5011"/>
                  <a:pt x="11347" y="5013"/>
                  <a:pt x="11286" y="5035"/>
                </a:cubicBezTo>
                <a:cubicBezTo>
                  <a:pt x="11256" y="5046"/>
                  <a:pt x="11103" y="5106"/>
                  <a:pt x="11088" y="5159"/>
                </a:cubicBezTo>
                <a:cubicBezTo>
                  <a:pt x="11074" y="5209"/>
                  <a:pt x="11122" y="5258"/>
                  <a:pt x="11162" y="5283"/>
                </a:cubicBezTo>
                <a:cubicBezTo>
                  <a:pt x="11229" y="5326"/>
                  <a:pt x="11279" y="5375"/>
                  <a:pt x="11336" y="5432"/>
                </a:cubicBezTo>
                <a:cubicBezTo>
                  <a:pt x="11386" y="5483"/>
                  <a:pt x="11424" y="5546"/>
                  <a:pt x="11460" y="5606"/>
                </a:cubicBezTo>
                <a:cubicBezTo>
                  <a:pt x="11499" y="5670"/>
                  <a:pt x="11518" y="5697"/>
                  <a:pt x="11485" y="5755"/>
                </a:cubicBezTo>
                <a:cubicBezTo>
                  <a:pt x="11453" y="5812"/>
                  <a:pt x="11436" y="5825"/>
                  <a:pt x="11385" y="5854"/>
                </a:cubicBezTo>
                <a:cubicBezTo>
                  <a:pt x="11317" y="5893"/>
                  <a:pt x="11233" y="5876"/>
                  <a:pt x="11162" y="5854"/>
                </a:cubicBezTo>
                <a:cubicBezTo>
                  <a:pt x="11130" y="5844"/>
                  <a:pt x="11050" y="5819"/>
                  <a:pt x="11038" y="5779"/>
                </a:cubicBezTo>
                <a:cubicBezTo>
                  <a:pt x="11025" y="5735"/>
                  <a:pt x="11068" y="5664"/>
                  <a:pt x="11088" y="5631"/>
                </a:cubicBezTo>
              </a:path>
              <a:path w="19373" h="1514">
                <a:moveTo>
                  <a:pt x="11832" y="5110"/>
                </a:moveTo>
                <a:cubicBezTo>
                  <a:pt x="11840" y="5171"/>
                  <a:pt x="11841" y="5249"/>
                  <a:pt x="11857" y="5308"/>
                </a:cubicBezTo>
                <a:cubicBezTo>
                  <a:pt x="11876" y="5378"/>
                  <a:pt x="11897" y="5461"/>
                  <a:pt x="11906" y="5531"/>
                </a:cubicBezTo>
                <a:cubicBezTo>
                  <a:pt x="11914" y="5592"/>
                  <a:pt x="11911" y="5672"/>
                  <a:pt x="11931" y="5730"/>
                </a:cubicBezTo>
                <a:cubicBezTo>
                  <a:pt x="11937" y="5749"/>
                  <a:pt x="11956" y="5859"/>
                  <a:pt x="11956" y="5804"/>
                </a:cubicBezTo>
                <a:cubicBezTo>
                  <a:pt x="11956" y="5779"/>
                  <a:pt x="11956" y="5771"/>
                  <a:pt x="11956" y="5755"/>
                </a:cubicBezTo>
              </a:path>
              <a:path w="19373" h="1514">
                <a:moveTo>
                  <a:pt x="11956" y="4986"/>
                </a:moveTo>
                <a:cubicBezTo>
                  <a:pt x="11992" y="4950"/>
                  <a:pt x="11959" y="4967"/>
                  <a:pt x="11981" y="5011"/>
                </a:cubicBezTo>
              </a:path>
              <a:path w="19373" h="1514">
                <a:moveTo>
                  <a:pt x="12154" y="5135"/>
                </a:moveTo>
                <a:cubicBezTo>
                  <a:pt x="12169" y="5206"/>
                  <a:pt x="12162" y="5289"/>
                  <a:pt x="12179" y="5358"/>
                </a:cubicBezTo>
                <a:cubicBezTo>
                  <a:pt x="12194" y="5420"/>
                  <a:pt x="12209" y="5496"/>
                  <a:pt x="12229" y="5556"/>
                </a:cubicBezTo>
                <a:cubicBezTo>
                  <a:pt x="12246" y="5607"/>
                  <a:pt x="12273" y="5656"/>
                  <a:pt x="12278" y="5705"/>
                </a:cubicBezTo>
                <a:cubicBezTo>
                  <a:pt x="12281" y="5733"/>
                  <a:pt x="12292" y="5755"/>
                  <a:pt x="12303" y="5779"/>
                </a:cubicBezTo>
                <a:cubicBezTo>
                  <a:pt x="12273" y="5749"/>
                  <a:pt x="12302" y="5729"/>
                  <a:pt x="12278" y="5680"/>
                </a:cubicBezTo>
                <a:cubicBezTo>
                  <a:pt x="12251" y="5624"/>
                  <a:pt x="12233" y="5545"/>
                  <a:pt x="12229" y="5482"/>
                </a:cubicBezTo>
                <a:cubicBezTo>
                  <a:pt x="12223" y="5378"/>
                  <a:pt x="12215" y="5253"/>
                  <a:pt x="12254" y="5159"/>
                </a:cubicBezTo>
                <a:cubicBezTo>
                  <a:pt x="12287" y="5080"/>
                  <a:pt x="12340" y="5057"/>
                  <a:pt x="12402" y="5011"/>
                </a:cubicBezTo>
                <a:cubicBezTo>
                  <a:pt x="12479" y="4954"/>
                  <a:pt x="12527" y="4944"/>
                  <a:pt x="12626" y="4986"/>
                </a:cubicBezTo>
                <a:cubicBezTo>
                  <a:pt x="12665" y="5003"/>
                  <a:pt x="12778" y="5077"/>
                  <a:pt x="12799" y="5110"/>
                </a:cubicBezTo>
                <a:cubicBezTo>
                  <a:pt x="12859" y="5202"/>
                  <a:pt x="12922" y="5380"/>
                  <a:pt x="12948" y="5482"/>
                </a:cubicBezTo>
                <a:cubicBezTo>
                  <a:pt x="12962" y="5539"/>
                  <a:pt x="12970" y="5594"/>
                  <a:pt x="12973" y="5655"/>
                </a:cubicBezTo>
                <a:cubicBezTo>
                  <a:pt x="12974" y="5671"/>
                  <a:pt x="12998" y="5792"/>
                  <a:pt x="12998" y="5730"/>
                </a:cubicBezTo>
              </a:path>
              <a:path w="19373" h="1514">
                <a:moveTo>
                  <a:pt x="12998" y="4936"/>
                </a:moveTo>
                <a:cubicBezTo>
                  <a:pt x="12959" y="4923"/>
                  <a:pt x="12976" y="4896"/>
                  <a:pt x="12998" y="4862"/>
                </a:cubicBezTo>
                <a:cubicBezTo>
                  <a:pt x="13021" y="4826"/>
                  <a:pt x="13106" y="4814"/>
                  <a:pt x="13146" y="4812"/>
                </a:cubicBezTo>
                <a:cubicBezTo>
                  <a:pt x="13191" y="4809"/>
                  <a:pt x="13294" y="4795"/>
                  <a:pt x="13320" y="4837"/>
                </a:cubicBezTo>
                <a:cubicBezTo>
                  <a:pt x="13339" y="4868"/>
                  <a:pt x="13312" y="4916"/>
                  <a:pt x="13295" y="4936"/>
                </a:cubicBezTo>
                <a:cubicBezTo>
                  <a:pt x="13260" y="4976"/>
                  <a:pt x="13241" y="4995"/>
                  <a:pt x="13196" y="5035"/>
                </a:cubicBezTo>
                <a:cubicBezTo>
                  <a:pt x="13170" y="5058"/>
                  <a:pt x="13084" y="5118"/>
                  <a:pt x="13072" y="5135"/>
                </a:cubicBezTo>
                <a:cubicBezTo>
                  <a:pt x="13072" y="5143"/>
                  <a:pt x="13072" y="5151"/>
                  <a:pt x="13072" y="5159"/>
                </a:cubicBezTo>
                <a:cubicBezTo>
                  <a:pt x="13112" y="5189"/>
                  <a:pt x="13166" y="5198"/>
                  <a:pt x="13221" y="5184"/>
                </a:cubicBezTo>
                <a:cubicBezTo>
                  <a:pt x="13282" y="5169"/>
                  <a:pt x="13330" y="5159"/>
                  <a:pt x="13395" y="5159"/>
                </a:cubicBezTo>
                <a:cubicBezTo>
                  <a:pt x="13420" y="5159"/>
                  <a:pt x="13444" y="5159"/>
                  <a:pt x="13469" y="5159"/>
                </a:cubicBezTo>
              </a:path>
              <a:path w="19373" h="1514">
                <a:moveTo>
                  <a:pt x="13593" y="5060"/>
                </a:moveTo>
                <a:cubicBezTo>
                  <a:pt x="13622" y="5099"/>
                  <a:pt x="13642" y="5137"/>
                  <a:pt x="13667" y="5184"/>
                </a:cubicBezTo>
                <a:cubicBezTo>
                  <a:pt x="13730" y="5304"/>
                  <a:pt x="13787" y="5410"/>
                  <a:pt x="13866" y="5507"/>
                </a:cubicBezTo>
                <a:cubicBezTo>
                  <a:pt x="13904" y="5554"/>
                  <a:pt x="13924" y="5610"/>
                  <a:pt x="13965" y="5655"/>
                </a:cubicBezTo>
                <a:cubicBezTo>
                  <a:pt x="13994" y="5687"/>
                  <a:pt x="14005" y="5701"/>
                  <a:pt x="14015" y="5730"/>
                </a:cubicBezTo>
              </a:path>
              <a:path w="19373" h="1514">
                <a:moveTo>
                  <a:pt x="14114" y="5011"/>
                </a:moveTo>
                <a:cubicBezTo>
                  <a:pt x="14052" y="5026"/>
                  <a:pt x="14043" y="5078"/>
                  <a:pt x="14015" y="5135"/>
                </a:cubicBezTo>
                <a:cubicBezTo>
                  <a:pt x="13973" y="5219"/>
                  <a:pt x="13947" y="5283"/>
                  <a:pt x="13891" y="5358"/>
                </a:cubicBezTo>
                <a:cubicBezTo>
                  <a:pt x="13834" y="5435"/>
                  <a:pt x="13801" y="5532"/>
                  <a:pt x="13742" y="5606"/>
                </a:cubicBezTo>
                <a:cubicBezTo>
                  <a:pt x="13698" y="5661"/>
                  <a:pt x="13611" y="5763"/>
                  <a:pt x="13543" y="5779"/>
                </a:cubicBezTo>
              </a:path>
              <a:path w="19373" h="1514">
                <a:moveTo>
                  <a:pt x="15007" y="4539"/>
                </a:moveTo>
                <a:cubicBezTo>
                  <a:pt x="14974" y="4555"/>
                  <a:pt x="14986" y="4541"/>
                  <a:pt x="14957" y="4564"/>
                </a:cubicBezTo>
                <a:cubicBezTo>
                  <a:pt x="14905" y="4605"/>
                  <a:pt x="14854" y="4651"/>
                  <a:pt x="14808" y="4688"/>
                </a:cubicBezTo>
                <a:cubicBezTo>
                  <a:pt x="14729" y="4752"/>
                  <a:pt x="14667" y="4796"/>
                  <a:pt x="14610" y="4887"/>
                </a:cubicBezTo>
                <a:cubicBezTo>
                  <a:pt x="14554" y="4977"/>
                  <a:pt x="14515" y="5082"/>
                  <a:pt x="14486" y="5184"/>
                </a:cubicBezTo>
                <a:cubicBezTo>
                  <a:pt x="14454" y="5296"/>
                  <a:pt x="14440" y="5416"/>
                  <a:pt x="14436" y="5531"/>
                </a:cubicBezTo>
                <a:cubicBezTo>
                  <a:pt x="14432" y="5636"/>
                  <a:pt x="14444" y="5708"/>
                  <a:pt x="14486" y="5804"/>
                </a:cubicBezTo>
                <a:cubicBezTo>
                  <a:pt x="14504" y="5846"/>
                  <a:pt x="14566" y="5935"/>
                  <a:pt x="14610" y="5953"/>
                </a:cubicBezTo>
                <a:cubicBezTo>
                  <a:pt x="14628" y="5960"/>
                  <a:pt x="14685" y="5953"/>
                  <a:pt x="14709" y="5953"/>
                </a:cubicBezTo>
              </a:path>
              <a:path w="19373" h="1514">
                <a:moveTo>
                  <a:pt x="15230" y="4862"/>
                </a:moveTo>
                <a:cubicBezTo>
                  <a:pt x="15264" y="4896"/>
                  <a:pt x="15299" y="4935"/>
                  <a:pt x="15304" y="4986"/>
                </a:cubicBezTo>
                <a:cubicBezTo>
                  <a:pt x="15314" y="5098"/>
                  <a:pt x="15329" y="5194"/>
                  <a:pt x="15329" y="5308"/>
                </a:cubicBezTo>
                <a:cubicBezTo>
                  <a:pt x="15329" y="5452"/>
                  <a:pt x="15320" y="5594"/>
                  <a:pt x="15354" y="5730"/>
                </a:cubicBezTo>
                <a:cubicBezTo>
                  <a:pt x="15360" y="5753"/>
                  <a:pt x="15366" y="5829"/>
                  <a:pt x="15404" y="5755"/>
                </a:cubicBezTo>
                <a:cubicBezTo>
                  <a:pt x="15404" y="5747"/>
                  <a:pt x="15404" y="5738"/>
                  <a:pt x="15404" y="5730"/>
                </a:cubicBezTo>
              </a:path>
              <a:path w="19373" h="1514">
                <a:moveTo>
                  <a:pt x="15602" y="5234"/>
                </a:moveTo>
                <a:cubicBezTo>
                  <a:pt x="15655" y="5221"/>
                  <a:pt x="15687" y="5209"/>
                  <a:pt x="15751" y="5209"/>
                </a:cubicBezTo>
                <a:cubicBezTo>
                  <a:pt x="15834" y="5209"/>
                  <a:pt x="15916" y="5209"/>
                  <a:pt x="15999" y="5209"/>
                </a:cubicBezTo>
              </a:path>
              <a:path w="19373" h="1514">
                <a:moveTo>
                  <a:pt x="16867" y="5110"/>
                </a:moveTo>
                <a:cubicBezTo>
                  <a:pt x="16867" y="5001"/>
                  <a:pt x="16877" y="5039"/>
                  <a:pt x="16818" y="4986"/>
                </a:cubicBezTo>
                <a:cubicBezTo>
                  <a:pt x="16776" y="4948"/>
                  <a:pt x="16725" y="4961"/>
                  <a:pt x="16669" y="4961"/>
                </a:cubicBezTo>
                <a:cubicBezTo>
                  <a:pt x="16624" y="4961"/>
                  <a:pt x="16558" y="4989"/>
                  <a:pt x="16520" y="5011"/>
                </a:cubicBezTo>
                <a:cubicBezTo>
                  <a:pt x="16465" y="5043"/>
                  <a:pt x="16470" y="5079"/>
                  <a:pt x="16470" y="5135"/>
                </a:cubicBezTo>
                <a:cubicBezTo>
                  <a:pt x="16470" y="5198"/>
                  <a:pt x="16551" y="5226"/>
                  <a:pt x="16594" y="5259"/>
                </a:cubicBezTo>
                <a:cubicBezTo>
                  <a:pt x="16661" y="5310"/>
                  <a:pt x="16732" y="5349"/>
                  <a:pt x="16793" y="5407"/>
                </a:cubicBezTo>
                <a:cubicBezTo>
                  <a:pt x="16856" y="5467"/>
                  <a:pt x="16915" y="5520"/>
                  <a:pt x="16966" y="5581"/>
                </a:cubicBezTo>
                <a:cubicBezTo>
                  <a:pt x="16991" y="5611"/>
                  <a:pt x="17012" y="5689"/>
                  <a:pt x="16991" y="5730"/>
                </a:cubicBezTo>
                <a:cubicBezTo>
                  <a:pt x="16952" y="5807"/>
                  <a:pt x="16873" y="5850"/>
                  <a:pt x="16793" y="5854"/>
                </a:cubicBezTo>
                <a:cubicBezTo>
                  <a:pt x="16719" y="5858"/>
                  <a:pt x="16638" y="5852"/>
                  <a:pt x="16570" y="5829"/>
                </a:cubicBezTo>
                <a:cubicBezTo>
                  <a:pt x="16540" y="5819"/>
                  <a:pt x="16456" y="5766"/>
                  <a:pt x="16446" y="5730"/>
                </a:cubicBezTo>
                <a:cubicBezTo>
                  <a:pt x="16425" y="5656"/>
                  <a:pt x="16456" y="5609"/>
                  <a:pt x="16495" y="5556"/>
                </a:cubicBezTo>
              </a:path>
              <a:path w="19373" h="1514">
                <a:moveTo>
                  <a:pt x="17140" y="5184"/>
                </a:moveTo>
                <a:cubicBezTo>
                  <a:pt x="17140" y="5240"/>
                  <a:pt x="17158" y="5282"/>
                  <a:pt x="17165" y="5333"/>
                </a:cubicBezTo>
                <a:cubicBezTo>
                  <a:pt x="17176" y="5413"/>
                  <a:pt x="17187" y="5502"/>
                  <a:pt x="17190" y="5581"/>
                </a:cubicBezTo>
                <a:cubicBezTo>
                  <a:pt x="17194" y="5665"/>
                  <a:pt x="17218" y="5734"/>
                  <a:pt x="17239" y="5804"/>
                </a:cubicBezTo>
                <a:cubicBezTo>
                  <a:pt x="17245" y="5824"/>
                  <a:pt x="17239" y="5858"/>
                  <a:pt x="17239" y="5879"/>
                </a:cubicBezTo>
                <a:cubicBezTo>
                  <a:pt x="17275" y="5867"/>
                  <a:pt x="17261" y="5842"/>
                  <a:pt x="17289" y="5804"/>
                </a:cubicBezTo>
              </a:path>
              <a:path w="19373" h="1514">
                <a:moveTo>
                  <a:pt x="17214" y="4986"/>
                </a:moveTo>
                <a:cubicBezTo>
                  <a:pt x="17250" y="4995"/>
                  <a:pt x="17260" y="5007"/>
                  <a:pt x="17289" y="5035"/>
                </a:cubicBezTo>
              </a:path>
              <a:path w="19373" h="1514">
                <a:moveTo>
                  <a:pt x="17512" y="5209"/>
                </a:moveTo>
                <a:cubicBezTo>
                  <a:pt x="17512" y="5298"/>
                  <a:pt x="17525" y="5371"/>
                  <a:pt x="17537" y="5457"/>
                </a:cubicBezTo>
                <a:cubicBezTo>
                  <a:pt x="17547" y="5523"/>
                  <a:pt x="17558" y="5590"/>
                  <a:pt x="17562" y="5655"/>
                </a:cubicBezTo>
                <a:cubicBezTo>
                  <a:pt x="17566" y="5719"/>
                  <a:pt x="17594" y="5727"/>
                  <a:pt x="17611" y="5779"/>
                </a:cubicBezTo>
                <a:cubicBezTo>
                  <a:pt x="17621" y="5810"/>
                  <a:pt x="17628" y="5870"/>
                  <a:pt x="17611" y="5804"/>
                </a:cubicBezTo>
                <a:cubicBezTo>
                  <a:pt x="17599" y="5757"/>
                  <a:pt x="17592" y="5648"/>
                  <a:pt x="17587" y="5606"/>
                </a:cubicBezTo>
                <a:cubicBezTo>
                  <a:pt x="17579" y="5545"/>
                  <a:pt x="17572" y="5490"/>
                  <a:pt x="17562" y="5432"/>
                </a:cubicBezTo>
                <a:cubicBezTo>
                  <a:pt x="17549" y="5357"/>
                  <a:pt x="17575" y="5294"/>
                  <a:pt x="17587" y="5234"/>
                </a:cubicBezTo>
                <a:cubicBezTo>
                  <a:pt x="17603" y="5153"/>
                  <a:pt x="17621" y="5139"/>
                  <a:pt x="17686" y="5085"/>
                </a:cubicBezTo>
                <a:cubicBezTo>
                  <a:pt x="17720" y="5057"/>
                  <a:pt x="17810" y="5024"/>
                  <a:pt x="17859" y="5035"/>
                </a:cubicBezTo>
                <a:cubicBezTo>
                  <a:pt x="17912" y="5047"/>
                  <a:pt x="17998" y="5062"/>
                  <a:pt x="18033" y="5110"/>
                </a:cubicBezTo>
                <a:cubicBezTo>
                  <a:pt x="18072" y="5164"/>
                  <a:pt x="18145" y="5239"/>
                  <a:pt x="18157" y="5308"/>
                </a:cubicBezTo>
                <a:cubicBezTo>
                  <a:pt x="18172" y="5392"/>
                  <a:pt x="18182" y="5469"/>
                  <a:pt x="18182" y="5556"/>
                </a:cubicBezTo>
                <a:cubicBezTo>
                  <a:pt x="18182" y="5587"/>
                  <a:pt x="18159" y="5766"/>
                  <a:pt x="18207" y="5779"/>
                </a:cubicBezTo>
                <a:cubicBezTo>
                  <a:pt x="18229" y="5757"/>
                  <a:pt x="18237" y="5752"/>
                  <a:pt x="18231" y="5730"/>
                </a:cubicBezTo>
              </a:path>
              <a:path w="19373" h="1514">
                <a:moveTo>
                  <a:pt x="18107" y="4936"/>
                </a:moveTo>
                <a:cubicBezTo>
                  <a:pt x="18165" y="4861"/>
                  <a:pt x="18197" y="4804"/>
                  <a:pt x="18281" y="4787"/>
                </a:cubicBezTo>
                <a:cubicBezTo>
                  <a:pt x="18352" y="4773"/>
                  <a:pt x="18400" y="4793"/>
                  <a:pt x="18455" y="4812"/>
                </a:cubicBezTo>
                <a:cubicBezTo>
                  <a:pt x="18495" y="4826"/>
                  <a:pt x="18524" y="4839"/>
                  <a:pt x="18529" y="4887"/>
                </a:cubicBezTo>
                <a:cubicBezTo>
                  <a:pt x="18536" y="4944"/>
                  <a:pt x="18506" y="4943"/>
                  <a:pt x="18479" y="4986"/>
                </a:cubicBezTo>
                <a:cubicBezTo>
                  <a:pt x="18447" y="5036"/>
                  <a:pt x="18405" y="5073"/>
                  <a:pt x="18355" y="5110"/>
                </a:cubicBezTo>
                <a:cubicBezTo>
                  <a:pt x="18299" y="5147"/>
                  <a:pt x="18274" y="5142"/>
                  <a:pt x="18281" y="5184"/>
                </a:cubicBezTo>
                <a:cubicBezTo>
                  <a:pt x="18371" y="5184"/>
                  <a:pt x="18445" y="5180"/>
                  <a:pt x="18529" y="5159"/>
                </a:cubicBezTo>
                <a:cubicBezTo>
                  <a:pt x="18574" y="5148"/>
                  <a:pt x="18656" y="5189"/>
                  <a:pt x="18678" y="5184"/>
                </a:cubicBezTo>
                <a:cubicBezTo>
                  <a:pt x="18686" y="5176"/>
                  <a:pt x="18695" y="5167"/>
                  <a:pt x="18703" y="5159"/>
                </a:cubicBezTo>
              </a:path>
              <a:path w="19373" h="1514">
                <a:moveTo>
                  <a:pt x="18827" y="5135"/>
                </a:moveTo>
                <a:cubicBezTo>
                  <a:pt x="18912" y="5194"/>
                  <a:pt x="18916" y="5196"/>
                  <a:pt x="18951" y="5283"/>
                </a:cubicBezTo>
                <a:cubicBezTo>
                  <a:pt x="18978" y="5351"/>
                  <a:pt x="19017" y="5417"/>
                  <a:pt x="19050" y="5482"/>
                </a:cubicBezTo>
                <a:cubicBezTo>
                  <a:pt x="19096" y="5572"/>
                  <a:pt x="19141" y="5624"/>
                  <a:pt x="19199" y="5705"/>
                </a:cubicBezTo>
                <a:cubicBezTo>
                  <a:pt x="19217" y="5730"/>
                  <a:pt x="19261" y="5802"/>
                  <a:pt x="19273" y="5829"/>
                </a:cubicBezTo>
                <a:cubicBezTo>
                  <a:pt x="19299" y="5888"/>
                  <a:pt x="19252" y="5785"/>
                  <a:pt x="19248" y="5779"/>
                </a:cubicBezTo>
                <a:cubicBezTo>
                  <a:pt x="19240" y="5771"/>
                  <a:pt x="19232" y="5763"/>
                  <a:pt x="19224" y="5755"/>
                </a:cubicBezTo>
              </a:path>
              <a:path w="19373" h="1514">
                <a:moveTo>
                  <a:pt x="19323" y="5060"/>
                </a:moveTo>
                <a:cubicBezTo>
                  <a:pt x="19312" y="5106"/>
                  <a:pt x="19293" y="5160"/>
                  <a:pt x="19273" y="5209"/>
                </a:cubicBezTo>
                <a:cubicBezTo>
                  <a:pt x="19240" y="5291"/>
                  <a:pt x="19211" y="5377"/>
                  <a:pt x="19174" y="5457"/>
                </a:cubicBezTo>
                <a:cubicBezTo>
                  <a:pt x="19132" y="5549"/>
                  <a:pt x="19095" y="5640"/>
                  <a:pt x="19050" y="5730"/>
                </a:cubicBezTo>
                <a:cubicBezTo>
                  <a:pt x="19018" y="5794"/>
                  <a:pt x="19000" y="5806"/>
                  <a:pt x="19000" y="5879"/>
                </a:cubicBezTo>
                <a:cubicBezTo>
                  <a:pt x="19025" y="5854"/>
                  <a:pt x="19033" y="5846"/>
                  <a:pt x="19050" y="5829"/>
                </a:cubicBezTo>
              </a:path>
              <a:path w="19373" h="1514">
                <a:moveTo>
                  <a:pt x="19174" y="4787"/>
                </a:moveTo>
                <a:cubicBezTo>
                  <a:pt x="19225" y="4794"/>
                  <a:pt x="19231" y="4825"/>
                  <a:pt x="19273" y="4837"/>
                </a:cubicBezTo>
                <a:cubicBezTo>
                  <a:pt x="19360" y="4862"/>
                  <a:pt x="19444" y="4922"/>
                  <a:pt x="19521" y="4986"/>
                </a:cubicBezTo>
                <a:cubicBezTo>
                  <a:pt x="19615" y="5063"/>
                  <a:pt x="19700" y="5160"/>
                  <a:pt x="19769" y="5259"/>
                </a:cubicBezTo>
                <a:cubicBezTo>
                  <a:pt x="19824" y="5338"/>
                  <a:pt x="19879" y="5433"/>
                  <a:pt x="19893" y="5531"/>
                </a:cubicBezTo>
                <a:cubicBezTo>
                  <a:pt x="19905" y="5611"/>
                  <a:pt x="19899" y="5707"/>
                  <a:pt x="19869" y="5779"/>
                </a:cubicBezTo>
                <a:cubicBezTo>
                  <a:pt x="19839" y="5851"/>
                  <a:pt x="19800" y="5898"/>
                  <a:pt x="19745" y="5953"/>
                </a:cubicBezTo>
                <a:cubicBezTo>
                  <a:pt x="19696" y="6002"/>
                  <a:pt x="19632" y="6040"/>
                  <a:pt x="19571" y="6052"/>
                </a:cubicBezTo>
                <a:cubicBezTo>
                  <a:pt x="19521" y="6062"/>
                  <a:pt x="19514" y="6039"/>
                  <a:pt x="19496" y="6028"/>
                </a:cubicBezTo>
              </a:path>
              <a:path w="19373" h="1514">
                <a:moveTo>
                  <a:pt x="20365" y="5011"/>
                </a:moveTo>
                <a:cubicBezTo>
                  <a:pt x="20426" y="5072"/>
                  <a:pt x="20408" y="5080"/>
                  <a:pt x="20439" y="5135"/>
                </a:cubicBezTo>
                <a:cubicBezTo>
                  <a:pt x="20447" y="5143"/>
                  <a:pt x="20456" y="5151"/>
                  <a:pt x="20464" y="5159"/>
                </a:cubicBezTo>
                <a:cubicBezTo>
                  <a:pt x="20434" y="5149"/>
                  <a:pt x="20421" y="5117"/>
                  <a:pt x="20389" y="5085"/>
                </a:cubicBezTo>
                <a:cubicBezTo>
                  <a:pt x="20353" y="5048"/>
                  <a:pt x="20316" y="5060"/>
                  <a:pt x="20265" y="5060"/>
                </a:cubicBezTo>
                <a:cubicBezTo>
                  <a:pt x="20222" y="5060"/>
                  <a:pt x="20179" y="5070"/>
                  <a:pt x="20141" y="5085"/>
                </a:cubicBezTo>
                <a:cubicBezTo>
                  <a:pt x="20079" y="5110"/>
                  <a:pt x="20047" y="5176"/>
                  <a:pt x="20017" y="5234"/>
                </a:cubicBezTo>
                <a:cubicBezTo>
                  <a:pt x="19965" y="5335"/>
                  <a:pt x="19968" y="5373"/>
                  <a:pt x="19968" y="5482"/>
                </a:cubicBezTo>
                <a:cubicBezTo>
                  <a:pt x="19968" y="5541"/>
                  <a:pt x="19989" y="5597"/>
                  <a:pt x="20042" y="5631"/>
                </a:cubicBezTo>
                <a:cubicBezTo>
                  <a:pt x="20131" y="5687"/>
                  <a:pt x="20205" y="5642"/>
                  <a:pt x="20290" y="5631"/>
                </a:cubicBezTo>
                <a:cubicBezTo>
                  <a:pt x="20385" y="5619"/>
                  <a:pt x="20408" y="5599"/>
                  <a:pt x="20489" y="5556"/>
                </a:cubicBezTo>
                <a:cubicBezTo>
                  <a:pt x="20532" y="5534"/>
                  <a:pt x="20543" y="5530"/>
                  <a:pt x="20563" y="5507"/>
                </a:cubicBezTo>
              </a:path>
              <a:path w="19373" h="1514">
                <a:moveTo>
                  <a:pt x="20613" y="5060"/>
                </a:moveTo>
                <a:cubicBezTo>
                  <a:pt x="20573" y="5130"/>
                  <a:pt x="20563" y="5151"/>
                  <a:pt x="20563" y="5234"/>
                </a:cubicBezTo>
                <a:cubicBezTo>
                  <a:pt x="20563" y="5311"/>
                  <a:pt x="20555" y="5370"/>
                  <a:pt x="20588" y="5432"/>
                </a:cubicBezTo>
                <a:cubicBezTo>
                  <a:pt x="20614" y="5480"/>
                  <a:pt x="20645" y="5570"/>
                  <a:pt x="20687" y="5606"/>
                </a:cubicBezTo>
                <a:cubicBezTo>
                  <a:pt x="20722" y="5636"/>
                  <a:pt x="20816" y="5672"/>
                  <a:pt x="20861" y="5680"/>
                </a:cubicBezTo>
                <a:cubicBezTo>
                  <a:pt x="20945" y="5695"/>
                  <a:pt x="21006" y="5667"/>
                  <a:pt x="21084" y="5655"/>
                </a:cubicBezTo>
                <a:cubicBezTo>
                  <a:pt x="21166" y="5643"/>
                  <a:pt x="21189" y="5629"/>
                  <a:pt x="21233" y="5556"/>
                </a:cubicBezTo>
                <a:cubicBezTo>
                  <a:pt x="21274" y="5488"/>
                  <a:pt x="21282" y="5463"/>
                  <a:pt x="21282" y="5383"/>
                </a:cubicBezTo>
                <a:cubicBezTo>
                  <a:pt x="21282" y="5291"/>
                  <a:pt x="21209" y="5210"/>
                  <a:pt x="21134" y="5159"/>
                </a:cubicBezTo>
                <a:cubicBezTo>
                  <a:pt x="21077" y="5121"/>
                  <a:pt x="20999" y="5100"/>
                  <a:pt x="20935" y="5085"/>
                </a:cubicBezTo>
                <a:cubicBezTo>
                  <a:pt x="20908" y="5079"/>
                  <a:pt x="20825" y="5108"/>
                  <a:pt x="20811" y="5135"/>
                </a:cubicBezTo>
                <a:cubicBezTo>
                  <a:pt x="20811" y="5159"/>
                  <a:pt x="20811" y="5168"/>
                  <a:pt x="20811" y="5184"/>
                </a:cubicBezTo>
              </a:path>
              <a:path w="19373" h="1514">
                <a:moveTo>
                  <a:pt x="21729" y="5234"/>
                </a:moveTo>
                <a:cubicBezTo>
                  <a:pt x="21713" y="5206"/>
                  <a:pt x="21683" y="5125"/>
                  <a:pt x="21654" y="5110"/>
                </a:cubicBezTo>
                <a:cubicBezTo>
                  <a:pt x="21617" y="5091"/>
                  <a:pt x="21452" y="5103"/>
                  <a:pt x="21431" y="5135"/>
                </a:cubicBezTo>
                <a:cubicBezTo>
                  <a:pt x="21407" y="5172"/>
                  <a:pt x="21406" y="5210"/>
                  <a:pt x="21406" y="5259"/>
                </a:cubicBezTo>
                <a:cubicBezTo>
                  <a:pt x="21406" y="5312"/>
                  <a:pt x="21466" y="5336"/>
                  <a:pt x="21506" y="5358"/>
                </a:cubicBezTo>
                <a:cubicBezTo>
                  <a:pt x="21567" y="5391"/>
                  <a:pt x="21605" y="5433"/>
                  <a:pt x="21654" y="5482"/>
                </a:cubicBezTo>
                <a:cubicBezTo>
                  <a:pt x="21712" y="5539"/>
                  <a:pt x="21726" y="5561"/>
                  <a:pt x="21754" y="5631"/>
                </a:cubicBezTo>
                <a:cubicBezTo>
                  <a:pt x="21767" y="5663"/>
                  <a:pt x="21781" y="5735"/>
                  <a:pt x="21729" y="5755"/>
                </a:cubicBezTo>
                <a:cubicBezTo>
                  <a:pt x="21646" y="5787"/>
                  <a:pt x="21579" y="5781"/>
                  <a:pt x="21506" y="5755"/>
                </a:cubicBezTo>
                <a:cubicBezTo>
                  <a:pt x="21464" y="5740"/>
                  <a:pt x="21413" y="5708"/>
                  <a:pt x="21382" y="5680"/>
                </a:cubicBezTo>
                <a:cubicBezTo>
                  <a:pt x="21346" y="5648"/>
                  <a:pt x="21357" y="5630"/>
                  <a:pt x="21357" y="5581"/>
                </a:cubicBezTo>
              </a:path>
              <a:path w="19373" h="1514">
                <a:moveTo>
                  <a:pt x="21803" y="5060"/>
                </a:moveTo>
                <a:cubicBezTo>
                  <a:pt x="21856" y="5113"/>
                  <a:pt x="21910" y="5172"/>
                  <a:pt x="21952" y="5234"/>
                </a:cubicBezTo>
                <a:cubicBezTo>
                  <a:pt x="22009" y="5319"/>
                  <a:pt x="22068" y="5396"/>
                  <a:pt x="22126" y="5482"/>
                </a:cubicBezTo>
                <a:cubicBezTo>
                  <a:pt x="22167" y="5543"/>
                  <a:pt x="22213" y="5611"/>
                  <a:pt x="22275" y="5655"/>
                </a:cubicBezTo>
                <a:cubicBezTo>
                  <a:pt x="22313" y="5682"/>
                  <a:pt x="22366" y="5708"/>
                  <a:pt x="22399" y="5730"/>
                </a:cubicBezTo>
                <a:cubicBezTo>
                  <a:pt x="22444" y="5761"/>
                  <a:pt x="22427" y="5764"/>
                  <a:pt x="22473" y="5730"/>
                </a:cubicBezTo>
              </a:path>
              <a:path w="19373" h="1514">
                <a:moveTo>
                  <a:pt x="22374" y="5085"/>
                </a:moveTo>
                <a:cubicBezTo>
                  <a:pt x="22374" y="5152"/>
                  <a:pt x="22334" y="5192"/>
                  <a:pt x="22324" y="5259"/>
                </a:cubicBezTo>
                <a:cubicBezTo>
                  <a:pt x="22309" y="5353"/>
                  <a:pt x="22288" y="5439"/>
                  <a:pt x="22250" y="5531"/>
                </a:cubicBezTo>
                <a:cubicBezTo>
                  <a:pt x="22218" y="5609"/>
                  <a:pt x="22192" y="5706"/>
                  <a:pt x="22151" y="5779"/>
                </a:cubicBezTo>
                <a:cubicBezTo>
                  <a:pt x="22134" y="5810"/>
                  <a:pt x="22119" y="5870"/>
                  <a:pt x="22101" y="5879"/>
                </a:cubicBezTo>
                <a:cubicBezTo>
                  <a:pt x="22076" y="5879"/>
                  <a:pt x="22068" y="5879"/>
                  <a:pt x="22076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03200" y="2384280"/>
            <a:ext cx="3867120" cy="527040"/>
          </a:xfrm>
          <a:custGeom>
            <a:avLst/>
            <a:gdLst/>
            <a:ahLst/>
            <a:rect l="l" t="t" r="r" b="b"/>
            <a:pathLst>
              <a:path w="10742" h="1464">
                <a:moveTo>
                  <a:pt x="4192" y="7367"/>
                </a:moveTo>
                <a:cubicBezTo>
                  <a:pt x="4192" y="7306"/>
                  <a:pt x="4162" y="7302"/>
                  <a:pt x="4142" y="7243"/>
                </a:cubicBezTo>
                <a:cubicBezTo>
                  <a:pt x="4130" y="7206"/>
                  <a:pt x="4109" y="7182"/>
                  <a:pt x="4068" y="7169"/>
                </a:cubicBezTo>
                <a:cubicBezTo>
                  <a:pt x="4007" y="7150"/>
                  <a:pt x="3957" y="7148"/>
                  <a:pt x="3894" y="7169"/>
                </a:cubicBezTo>
                <a:cubicBezTo>
                  <a:pt x="3843" y="7186"/>
                  <a:pt x="3747" y="7248"/>
                  <a:pt x="3721" y="7293"/>
                </a:cubicBezTo>
                <a:cubicBezTo>
                  <a:pt x="3679" y="7364"/>
                  <a:pt x="3632" y="7509"/>
                  <a:pt x="3621" y="7590"/>
                </a:cubicBezTo>
                <a:cubicBezTo>
                  <a:pt x="3610" y="7672"/>
                  <a:pt x="3595" y="7843"/>
                  <a:pt x="3646" y="7913"/>
                </a:cubicBezTo>
                <a:cubicBezTo>
                  <a:pt x="3690" y="7973"/>
                  <a:pt x="3767" y="8029"/>
                  <a:pt x="3845" y="8012"/>
                </a:cubicBezTo>
                <a:cubicBezTo>
                  <a:pt x="3927" y="7994"/>
                  <a:pt x="4012" y="7973"/>
                  <a:pt x="4093" y="7938"/>
                </a:cubicBezTo>
                <a:cubicBezTo>
                  <a:pt x="4164" y="7907"/>
                  <a:pt x="4224" y="7874"/>
                  <a:pt x="4291" y="7838"/>
                </a:cubicBezTo>
                <a:cubicBezTo>
                  <a:pt x="4308" y="7830"/>
                  <a:pt x="4324" y="7821"/>
                  <a:pt x="4341" y="7813"/>
                </a:cubicBezTo>
              </a:path>
              <a:path w="10742" h="1464">
                <a:moveTo>
                  <a:pt x="4812" y="7441"/>
                </a:moveTo>
                <a:cubicBezTo>
                  <a:pt x="4788" y="7362"/>
                  <a:pt x="4797" y="7350"/>
                  <a:pt x="4738" y="7317"/>
                </a:cubicBezTo>
                <a:cubicBezTo>
                  <a:pt x="4684" y="7287"/>
                  <a:pt x="4598" y="7271"/>
                  <a:pt x="4539" y="7268"/>
                </a:cubicBezTo>
                <a:cubicBezTo>
                  <a:pt x="4485" y="7265"/>
                  <a:pt x="4356" y="7323"/>
                  <a:pt x="4316" y="7367"/>
                </a:cubicBezTo>
                <a:cubicBezTo>
                  <a:pt x="4258" y="7430"/>
                  <a:pt x="4221" y="7503"/>
                  <a:pt x="4217" y="7590"/>
                </a:cubicBezTo>
                <a:cubicBezTo>
                  <a:pt x="4212" y="7712"/>
                  <a:pt x="4209" y="7837"/>
                  <a:pt x="4316" y="7913"/>
                </a:cubicBezTo>
                <a:cubicBezTo>
                  <a:pt x="4388" y="7964"/>
                  <a:pt x="4455" y="7962"/>
                  <a:pt x="4539" y="7962"/>
                </a:cubicBezTo>
                <a:cubicBezTo>
                  <a:pt x="4640" y="7962"/>
                  <a:pt x="4713" y="7930"/>
                  <a:pt x="4787" y="7863"/>
                </a:cubicBezTo>
                <a:cubicBezTo>
                  <a:pt x="4834" y="7821"/>
                  <a:pt x="4943" y="7725"/>
                  <a:pt x="4961" y="7665"/>
                </a:cubicBezTo>
                <a:cubicBezTo>
                  <a:pt x="4983" y="7591"/>
                  <a:pt x="4993" y="7512"/>
                  <a:pt x="4961" y="7441"/>
                </a:cubicBezTo>
                <a:cubicBezTo>
                  <a:pt x="4932" y="7377"/>
                  <a:pt x="4895" y="7327"/>
                  <a:pt x="4837" y="7293"/>
                </a:cubicBezTo>
                <a:cubicBezTo>
                  <a:pt x="4793" y="7267"/>
                  <a:pt x="4783" y="7268"/>
                  <a:pt x="4738" y="7268"/>
                </a:cubicBezTo>
              </a:path>
              <a:path w="10742" h="1464">
                <a:moveTo>
                  <a:pt x="5457" y="7392"/>
                </a:moveTo>
                <a:cubicBezTo>
                  <a:pt x="5417" y="7322"/>
                  <a:pt x="5395" y="7314"/>
                  <a:pt x="5333" y="7268"/>
                </a:cubicBezTo>
                <a:cubicBezTo>
                  <a:pt x="5290" y="7236"/>
                  <a:pt x="5266" y="7221"/>
                  <a:pt x="5209" y="7218"/>
                </a:cubicBezTo>
                <a:cubicBezTo>
                  <a:pt x="5160" y="7215"/>
                  <a:pt x="5096" y="7239"/>
                  <a:pt x="5060" y="7268"/>
                </a:cubicBezTo>
                <a:cubicBezTo>
                  <a:pt x="5014" y="7305"/>
                  <a:pt x="5028" y="7353"/>
                  <a:pt x="5035" y="7392"/>
                </a:cubicBezTo>
                <a:cubicBezTo>
                  <a:pt x="5046" y="7449"/>
                  <a:pt x="5069" y="7475"/>
                  <a:pt x="5110" y="7516"/>
                </a:cubicBezTo>
                <a:cubicBezTo>
                  <a:pt x="5207" y="7613"/>
                  <a:pt x="5287" y="7642"/>
                  <a:pt x="5383" y="7714"/>
                </a:cubicBezTo>
                <a:cubicBezTo>
                  <a:pt x="5460" y="7772"/>
                  <a:pt x="5495" y="7841"/>
                  <a:pt x="5531" y="7913"/>
                </a:cubicBezTo>
                <a:cubicBezTo>
                  <a:pt x="5551" y="7952"/>
                  <a:pt x="5543" y="7971"/>
                  <a:pt x="5507" y="8012"/>
                </a:cubicBezTo>
                <a:cubicBezTo>
                  <a:pt x="5447" y="8081"/>
                  <a:pt x="5366" y="8062"/>
                  <a:pt x="5283" y="8062"/>
                </a:cubicBezTo>
                <a:cubicBezTo>
                  <a:pt x="5242" y="8062"/>
                  <a:pt x="5161" y="8046"/>
                  <a:pt x="5135" y="8012"/>
                </a:cubicBezTo>
                <a:cubicBezTo>
                  <a:pt x="5109" y="7978"/>
                  <a:pt x="5096" y="7905"/>
                  <a:pt x="5110" y="7863"/>
                </a:cubicBezTo>
                <a:cubicBezTo>
                  <a:pt x="5118" y="7846"/>
                  <a:pt x="5127" y="7830"/>
                  <a:pt x="5135" y="7813"/>
                </a:cubicBezTo>
              </a:path>
              <a:path w="10742" h="1464">
                <a:moveTo>
                  <a:pt x="5581" y="7119"/>
                </a:moveTo>
                <a:cubicBezTo>
                  <a:pt x="5581" y="7094"/>
                  <a:pt x="5581" y="7086"/>
                  <a:pt x="5581" y="7069"/>
                </a:cubicBezTo>
                <a:cubicBezTo>
                  <a:pt x="5629" y="7069"/>
                  <a:pt x="5659" y="7030"/>
                  <a:pt x="5705" y="7045"/>
                </a:cubicBezTo>
                <a:cubicBezTo>
                  <a:pt x="5737" y="7055"/>
                  <a:pt x="5861" y="7067"/>
                  <a:pt x="5879" y="7094"/>
                </a:cubicBezTo>
                <a:cubicBezTo>
                  <a:pt x="5889" y="7109"/>
                  <a:pt x="5918" y="7168"/>
                  <a:pt x="5904" y="7193"/>
                </a:cubicBezTo>
                <a:cubicBezTo>
                  <a:pt x="5879" y="7238"/>
                  <a:pt x="5866" y="7243"/>
                  <a:pt x="5829" y="7268"/>
                </a:cubicBezTo>
                <a:cubicBezTo>
                  <a:pt x="5795" y="7290"/>
                  <a:pt x="5794" y="7307"/>
                  <a:pt x="5755" y="7317"/>
                </a:cubicBezTo>
                <a:cubicBezTo>
                  <a:pt x="5800" y="7302"/>
                  <a:pt x="5780" y="7293"/>
                  <a:pt x="5854" y="7293"/>
                </a:cubicBezTo>
                <a:cubicBezTo>
                  <a:pt x="5926" y="7293"/>
                  <a:pt x="5986" y="7307"/>
                  <a:pt x="6052" y="7317"/>
                </a:cubicBezTo>
                <a:cubicBezTo>
                  <a:pt x="6118" y="7327"/>
                  <a:pt x="6152" y="7344"/>
                  <a:pt x="6176" y="7417"/>
                </a:cubicBezTo>
                <a:cubicBezTo>
                  <a:pt x="6190" y="7459"/>
                  <a:pt x="6176" y="7511"/>
                  <a:pt x="6152" y="7541"/>
                </a:cubicBezTo>
                <a:cubicBezTo>
                  <a:pt x="6108" y="7596"/>
                  <a:pt x="6083" y="7617"/>
                  <a:pt x="6028" y="7640"/>
                </a:cubicBezTo>
                <a:cubicBezTo>
                  <a:pt x="5987" y="7657"/>
                  <a:pt x="5897" y="7703"/>
                  <a:pt x="5854" y="7689"/>
                </a:cubicBezTo>
                <a:cubicBezTo>
                  <a:pt x="5804" y="7673"/>
                  <a:pt x="5804" y="7653"/>
                  <a:pt x="5829" y="7615"/>
                </a:cubicBezTo>
                <a:cubicBezTo>
                  <a:pt x="5837" y="7607"/>
                  <a:pt x="5846" y="7598"/>
                  <a:pt x="5854" y="7590"/>
                </a:cubicBezTo>
              </a:path>
              <a:path w="10742" h="1464">
                <a:moveTo>
                  <a:pt x="6350" y="7144"/>
                </a:moveTo>
                <a:cubicBezTo>
                  <a:pt x="6361" y="7187"/>
                  <a:pt x="6371" y="7252"/>
                  <a:pt x="6400" y="7293"/>
                </a:cubicBezTo>
                <a:cubicBezTo>
                  <a:pt x="6452" y="7366"/>
                  <a:pt x="6498" y="7440"/>
                  <a:pt x="6548" y="7516"/>
                </a:cubicBezTo>
                <a:cubicBezTo>
                  <a:pt x="6625" y="7632"/>
                  <a:pt x="6683" y="7731"/>
                  <a:pt x="6772" y="7838"/>
                </a:cubicBezTo>
                <a:cubicBezTo>
                  <a:pt x="6797" y="7868"/>
                  <a:pt x="6862" y="7922"/>
                  <a:pt x="6871" y="7938"/>
                </a:cubicBezTo>
                <a:cubicBezTo>
                  <a:pt x="6899" y="7986"/>
                  <a:pt x="6855" y="7900"/>
                  <a:pt x="6846" y="7888"/>
                </a:cubicBezTo>
              </a:path>
              <a:path w="10742" h="1464">
                <a:moveTo>
                  <a:pt x="6747" y="7069"/>
                </a:moveTo>
                <a:cubicBezTo>
                  <a:pt x="6747" y="7126"/>
                  <a:pt x="6731" y="7166"/>
                  <a:pt x="6722" y="7218"/>
                </a:cubicBezTo>
                <a:cubicBezTo>
                  <a:pt x="6707" y="7310"/>
                  <a:pt x="6684" y="7402"/>
                  <a:pt x="6648" y="7491"/>
                </a:cubicBezTo>
                <a:cubicBezTo>
                  <a:pt x="6617" y="7567"/>
                  <a:pt x="6599" y="7639"/>
                  <a:pt x="6573" y="7714"/>
                </a:cubicBezTo>
                <a:cubicBezTo>
                  <a:pt x="6551" y="7776"/>
                  <a:pt x="6525" y="7861"/>
                  <a:pt x="6499" y="7913"/>
                </a:cubicBezTo>
                <a:cubicBezTo>
                  <a:pt x="6483" y="7945"/>
                  <a:pt x="6453" y="7955"/>
                  <a:pt x="6424" y="7962"/>
                </a:cubicBezTo>
                <a:cubicBezTo>
                  <a:pt x="6447" y="7925"/>
                  <a:pt x="6452" y="7900"/>
                  <a:pt x="6474" y="7863"/>
                </a:cubicBezTo>
              </a:path>
              <a:path w="10742" h="1464">
                <a:moveTo>
                  <a:pt x="7541" y="7243"/>
                </a:moveTo>
                <a:cubicBezTo>
                  <a:pt x="7541" y="7187"/>
                  <a:pt x="7537" y="7189"/>
                  <a:pt x="7491" y="7169"/>
                </a:cubicBezTo>
                <a:cubicBezTo>
                  <a:pt x="7414" y="7136"/>
                  <a:pt x="7378" y="7119"/>
                  <a:pt x="7293" y="7119"/>
                </a:cubicBezTo>
                <a:cubicBezTo>
                  <a:pt x="7238" y="7119"/>
                  <a:pt x="7114" y="7142"/>
                  <a:pt x="7069" y="7169"/>
                </a:cubicBezTo>
                <a:cubicBezTo>
                  <a:pt x="7030" y="7193"/>
                  <a:pt x="6948" y="7246"/>
                  <a:pt x="6945" y="7293"/>
                </a:cubicBezTo>
                <a:cubicBezTo>
                  <a:pt x="6939" y="7377"/>
                  <a:pt x="6966" y="7428"/>
                  <a:pt x="7045" y="7466"/>
                </a:cubicBezTo>
                <a:cubicBezTo>
                  <a:pt x="7128" y="7506"/>
                  <a:pt x="7219" y="7531"/>
                  <a:pt x="7293" y="7590"/>
                </a:cubicBezTo>
                <a:cubicBezTo>
                  <a:pt x="7359" y="7642"/>
                  <a:pt x="7461" y="7676"/>
                  <a:pt x="7516" y="7739"/>
                </a:cubicBezTo>
                <a:cubicBezTo>
                  <a:pt x="7548" y="7775"/>
                  <a:pt x="7585" y="7841"/>
                  <a:pt x="7590" y="7888"/>
                </a:cubicBezTo>
                <a:cubicBezTo>
                  <a:pt x="7595" y="7942"/>
                  <a:pt x="7544" y="7943"/>
                  <a:pt x="7516" y="7962"/>
                </a:cubicBezTo>
                <a:cubicBezTo>
                  <a:pt x="7451" y="8005"/>
                  <a:pt x="7416" y="7966"/>
                  <a:pt x="7342" y="7962"/>
                </a:cubicBezTo>
                <a:cubicBezTo>
                  <a:pt x="7264" y="7958"/>
                  <a:pt x="7202" y="7941"/>
                  <a:pt x="7144" y="7888"/>
                </a:cubicBezTo>
                <a:cubicBezTo>
                  <a:pt x="7095" y="7843"/>
                  <a:pt x="7078" y="7827"/>
                  <a:pt x="7069" y="7764"/>
                </a:cubicBezTo>
              </a:path>
              <a:path w="10742" h="1464">
                <a:moveTo>
                  <a:pt x="7689" y="7317"/>
                </a:moveTo>
                <a:cubicBezTo>
                  <a:pt x="7719" y="7415"/>
                  <a:pt x="7758" y="7515"/>
                  <a:pt x="7764" y="7615"/>
                </a:cubicBezTo>
                <a:cubicBezTo>
                  <a:pt x="7768" y="7681"/>
                  <a:pt x="7772" y="7774"/>
                  <a:pt x="7789" y="7838"/>
                </a:cubicBezTo>
                <a:cubicBezTo>
                  <a:pt x="7805" y="7897"/>
                  <a:pt x="7838" y="7902"/>
                  <a:pt x="7838" y="7962"/>
                </a:cubicBezTo>
                <a:cubicBezTo>
                  <a:pt x="7838" y="8028"/>
                  <a:pt x="7838" y="7947"/>
                  <a:pt x="7838" y="7938"/>
                </a:cubicBezTo>
              </a:path>
              <a:path w="10742" h="1464">
                <a:moveTo>
                  <a:pt x="7739" y="7094"/>
                </a:moveTo>
                <a:cubicBezTo>
                  <a:pt x="7764" y="7094"/>
                  <a:pt x="7772" y="7094"/>
                  <a:pt x="7764" y="7119"/>
                </a:cubicBezTo>
              </a:path>
              <a:path w="10742" h="1464">
                <a:moveTo>
                  <a:pt x="7987" y="7268"/>
                </a:moveTo>
                <a:cubicBezTo>
                  <a:pt x="7930" y="7287"/>
                  <a:pt x="7979" y="7316"/>
                  <a:pt x="7987" y="7367"/>
                </a:cubicBezTo>
                <a:cubicBezTo>
                  <a:pt x="7999" y="7439"/>
                  <a:pt x="8002" y="7518"/>
                  <a:pt x="8012" y="7590"/>
                </a:cubicBezTo>
                <a:cubicBezTo>
                  <a:pt x="8023" y="7665"/>
                  <a:pt x="8070" y="7716"/>
                  <a:pt x="8086" y="7789"/>
                </a:cubicBezTo>
                <a:cubicBezTo>
                  <a:pt x="8098" y="7844"/>
                  <a:pt x="8100" y="7893"/>
                  <a:pt x="8136" y="7938"/>
                </a:cubicBezTo>
                <a:cubicBezTo>
                  <a:pt x="8144" y="7946"/>
                  <a:pt x="8153" y="7954"/>
                  <a:pt x="8161" y="7962"/>
                </a:cubicBezTo>
                <a:cubicBezTo>
                  <a:pt x="8147" y="7929"/>
                  <a:pt x="8148" y="7897"/>
                  <a:pt x="8136" y="7863"/>
                </a:cubicBezTo>
                <a:cubicBezTo>
                  <a:pt x="8110" y="7791"/>
                  <a:pt x="8090" y="7742"/>
                  <a:pt x="8086" y="7665"/>
                </a:cubicBezTo>
                <a:cubicBezTo>
                  <a:pt x="8082" y="7586"/>
                  <a:pt x="8076" y="7505"/>
                  <a:pt x="8111" y="7441"/>
                </a:cubicBezTo>
                <a:cubicBezTo>
                  <a:pt x="8135" y="7397"/>
                  <a:pt x="8169" y="7322"/>
                  <a:pt x="8210" y="7293"/>
                </a:cubicBezTo>
                <a:cubicBezTo>
                  <a:pt x="8275" y="7246"/>
                  <a:pt x="8333" y="7243"/>
                  <a:pt x="8409" y="7243"/>
                </a:cubicBezTo>
                <a:cubicBezTo>
                  <a:pt x="8472" y="7243"/>
                  <a:pt x="8556" y="7277"/>
                  <a:pt x="8607" y="7317"/>
                </a:cubicBezTo>
                <a:cubicBezTo>
                  <a:pt x="8678" y="7372"/>
                  <a:pt x="8717" y="7438"/>
                  <a:pt x="8756" y="7516"/>
                </a:cubicBezTo>
                <a:cubicBezTo>
                  <a:pt x="8788" y="7579"/>
                  <a:pt x="8840" y="7670"/>
                  <a:pt x="8855" y="7739"/>
                </a:cubicBezTo>
                <a:cubicBezTo>
                  <a:pt x="8865" y="7784"/>
                  <a:pt x="8876" y="7844"/>
                  <a:pt x="8880" y="7888"/>
                </a:cubicBezTo>
                <a:cubicBezTo>
                  <a:pt x="8880" y="7931"/>
                  <a:pt x="8874" y="7922"/>
                  <a:pt x="8855" y="7838"/>
                </a:cubicBezTo>
              </a:path>
              <a:path w="10742" h="1464">
                <a:moveTo>
                  <a:pt x="8781" y="6921"/>
                </a:moveTo>
                <a:cubicBezTo>
                  <a:pt x="8792" y="6846"/>
                  <a:pt x="8825" y="6821"/>
                  <a:pt x="8905" y="6796"/>
                </a:cubicBezTo>
                <a:cubicBezTo>
                  <a:pt x="8947" y="6783"/>
                  <a:pt x="9007" y="6757"/>
                  <a:pt x="9054" y="6772"/>
                </a:cubicBezTo>
                <a:cubicBezTo>
                  <a:pt x="9102" y="6787"/>
                  <a:pt x="9147" y="6794"/>
                  <a:pt x="9153" y="6846"/>
                </a:cubicBezTo>
                <a:cubicBezTo>
                  <a:pt x="9160" y="6906"/>
                  <a:pt x="9153" y="6942"/>
                  <a:pt x="9128" y="6995"/>
                </a:cubicBezTo>
                <a:cubicBezTo>
                  <a:pt x="9093" y="7069"/>
                  <a:pt x="8991" y="7119"/>
                  <a:pt x="8930" y="7169"/>
                </a:cubicBezTo>
                <a:cubicBezTo>
                  <a:pt x="8903" y="7191"/>
                  <a:pt x="8880" y="7218"/>
                  <a:pt x="8855" y="7243"/>
                </a:cubicBezTo>
                <a:cubicBezTo>
                  <a:pt x="8909" y="7243"/>
                  <a:pt x="8928" y="7242"/>
                  <a:pt x="8979" y="7218"/>
                </a:cubicBezTo>
                <a:cubicBezTo>
                  <a:pt x="9036" y="7191"/>
                  <a:pt x="9065" y="7193"/>
                  <a:pt x="9128" y="7193"/>
                </a:cubicBezTo>
                <a:cubicBezTo>
                  <a:pt x="9169" y="7193"/>
                  <a:pt x="9211" y="7193"/>
                  <a:pt x="9252" y="7193"/>
                </a:cubicBezTo>
              </a:path>
              <a:path w="10742" h="1464">
                <a:moveTo>
                  <a:pt x="9327" y="7144"/>
                </a:moveTo>
                <a:cubicBezTo>
                  <a:pt x="9394" y="7231"/>
                  <a:pt x="9444" y="7305"/>
                  <a:pt x="9500" y="7392"/>
                </a:cubicBezTo>
                <a:cubicBezTo>
                  <a:pt x="9560" y="7484"/>
                  <a:pt x="9625" y="7585"/>
                  <a:pt x="9699" y="7665"/>
                </a:cubicBezTo>
                <a:cubicBezTo>
                  <a:pt x="9743" y="7713"/>
                  <a:pt x="9775" y="7765"/>
                  <a:pt x="9823" y="7813"/>
                </a:cubicBezTo>
                <a:cubicBezTo>
                  <a:pt x="9855" y="7845"/>
                  <a:pt x="9894" y="7854"/>
                  <a:pt x="9922" y="7863"/>
                </a:cubicBezTo>
                <a:cubicBezTo>
                  <a:pt x="9960" y="7812"/>
                  <a:pt x="9931" y="7802"/>
                  <a:pt x="9922" y="7739"/>
                </a:cubicBezTo>
              </a:path>
              <a:path w="10742" h="1464">
                <a:moveTo>
                  <a:pt x="9996" y="6970"/>
                </a:moveTo>
                <a:cubicBezTo>
                  <a:pt x="9986" y="7021"/>
                  <a:pt x="9969" y="7071"/>
                  <a:pt x="9947" y="7119"/>
                </a:cubicBezTo>
                <a:cubicBezTo>
                  <a:pt x="9912" y="7194"/>
                  <a:pt x="9892" y="7299"/>
                  <a:pt x="9847" y="7367"/>
                </a:cubicBezTo>
                <a:cubicBezTo>
                  <a:pt x="9768" y="7486"/>
                  <a:pt x="9690" y="7637"/>
                  <a:pt x="9624" y="7764"/>
                </a:cubicBezTo>
                <a:cubicBezTo>
                  <a:pt x="9601" y="7808"/>
                  <a:pt x="9537" y="7918"/>
                  <a:pt x="9525" y="7962"/>
                </a:cubicBezTo>
                <a:cubicBezTo>
                  <a:pt x="9523" y="7970"/>
                  <a:pt x="9489" y="8120"/>
                  <a:pt x="9525" y="8037"/>
                </a:cubicBezTo>
                <a:cubicBezTo>
                  <a:pt x="9525" y="8029"/>
                  <a:pt x="9525" y="8020"/>
                  <a:pt x="9525" y="8012"/>
                </a:cubicBezTo>
              </a:path>
              <a:path w="10742" h="1464">
                <a:moveTo>
                  <a:pt x="10195" y="7367"/>
                </a:moveTo>
                <a:cubicBezTo>
                  <a:pt x="10268" y="7367"/>
                  <a:pt x="10332" y="7354"/>
                  <a:pt x="10393" y="7342"/>
                </a:cubicBezTo>
                <a:cubicBezTo>
                  <a:pt x="10457" y="7329"/>
                  <a:pt x="10511" y="7336"/>
                  <a:pt x="10567" y="7317"/>
                </a:cubicBezTo>
                <a:cubicBezTo>
                  <a:pt x="10592" y="7317"/>
                  <a:pt x="10600" y="7317"/>
                  <a:pt x="10616" y="7317"/>
                </a:cubicBezTo>
              </a:path>
              <a:path w="10742" h="1464">
                <a:moveTo>
                  <a:pt x="10220" y="7640"/>
                </a:moveTo>
                <a:cubicBezTo>
                  <a:pt x="10278" y="7640"/>
                  <a:pt x="10314" y="7619"/>
                  <a:pt x="10368" y="7615"/>
                </a:cubicBezTo>
                <a:cubicBezTo>
                  <a:pt x="10439" y="7610"/>
                  <a:pt x="10476" y="7606"/>
                  <a:pt x="10542" y="7590"/>
                </a:cubicBezTo>
                <a:cubicBezTo>
                  <a:pt x="10578" y="7581"/>
                  <a:pt x="10629" y="7590"/>
                  <a:pt x="10666" y="7590"/>
                </a:cubicBezTo>
              </a:path>
              <a:path w="10742" h="1464">
                <a:moveTo>
                  <a:pt x="11509" y="7119"/>
                </a:moveTo>
                <a:cubicBezTo>
                  <a:pt x="11485" y="7100"/>
                  <a:pt x="11468" y="7101"/>
                  <a:pt x="11435" y="7069"/>
                </a:cubicBezTo>
                <a:cubicBezTo>
                  <a:pt x="11406" y="7040"/>
                  <a:pt x="11354" y="7012"/>
                  <a:pt x="11311" y="7020"/>
                </a:cubicBezTo>
                <a:cubicBezTo>
                  <a:pt x="11258" y="7030"/>
                  <a:pt x="11185" y="7040"/>
                  <a:pt x="11137" y="7069"/>
                </a:cubicBezTo>
                <a:cubicBezTo>
                  <a:pt x="11075" y="7107"/>
                  <a:pt x="10960" y="7189"/>
                  <a:pt x="10939" y="7268"/>
                </a:cubicBezTo>
                <a:cubicBezTo>
                  <a:pt x="10925" y="7321"/>
                  <a:pt x="10943" y="7376"/>
                  <a:pt x="10964" y="7417"/>
                </a:cubicBezTo>
                <a:cubicBezTo>
                  <a:pt x="11000" y="7485"/>
                  <a:pt x="11038" y="7513"/>
                  <a:pt x="11112" y="7541"/>
                </a:cubicBezTo>
                <a:cubicBezTo>
                  <a:pt x="11220" y="7583"/>
                  <a:pt x="11361" y="7629"/>
                  <a:pt x="11460" y="7689"/>
                </a:cubicBezTo>
                <a:cubicBezTo>
                  <a:pt x="11534" y="7733"/>
                  <a:pt x="11613" y="7784"/>
                  <a:pt x="11683" y="7838"/>
                </a:cubicBezTo>
                <a:cubicBezTo>
                  <a:pt x="11739" y="7881"/>
                  <a:pt x="11742" y="7900"/>
                  <a:pt x="11708" y="7962"/>
                </a:cubicBezTo>
                <a:cubicBezTo>
                  <a:pt x="11687" y="8001"/>
                  <a:pt x="11575" y="8053"/>
                  <a:pt x="11534" y="8062"/>
                </a:cubicBezTo>
                <a:cubicBezTo>
                  <a:pt x="11464" y="8078"/>
                  <a:pt x="11360" y="8103"/>
                  <a:pt x="11286" y="8086"/>
                </a:cubicBezTo>
                <a:cubicBezTo>
                  <a:pt x="11250" y="8078"/>
                  <a:pt x="11149" y="8030"/>
                  <a:pt x="11137" y="7987"/>
                </a:cubicBezTo>
                <a:cubicBezTo>
                  <a:pt x="11119" y="7923"/>
                  <a:pt x="11140" y="7846"/>
                  <a:pt x="11162" y="7789"/>
                </a:cubicBezTo>
              </a:path>
              <a:path w="10742" h="1464">
                <a:moveTo>
                  <a:pt x="11857" y="7094"/>
                </a:moveTo>
                <a:cubicBezTo>
                  <a:pt x="11857" y="7246"/>
                  <a:pt x="11869" y="7390"/>
                  <a:pt x="11881" y="7541"/>
                </a:cubicBezTo>
                <a:cubicBezTo>
                  <a:pt x="11891" y="7660"/>
                  <a:pt x="11888" y="7775"/>
                  <a:pt x="11906" y="7888"/>
                </a:cubicBezTo>
                <a:cubicBezTo>
                  <a:pt x="11912" y="7923"/>
                  <a:pt x="11886" y="8060"/>
                  <a:pt x="11906" y="8012"/>
                </a:cubicBezTo>
                <a:cubicBezTo>
                  <a:pt x="11928" y="7968"/>
                  <a:pt x="11941" y="7957"/>
                  <a:pt x="11906" y="7938"/>
                </a:cubicBezTo>
              </a:path>
              <a:path w="10742" h="1464">
                <a:moveTo>
                  <a:pt x="11906" y="6945"/>
                </a:moveTo>
                <a:cubicBezTo>
                  <a:pt x="11929" y="6923"/>
                  <a:pt x="11934" y="6915"/>
                  <a:pt x="11956" y="6921"/>
                </a:cubicBezTo>
              </a:path>
              <a:path w="10742" h="1464">
                <a:moveTo>
                  <a:pt x="12154" y="7045"/>
                </a:moveTo>
                <a:cubicBezTo>
                  <a:pt x="12154" y="7134"/>
                  <a:pt x="12169" y="7208"/>
                  <a:pt x="12179" y="7293"/>
                </a:cubicBezTo>
                <a:cubicBezTo>
                  <a:pt x="12196" y="7440"/>
                  <a:pt x="12188" y="7594"/>
                  <a:pt x="12204" y="7739"/>
                </a:cubicBezTo>
                <a:cubicBezTo>
                  <a:pt x="12216" y="7844"/>
                  <a:pt x="12201" y="7944"/>
                  <a:pt x="12229" y="8037"/>
                </a:cubicBezTo>
                <a:cubicBezTo>
                  <a:pt x="12229" y="8045"/>
                  <a:pt x="12229" y="8054"/>
                  <a:pt x="12229" y="8062"/>
                </a:cubicBezTo>
                <a:cubicBezTo>
                  <a:pt x="12229" y="7901"/>
                  <a:pt x="12227" y="7747"/>
                  <a:pt x="12204" y="7590"/>
                </a:cubicBezTo>
                <a:cubicBezTo>
                  <a:pt x="12191" y="7497"/>
                  <a:pt x="12226" y="7378"/>
                  <a:pt x="12254" y="7293"/>
                </a:cubicBezTo>
                <a:cubicBezTo>
                  <a:pt x="12278" y="7219"/>
                  <a:pt x="12318" y="7121"/>
                  <a:pt x="12378" y="7069"/>
                </a:cubicBezTo>
                <a:cubicBezTo>
                  <a:pt x="12443" y="7013"/>
                  <a:pt x="12518" y="6983"/>
                  <a:pt x="12601" y="6970"/>
                </a:cubicBezTo>
                <a:cubicBezTo>
                  <a:pt x="12679" y="6957"/>
                  <a:pt x="12747" y="7020"/>
                  <a:pt x="12799" y="7069"/>
                </a:cubicBezTo>
                <a:cubicBezTo>
                  <a:pt x="12876" y="7141"/>
                  <a:pt x="12914" y="7219"/>
                  <a:pt x="12948" y="7317"/>
                </a:cubicBezTo>
                <a:cubicBezTo>
                  <a:pt x="12984" y="7419"/>
                  <a:pt x="12998" y="7480"/>
                  <a:pt x="12998" y="7590"/>
                </a:cubicBezTo>
                <a:cubicBezTo>
                  <a:pt x="12998" y="7706"/>
                  <a:pt x="12998" y="7772"/>
                  <a:pt x="12998" y="7888"/>
                </a:cubicBezTo>
              </a:path>
              <a:path w="10742" h="1464">
                <a:moveTo>
                  <a:pt x="13022" y="6772"/>
                </a:moveTo>
                <a:cubicBezTo>
                  <a:pt x="13049" y="6712"/>
                  <a:pt x="13069" y="6666"/>
                  <a:pt x="13146" y="6648"/>
                </a:cubicBezTo>
                <a:cubicBezTo>
                  <a:pt x="13221" y="6631"/>
                  <a:pt x="13290" y="6623"/>
                  <a:pt x="13370" y="6623"/>
                </a:cubicBezTo>
                <a:cubicBezTo>
                  <a:pt x="13403" y="6623"/>
                  <a:pt x="13522" y="6653"/>
                  <a:pt x="13543" y="6672"/>
                </a:cubicBezTo>
                <a:cubicBezTo>
                  <a:pt x="13572" y="6699"/>
                  <a:pt x="13580" y="6785"/>
                  <a:pt x="13568" y="6821"/>
                </a:cubicBezTo>
                <a:cubicBezTo>
                  <a:pt x="13538" y="6911"/>
                  <a:pt x="13483" y="6934"/>
                  <a:pt x="13419" y="6995"/>
                </a:cubicBezTo>
                <a:cubicBezTo>
                  <a:pt x="13356" y="7055"/>
                  <a:pt x="13285" y="7085"/>
                  <a:pt x="13221" y="7144"/>
                </a:cubicBezTo>
                <a:cubicBezTo>
                  <a:pt x="13188" y="7175"/>
                  <a:pt x="13156" y="7189"/>
                  <a:pt x="13146" y="7218"/>
                </a:cubicBezTo>
                <a:cubicBezTo>
                  <a:pt x="13196" y="7218"/>
                  <a:pt x="13233" y="7201"/>
                  <a:pt x="13271" y="7193"/>
                </a:cubicBezTo>
                <a:cubicBezTo>
                  <a:pt x="13341" y="7179"/>
                  <a:pt x="13406" y="7187"/>
                  <a:pt x="13469" y="7169"/>
                </a:cubicBezTo>
                <a:cubicBezTo>
                  <a:pt x="13515" y="7156"/>
                  <a:pt x="13534" y="7182"/>
                  <a:pt x="13568" y="7193"/>
                </a:cubicBezTo>
                <a:cubicBezTo>
                  <a:pt x="13576" y="7193"/>
                  <a:pt x="13585" y="7193"/>
                  <a:pt x="13593" y="7193"/>
                </a:cubicBezTo>
              </a:path>
              <a:path w="10742" h="1464">
                <a:moveTo>
                  <a:pt x="13767" y="7069"/>
                </a:moveTo>
                <a:cubicBezTo>
                  <a:pt x="13808" y="7125"/>
                  <a:pt x="13859" y="7205"/>
                  <a:pt x="13891" y="7268"/>
                </a:cubicBezTo>
                <a:cubicBezTo>
                  <a:pt x="13931" y="7346"/>
                  <a:pt x="13962" y="7444"/>
                  <a:pt x="14015" y="7516"/>
                </a:cubicBezTo>
                <a:cubicBezTo>
                  <a:pt x="14058" y="7574"/>
                  <a:pt x="14115" y="7636"/>
                  <a:pt x="14163" y="7689"/>
                </a:cubicBezTo>
                <a:cubicBezTo>
                  <a:pt x="14190" y="7719"/>
                  <a:pt x="14274" y="7746"/>
                  <a:pt x="14238" y="7764"/>
                </a:cubicBezTo>
                <a:cubicBezTo>
                  <a:pt x="14199" y="7784"/>
                  <a:pt x="14213" y="7732"/>
                  <a:pt x="14213" y="7714"/>
                </a:cubicBezTo>
              </a:path>
              <a:path w="10742" h="1464">
                <a:moveTo>
                  <a:pt x="14362" y="6896"/>
                </a:moveTo>
                <a:cubicBezTo>
                  <a:pt x="14324" y="6909"/>
                  <a:pt x="14312" y="6972"/>
                  <a:pt x="14288" y="7020"/>
                </a:cubicBezTo>
                <a:cubicBezTo>
                  <a:pt x="14232" y="7133"/>
                  <a:pt x="14200" y="7257"/>
                  <a:pt x="14139" y="7367"/>
                </a:cubicBezTo>
                <a:cubicBezTo>
                  <a:pt x="14083" y="7467"/>
                  <a:pt x="14020" y="7566"/>
                  <a:pt x="13965" y="7665"/>
                </a:cubicBezTo>
                <a:cubicBezTo>
                  <a:pt x="13914" y="7756"/>
                  <a:pt x="13849" y="7851"/>
                  <a:pt x="13791" y="7938"/>
                </a:cubicBezTo>
                <a:cubicBezTo>
                  <a:pt x="13762" y="7981"/>
                  <a:pt x="13784" y="7926"/>
                  <a:pt x="13791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75160" y="2401920"/>
            <a:ext cx="1992600" cy="500040"/>
          </a:xfrm>
          <a:custGeom>
            <a:avLst/>
            <a:gdLst/>
            <a:ahLst/>
            <a:rect l="l" t="t" r="r" b="b"/>
            <a:pathLst>
              <a:path w="5533" h="1391">
                <a:moveTo>
                  <a:pt x="15478" y="6945"/>
                </a:moveTo>
                <a:cubicBezTo>
                  <a:pt x="15502" y="6985"/>
                  <a:pt x="15505" y="7031"/>
                  <a:pt x="15528" y="7069"/>
                </a:cubicBezTo>
                <a:cubicBezTo>
                  <a:pt x="15554" y="7110"/>
                  <a:pt x="15546" y="7098"/>
                  <a:pt x="15553" y="7144"/>
                </a:cubicBezTo>
                <a:cubicBezTo>
                  <a:pt x="15547" y="7095"/>
                  <a:pt x="15560" y="7085"/>
                  <a:pt x="15528" y="7045"/>
                </a:cubicBezTo>
                <a:cubicBezTo>
                  <a:pt x="15495" y="7005"/>
                  <a:pt x="15479" y="6975"/>
                  <a:pt x="15429" y="6945"/>
                </a:cubicBezTo>
                <a:cubicBezTo>
                  <a:pt x="15362" y="6905"/>
                  <a:pt x="15299" y="6916"/>
                  <a:pt x="15230" y="6945"/>
                </a:cubicBezTo>
                <a:cubicBezTo>
                  <a:pt x="15160" y="6974"/>
                  <a:pt x="15071" y="7025"/>
                  <a:pt x="15032" y="7094"/>
                </a:cubicBezTo>
                <a:cubicBezTo>
                  <a:pt x="14979" y="7189"/>
                  <a:pt x="14935" y="7282"/>
                  <a:pt x="14932" y="7392"/>
                </a:cubicBezTo>
                <a:cubicBezTo>
                  <a:pt x="14928" y="7529"/>
                  <a:pt x="14939" y="7665"/>
                  <a:pt x="15007" y="7789"/>
                </a:cubicBezTo>
                <a:cubicBezTo>
                  <a:pt x="15044" y="7856"/>
                  <a:pt x="15164" y="7907"/>
                  <a:pt x="15230" y="7913"/>
                </a:cubicBezTo>
                <a:cubicBezTo>
                  <a:pt x="15314" y="7920"/>
                  <a:pt x="15402" y="7920"/>
                  <a:pt x="15478" y="7888"/>
                </a:cubicBezTo>
                <a:cubicBezTo>
                  <a:pt x="15567" y="7850"/>
                  <a:pt x="15603" y="7837"/>
                  <a:pt x="15677" y="7764"/>
                </a:cubicBezTo>
              </a:path>
              <a:path w="5533" h="1391">
                <a:moveTo>
                  <a:pt x="15999" y="7020"/>
                </a:moveTo>
                <a:cubicBezTo>
                  <a:pt x="15919" y="7000"/>
                  <a:pt x="15937" y="6984"/>
                  <a:pt x="15875" y="7045"/>
                </a:cubicBezTo>
                <a:cubicBezTo>
                  <a:pt x="15822" y="7097"/>
                  <a:pt x="15787" y="7196"/>
                  <a:pt x="15776" y="7268"/>
                </a:cubicBezTo>
                <a:cubicBezTo>
                  <a:pt x="15755" y="7410"/>
                  <a:pt x="15753" y="7629"/>
                  <a:pt x="15801" y="7764"/>
                </a:cubicBezTo>
                <a:cubicBezTo>
                  <a:pt x="15829" y="7841"/>
                  <a:pt x="15905" y="7900"/>
                  <a:pt x="15974" y="7938"/>
                </a:cubicBezTo>
                <a:cubicBezTo>
                  <a:pt x="16032" y="7970"/>
                  <a:pt x="16141" y="7970"/>
                  <a:pt x="16197" y="7938"/>
                </a:cubicBezTo>
                <a:cubicBezTo>
                  <a:pt x="16301" y="7878"/>
                  <a:pt x="16330" y="7830"/>
                  <a:pt x="16396" y="7739"/>
                </a:cubicBezTo>
                <a:cubicBezTo>
                  <a:pt x="16463" y="7646"/>
                  <a:pt x="16470" y="7607"/>
                  <a:pt x="16470" y="7491"/>
                </a:cubicBezTo>
                <a:cubicBezTo>
                  <a:pt x="16470" y="7358"/>
                  <a:pt x="16458" y="7312"/>
                  <a:pt x="16371" y="7218"/>
                </a:cubicBezTo>
                <a:cubicBezTo>
                  <a:pt x="16338" y="7182"/>
                  <a:pt x="16223" y="7102"/>
                  <a:pt x="16173" y="7119"/>
                </a:cubicBezTo>
                <a:cubicBezTo>
                  <a:pt x="16139" y="7130"/>
                  <a:pt x="16105" y="7150"/>
                  <a:pt x="16073" y="7169"/>
                </a:cubicBezTo>
              </a:path>
              <a:path w="5533" h="1391">
                <a:moveTo>
                  <a:pt x="16966" y="7094"/>
                </a:moveTo>
                <a:cubicBezTo>
                  <a:pt x="16920" y="7033"/>
                  <a:pt x="16872" y="6947"/>
                  <a:pt x="16793" y="6921"/>
                </a:cubicBezTo>
                <a:cubicBezTo>
                  <a:pt x="16748" y="6906"/>
                  <a:pt x="16703" y="6927"/>
                  <a:pt x="16669" y="6945"/>
                </a:cubicBezTo>
                <a:cubicBezTo>
                  <a:pt x="16607" y="6977"/>
                  <a:pt x="16586" y="7027"/>
                  <a:pt x="16570" y="7094"/>
                </a:cubicBezTo>
                <a:cubicBezTo>
                  <a:pt x="16551" y="7172"/>
                  <a:pt x="16584" y="7210"/>
                  <a:pt x="16619" y="7268"/>
                </a:cubicBezTo>
                <a:cubicBezTo>
                  <a:pt x="16671" y="7354"/>
                  <a:pt x="16722" y="7419"/>
                  <a:pt x="16793" y="7491"/>
                </a:cubicBezTo>
                <a:cubicBezTo>
                  <a:pt x="16850" y="7548"/>
                  <a:pt x="16903" y="7619"/>
                  <a:pt x="16942" y="7689"/>
                </a:cubicBezTo>
                <a:cubicBezTo>
                  <a:pt x="16977" y="7754"/>
                  <a:pt x="16983" y="7826"/>
                  <a:pt x="16942" y="7888"/>
                </a:cubicBezTo>
                <a:cubicBezTo>
                  <a:pt x="16909" y="7938"/>
                  <a:pt x="16847" y="7950"/>
                  <a:pt x="16793" y="7962"/>
                </a:cubicBezTo>
                <a:cubicBezTo>
                  <a:pt x="16741" y="7974"/>
                  <a:pt x="16659" y="7935"/>
                  <a:pt x="16619" y="7913"/>
                </a:cubicBezTo>
                <a:cubicBezTo>
                  <a:pt x="16518" y="7858"/>
                  <a:pt x="16522" y="7794"/>
                  <a:pt x="16545" y="7689"/>
                </a:cubicBezTo>
              </a:path>
              <a:path w="5533" h="1391">
                <a:moveTo>
                  <a:pt x="17165" y="6995"/>
                </a:moveTo>
                <a:cubicBezTo>
                  <a:pt x="17202" y="7069"/>
                  <a:pt x="17237" y="7140"/>
                  <a:pt x="17264" y="7218"/>
                </a:cubicBezTo>
                <a:cubicBezTo>
                  <a:pt x="17315" y="7364"/>
                  <a:pt x="17411" y="7529"/>
                  <a:pt x="17487" y="7665"/>
                </a:cubicBezTo>
                <a:cubicBezTo>
                  <a:pt x="17530" y="7742"/>
                  <a:pt x="17601" y="7824"/>
                  <a:pt x="17661" y="7888"/>
                </a:cubicBezTo>
                <a:cubicBezTo>
                  <a:pt x="17704" y="7934"/>
                  <a:pt x="17727" y="7997"/>
                  <a:pt x="17785" y="8012"/>
                </a:cubicBezTo>
                <a:cubicBezTo>
                  <a:pt x="17809" y="8000"/>
                  <a:pt x="17785" y="7971"/>
                  <a:pt x="17785" y="7913"/>
                </a:cubicBezTo>
              </a:path>
              <a:path w="5533" h="1391">
                <a:moveTo>
                  <a:pt x="16917" y="6722"/>
                </a:moveTo>
                <a:cubicBezTo>
                  <a:pt x="16957" y="6662"/>
                  <a:pt x="16948" y="6672"/>
                  <a:pt x="17016" y="6672"/>
                </a:cubicBezTo>
                <a:cubicBezTo>
                  <a:pt x="17050" y="6672"/>
                  <a:pt x="17096" y="6659"/>
                  <a:pt x="17115" y="6697"/>
                </a:cubicBezTo>
                <a:cubicBezTo>
                  <a:pt x="17134" y="6735"/>
                  <a:pt x="17104" y="6770"/>
                  <a:pt x="17090" y="6796"/>
                </a:cubicBezTo>
                <a:cubicBezTo>
                  <a:pt x="17061" y="6848"/>
                  <a:pt x="17034" y="6879"/>
                  <a:pt x="16991" y="6921"/>
                </a:cubicBezTo>
                <a:cubicBezTo>
                  <a:pt x="16958" y="6953"/>
                  <a:pt x="16959" y="6980"/>
                  <a:pt x="16942" y="6945"/>
                </a:cubicBezTo>
                <a:cubicBezTo>
                  <a:pt x="16987" y="6945"/>
                  <a:pt x="17001" y="6925"/>
                  <a:pt x="17041" y="6921"/>
                </a:cubicBezTo>
                <a:cubicBezTo>
                  <a:pt x="17086" y="6916"/>
                  <a:pt x="17105" y="6920"/>
                  <a:pt x="17140" y="6945"/>
                </a:cubicBezTo>
              </a:path>
              <a:path w="5533" h="1391">
                <a:moveTo>
                  <a:pt x="17785" y="6995"/>
                </a:moveTo>
                <a:cubicBezTo>
                  <a:pt x="17774" y="7040"/>
                  <a:pt x="17735" y="7073"/>
                  <a:pt x="17711" y="7119"/>
                </a:cubicBezTo>
                <a:cubicBezTo>
                  <a:pt x="17665" y="7207"/>
                  <a:pt x="17606" y="7279"/>
                  <a:pt x="17562" y="7367"/>
                </a:cubicBezTo>
                <a:cubicBezTo>
                  <a:pt x="17508" y="7475"/>
                  <a:pt x="17431" y="7564"/>
                  <a:pt x="17363" y="7665"/>
                </a:cubicBezTo>
                <a:cubicBezTo>
                  <a:pt x="17333" y="7709"/>
                  <a:pt x="17320" y="7789"/>
                  <a:pt x="17264" y="7813"/>
                </a:cubicBezTo>
                <a:cubicBezTo>
                  <a:pt x="17256" y="7813"/>
                  <a:pt x="17247" y="7813"/>
                  <a:pt x="17239" y="7813"/>
                </a:cubicBezTo>
              </a:path>
              <a:path w="5533" h="1391">
                <a:moveTo>
                  <a:pt x="18703" y="6970"/>
                </a:moveTo>
                <a:cubicBezTo>
                  <a:pt x="18726" y="7047"/>
                  <a:pt x="18738" y="7050"/>
                  <a:pt x="18752" y="7094"/>
                </a:cubicBezTo>
                <a:cubicBezTo>
                  <a:pt x="18746" y="7068"/>
                  <a:pt x="18732" y="7009"/>
                  <a:pt x="18703" y="6995"/>
                </a:cubicBezTo>
                <a:cubicBezTo>
                  <a:pt x="18647" y="6967"/>
                  <a:pt x="18625" y="6945"/>
                  <a:pt x="18554" y="6945"/>
                </a:cubicBezTo>
                <a:cubicBezTo>
                  <a:pt x="18483" y="6945"/>
                  <a:pt x="18397" y="7014"/>
                  <a:pt x="18355" y="7069"/>
                </a:cubicBezTo>
                <a:cubicBezTo>
                  <a:pt x="18292" y="7151"/>
                  <a:pt x="18260" y="7210"/>
                  <a:pt x="18256" y="7317"/>
                </a:cubicBezTo>
                <a:cubicBezTo>
                  <a:pt x="18252" y="7428"/>
                  <a:pt x="18226" y="7528"/>
                  <a:pt x="18256" y="7640"/>
                </a:cubicBezTo>
                <a:cubicBezTo>
                  <a:pt x="18277" y="7718"/>
                  <a:pt x="18280" y="7788"/>
                  <a:pt x="18355" y="7838"/>
                </a:cubicBezTo>
                <a:cubicBezTo>
                  <a:pt x="18422" y="7883"/>
                  <a:pt x="18476" y="7888"/>
                  <a:pt x="18554" y="7888"/>
                </a:cubicBezTo>
                <a:cubicBezTo>
                  <a:pt x="18619" y="7888"/>
                  <a:pt x="18700" y="7853"/>
                  <a:pt x="18752" y="7813"/>
                </a:cubicBezTo>
                <a:cubicBezTo>
                  <a:pt x="18807" y="7771"/>
                  <a:pt x="18837" y="7721"/>
                  <a:pt x="18876" y="7665"/>
                </a:cubicBezTo>
              </a:path>
              <a:path w="5533" h="1391">
                <a:moveTo>
                  <a:pt x="18951" y="6970"/>
                </a:moveTo>
                <a:cubicBezTo>
                  <a:pt x="18937" y="7028"/>
                  <a:pt x="18939" y="7078"/>
                  <a:pt x="18926" y="7144"/>
                </a:cubicBezTo>
                <a:cubicBezTo>
                  <a:pt x="18905" y="7254"/>
                  <a:pt x="18880" y="7352"/>
                  <a:pt x="18876" y="7466"/>
                </a:cubicBezTo>
                <a:cubicBezTo>
                  <a:pt x="18873" y="7543"/>
                  <a:pt x="18895" y="7620"/>
                  <a:pt x="18926" y="7689"/>
                </a:cubicBezTo>
                <a:cubicBezTo>
                  <a:pt x="18956" y="7755"/>
                  <a:pt x="19007" y="7785"/>
                  <a:pt x="19075" y="7789"/>
                </a:cubicBezTo>
                <a:cubicBezTo>
                  <a:pt x="19147" y="7793"/>
                  <a:pt x="19213" y="7786"/>
                  <a:pt x="19273" y="7739"/>
                </a:cubicBezTo>
                <a:cubicBezTo>
                  <a:pt x="19329" y="7695"/>
                  <a:pt x="19394" y="7630"/>
                  <a:pt x="19422" y="7565"/>
                </a:cubicBezTo>
                <a:cubicBezTo>
                  <a:pt x="19448" y="7505"/>
                  <a:pt x="19469" y="7382"/>
                  <a:pt x="19447" y="7317"/>
                </a:cubicBezTo>
                <a:cubicBezTo>
                  <a:pt x="19405" y="7197"/>
                  <a:pt x="19324" y="7133"/>
                  <a:pt x="19224" y="7094"/>
                </a:cubicBezTo>
                <a:cubicBezTo>
                  <a:pt x="19169" y="7072"/>
                  <a:pt x="19126" y="7035"/>
                  <a:pt x="19075" y="7020"/>
                </a:cubicBezTo>
                <a:cubicBezTo>
                  <a:pt x="19034" y="7008"/>
                  <a:pt x="19004" y="7023"/>
                  <a:pt x="18976" y="7045"/>
                </a:cubicBezTo>
              </a:path>
              <a:path w="5533" h="1391">
                <a:moveTo>
                  <a:pt x="19893" y="7094"/>
                </a:moveTo>
                <a:cubicBezTo>
                  <a:pt x="19853" y="7053"/>
                  <a:pt x="19804" y="6984"/>
                  <a:pt x="19745" y="6970"/>
                </a:cubicBezTo>
                <a:cubicBezTo>
                  <a:pt x="19676" y="6954"/>
                  <a:pt x="19626" y="6963"/>
                  <a:pt x="19571" y="6970"/>
                </a:cubicBezTo>
                <a:cubicBezTo>
                  <a:pt x="19513" y="6977"/>
                  <a:pt x="19442" y="6981"/>
                  <a:pt x="19422" y="7045"/>
                </a:cubicBezTo>
                <a:cubicBezTo>
                  <a:pt x="19402" y="7108"/>
                  <a:pt x="19446" y="7166"/>
                  <a:pt x="19472" y="7218"/>
                </a:cubicBezTo>
                <a:cubicBezTo>
                  <a:pt x="19513" y="7301"/>
                  <a:pt x="19601" y="7339"/>
                  <a:pt x="19645" y="7417"/>
                </a:cubicBezTo>
                <a:cubicBezTo>
                  <a:pt x="19687" y="7491"/>
                  <a:pt x="19730" y="7561"/>
                  <a:pt x="19769" y="7640"/>
                </a:cubicBezTo>
                <a:cubicBezTo>
                  <a:pt x="19806" y="7715"/>
                  <a:pt x="19805" y="7746"/>
                  <a:pt x="19794" y="7813"/>
                </a:cubicBezTo>
                <a:cubicBezTo>
                  <a:pt x="19786" y="7860"/>
                  <a:pt x="19737" y="7880"/>
                  <a:pt x="19695" y="7888"/>
                </a:cubicBezTo>
                <a:cubicBezTo>
                  <a:pt x="19629" y="7901"/>
                  <a:pt x="19555" y="7889"/>
                  <a:pt x="19496" y="7863"/>
                </a:cubicBezTo>
                <a:cubicBezTo>
                  <a:pt x="19435" y="7836"/>
                  <a:pt x="19360" y="7818"/>
                  <a:pt x="19372" y="7739"/>
                </a:cubicBezTo>
                <a:cubicBezTo>
                  <a:pt x="19380" y="7706"/>
                  <a:pt x="19389" y="7673"/>
                  <a:pt x="19397" y="7640"/>
                </a:cubicBezTo>
              </a:path>
              <a:path w="5533" h="1391">
                <a:moveTo>
                  <a:pt x="19968" y="7069"/>
                </a:moveTo>
                <a:cubicBezTo>
                  <a:pt x="19968" y="7120"/>
                  <a:pt x="19981" y="7170"/>
                  <a:pt x="19993" y="7218"/>
                </a:cubicBezTo>
                <a:cubicBezTo>
                  <a:pt x="20013" y="7295"/>
                  <a:pt x="20050" y="7425"/>
                  <a:pt x="20092" y="7491"/>
                </a:cubicBezTo>
                <a:cubicBezTo>
                  <a:pt x="20144" y="7573"/>
                  <a:pt x="20221" y="7645"/>
                  <a:pt x="20290" y="7714"/>
                </a:cubicBezTo>
                <a:cubicBezTo>
                  <a:pt x="20328" y="7752"/>
                  <a:pt x="20393" y="7779"/>
                  <a:pt x="20414" y="7813"/>
                </a:cubicBezTo>
                <a:cubicBezTo>
                  <a:pt x="20414" y="7838"/>
                  <a:pt x="20414" y="7846"/>
                  <a:pt x="20439" y="7838"/>
                </a:cubicBezTo>
                <a:cubicBezTo>
                  <a:pt x="20477" y="7825"/>
                  <a:pt x="20464" y="7809"/>
                  <a:pt x="20464" y="7764"/>
                </a:cubicBezTo>
                <a:cubicBezTo>
                  <a:pt x="20464" y="7756"/>
                  <a:pt x="20464" y="7747"/>
                  <a:pt x="20464" y="7739"/>
                </a:cubicBezTo>
              </a:path>
              <a:path w="5533" h="1391">
                <a:moveTo>
                  <a:pt x="20389" y="7045"/>
                </a:moveTo>
                <a:cubicBezTo>
                  <a:pt x="20313" y="7110"/>
                  <a:pt x="20298" y="7192"/>
                  <a:pt x="20265" y="7293"/>
                </a:cubicBezTo>
                <a:cubicBezTo>
                  <a:pt x="20228" y="7405"/>
                  <a:pt x="20198" y="7513"/>
                  <a:pt x="20141" y="7615"/>
                </a:cubicBezTo>
                <a:cubicBezTo>
                  <a:pt x="20094" y="7699"/>
                  <a:pt x="20038" y="7777"/>
                  <a:pt x="19993" y="7863"/>
                </a:cubicBezTo>
                <a:cubicBezTo>
                  <a:pt x="19961" y="7924"/>
                  <a:pt x="19903" y="8000"/>
                  <a:pt x="19844" y="8037"/>
                </a:cubicBezTo>
                <a:cubicBezTo>
                  <a:pt x="19819" y="8037"/>
                  <a:pt x="19811" y="8037"/>
                  <a:pt x="1981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52760" y="2963880"/>
            <a:ext cx="6205320" cy="1251000"/>
          </a:xfrm>
          <a:custGeom>
            <a:avLst/>
            <a:gdLst/>
            <a:ahLst/>
            <a:rect l="l" t="t" r="r" b="b"/>
            <a:pathLst>
              <a:path w="17240" h="3474">
                <a:moveTo>
                  <a:pt x="6821" y="9103"/>
                </a:moveTo>
                <a:cubicBezTo>
                  <a:pt x="6846" y="9169"/>
                  <a:pt x="6849" y="9238"/>
                  <a:pt x="6871" y="9302"/>
                </a:cubicBezTo>
                <a:cubicBezTo>
                  <a:pt x="6902" y="9392"/>
                  <a:pt x="6941" y="9451"/>
                  <a:pt x="6945" y="9550"/>
                </a:cubicBezTo>
                <a:cubicBezTo>
                  <a:pt x="6946" y="9575"/>
                  <a:pt x="6945" y="9599"/>
                  <a:pt x="6945" y="9624"/>
                </a:cubicBezTo>
                <a:cubicBezTo>
                  <a:pt x="6920" y="9592"/>
                  <a:pt x="6880" y="9537"/>
                  <a:pt x="6871" y="9500"/>
                </a:cubicBezTo>
                <a:cubicBezTo>
                  <a:pt x="6853" y="9428"/>
                  <a:pt x="6830" y="9372"/>
                  <a:pt x="6796" y="9302"/>
                </a:cubicBezTo>
                <a:cubicBezTo>
                  <a:pt x="6764" y="9237"/>
                  <a:pt x="6725" y="9171"/>
                  <a:pt x="6672" y="9128"/>
                </a:cubicBezTo>
                <a:cubicBezTo>
                  <a:pt x="6618" y="9084"/>
                  <a:pt x="6505" y="9094"/>
                  <a:pt x="6449" y="9128"/>
                </a:cubicBezTo>
                <a:cubicBezTo>
                  <a:pt x="6312" y="9212"/>
                  <a:pt x="6149" y="9354"/>
                  <a:pt x="6077" y="9500"/>
                </a:cubicBezTo>
                <a:cubicBezTo>
                  <a:pt x="6012" y="9633"/>
                  <a:pt x="5990" y="9856"/>
                  <a:pt x="6003" y="9996"/>
                </a:cubicBezTo>
                <a:cubicBezTo>
                  <a:pt x="6014" y="10109"/>
                  <a:pt x="6074" y="10178"/>
                  <a:pt x="6176" y="10220"/>
                </a:cubicBezTo>
                <a:cubicBezTo>
                  <a:pt x="6283" y="10264"/>
                  <a:pt x="6385" y="10290"/>
                  <a:pt x="6499" y="10294"/>
                </a:cubicBezTo>
                <a:cubicBezTo>
                  <a:pt x="6596" y="10297"/>
                  <a:pt x="6682" y="10258"/>
                  <a:pt x="6772" y="10244"/>
                </a:cubicBezTo>
                <a:cubicBezTo>
                  <a:pt x="6823" y="10244"/>
                  <a:pt x="6841" y="10243"/>
                  <a:pt x="6871" y="10220"/>
                </a:cubicBezTo>
              </a:path>
              <a:path w="17240" h="3474">
                <a:moveTo>
                  <a:pt x="7565" y="9475"/>
                </a:moveTo>
                <a:cubicBezTo>
                  <a:pt x="7546" y="9375"/>
                  <a:pt x="7536" y="9262"/>
                  <a:pt x="7491" y="9178"/>
                </a:cubicBezTo>
                <a:cubicBezTo>
                  <a:pt x="7457" y="9114"/>
                  <a:pt x="7439" y="9093"/>
                  <a:pt x="7367" y="9079"/>
                </a:cubicBezTo>
                <a:cubicBezTo>
                  <a:pt x="7278" y="9062"/>
                  <a:pt x="7230" y="9095"/>
                  <a:pt x="7169" y="9153"/>
                </a:cubicBezTo>
                <a:cubicBezTo>
                  <a:pt x="7091" y="9227"/>
                  <a:pt x="7055" y="9275"/>
                  <a:pt x="7020" y="9376"/>
                </a:cubicBezTo>
                <a:cubicBezTo>
                  <a:pt x="6980" y="9490"/>
                  <a:pt x="6970" y="9578"/>
                  <a:pt x="6970" y="9699"/>
                </a:cubicBezTo>
                <a:cubicBezTo>
                  <a:pt x="6970" y="9806"/>
                  <a:pt x="7012" y="9970"/>
                  <a:pt x="7094" y="10046"/>
                </a:cubicBezTo>
                <a:cubicBezTo>
                  <a:pt x="7145" y="10093"/>
                  <a:pt x="7303" y="10114"/>
                  <a:pt x="7367" y="10120"/>
                </a:cubicBezTo>
                <a:cubicBezTo>
                  <a:pt x="7463" y="10129"/>
                  <a:pt x="7581" y="10093"/>
                  <a:pt x="7665" y="10046"/>
                </a:cubicBezTo>
                <a:cubicBezTo>
                  <a:pt x="7767" y="9989"/>
                  <a:pt x="7885" y="9864"/>
                  <a:pt x="7913" y="9748"/>
                </a:cubicBezTo>
                <a:cubicBezTo>
                  <a:pt x="7930" y="9678"/>
                  <a:pt x="7914" y="9587"/>
                  <a:pt x="7888" y="9525"/>
                </a:cubicBezTo>
                <a:cubicBezTo>
                  <a:pt x="7851" y="9438"/>
                  <a:pt x="7811" y="9406"/>
                  <a:pt x="7739" y="9351"/>
                </a:cubicBezTo>
                <a:cubicBezTo>
                  <a:pt x="7681" y="9307"/>
                  <a:pt x="7660" y="9306"/>
                  <a:pt x="7590" y="9302"/>
                </a:cubicBezTo>
                <a:cubicBezTo>
                  <a:pt x="7539" y="9299"/>
                  <a:pt x="7561" y="9317"/>
                  <a:pt x="7541" y="9327"/>
                </a:cubicBezTo>
              </a:path>
              <a:path w="17240" h="3474">
                <a:moveTo>
                  <a:pt x="8483" y="9203"/>
                </a:moveTo>
                <a:cubicBezTo>
                  <a:pt x="8452" y="9101"/>
                  <a:pt x="8462" y="9075"/>
                  <a:pt x="8359" y="9054"/>
                </a:cubicBezTo>
                <a:cubicBezTo>
                  <a:pt x="8292" y="9041"/>
                  <a:pt x="8220" y="9053"/>
                  <a:pt x="8161" y="9079"/>
                </a:cubicBezTo>
                <a:cubicBezTo>
                  <a:pt x="8076" y="9116"/>
                  <a:pt x="8037" y="9150"/>
                  <a:pt x="7987" y="9227"/>
                </a:cubicBezTo>
                <a:cubicBezTo>
                  <a:pt x="7925" y="9322"/>
                  <a:pt x="7941" y="9361"/>
                  <a:pt x="8012" y="9426"/>
                </a:cubicBezTo>
                <a:cubicBezTo>
                  <a:pt x="8078" y="9487"/>
                  <a:pt x="8146" y="9535"/>
                  <a:pt x="8210" y="9599"/>
                </a:cubicBezTo>
                <a:cubicBezTo>
                  <a:pt x="8281" y="9670"/>
                  <a:pt x="8362" y="9726"/>
                  <a:pt x="8434" y="9798"/>
                </a:cubicBezTo>
                <a:cubicBezTo>
                  <a:pt x="8494" y="9858"/>
                  <a:pt x="8528" y="9885"/>
                  <a:pt x="8533" y="9971"/>
                </a:cubicBezTo>
                <a:cubicBezTo>
                  <a:pt x="8539" y="10073"/>
                  <a:pt x="8469" y="10111"/>
                  <a:pt x="8384" y="10145"/>
                </a:cubicBezTo>
                <a:cubicBezTo>
                  <a:pt x="8317" y="10171"/>
                  <a:pt x="8208" y="10187"/>
                  <a:pt x="8136" y="10170"/>
                </a:cubicBezTo>
                <a:cubicBezTo>
                  <a:pt x="8052" y="10150"/>
                  <a:pt x="8015" y="10136"/>
                  <a:pt x="7962" y="10071"/>
                </a:cubicBezTo>
                <a:cubicBezTo>
                  <a:pt x="7914" y="10013"/>
                  <a:pt x="7949" y="10015"/>
                  <a:pt x="7962" y="9922"/>
                </a:cubicBezTo>
              </a:path>
              <a:path w="17240" h="3474">
                <a:moveTo>
                  <a:pt x="8632" y="9004"/>
                </a:moveTo>
                <a:cubicBezTo>
                  <a:pt x="8685" y="8991"/>
                  <a:pt x="8717" y="8979"/>
                  <a:pt x="8781" y="8979"/>
                </a:cubicBezTo>
                <a:cubicBezTo>
                  <a:pt x="8857" y="8979"/>
                  <a:pt x="8933" y="8968"/>
                  <a:pt x="9004" y="9004"/>
                </a:cubicBezTo>
                <a:cubicBezTo>
                  <a:pt x="9037" y="9020"/>
                  <a:pt x="9047" y="9050"/>
                  <a:pt x="9054" y="9079"/>
                </a:cubicBezTo>
                <a:cubicBezTo>
                  <a:pt x="9006" y="9116"/>
                  <a:pt x="8953" y="9142"/>
                  <a:pt x="8905" y="9178"/>
                </a:cubicBezTo>
                <a:cubicBezTo>
                  <a:pt x="8872" y="9203"/>
                  <a:pt x="8839" y="9226"/>
                  <a:pt x="8830" y="9252"/>
                </a:cubicBezTo>
                <a:cubicBezTo>
                  <a:pt x="8888" y="9237"/>
                  <a:pt x="8931" y="9213"/>
                  <a:pt x="9004" y="9227"/>
                </a:cubicBezTo>
                <a:cubicBezTo>
                  <a:pt x="9063" y="9238"/>
                  <a:pt x="9165" y="9248"/>
                  <a:pt x="9203" y="9302"/>
                </a:cubicBezTo>
                <a:cubicBezTo>
                  <a:pt x="9224" y="9332"/>
                  <a:pt x="9267" y="9385"/>
                  <a:pt x="9252" y="9426"/>
                </a:cubicBezTo>
                <a:cubicBezTo>
                  <a:pt x="9229" y="9490"/>
                  <a:pt x="9185" y="9520"/>
                  <a:pt x="9128" y="9550"/>
                </a:cubicBezTo>
                <a:cubicBezTo>
                  <a:pt x="9066" y="9583"/>
                  <a:pt x="9022" y="9608"/>
                  <a:pt x="8954" y="9624"/>
                </a:cubicBezTo>
                <a:cubicBezTo>
                  <a:pt x="8913" y="9634"/>
                  <a:pt x="8884" y="9624"/>
                  <a:pt x="8855" y="9599"/>
                </a:cubicBezTo>
                <a:cubicBezTo>
                  <a:pt x="8847" y="9591"/>
                  <a:pt x="8838" y="9583"/>
                  <a:pt x="8830" y="9575"/>
                </a:cubicBezTo>
              </a:path>
              <a:path w="17240" h="3474">
                <a:moveTo>
                  <a:pt x="9525" y="9401"/>
                </a:moveTo>
                <a:cubicBezTo>
                  <a:pt x="9551" y="9510"/>
                  <a:pt x="9585" y="9595"/>
                  <a:pt x="9624" y="9699"/>
                </a:cubicBezTo>
                <a:cubicBezTo>
                  <a:pt x="9654" y="9777"/>
                  <a:pt x="9697" y="9885"/>
                  <a:pt x="9748" y="9947"/>
                </a:cubicBezTo>
                <a:cubicBezTo>
                  <a:pt x="9807" y="10017"/>
                  <a:pt x="9882" y="10079"/>
                  <a:pt x="9947" y="10145"/>
                </a:cubicBezTo>
                <a:cubicBezTo>
                  <a:pt x="9969" y="10168"/>
                  <a:pt x="9977" y="10179"/>
                  <a:pt x="9971" y="10145"/>
                </a:cubicBezTo>
              </a:path>
              <a:path w="17240" h="3474">
                <a:moveTo>
                  <a:pt x="9996" y="9227"/>
                </a:moveTo>
                <a:cubicBezTo>
                  <a:pt x="9996" y="9178"/>
                  <a:pt x="10006" y="9279"/>
                  <a:pt x="9996" y="9327"/>
                </a:cubicBezTo>
                <a:cubicBezTo>
                  <a:pt x="9964" y="9486"/>
                  <a:pt x="9887" y="9629"/>
                  <a:pt x="9823" y="9773"/>
                </a:cubicBezTo>
                <a:cubicBezTo>
                  <a:pt x="9778" y="9875"/>
                  <a:pt x="9752" y="9971"/>
                  <a:pt x="9699" y="10071"/>
                </a:cubicBezTo>
                <a:cubicBezTo>
                  <a:pt x="9669" y="10128"/>
                  <a:pt x="9623" y="10190"/>
                  <a:pt x="9599" y="10244"/>
                </a:cubicBezTo>
                <a:cubicBezTo>
                  <a:pt x="9599" y="10269"/>
                  <a:pt x="9599" y="10277"/>
                  <a:pt x="9575" y="10269"/>
                </a:cubicBezTo>
              </a:path>
              <a:path w="17240" h="3474">
                <a:moveTo>
                  <a:pt x="10716" y="9575"/>
                </a:moveTo>
                <a:cubicBezTo>
                  <a:pt x="10770" y="9545"/>
                  <a:pt x="10856" y="9474"/>
                  <a:pt x="10914" y="9451"/>
                </a:cubicBezTo>
                <a:cubicBezTo>
                  <a:pt x="10987" y="9423"/>
                  <a:pt x="10956" y="9400"/>
                  <a:pt x="10939" y="9351"/>
                </a:cubicBezTo>
                <a:cubicBezTo>
                  <a:pt x="10917" y="9286"/>
                  <a:pt x="10883" y="9302"/>
                  <a:pt x="10815" y="9302"/>
                </a:cubicBezTo>
                <a:cubicBezTo>
                  <a:pt x="10721" y="9302"/>
                  <a:pt x="10665" y="9355"/>
                  <a:pt x="10592" y="9401"/>
                </a:cubicBezTo>
                <a:cubicBezTo>
                  <a:pt x="10523" y="9445"/>
                  <a:pt x="10459" y="9481"/>
                  <a:pt x="10418" y="9550"/>
                </a:cubicBezTo>
                <a:cubicBezTo>
                  <a:pt x="10370" y="9631"/>
                  <a:pt x="10409" y="9660"/>
                  <a:pt x="10468" y="9723"/>
                </a:cubicBezTo>
                <a:cubicBezTo>
                  <a:pt x="10533" y="9792"/>
                  <a:pt x="10605" y="9838"/>
                  <a:pt x="10666" y="9897"/>
                </a:cubicBezTo>
                <a:cubicBezTo>
                  <a:pt x="10711" y="9940"/>
                  <a:pt x="10817" y="10052"/>
                  <a:pt x="10840" y="10120"/>
                </a:cubicBezTo>
                <a:cubicBezTo>
                  <a:pt x="10854" y="10161"/>
                  <a:pt x="10827" y="10224"/>
                  <a:pt x="10790" y="10244"/>
                </a:cubicBezTo>
                <a:cubicBezTo>
                  <a:pt x="10740" y="10271"/>
                  <a:pt x="10674" y="10269"/>
                  <a:pt x="10616" y="10269"/>
                </a:cubicBezTo>
                <a:cubicBezTo>
                  <a:pt x="10551" y="10269"/>
                  <a:pt x="10478" y="10246"/>
                  <a:pt x="10418" y="10220"/>
                </a:cubicBezTo>
                <a:cubicBezTo>
                  <a:pt x="10341" y="10186"/>
                  <a:pt x="10344" y="10145"/>
                  <a:pt x="10344" y="10071"/>
                </a:cubicBezTo>
                <a:cubicBezTo>
                  <a:pt x="10344" y="10063"/>
                  <a:pt x="10344" y="10054"/>
                  <a:pt x="10344" y="10046"/>
                </a:cubicBezTo>
              </a:path>
              <a:path w="17240" h="3474">
                <a:moveTo>
                  <a:pt x="11162" y="9500"/>
                </a:moveTo>
                <a:cubicBezTo>
                  <a:pt x="11203" y="9609"/>
                  <a:pt x="11208" y="9729"/>
                  <a:pt x="11212" y="9847"/>
                </a:cubicBezTo>
                <a:cubicBezTo>
                  <a:pt x="11215" y="9927"/>
                  <a:pt x="11224" y="10005"/>
                  <a:pt x="11237" y="10071"/>
                </a:cubicBezTo>
                <a:cubicBezTo>
                  <a:pt x="11246" y="10120"/>
                  <a:pt x="11211" y="10233"/>
                  <a:pt x="11237" y="10195"/>
                </a:cubicBezTo>
                <a:cubicBezTo>
                  <a:pt x="11259" y="10172"/>
                  <a:pt x="11267" y="10167"/>
                  <a:pt x="11261" y="10145"/>
                </a:cubicBezTo>
              </a:path>
              <a:path w="17240" h="3474">
                <a:moveTo>
                  <a:pt x="11237" y="9252"/>
                </a:moveTo>
                <a:cubicBezTo>
                  <a:pt x="11259" y="9229"/>
                  <a:pt x="11267" y="9218"/>
                  <a:pt x="11261" y="9252"/>
                </a:cubicBezTo>
              </a:path>
              <a:path w="17240" h="3474">
                <a:moveTo>
                  <a:pt x="11534" y="9525"/>
                </a:moveTo>
                <a:cubicBezTo>
                  <a:pt x="11492" y="9420"/>
                  <a:pt x="11513" y="9472"/>
                  <a:pt x="11460" y="9426"/>
                </a:cubicBezTo>
                <a:cubicBezTo>
                  <a:pt x="11460" y="9514"/>
                  <a:pt x="11474" y="9592"/>
                  <a:pt x="11485" y="9674"/>
                </a:cubicBezTo>
                <a:cubicBezTo>
                  <a:pt x="11496" y="9758"/>
                  <a:pt x="11524" y="9841"/>
                  <a:pt x="11534" y="9922"/>
                </a:cubicBezTo>
                <a:cubicBezTo>
                  <a:pt x="11542" y="9984"/>
                  <a:pt x="11556" y="10035"/>
                  <a:pt x="11559" y="10096"/>
                </a:cubicBezTo>
                <a:cubicBezTo>
                  <a:pt x="11559" y="10120"/>
                  <a:pt x="11559" y="10129"/>
                  <a:pt x="11559" y="10145"/>
                </a:cubicBezTo>
                <a:cubicBezTo>
                  <a:pt x="11520" y="10112"/>
                  <a:pt x="11500" y="10117"/>
                  <a:pt x="11485" y="10046"/>
                </a:cubicBezTo>
                <a:cubicBezTo>
                  <a:pt x="11459" y="9925"/>
                  <a:pt x="11449" y="9810"/>
                  <a:pt x="11460" y="9699"/>
                </a:cubicBezTo>
                <a:cubicBezTo>
                  <a:pt x="11467" y="9624"/>
                  <a:pt x="11485" y="9537"/>
                  <a:pt x="11534" y="9475"/>
                </a:cubicBezTo>
                <a:cubicBezTo>
                  <a:pt x="11590" y="9403"/>
                  <a:pt x="11638" y="9347"/>
                  <a:pt x="11733" y="9327"/>
                </a:cubicBezTo>
                <a:cubicBezTo>
                  <a:pt x="11797" y="9314"/>
                  <a:pt x="11924" y="9315"/>
                  <a:pt x="11981" y="9351"/>
                </a:cubicBezTo>
                <a:cubicBezTo>
                  <a:pt x="12063" y="9402"/>
                  <a:pt x="12118" y="9505"/>
                  <a:pt x="12179" y="9575"/>
                </a:cubicBezTo>
                <a:cubicBezTo>
                  <a:pt x="12248" y="9654"/>
                  <a:pt x="12291" y="9724"/>
                  <a:pt x="12328" y="9823"/>
                </a:cubicBezTo>
                <a:cubicBezTo>
                  <a:pt x="12357" y="9900"/>
                  <a:pt x="12353" y="9965"/>
                  <a:pt x="12353" y="10046"/>
                </a:cubicBezTo>
                <a:cubicBezTo>
                  <a:pt x="12353" y="10057"/>
                  <a:pt x="12353" y="10160"/>
                  <a:pt x="12353" y="10096"/>
                </a:cubicBezTo>
                <a:cubicBezTo>
                  <a:pt x="12353" y="10079"/>
                  <a:pt x="12353" y="10063"/>
                  <a:pt x="12353" y="10046"/>
                </a:cubicBezTo>
              </a:path>
              <a:path w="17240" h="3474">
                <a:moveTo>
                  <a:pt x="12303" y="9153"/>
                </a:moveTo>
                <a:cubicBezTo>
                  <a:pt x="12341" y="9087"/>
                  <a:pt x="12351" y="9060"/>
                  <a:pt x="12427" y="9054"/>
                </a:cubicBezTo>
                <a:cubicBezTo>
                  <a:pt x="12498" y="9048"/>
                  <a:pt x="12545" y="9060"/>
                  <a:pt x="12601" y="9079"/>
                </a:cubicBezTo>
                <a:cubicBezTo>
                  <a:pt x="12647" y="9094"/>
                  <a:pt x="12669" y="9119"/>
                  <a:pt x="12650" y="9178"/>
                </a:cubicBezTo>
                <a:cubicBezTo>
                  <a:pt x="12634" y="9227"/>
                  <a:pt x="12582" y="9311"/>
                  <a:pt x="12551" y="9351"/>
                </a:cubicBezTo>
                <a:cubicBezTo>
                  <a:pt x="12505" y="9410"/>
                  <a:pt x="12449" y="9442"/>
                  <a:pt x="12402" y="9500"/>
                </a:cubicBezTo>
                <a:cubicBezTo>
                  <a:pt x="12471" y="9517"/>
                  <a:pt x="12474" y="9518"/>
                  <a:pt x="12551" y="9500"/>
                </a:cubicBezTo>
                <a:cubicBezTo>
                  <a:pt x="12613" y="9486"/>
                  <a:pt x="12696" y="9486"/>
                  <a:pt x="12750" y="9475"/>
                </a:cubicBezTo>
                <a:cubicBezTo>
                  <a:pt x="12786" y="9468"/>
                  <a:pt x="12836" y="9475"/>
                  <a:pt x="12874" y="9475"/>
                </a:cubicBezTo>
              </a:path>
              <a:path w="17240" h="3474">
                <a:moveTo>
                  <a:pt x="12973" y="9277"/>
                </a:moveTo>
                <a:cubicBezTo>
                  <a:pt x="13020" y="9352"/>
                  <a:pt x="13071" y="9406"/>
                  <a:pt x="13122" y="9475"/>
                </a:cubicBezTo>
                <a:cubicBezTo>
                  <a:pt x="13183" y="9557"/>
                  <a:pt x="13258" y="9620"/>
                  <a:pt x="13320" y="9699"/>
                </a:cubicBezTo>
                <a:cubicBezTo>
                  <a:pt x="13384" y="9780"/>
                  <a:pt x="13461" y="9862"/>
                  <a:pt x="13519" y="9947"/>
                </a:cubicBezTo>
                <a:cubicBezTo>
                  <a:pt x="13563" y="10012"/>
                  <a:pt x="13632" y="10053"/>
                  <a:pt x="13692" y="10096"/>
                </a:cubicBezTo>
                <a:cubicBezTo>
                  <a:pt x="13700" y="10104"/>
                  <a:pt x="13709" y="10112"/>
                  <a:pt x="13717" y="10120"/>
                </a:cubicBezTo>
              </a:path>
              <a:path w="17240" h="3474">
                <a:moveTo>
                  <a:pt x="13568" y="9203"/>
                </a:moveTo>
                <a:cubicBezTo>
                  <a:pt x="13536" y="9245"/>
                  <a:pt x="13520" y="9299"/>
                  <a:pt x="13494" y="9351"/>
                </a:cubicBezTo>
                <a:cubicBezTo>
                  <a:pt x="13454" y="9431"/>
                  <a:pt x="13430" y="9517"/>
                  <a:pt x="13395" y="9599"/>
                </a:cubicBezTo>
                <a:cubicBezTo>
                  <a:pt x="13363" y="9674"/>
                  <a:pt x="13327" y="9748"/>
                  <a:pt x="13295" y="9823"/>
                </a:cubicBezTo>
                <a:cubicBezTo>
                  <a:pt x="13277" y="9866"/>
                  <a:pt x="13243" y="9935"/>
                  <a:pt x="13221" y="9971"/>
                </a:cubicBezTo>
                <a:cubicBezTo>
                  <a:pt x="13196" y="9996"/>
                  <a:pt x="13188" y="10004"/>
                  <a:pt x="13171" y="10021"/>
                </a:cubicBezTo>
              </a:path>
              <a:path w="17240" h="3474">
                <a:moveTo>
                  <a:pt x="13742" y="9475"/>
                </a:moveTo>
                <a:cubicBezTo>
                  <a:pt x="13803" y="9475"/>
                  <a:pt x="13833" y="9465"/>
                  <a:pt x="13891" y="9451"/>
                </a:cubicBezTo>
                <a:cubicBezTo>
                  <a:pt x="13955" y="9435"/>
                  <a:pt x="14047" y="9451"/>
                  <a:pt x="14114" y="9451"/>
                </a:cubicBezTo>
              </a:path>
              <a:path w="17240" h="3474">
                <a:moveTo>
                  <a:pt x="13940" y="9699"/>
                </a:moveTo>
                <a:cubicBezTo>
                  <a:pt x="13993" y="9737"/>
                  <a:pt x="13999" y="9704"/>
                  <a:pt x="14064" y="9699"/>
                </a:cubicBezTo>
                <a:cubicBezTo>
                  <a:pt x="14109" y="9695"/>
                  <a:pt x="14141" y="9674"/>
                  <a:pt x="14188" y="9674"/>
                </a:cubicBezTo>
              </a:path>
              <a:path w="17240" h="3474">
                <a:moveTo>
                  <a:pt x="15255" y="9376"/>
                </a:moveTo>
                <a:cubicBezTo>
                  <a:pt x="15245" y="9346"/>
                  <a:pt x="15234" y="9335"/>
                  <a:pt x="15205" y="9302"/>
                </a:cubicBezTo>
                <a:cubicBezTo>
                  <a:pt x="15160" y="9251"/>
                  <a:pt x="15148" y="9252"/>
                  <a:pt x="15081" y="9252"/>
                </a:cubicBezTo>
                <a:cubicBezTo>
                  <a:pt x="15008" y="9252"/>
                  <a:pt x="14974" y="9269"/>
                  <a:pt x="14908" y="9302"/>
                </a:cubicBezTo>
                <a:cubicBezTo>
                  <a:pt x="14853" y="9330"/>
                  <a:pt x="14802" y="9370"/>
                  <a:pt x="14784" y="9426"/>
                </a:cubicBezTo>
                <a:cubicBezTo>
                  <a:pt x="14775" y="9453"/>
                  <a:pt x="14816" y="9507"/>
                  <a:pt x="14833" y="9525"/>
                </a:cubicBezTo>
                <a:cubicBezTo>
                  <a:pt x="14909" y="9607"/>
                  <a:pt x="15020" y="9650"/>
                  <a:pt x="15106" y="9723"/>
                </a:cubicBezTo>
                <a:cubicBezTo>
                  <a:pt x="15196" y="9800"/>
                  <a:pt x="15298" y="9892"/>
                  <a:pt x="15354" y="9996"/>
                </a:cubicBezTo>
                <a:cubicBezTo>
                  <a:pt x="15377" y="10039"/>
                  <a:pt x="15394" y="10112"/>
                  <a:pt x="15354" y="10145"/>
                </a:cubicBezTo>
                <a:cubicBezTo>
                  <a:pt x="15294" y="10194"/>
                  <a:pt x="15229" y="10195"/>
                  <a:pt x="15156" y="10195"/>
                </a:cubicBezTo>
                <a:cubicBezTo>
                  <a:pt x="15071" y="10195"/>
                  <a:pt x="15005" y="10196"/>
                  <a:pt x="14932" y="10145"/>
                </a:cubicBezTo>
                <a:cubicBezTo>
                  <a:pt x="14882" y="10110"/>
                  <a:pt x="14867" y="10027"/>
                  <a:pt x="14883" y="9971"/>
                </a:cubicBezTo>
                <a:cubicBezTo>
                  <a:pt x="14908" y="9922"/>
                  <a:pt x="14916" y="9905"/>
                  <a:pt x="14932" y="9872"/>
                </a:cubicBezTo>
              </a:path>
              <a:path w="17240" h="3474">
                <a:moveTo>
                  <a:pt x="15503" y="9401"/>
                </a:moveTo>
                <a:cubicBezTo>
                  <a:pt x="15532" y="9501"/>
                  <a:pt x="15563" y="9596"/>
                  <a:pt x="15577" y="9699"/>
                </a:cubicBezTo>
                <a:cubicBezTo>
                  <a:pt x="15587" y="9771"/>
                  <a:pt x="15595" y="9854"/>
                  <a:pt x="15602" y="9922"/>
                </a:cubicBezTo>
                <a:cubicBezTo>
                  <a:pt x="15603" y="9927"/>
                  <a:pt x="15602" y="10155"/>
                  <a:pt x="15602" y="10096"/>
                </a:cubicBezTo>
                <a:cubicBezTo>
                  <a:pt x="15602" y="10088"/>
                  <a:pt x="15602" y="10079"/>
                  <a:pt x="15602" y="10071"/>
                </a:cubicBezTo>
              </a:path>
              <a:path w="17240" h="3474">
                <a:moveTo>
                  <a:pt x="15453" y="9103"/>
                </a:moveTo>
                <a:cubicBezTo>
                  <a:pt x="15476" y="9081"/>
                  <a:pt x="15481" y="9073"/>
                  <a:pt x="15503" y="9079"/>
                </a:cubicBezTo>
              </a:path>
              <a:path w="17240" h="3474">
                <a:moveTo>
                  <a:pt x="15726" y="9351"/>
                </a:moveTo>
                <a:cubicBezTo>
                  <a:pt x="15726" y="9433"/>
                  <a:pt x="15741" y="9500"/>
                  <a:pt x="15751" y="9575"/>
                </a:cubicBezTo>
                <a:cubicBezTo>
                  <a:pt x="15762" y="9656"/>
                  <a:pt x="15772" y="9743"/>
                  <a:pt x="15776" y="9823"/>
                </a:cubicBezTo>
                <a:cubicBezTo>
                  <a:pt x="15780" y="9889"/>
                  <a:pt x="15809" y="9941"/>
                  <a:pt x="15825" y="9996"/>
                </a:cubicBezTo>
                <a:cubicBezTo>
                  <a:pt x="15837" y="10036"/>
                  <a:pt x="15834" y="10036"/>
                  <a:pt x="15875" y="10046"/>
                </a:cubicBezTo>
                <a:cubicBezTo>
                  <a:pt x="15865" y="9994"/>
                  <a:pt x="15836" y="9948"/>
                  <a:pt x="15825" y="9897"/>
                </a:cubicBezTo>
                <a:cubicBezTo>
                  <a:pt x="15811" y="9830"/>
                  <a:pt x="15801" y="9770"/>
                  <a:pt x="15801" y="9699"/>
                </a:cubicBezTo>
                <a:cubicBezTo>
                  <a:pt x="15801" y="9625"/>
                  <a:pt x="15795" y="9568"/>
                  <a:pt x="15825" y="9500"/>
                </a:cubicBezTo>
                <a:cubicBezTo>
                  <a:pt x="15864" y="9413"/>
                  <a:pt x="15902" y="9382"/>
                  <a:pt x="15974" y="9327"/>
                </a:cubicBezTo>
                <a:cubicBezTo>
                  <a:pt x="16033" y="9282"/>
                  <a:pt x="16106" y="9297"/>
                  <a:pt x="16173" y="9327"/>
                </a:cubicBezTo>
                <a:cubicBezTo>
                  <a:pt x="16302" y="9384"/>
                  <a:pt x="16363" y="9429"/>
                  <a:pt x="16421" y="9550"/>
                </a:cubicBezTo>
                <a:cubicBezTo>
                  <a:pt x="16467" y="9646"/>
                  <a:pt x="16497" y="9699"/>
                  <a:pt x="16520" y="9798"/>
                </a:cubicBezTo>
                <a:cubicBezTo>
                  <a:pt x="16539" y="9879"/>
                  <a:pt x="16545" y="9937"/>
                  <a:pt x="16545" y="10021"/>
                </a:cubicBezTo>
                <a:cubicBezTo>
                  <a:pt x="16545" y="10076"/>
                  <a:pt x="16545" y="10123"/>
                  <a:pt x="16545" y="10046"/>
                </a:cubicBezTo>
              </a:path>
              <a:path w="17240" h="3474">
                <a:moveTo>
                  <a:pt x="16396" y="9054"/>
                </a:moveTo>
                <a:cubicBezTo>
                  <a:pt x="16388" y="9054"/>
                  <a:pt x="16379" y="9054"/>
                  <a:pt x="16371" y="9054"/>
                </a:cubicBezTo>
                <a:cubicBezTo>
                  <a:pt x="16386" y="8994"/>
                  <a:pt x="16409" y="9004"/>
                  <a:pt x="16470" y="9004"/>
                </a:cubicBezTo>
                <a:cubicBezTo>
                  <a:pt x="16570" y="9004"/>
                  <a:pt x="16650" y="9007"/>
                  <a:pt x="16743" y="9029"/>
                </a:cubicBezTo>
                <a:cubicBezTo>
                  <a:pt x="16793" y="9041"/>
                  <a:pt x="16793" y="9053"/>
                  <a:pt x="16793" y="9103"/>
                </a:cubicBezTo>
                <a:cubicBezTo>
                  <a:pt x="16793" y="9163"/>
                  <a:pt x="16739" y="9217"/>
                  <a:pt x="16694" y="9252"/>
                </a:cubicBezTo>
                <a:cubicBezTo>
                  <a:pt x="16620" y="9309"/>
                  <a:pt x="16615" y="9315"/>
                  <a:pt x="16570" y="9376"/>
                </a:cubicBezTo>
                <a:cubicBezTo>
                  <a:pt x="16686" y="9376"/>
                  <a:pt x="16801" y="9376"/>
                  <a:pt x="16917" y="9376"/>
                </a:cubicBezTo>
              </a:path>
              <a:path w="17240" h="3474">
                <a:moveTo>
                  <a:pt x="17115" y="9103"/>
                </a:moveTo>
                <a:cubicBezTo>
                  <a:pt x="17126" y="9146"/>
                  <a:pt x="17160" y="9213"/>
                  <a:pt x="17190" y="9252"/>
                </a:cubicBezTo>
                <a:cubicBezTo>
                  <a:pt x="17250" y="9329"/>
                  <a:pt x="17287" y="9414"/>
                  <a:pt x="17338" y="9500"/>
                </a:cubicBezTo>
                <a:cubicBezTo>
                  <a:pt x="17402" y="9609"/>
                  <a:pt x="17474" y="9714"/>
                  <a:pt x="17537" y="9823"/>
                </a:cubicBezTo>
                <a:cubicBezTo>
                  <a:pt x="17567" y="9875"/>
                  <a:pt x="17596" y="9927"/>
                  <a:pt x="17636" y="9971"/>
                </a:cubicBezTo>
                <a:cubicBezTo>
                  <a:pt x="17663" y="10001"/>
                  <a:pt x="17675" y="10012"/>
                  <a:pt x="17711" y="10021"/>
                </a:cubicBezTo>
                <a:cubicBezTo>
                  <a:pt x="17711" y="9996"/>
                  <a:pt x="17711" y="9972"/>
                  <a:pt x="17711" y="9947"/>
                </a:cubicBezTo>
              </a:path>
              <a:path w="17240" h="3474">
                <a:moveTo>
                  <a:pt x="17587" y="9054"/>
                </a:moveTo>
                <a:cubicBezTo>
                  <a:pt x="17552" y="9148"/>
                  <a:pt x="17496" y="9236"/>
                  <a:pt x="17462" y="9327"/>
                </a:cubicBezTo>
                <a:cubicBezTo>
                  <a:pt x="17416" y="9450"/>
                  <a:pt x="17367" y="9553"/>
                  <a:pt x="17314" y="9674"/>
                </a:cubicBezTo>
                <a:cubicBezTo>
                  <a:pt x="17272" y="9770"/>
                  <a:pt x="17221" y="9858"/>
                  <a:pt x="17165" y="9947"/>
                </a:cubicBezTo>
                <a:cubicBezTo>
                  <a:pt x="17159" y="9956"/>
                  <a:pt x="17043" y="10103"/>
                  <a:pt x="17016" y="10096"/>
                </a:cubicBezTo>
                <a:cubicBezTo>
                  <a:pt x="17016" y="10088"/>
                  <a:pt x="17016" y="10079"/>
                  <a:pt x="17016" y="10071"/>
                </a:cubicBezTo>
              </a:path>
              <a:path w="17240" h="3474">
                <a:moveTo>
                  <a:pt x="18281" y="9128"/>
                </a:moveTo>
                <a:cubicBezTo>
                  <a:pt x="18324" y="9175"/>
                  <a:pt x="18413" y="9254"/>
                  <a:pt x="18430" y="9327"/>
                </a:cubicBezTo>
                <a:cubicBezTo>
                  <a:pt x="18433" y="9342"/>
                  <a:pt x="18430" y="9466"/>
                  <a:pt x="18430" y="9401"/>
                </a:cubicBezTo>
                <a:cubicBezTo>
                  <a:pt x="18376" y="9383"/>
                  <a:pt x="18429" y="9350"/>
                  <a:pt x="18405" y="9302"/>
                </a:cubicBezTo>
                <a:cubicBezTo>
                  <a:pt x="18389" y="9270"/>
                  <a:pt x="18365" y="9225"/>
                  <a:pt x="18331" y="9203"/>
                </a:cubicBezTo>
                <a:cubicBezTo>
                  <a:pt x="18289" y="9176"/>
                  <a:pt x="18234" y="9116"/>
                  <a:pt x="18182" y="9128"/>
                </a:cubicBezTo>
                <a:cubicBezTo>
                  <a:pt x="18093" y="9149"/>
                  <a:pt x="18071" y="9176"/>
                  <a:pt x="18008" y="9227"/>
                </a:cubicBezTo>
                <a:cubicBezTo>
                  <a:pt x="17916" y="9301"/>
                  <a:pt x="17915" y="9382"/>
                  <a:pt x="17884" y="9500"/>
                </a:cubicBezTo>
                <a:cubicBezTo>
                  <a:pt x="17860" y="9593"/>
                  <a:pt x="17873" y="9680"/>
                  <a:pt x="17909" y="9773"/>
                </a:cubicBezTo>
                <a:cubicBezTo>
                  <a:pt x="17931" y="9831"/>
                  <a:pt x="17975" y="9918"/>
                  <a:pt x="18033" y="9947"/>
                </a:cubicBezTo>
                <a:cubicBezTo>
                  <a:pt x="18125" y="9993"/>
                  <a:pt x="18215" y="9978"/>
                  <a:pt x="18306" y="9971"/>
                </a:cubicBezTo>
                <a:cubicBezTo>
                  <a:pt x="18399" y="9964"/>
                  <a:pt x="18468" y="9938"/>
                  <a:pt x="18554" y="9897"/>
                </a:cubicBezTo>
                <a:cubicBezTo>
                  <a:pt x="18598" y="9875"/>
                  <a:pt x="18609" y="9872"/>
                  <a:pt x="18628" y="9847"/>
                </a:cubicBezTo>
              </a:path>
              <a:path w="17240" h="3474">
                <a:moveTo>
                  <a:pt x="18579" y="9277"/>
                </a:moveTo>
                <a:cubicBezTo>
                  <a:pt x="18538" y="9359"/>
                  <a:pt x="18529" y="9407"/>
                  <a:pt x="18529" y="9500"/>
                </a:cubicBezTo>
                <a:cubicBezTo>
                  <a:pt x="18529" y="9599"/>
                  <a:pt x="18543" y="9679"/>
                  <a:pt x="18554" y="9773"/>
                </a:cubicBezTo>
                <a:cubicBezTo>
                  <a:pt x="18562" y="9838"/>
                  <a:pt x="18598" y="9945"/>
                  <a:pt x="18653" y="9996"/>
                </a:cubicBezTo>
                <a:cubicBezTo>
                  <a:pt x="18688" y="10028"/>
                  <a:pt x="18781" y="10069"/>
                  <a:pt x="18827" y="10071"/>
                </a:cubicBezTo>
                <a:cubicBezTo>
                  <a:pt x="18907" y="10075"/>
                  <a:pt x="18967" y="10050"/>
                  <a:pt x="19025" y="9996"/>
                </a:cubicBezTo>
                <a:cubicBezTo>
                  <a:pt x="19108" y="9920"/>
                  <a:pt x="19144" y="9830"/>
                  <a:pt x="19149" y="9723"/>
                </a:cubicBezTo>
                <a:cubicBezTo>
                  <a:pt x="19153" y="9648"/>
                  <a:pt x="19107" y="9567"/>
                  <a:pt x="19075" y="9500"/>
                </a:cubicBezTo>
                <a:cubicBezTo>
                  <a:pt x="19033" y="9413"/>
                  <a:pt x="18996" y="9385"/>
                  <a:pt x="18926" y="9327"/>
                </a:cubicBezTo>
                <a:cubicBezTo>
                  <a:pt x="18868" y="9279"/>
                  <a:pt x="18826" y="9256"/>
                  <a:pt x="18752" y="9252"/>
                </a:cubicBezTo>
                <a:cubicBezTo>
                  <a:pt x="18696" y="9249"/>
                  <a:pt x="18661" y="9251"/>
                  <a:pt x="18628" y="9302"/>
                </a:cubicBezTo>
                <a:cubicBezTo>
                  <a:pt x="18608" y="9342"/>
                  <a:pt x="18600" y="9349"/>
                  <a:pt x="18604" y="9376"/>
                </a:cubicBezTo>
              </a:path>
              <a:path w="17240" h="3474">
                <a:moveTo>
                  <a:pt x="19670" y="9451"/>
                </a:moveTo>
                <a:cubicBezTo>
                  <a:pt x="19658" y="9382"/>
                  <a:pt x="19665" y="9270"/>
                  <a:pt x="19596" y="9227"/>
                </a:cubicBezTo>
                <a:cubicBezTo>
                  <a:pt x="19528" y="9184"/>
                  <a:pt x="19475" y="9178"/>
                  <a:pt x="19397" y="9178"/>
                </a:cubicBezTo>
                <a:cubicBezTo>
                  <a:pt x="19340" y="9178"/>
                  <a:pt x="19272" y="9175"/>
                  <a:pt x="19224" y="9203"/>
                </a:cubicBezTo>
                <a:cubicBezTo>
                  <a:pt x="19194" y="9221"/>
                  <a:pt x="19186" y="9296"/>
                  <a:pt x="19199" y="9327"/>
                </a:cubicBezTo>
                <a:cubicBezTo>
                  <a:pt x="19226" y="9390"/>
                  <a:pt x="19296" y="9432"/>
                  <a:pt x="19348" y="9475"/>
                </a:cubicBezTo>
                <a:cubicBezTo>
                  <a:pt x="19435" y="9546"/>
                  <a:pt x="19575" y="9633"/>
                  <a:pt x="19645" y="9723"/>
                </a:cubicBezTo>
                <a:cubicBezTo>
                  <a:pt x="19694" y="9786"/>
                  <a:pt x="19752" y="9866"/>
                  <a:pt x="19769" y="9947"/>
                </a:cubicBezTo>
                <a:cubicBezTo>
                  <a:pt x="19782" y="10008"/>
                  <a:pt x="19759" y="10053"/>
                  <a:pt x="19720" y="10096"/>
                </a:cubicBezTo>
                <a:cubicBezTo>
                  <a:pt x="19685" y="10135"/>
                  <a:pt x="19597" y="10184"/>
                  <a:pt x="19546" y="10195"/>
                </a:cubicBezTo>
                <a:cubicBezTo>
                  <a:pt x="19477" y="10210"/>
                  <a:pt x="19404" y="10184"/>
                  <a:pt x="19348" y="10145"/>
                </a:cubicBezTo>
                <a:cubicBezTo>
                  <a:pt x="19265" y="10087"/>
                  <a:pt x="19283" y="10071"/>
                  <a:pt x="19298" y="9971"/>
                </a:cubicBezTo>
              </a:path>
              <a:path w="17240" h="3474">
                <a:moveTo>
                  <a:pt x="19794" y="9004"/>
                </a:moveTo>
                <a:cubicBezTo>
                  <a:pt x="19804" y="8975"/>
                  <a:pt x="19875" y="8960"/>
                  <a:pt x="19918" y="8954"/>
                </a:cubicBezTo>
                <a:cubicBezTo>
                  <a:pt x="20003" y="8943"/>
                  <a:pt x="20084" y="8988"/>
                  <a:pt x="20166" y="9004"/>
                </a:cubicBezTo>
                <a:cubicBezTo>
                  <a:pt x="20197" y="9010"/>
                  <a:pt x="20240" y="9036"/>
                  <a:pt x="20216" y="9079"/>
                </a:cubicBezTo>
                <a:cubicBezTo>
                  <a:pt x="20194" y="9118"/>
                  <a:pt x="20101" y="9185"/>
                  <a:pt x="20067" y="9203"/>
                </a:cubicBezTo>
                <a:cubicBezTo>
                  <a:pt x="20033" y="9221"/>
                  <a:pt x="20002" y="9226"/>
                  <a:pt x="19968" y="9252"/>
                </a:cubicBezTo>
                <a:cubicBezTo>
                  <a:pt x="20023" y="9252"/>
                  <a:pt x="20062" y="9274"/>
                  <a:pt x="20117" y="9277"/>
                </a:cubicBezTo>
                <a:cubicBezTo>
                  <a:pt x="20185" y="9281"/>
                  <a:pt x="20257" y="9312"/>
                  <a:pt x="20315" y="9351"/>
                </a:cubicBezTo>
                <a:cubicBezTo>
                  <a:pt x="20345" y="9372"/>
                  <a:pt x="20356" y="9442"/>
                  <a:pt x="20340" y="9475"/>
                </a:cubicBezTo>
                <a:cubicBezTo>
                  <a:pt x="20315" y="9525"/>
                  <a:pt x="20258" y="9533"/>
                  <a:pt x="20216" y="9550"/>
                </a:cubicBezTo>
                <a:cubicBezTo>
                  <a:pt x="20146" y="9578"/>
                  <a:pt x="20093" y="9575"/>
                  <a:pt x="20017" y="9575"/>
                </a:cubicBezTo>
                <a:cubicBezTo>
                  <a:pt x="19963" y="9575"/>
                  <a:pt x="19925" y="9587"/>
                  <a:pt x="19918" y="9525"/>
                </a:cubicBezTo>
                <a:cubicBezTo>
                  <a:pt x="19918" y="9517"/>
                  <a:pt x="19918" y="9508"/>
                  <a:pt x="19918" y="9500"/>
                </a:cubicBezTo>
              </a:path>
              <a:path w="17240" h="3474">
                <a:moveTo>
                  <a:pt x="20563" y="9302"/>
                </a:moveTo>
                <a:cubicBezTo>
                  <a:pt x="20595" y="9413"/>
                  <a:pt x="20641" y="9495"/>
                  <a:pt x="20687" y="9599"/>
                </a:cubicBezTo>
                <a:cubicBezTo>
                  <a:pt x="20735" y="9708"/>
                  <a:pt x="20795" y="9812"/>
                  <a:pt x="20836" y="9922"/>
                </a:cubicBezTo>
                <a:cubicBezTo>
                  <a:pt x="20864" y="9998"/>
                  <a:pt x="20878" y="10073"/>
                  <a:pt x="20910" y="10145"/>
                </a:cubicBezTo>
                <a:cubicBezTo>
                  <a:pt x="20930" y="10190"/>
                  <a:pt x="20949" y="10226"/>
                  <a:pt x="20960" y="10269"/>
                </a:cubicBezTo>
              </a:path>
              <a:path w="17240" h="3474">
                <a:moveTo>
                  <a:pt x="21134" y="9401"/>
                </a:moveTo>
                <a:cubicBezTo>
                  <a:pt x="21047" y="9456"/>
                  <a:pt x="20983" y="9502"/>
                  <a:pt x="20910" y="9575"/>
                </a:cubicBezTo>
                <a:cubicBezTo>
                  <a:pt x="20815" y="9670"/>
                  <a:pt x="20717" y="9740"/>
                  <a:pt x="20613" y="9823"/>
                </a:cubicBezTo>
                <a:cubicBezTo>
                  <a:pt x="20514" y="9901"/>
                  <a:pt x="20419" y="10001"/>
                  <a:pt x="20315" y="10071"/>
                </a:cubicBezTo>
                <a:cubicBezTo>
                  <a:pt x="20280" y="10094"/>
                  <a:pt x="20228" y="10111"/>
                  <a:pt x="20191" y="10120"/>
                </a:cubicBezTo>
              </a:path>
              <a:path w="17240" h="3474">
                <a:moveTo>
                  <a:pt x="4837" y="10195"/>
                </a:moveTo>
                <a:cubicBezTo>
                  <a:pt x="4846" y="10149"/>
                  <a:pt x="4821" y="10040"/>
                  <a:pt x="4837" y="9971"/>
                </a:cubicBezTo>
                <a:cubicBezTo>
                  <a:pt x="4866" y="9844"/>
                  <a:pt x="4893" y="9723"/>
                  <a:pt x="4986" y="9624"/>
                </a:cubicBezTo>
                <a:cubicBezTo>
                  <a:pt x="5060" y="9546"/>
                  <a:pt x="5158" y="9504"/>
                  <a:pt x="5259" y="9475"/>
                </a:cubicBezTo>
                <a:cubicBezTo>
                  <a:pt x="5378" y="9441"/>
                  <a:pt x="5468" y="9455"/>
                  <a:pt x="5581" y="9475"/>
                </a:cubicBezTo>
                <a:cubicBezTo>
                  <a:pt x="5626" y="9483"/>
                  <a:pt x="5693" y="9548"/>
                  <a:pt x="5705" y="9550"/>
                </a:cubicBezTo>
                <a:cubicBezTo>
                  <a:pt x="5730" y="9550"/>
                  <a:pt x="5738" y="9550"/>
                  <a:pt x="5730" y="9575"/>
                </a:cubicBezTo>
                <a:cubicBezTo>
                  <a:pt x="5786" y="9342"/>
                  <a:pt x="5738" y="9153"/>
                  <a:pt x="5928" y="8954"/>
                </a:cubicBezTo>
                <a:cubicBezTo>
                  <a:pt x="6023" y="8855"/>
                  <a:pt x="6098" y="8781"/>
                  <a:pt x="6251" y="8756"/>
                </a:cubicBezTo>
                <a:cubicBezTo>
                  <a:pt x="6444" y="8725"/>
                  <a:pt x="6574" y="8926"/>
                  <a:pt x="6697" y="8979"/>
                </a:cubicBezTo>
                <a:cubicBezTo>
                  <a:pt x="6705" y="8979"/>
                  <a:pt x="6714" y="8979"/>
                  <a:pt x="6722" y="8979"/>
                </a:cubicBezTo>
                <a:cubicBezTo>
                  <a:pt x="6747" y="8955"/>
                  <a:pt x="6767" y="8907"/>
                  <a:pt x="6796" y="8880"/>
                </a:cubicBezTo>
                <a:cubicBezTo>
                  <a:pt x="6852" y="8828"/>
                  <a:pt x="6907" y="8720"/>
                  <a:pt x="6970" y="8682"/>
                </a:cubicBezTo>
                <a:cubicBezTo>
                  <a:pt x="7069" y="8622"/>
                  <a:pt x="7160" y="8593"/>
                  <a:pt x="7268" y="8582"/>
                </a:cubicBezTo>
                <a:cubicBezTo>
                  <a:pt x="7359" y="8572"/>
                  <a:pt x="7455" y="8590"/>
                  <a:pt x="7541" y="8607"/>
                </a:cubicBezTo>
                <a:cubicBezTo>
                  <a:pt x="7717" y="8642"/>
                  <a:pt x="7886" y="8765"/>
                  <a:pt x="8037" y="8830"/>
                </a:cubicBezTo>
                <a:cubicBezTo>
                  <a:pt x="8065" y="8830"/>
                  <a:pt x="8076" y="8832"/>
                  <a:pt x="8086" y="8855"/>
                </a:cubicBezTo>
                <a:cubicBezTo>
                  <a:pt x="8132" y="8804"/>
                  <a:pt x="8118" y="8753"/>
                  <a:pt x="8161" y="8706"/>
                </a:cubicBezTo>
                <a:cubicBezTo>
                  <a:pt x="8195" y="8669"/>
                  <a:pt x="8270" y="8558"/>
                  <a:pt x="8310" y="8533"/>
                </a:cubicBezTo>
                <a:cubicBezTo>
                  <a:pt x="8482" y="8426"/>
                  <a:pt x="8643" y="8416"/>
                  <a:pt x="8830" y="8483"/>
                </a:cubicBezTo>
                <a:cubicBezTo>
                  <a:pt x="8935" y="8521"/>
                  <a:pt x="8945" y="8607"/>
                  <a:pt x="9029" y="8657"/>
                </a:cubicBezTo>
                <a:cubicBezTo>
                  <a:pt x="9109" y="8705"/>
                  <a:pt x="9243" y="8858"/>
                  <a:pt x="9351" y="8830"/>
                </a:cubicBezTo>
                <a:cubicBezTo>
                  <a:pt x="9418" y="8813"/>
                  <a:pt x="9427" y="8726"/>
                  <a:pt x="9475" y="8706"/>
                </a:cubicBezTo>
                <a:cubicBezTo>
                  <a:pt x="9553" y="8672"/>
                  <a:pt x="9591" y="8600"/>
                  <a:pt x="9674" y="8558"/>
                </a:cubicBezTo>
                <a:cubicBezTo>
                  <a:pt x="9823" y="8484"/>
                  <a:pt x="9944" y="8420"/>
                  <a:pt x="10120" y="8409"/>
                </a:cubicBezTo>
                <a:cubicBezTo>
                  <a:pt x="10218" y="8403"/>
                  <a:pt x="10350" y="8426"/>
                  <a:pt x="10443" y="8458"/>
                </a:cubicBezTo>
                <a:cubicBezTo>
                  <a:pt x="10567" y="8500"/>
                  <a:pt x="10670" y="8624"/>
                  <a:pt x="10790" y="8657"/>
                </a:cubicBezTo>
                <a:cubicBezTo>
                  <a:pt x="11004" y="8715"/>
                  <a:pt x="10922" y="8723"/>
                  <a:pt x="11137" y="8632"/>
                </a:cubicBezTo>
                <a:cubicBezTo>
                  <a:pt x="11237" y="8590"/>
                  <a:pt x="11307" y="8463"/>
                  <a:pt x="11410" y="8434"/>
                </a:cubicBezTo>
                <a:cubicBezTo>
                  <a:pt x="11757" y="8337"/>
                  <a:pt x="11999" y="8579"/>
                  <a:pt x="12328" y="8533"/>
                </a:cubicBezTo>
                <a:cubicBezTo>
                  <a:pt x="12485" y="8511"/>
                  <a:pt x="12591" y="8384"/>
                  <a:pt x="12750" y="8384"/>
                </a:cubicBezTo>
                <a:cubicBezTo>
                  <a:pt x="12931" y="8384"/>
                  <a:pt x="13017" y="8471"/>
                  <a:pt x="13171" y="8508"/>
                </a:cubicBezTo>
                <a:cubicBezTo>
                  <a:pt x="13248" y="8527"/>
                  <a:pt x="13341" y="8576"/>
                  <a:pt x="13419" y="8582"/>
                </a:cubicBezTo>
                <a:cubicBezTo>
                  <a:pt x="13587" y="8594"/>
                  <a:pt x="13712" y="8531"/>
                  <a:pt x="13866" y="8483"/>
                </a:cubicBezTo>
                <a:cubicBezTo>
                  <a:pt x="14195" y="8381"/>
                  <a:pt x="14306" y="8315"/>
                  <a:pt x="14660" y="8409"/>
                </a:cubicBezTo>
                <a:cubicBezTo>
                  <a:pt x="14769" y="8438"/>
                  <a:pt x="14976" y="8582"/>
                  <a:pt x="15081" y="8558"/>
                </a:cubicBezTo>
                <a:cubicBezTo>
                  <a:pt x="15121" y="8549"/>
                  <a:pt x="15144" y="8520"/>
                  <a:pt x="15180" y="8508"/>
                </a:cubicBezTo>
                <a:cubicBezTo>
                  <a:pt x="15241" y="8487"/>
                  <a:pt x="15298" y="8381"/>
                  <a:pt x="15354" y="8359"/>
                </a:cubicBezTo>
                <a:cubicBezTo>
                  <a:pt x="15648" y="8245"/>
                  <a:pt x="15866" y="8213"/>
                  <a:pt x="16173" y="8310"/>
                </a:cubicBezTo>
                <a:cubicBezTo>
                  <a:pt x="16286" y="8345"/>
                  <a:pt x="16391" y="8440"/>
                  <a:pt x="16495" y="8458"/>
                </a:cubicBezTo>
                <a:cubicBezTo>
                  <a:pt x="16588" y="8474"/>
                  <a:pt x="16584" y="8548"/>
                  <a:pt x="16694" y="8533"/>
                </a:cubicBezTo>
                <a:cubicBezTo>
                  <a:pt x="16747" y="8526"/>
                  <a:pt x="16807" y="8452"/>
                  <a:pt x="16867" y="8434"/>
                </a:cubicBezTo>
                <a:cubicBezTo>
                  <a:pt x="17398" y="8278"/>
                  <a:pt x="17468" y="8361"/>
                  <a:pt x="17983" y="8458"/>
                </a:cubicBezTo>
                <a:cubicBezTo>
                  <a:pt x="18025" y="8466"/>
                  <a:pt x="18059" y="8536"/>
                  <a:pt x="18107" y="8533"/>
                </a:cubicBezTo>
                <a:cubicBezTo>
                  <a:pt x="18210" y="8527"/>
                  <a:pt x="18238" y="8459"/>
                  <a:pt x="18331" y="8434"/>
                </a:cubicBezTo>
                <a:cubicBezTo>
                  <a:pt x="18460" y="8399"/>
                  <a:pt x="18543" y="8303"/>
                  <a:pt x="18678" y="8285"/>
                </a:cubicBezTo>
                <a:cubicBezTo>
                  <a:pt x="18873" y="8260"/>
                  <a:pt x="18984" y="8354"/>
                  <a:pt x="19149" y="8384"/>
                </a:cubicBezTo>
                <a:cubicBezTo>
                  <a:pt x="19249" y="8402"/>
                  <a:pt x="19253" y="8501"/>
                  <a:pt x="19372" y="8483"/>
                </a:cubicBezTo>
                <a:cubicBezTo>
                  <a:pt x="19420" y="8476"/>
                  <a:pt x="19469" y="8397"/>
                  <a:pt x="19521" y="8384"/>
                </a:cubicBezTo>
                <a:cubicBezTo>
                  <a:pt x="19735" y="8332"/>
                  <a:pt x="19838" y="8235"/>
                  <a:pt x="20067" y="8285"/>
                </a:cubicBezTo>
                <a:cubicBezTo>
                  <a:pt x="20297" y="8335"/>
                  <a:pt x="20375" y="8493"/>
                  <a:pt x="20489" y="8607"/>
                </a:cubicBezTo>
                <a:cubicBezTo>
                  <a:pt x="20489" y="8615"/>
                  <a:pt x="20489" y="8624"/>
                  <a:pt x="20489" y="8632"/>
                </a:cubicBezTo>
                <a:cubicBezTo>
                  <a:pt x="20539" y="8622"/>
                  <a:pt x="20604" y="8566"/>
                  <a:pt x="20662" y="8558"/>
                </a:cubicBezTo>
                <a:cubicBezTo>
                  <a:pt x="20794" y="8540"/>
                  <a:pt x="20926" y="8509"/>
                  <a:pt x="21059" y="8558"/>
                </a:cubicBezTo>
                <a:cubicBezTo>
                  <a:pt x="21146" y="8590"/>
                  <a:pt x="21215" y="8641"/>
                  <a:pt x="21282" y="8706"/>
                </a:cubicBezTo>
                <a:cubicBezTo>
                  <a:pt x="21356" y="8778"/>
                  <a:pt x="21398" y="8870"/>
                  <a:pt x="21431" y="8954"/>
                </a:cubicBezTo>
                <a:cubicBezTo>
                  <a:pt x="21451" y="9004"/>
                  <a:pt x="21473" y="9050"/>
                  <a:pt x="21481" y="9103"/>
                </a:cubicBezTo>
                <a:cubicBezTo>
                  <a:pt x="21490" y="9158"/>
                  <a:pt x="21455" y="9183"/>
                  <a:pt x="21456" y="9227"/>
                </a:cubicBezTo>
                <a:cubicBezTo>
                  <a:pt x="21456" y="9236"/>
                  <a:pt x="21406" y="9293"/>
                  <a:pt x="21406" y="9302"/>
                </a:cubicBezTo>
                <a:cubicBezTo>
                  <a:pt x="21429" y="9322"/>
                  <a:pt x="21446" y="9323"/>
                  <a:pt x="21481" y="9351"/>
                </a:cubicBezTo>
                <a:cubicBezTo>
                  <a:pt x="21575" y="9426"/>
                  <a:pt x="21694" y="9462"/>
                  <a:pt x="21754" y="9575"/>
                </a:cubicBezTo>
                <a:cubicBezTo>
                  <a:pt x="21883" y="9817"/>
                  <a:pt x="21838" y="10133"/>
                  <a:pt x="21630" y="10319"/>
                </a:cubicBezTo>
                <a:cubicBezTo>
                  <a:pt x="21538" y="10401"/>
                  <a:pt x="21422" y="10429"/>
                  <a:pt x="21307" y="10468"/>
                </a:cubicBezTo>
                <a:cubicBezTo>
                  <a:pt x="21196" y="10505"/>
                  <a:pt x="21072" y="10498"/>
                  <a:pt x="20960" y="10517"/>
                </a:cubicBezTo>
                <a:cubicBezTo>
                  <a:pt x="20919" y="10517"/>
                  <a:pt x="20911" y="10517"/>
                  <a:pt x="20886" y="10517"/>
                </a:cubicBezTo>
                <a:cubicBezTo>
                  <a:pt x="20781" y="10693"/>
                  <a:pt x="20870" y="10743"/>
                  <a:pt x="20638" y="10889"/>
                </a:cubicBezTo>
                <a:cubicBezTo>
                  <a:pt x="20533" y="10955"/>
                  <a:pt x="20410" y="11007"/>
                  <a:pt x="20290" y="11038"/>
                </a:cubicBezTo>
                <a:cubicBezTo>
                  <a:pt x="20158" y="11073"/>
                  <a:pt x="19981" y="11071"/>
                  <a:pt x="19844" y="11063"/>
                </a:cubicBezTo>
                <a:cubicBezTo>
                  <a:pt x="19595" y="11049"/>
                  <a:pt x="19395" y="10973"/>
                  <a:pt x="19174" y="10889"/>
                </a:cubicBezTo>
                <a:cubicBezTo>
                  <a:pt x="19095" y="10859"/>
                  <a:pt x="18968" y="10750"/>
                  <a:pt x="18901" y="10740"/>
                </a:cubicBezTo>
                <a:cubicBezTo>
                  <a:pt x="18797" y="10725"/>
                  <a:pt x="18873" y="10653"/>
                  <a:pt x="18752" y="10691"/>
                </a:cubicBezTo>
                <a:cubicBezTo>
                  <a:pt x="18481" y="10776"/>
                  <a:pt x="18260" y="11179"/>
                  <a:pt x="17959" y="11286"/>
                </a:cubicBezTo>
                <a:cubicBezTo>
                  <a:pt x="17769" y="11354"/>
                  <a:pt x="17564" y="11381"/>
                  <a:pt x="17363" y="11361"/>
                </a:cubicBezTo>
                <a:cubicBezTo>
                  <a:pt x="17182" y="11343"/>
                  <a:pt x="17050" y="11235"/>
                  <a:pt x="16892" y="11162"/>
                </a:cubicBezTo>
                <a:cubicBezTo>
                  <a:pt x="16688" y="11068"/>
                  <a:pt x="16516" y="10946"/>
                  <a:pt x="16321" y="10840"/>
                </a:cubicBezTo>
                <a:cubicBezTo>
                  <a:pt x="16224" y="10788"/>
                  <a:pt x="16131" y="10723"/>
                  <a:pt x="16024" y="10691"/>
                </a:cubicBezTo>
                <a:cubicBezTo>
                  <a:pt x="15909" y="10656"/>
                  <a:pt x="15666" y="10584"/>
                  <a:pt x="15553" y="10666"/>
                </a:cubicBezTo>
                <a:cubicBezTo>
                  <a:pt x="15489" y="10713"/>
                  <a:pt x="15445" y="10851"/>
                  <a:pt x="15404" y="10914"/>
                </a:cubicBezTo>
                <a:cubicBezTo>
                  <a:pt x="15182" y="11258"/>
                  <a:pt x="15200" y="11647"/>
                  <a:pt x="14635" y="11559"/>
                </a:cubicBezTo>
                <a:cubicBezTo>
                  <a:pt x="14390" y="11521"/>
                  <a:pt x="14107" y="11338"/>
                  <a:pt x="13940" y="11162"/>
                </a:cubicBezTo>
                <a:cubicBezTo>
                  <a:pt x="13875" y="11094"/>
                  <a:pt x="13811" y="10991"/>
                  <a:pt x="13767" y="10939"/>
                </a:cubicBezTo>
                <a:cubicBezTo>
                  <a:pt x="13767" y="10931"/>
                  <a:pt x="13767" y="10922"/>
                  <a:pt x="13767" y="10914"/>
                </a:cubicBezTo>
                <a:cubicBezTo>
                  <a:pt x="13738" y="10953"/>
                  <a:pt x="13683" y="11037"/>
                  <a:pt x="13643" y="11088"/>
                </a:cubicBezTo>
                <a:cubicBezTo>
                  <a:pt x="13345" y="11471"/>
                  <a:pt x="12971" y="11723"/>
                  <a:pt x="12477" y="11485"/>
                </a:cubicBezTo>
                <a:cubicBezTo>
                  <a:pt x="12369" y="11433"/>
                  <a:pt x="12233" y="11332"/>
                  <a:pt x="12154" y="11237"/>
                </a:cubicBezTo>
                <a:cubicBezTo>
                  <a:pt x="12104" y="11178"/>
                  <a:pt x="12040" y="11037"/>
                  <a:pt x="12005" y="10988"/>
                </a:cubicBezTo>
                <a:cubicBezTo>
                  <a:pt x="12005" y="10980"/>
                  <a:pt x="12005" y="10972"/>
                  <a:pt x="12005" y="10964"/>
                </a:cubicBezTo>
                <a:cubicBezTo>
                  <a:pt x="11974" y="11018"/>
                  <a:pt x="11962" y="11055"/>
                  <a:pt x="11931" y="11112"/>
                </a:cubicBezTo>
                <a:cubicBezTo>
                  <a:pt x="11872" y="11221"/>
                  <a:pt x="11843" y="11315"/>
                  <a:pt x="11757" y="11410"/>
                </a:cubicBezTo>
                <a:cubicBezTo>
                  <a:pt x="11690" y="11483"/>
                  <a:pt x="11557" y="11622"/>
                  <a:pt x="11460" y="11658"/>
                </a:cubicBezTo>
                <a:cubicBezTo>
                  <a:pt x="11322" y="11709"/>
                  <a:pt x="11187" y="11727"/>
                  <a:pt x="11038" y="11708"/>
                </a:cubicBezTo>
                <a:cubicBezTo>
                  <a:pt x="10696" y="11665"/>
                  <a:pt x="10423" y="11378"/>
                  <a:pt x="10220" y="11137"/>
                </a:cubicBezTo>
                <a:cubicBezTo>
                  <a:pt x="10186" y="11097"/>
                  <a:pt x="10174" y="11052"/>
                  <a:pt x="10145" y="11013"/>
                </a:cubicBezTo>
                <a:cubicBezTo>
                  <a:pt x="10117" y="11054"/>
                  <a:pt x="10101" y="11092"/>
                  <a:pt x="10071" y="11137"/>
                </a:cubicBezTo>
                <a:cubicBezTo>
                  <a:pt x="9960" y="11304"/>
                  <a:pt x="9904" y="11412"/>
                  <a:pt x="9723" y="11534"/>
                </a:cubicBezTo>
                <a:cubicBezTo>
                  <a:pt x="9504" y="11682"/>
                  <a:pt x="9308" y="11705"/>
                  <a:pt x="9054" y="11658"/>
                </a:cubicBezTo>
                <a:cubicBezTo>
                  <a:pt x="8839" y="11619"/>
                  <a:pt x="8619" y="11504"/>
                  <a:pt x="8458" y="11361"/>
                </a:cubicBezTo>
                <a:cubicBezTo>
                  <a:pt x="8353" y="11268"/>
                  <a:pt x="8272" y="11162"/>
                  <a:pt x="8186" y="11063"/>
                </a:cubicBezTo>
                <a:cubicBezTo>
                  <a:pt x="8155" y="11027"/>
                  <a:pt x="8137" y="10995"/>
                  <a:pt x="8111" y="10964"/>
                </a:cubicBezTo>
                <a:cubicBezTo>
                  <a:pt x="8082" y="10985"/>
                  <a:pt x="8043" y="10987"/>
                  <a:pt x="8012" y="11013"/>
                </a:cubicBezTo>
                <a:cubicBezTo>
                  <a:pt x="7861" y="11141"/>
                  <a:pt x="7715" y="11280"/>
                  <a:pt x="7541" y="11385"/>
                </a:cubicBezTo>
                <a:cubicBezTo>
                  <a:pt x="7401" y="11470"/>
                  <a:pt x="7247" y="11531"/>
                  <a:pt x="7094" y="11584"/>
                </a:cubicBezTo>
                <a:cubicBezTo>
                  <a:pt x="6950" y="11634"/>
                  <a:pt x="6828" y="11651"/>
                  <a:pt x="6672" y="11658"/>
                </a:cubicBezTo>
                <a:cubicBezTo>
                  <a:pt x="6547" y="11664"/>
                  <a:pt x="6427" y="11678"/>
                  <a:pt x="6300" y="11633"/>
                </a:cubicBezTo>
                <a:cubicBezTo>
                  <a:pt x="6070" y="11551"/>
                  <a:pt x="5970" y="11381"/>
                  <a:pt x="5854" y="11187"/>
                </a:cubicBezTo>
                <a:cubicBezTo>
                  <a:pt x="5823" y="11136"/>
                  <a:pt x="5835" y="11047"/>
                  <a:pt x="5804" y="10988"/>
                </a:cubicBezTo>
                <a:cubicBezTo>
                  <a:pt x="5793" y="10967"/>
                  <a:pt x="5765" y="10937"/>
                  <a:pt x="5755" y="10914"/>
                </a:cubicBezTo>
                <a:cubicBezTo>
                  <a:pt x="5658" y="10950"/>
                  <a:pt x="5584" y="10999"/>
                  <a:pt x="5482" y="11038"/>
                </a:cubicBezTo>
                <a:cubicBezTo>
                  <a:pt x="5133" y="11170"/>
                  <a:pt x="4916" y="11175"/>
                  <a:pt x="4688" y="10864"/>
                </a:cubicBezTo>
                <a:cubicBezTo>
                  <a:pt x="4583" y="10721"/>
                  <a:pt x="4560" y="10455"/>
                  <a:pt x="4638" y="10294"/>
                </a:cubicBezTo>
                <a:cubicBezTo>
                  <a:pt x="4716" y="10133"/>
                  <a:pt x="4842" y="10140"/>
                  <a:pt x="4936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040" y="4340160"/>
            <a:ext cx="7081920" cy="1660680"/>
          </a:xfrm>
          <a:custGeom>
            <a:avLst/>
            <a:gdLst/>
            <a:ahLst/>
            <a:rect l="l" t="t" r="r" b="b"/>
            <a:pathLst>
              <a:path w="19671" h="4615">
                <a:moveTo>
                  <a:pt x="1463" y="14684"/>
                </a:moveTo>
                <a:cubicBezTo>
                  <a:pt x="1480" y="14766"/>
                  <a:pt x="1328" y="14735"/>
                  <a:pt x="1439" y="14858"/>
                </a:cubicBezTo>
                <a:cubicBezTo>
                  <a:pt x="1517" y="14944"/>
                  <a:pt x="1619" y="14929"/>
                  <a:pt x="1712" y="14957"/>
                </a:cubicBezTo>
                <a:cubicBezTo>
                  <a:pt x="1851" y="14998"/>
                  <a:pt x="1969" y="14978"/>
                  <a:pt x="2108" y="14957"/>
                </a:cubicBezTo>
                <a:cubicBezTo>
                  <a:pt x="2570" y="14886"/>
                  <a:pt x="2857" y="14603"/>
                  <a:pt x="3051" y="14188"/>
                </a:cubicBezTo>
                <a:cubicBezTo>
                  <a:pt x="3141" y="13996"/>
                  <a:pt x="3182" y="13797"/>
                  <a:pt x="3225" y="13593"/>
                </a:cubicBezTo>
                <a:cubicBezTo>
                  <a:pt x="3284" y="13311"/>
                  <a:pt x="3297" y="13031"/>
                  <a:pt x="3225" y="12750"/>
                </a:cubicBezTo>
                <a:cubicBezTo>
                  <a:pt x="3195" y="12634"/>
                  <a:pt x="3129" y="12496"/>
                  <a:pt x="3051" y="12402"/>
                </a:cubicBezTo>
                <a:cubicBezTo>
                  <a:pt x="2961" y="12293"/>
                  <a:pt x="2889" y="12340"/>
                  <a:pt x="2803" y="12278"/>
                </a:cubicBezTo>
                <a:cubicBezTo>
                  <a:pt x="2728" y="12356"/>
                  <a:pt x="2654" y="12364"/>
                  <a:pt x="2604" y="12477"/>
                </a:cubicBezTo>
                <a:cubicBezTo>
                  <a:pt x="2538" y="12624"/>
                  <a:pt x="2560" y="12723"/>
                  <a:pt x="2604" y="12874"/>
                </a:cubicBezTo>
                <a:cubicBezTo>
                  <a:pt x="2639" y="12994"/>
                  <a:pt x="2785" y="13145"/>
                  <a:pt x="2877" y="13221"/>
                </a:cubicBezTo>
                <a:cubicBezTo>
                  <a:pt x="3015" y="13335"/>
                  <a:pt x="3167" y="13421"/>
                  <a:pt x="3299" y="13543"/>
                </a:cubicBezTo>
                <a:cubicBezTo>
                  <a:pt x="3495" y="13724"/>
                  <a:pt x="3682" y="13906"/>
                  <a:pt x="3770" y="14163"/>
                </a:cubicBezTo>
                <a:cubicBezTo>
                  <a:pt x="3842" y="14374"/>
                  <a:pt x="3852" y="14650"/>
                  <a:pt x="3696" y="14833"/>
                </a:cubicBezTo>
                <a:cubicBezTo>
                  <a:pt x="3574" y="14976"/>
                  <a:pt x="3478" y="15003"/>
                  <a:pt x="3299" y="15032"/>
                </a:cubicBezTo>
                <a:cubicBezTo>
                  <a:pt x="3008" y="15079"/>
                  <a:pt x="2757" y="14783"/>
                  <a:pt x="2604" y="14585"/>
                </a:cubicBezTo>
                <a:cubicBezTo>
                  <a:pt x="2441" y="14374"/>
                  <a:pt x="2430" y="14182"/>
                  <a:pt x="2456" y="13940"/>
                </a:cubicBezTo>
                <a:cubicBezTo>
                  <a:pt x="2464" y="13932"/>
                  <a:pt x="2472" y="13923"/>
                  <a:pt x="2480" y="13915"/>
                </a:cubicBezTo>
                <a:cubicBezTo>
                  <a:pt x="2516" y="13945"/>
                  <a:pt x="2580" y="13941"/>
                  <a:pt x="2629" y="13990"/>
                </a:cubicBezTo>
                <a:cubicBezTo>
                  <a:pt x="2762" y="14123"/>
                  <a:pt x="2866" y="14279"/>
                  <a:pt x="3001" y="14412"/>
                </a:cubicBezTo>
                <a:cubicBezTo>
                  <a:pt x="3131" y="14540"/>
                  <a:pt x="3267" y="14666"/>
                  <a:pt x="3423" y="14759"/>
                </a:cubicBezTo>
                <a:cubicBezTo>
                  <a:pt x="3646" y="14893"/>
                  <a:pt x="3931" y="14947"/>
                  <a:pt x="4142" y="14759"/>
                </a:cubicBezTo>
                <a:cubicBezTo>
                  <a:pt x="4266" y="14648"/>
                  <a:pt x="4295" y="14513"/>
                  <a:pt x="4341" y="14362"/>
                </a:cubicBezTo>
                <a:cubicBezTo>
                  <a:pt x="4449" y="14013"/>
                  <a:pt x="4436" y="13611"/>
                  <a:pt x="4415" y="13246"/>
                </a:cubicBezTo>
                <a:cubicBezTo>
                  <a:pt x="4408" y="13125"/>
                  <a:pt x="4386" y="12993"/>
                  <a:pt x="4366" y="12874"/>
                </a:cubicBezTo>
                <a:cubicBezTo>
                  <a:pt x="4346" y="12833"/>
                  <a:pt x="4337" y="12827"/>
                  <a:pt x="4341" y="12799"/>
                </a:cubicBezTo>
                <a:cubicBezTo>
                  <a:pt x="4341" y="12902"/>
                  <a:pt x="4338" y="13050"/>
                  <a:pt x="4341" y="13171"/>
                </a:cubicBezTo>
                <a:cubicBezTo>
                  <a:pt x="4345" y="13366"/>
                  <a:pt x="4335" y="13575"/>
                  <a:pt x="4366" y="13767"/>
                </a:cubicBezTo>
                <a:cubicBezTo>
                  <a:pt x="4397" y="13955"/>
                  <a:pt x="4438" y="14162"/>
                  <a:pt x="4514" y="14337"/>
                </a:cubicBezTo>
                <a:cubicBezTo>
                  <a:pt x="4581" y="14491"/>
                  <a:pt x="4702" y="14635"/>
                  <a:pt x="4887" y="14635"/>
                </a:cubicBezTo>
                <a:cubicBezTo>
                  <a:pt x="5019" y="14635"/>
                  <a:pt x="5119" y="14540"/>
                  <a:pt x="5209" y="14461"/>
                </a:cubicBezTo>
                <a:cubicBezTo>
                  <a:pt x="5335" y="14350"/>
                  <a:pt x="5435" y="14143"/>
                  <a:pt x="5507" y="13990"/>
                </a:cubicBezTo>
                <a:cubicBezTo>
                  <a:pt x="5687" y="13606"/>
                  <a:pt x="5679" y="13287"/>
                  <a:pt x="5531" y="12923"/>
                </a:cubicBezTo>
                <a:cubicBezTo>
                  <a:pt x="5308" y="12957"/>
                  <a:pt x="5372" y="12868"/>
                  <a:pt x="5184" y="13022"/>
                </a:cubicBezTo>
                <a:cubicBezTo>
                  <a:pt x="4912" y="13244"/>
                  <a:pt x="4814" y="13679"/>
                  <a:pt x="4862" y="14015"/>
                </a:cubicBezTo>
                <a:cubicBezTo>
                  <a:pt x="4881" y="14149"/>
                  <a:pt x="4953" y="14345"/>
                  <a:pt x="5060" y="14436"/>
                </a:cubicBezTo>
                <a:cubicBezTo>
                  <a:pt x="5159" y="14520"/>
                  <a:pt x="5243" y="14571"/>
                  <a:pt x="5383" y="14560"/>
                </a:cubicBezTo>
                <a:cubicBezTo>
                  <a:pt x="5563" y="14545"/>
                  <a:pt x="5676" y="14423"/>
                  <a:pt x="5779" y="14288"/>
                </a:cubicBezTo>
                <a:cubicBezTo>
                  <a:pt x="5974" y="14031"/>
                  <a:pt x="6064" y="13652"/>
                  <a:pt x="6102" y="13345"/>
                </a:cubicBezTo>
                <a:cubicBezTo>
                  <a:pt x="6115" y="13240"/>
                  <a:pt x="6087" y="13135"/>
                  <a:pt x="6077" y="13047"/>
                </a:cubicBezTo>
                <a:cubicBezTo>
                  <a:pt x="6069" y="13047"/>
                  <a:pt x="6060" y="13047"/>
                  <a:pt x="6052" y="13047"/>
                </a:cubicBezTo>
                <a:cubicBezTo>
                  <a:pt x="6059" y="13289"/>
                  <a:pt x="6067" y="13528"/>
                  <a:pt x="6102" y="13767"/>
                </a:cubicBezTo>
                <a:cubicBezTo>
                  <a:pt x="6130" y="13959"/>
                  <a:pt x="6156" y="14144"/>
                  <a:pt x="6176" y="14337"/>
                </a:cubicBezTo>
                <a:cubicBezTo>
                  <a:pt x="6195" y="14520"/>
                  <a:pt x="6214" y="14701"/>
                  <a:pt x="6226" y="14883"/>
                </a:cubicBezTo>
                <a:cubicBezTo>
                  <a:pt x="6226" y="14924"/>
                  <a:pt x="6226" y="14932"/>
                  <a:pt x="6226" y="14957"/>
                </a:cubicBezTo>
                <a:cubicBezTo>
                  <a:pt x="6203" y="14823"/>
                  <a:pt x="6178" y="14676"/>
                  <a:pt x="6152" y="14536"/>
                </a:cubicBezTo>
                <a:cubicBezTo>
                  <a:pt x="6085" y="14180"/>
                  <a:pt x="6003" y="13832"/>
                  <a:pt x="6077" y="13469"/>
                </a:cubicBezTo>
                <a:cubicBezTo>
                  <a:pt x="6106" y="13326"/>
                  <a:pt x="6185" y="13075"/>
                  <a:pt x="6300" y="12973"/>
                </a:cubicBezTo>
                <a:cubicBezTo>
                  <a:pt x="6387" y="12896"/>
                  <a:pt x="6549" y="12803"/>
                  <a:pt x="6672" y="12849"/>
                </a:cubicBezTo>
                <a:cubicBezTo>
                  <a:pt x="6819" y="12904"/>
                  <a:pt x="6948" y="13073"/>
                  <a:pt x="6995" y="13221"/>
                </a:cubicBezTo>
                <a:cubicBezTo>
                  <a:pt x="7082" y="13497"/>
                  <a:pt x="7070" y="13790"/>
                  <a:pt x="6921" y="14039"/>
                </a:cubicBezTo>
                <a:cubicBezTo>
                  <a:pt x="6841" y="14172"/>
                  <a:pt x="6719" y="14262"/>
                  <a:pt x="6573" y="14312"/>
                </a:cubicBezTo>
                <a:cubicBezTo>
                  <a:pt x="6449" y="14354"/>
                  <a:pt x="6300" y="14350"/>
                  <a:pt x="6176" y="14312"/>
                </a:cubicBezTo>
                <a:cubicBezTo>
                  <a:pt x="6062" y="14277"/>
                  <a:pt x="5905" y="14180"/>
                  <a:pt x="5829" y="14089"/>
                </a:cubicBezTo>
                <a:cubicBezTo>
                  <a:pt x="5757" y="14003"/>
                  <a:pt x="5709" y="13852"/>
                  <a:pt x="5705" y="13742"/>
                </a:cubicBezTo>
                <a:cubicBezTo>
                  <a:pt x="5703" y="13688"/>
                  <a:pt x="5756" y="13674"/>
                  <a:pt x="5755" y="13643"/>
                </a:cubicBezTo>
                <a:cubicBezTo>
                  <a:pt x="5792" y="13676"/>
                  <a:pt x="5861" y="13698"/>
                  <a:pt x="5904" y="13742"/>
                </a:cubicBezTo>
                <a:cubicBezTo>
                  <a:pt x="5991" y="13831"/>
                  <a:pt x="6062" y="13925"/>
                  <a:pt x="6152" y="14015"/>
                </a:cubicBezTo>
                <a:cubicBezTo>
                  <a:pt x="6301" y="14164"/>
                  <a:pt x="6421" y="14283"/>
                  <a:pt x="6648" y="14288"/>
                </a:cubicBezTo>
                <a:cubicBezTo>
                  <a:pt x="6962" y="14295"/>
                  <a:pt x="7097" y="13974"/>
                  <a:pt x="7169" y="13717"/>
                </a:cubicBezTo>
                <a:cubicBezTo>
                  <a:pt x="7260" y="13393"/>
                  <a:pt x="7224" y="13029"/>
                  <a:pt x="7193" y="12700"/>
                </a:cubicBezTo>
                <a:cubicBezTo>
                  <a:pt x="7184" y="12607"/>
                  <a:pt x="7179" y="12513"/>
                  <a:pt x="7144" y="12427"/>
                </a:cubicBezTo>
                <a:cubicBezTo>
                  <a:pt x="7133" y="12401"/>
                  <a:pt x="7103" y="12405"/>
                  <a:pt x="7094" y="12378"/>
                </a:cubicBezTo>
                <a:cubicBezTo>
                  <a:pt x="7101" y="12622"/>
                  <a:pt x="7111" y="12855"/>
                  <a:pt x="7144" y="13097"/>
                </a:cubicBezTo>
                <a:cubicBezTo>
                  <a:pt x="7171" y="13295"/>
                  <a:pt x="7208" y="13492"/>
                  <a:pt x="7218" y="13692"/>
                </a:cubicBezTo>
                <a:cubicBezTo>
                  <a:pt x="7227" y="13874"/>
                  <a:pt x="7222" y="14057"/>
                  <a:pt x="7243" y="14238"/>
                </a:cubicBezTo>
                <a:cubicBezTo>
                  <a:pt x="7255" y="14344"/>
                  <a:pt x="7227" y="14300"/>
                  <a:pt x="7243" y="14213"/>
                </a:cubicBezTo>
                <a:cubicBezTo>
                  <a:pt x="7261" y="14114"/>
                  <a:pt x="7264" y="13992"/>
                  <a:pt x="7268" y="13891"/>
                </a:cubicBezTo>
                <a:cubicBezTo>
                  <a:pt x="7276" y="13689"/>
                  <a:pt x="7263" y="13492"/>
                  <a:pt x="7293" y="13295"/>
                </a:cubicBezTo>
                <a:cubicBezTo>
                  <a:pt x="7311" y="13176"/>
                  <a:pt x="7339" y="13124"/>
                  <a:pt x="7392" y="13022"/>
                </a:cubicBezTo>
                <a:cubicBezTo>
                  <a:pt x="7417" y="12998"/>
                  <a:pt x="7425" y="12990"/>
                  <a:pt x="7441" y="12973"/>
                </a:cubicBezTo>
                <a:cubicBezTo>
                  <a:pt x="7514" y="13016"/>
                  <a:pt x="7561" y="12968"/>
                  <a:pt x="7640" y="13047"/>
                </a:cubicBezTo>
                <a:cubicBezTo>
                  <a:pt x="7811" y="13218"/>
                  <a:pt x="7894" y="13469"/>
                  <a:pt x="7962" y="13692"/>
                </a:cubicBezTo>
                <a:cubicBezTo>
                  <a:pt x="8030" y="13915"/>
                  <a:pt x="8054" y="14134"/>
                  <a:pt x="8086" y="14362"/>
                </a:cubicBezTo>
                <a:cubicBezTo>
                  <a:pt x="8071" y="14314"/>
                  <a:pt x="8054" y="14264"/>
                  <a:pt x="8037" y="14213"/>
                </a:cubicBezTo>
                <a:cubicBezTo>
                  <a:pt x="7952" y="13955"/>
                  <a:pt x="7895" y="13714"/>
                  <a:pt x="7888" y="13444"/>
                </a:cubicBezTo>
                <a:cubicBezTo>
                  <a:pt x="7884" y="13305"/>
                  <a:pt x="7893" y="13180"/>
                  <a:pt x="7938" y="13047"/>
                </a:cubicBezTo>
                <a:cubicBezTo>
                  <a:pt x="7972" y="12947"/>
                  <a:pt x="8041" y="12862"/>
                  <a:pt x="8086" y="12774"/>
                </a:cubicBezTo>
                <a:cubicBezTo>
                  <a:pt x="8160" y="12789"/>
                  <a:pt x="8220" y="12727"/>
                  <a:pt x="8310" y="12774"/>
                </a:cubicBezTo>
                <a:cubicBezTo>
                  <a:pt x="8443" y="12844"/>
                  <a:pt x="8537" y="12985"/>
                  <a:pt x="8632" y="13097"/>
                </a:cubicBezTo>
                <a:cubicBezTo>
                  <a:pt x="8734" y="13217"/>
                  <a:pt x="8781" y="13359"/>
                  <a:pt x="8855" y="13494"/>
                </a:cubicBezTo>
                <a:cubicBezTo>
                  <a:pt x="8877" y="13516"/>
                  <a:pt x="8886" y="13521"/>
                  <a:pt x="8880" y="13543"/>
                </a:cubicBezTo>
                <a:cubicBezTo>
                  <a:pt x="8852" y="13478"/>
                  <a:pt x="8846" y="13386"/>
                  <a:pt x="8806" y="13320"/>
                </a:cubicBezTo>
                <a:cubicBezTo>
                  <a:pt x="8730" y="13193"/>
                  <a:pt x="8625" y="13108"/>
                  <a:pt x="8508" y="13022"/>
                </a:cubicBezTo>
                <a:cubicBezTo>
                  <a:pt x="8098" y="12722"/>
                  <a:pt x="7641" y="13090"/>
                  <a:pt x="7665" y="13568"/>
                </a:cubicBezTo>
                <a:cubicBezTo>
                  <a:pt x="7674" y="13747"/>
                  <a:pt x="7738" y="13859"/>
                  <a:pt x="7813" y="14015"/>
                </a:cubicBezTo>
                <a:cubicBezTo>
                  <a:pt x="7866" y="14126"/>
                  <a:pt x="7953" y="14250"/>
                  <a:pt x="8062" y="14312"/>
                </a:cubicBezTo>
                <a:cubicBezTo>
                  <a:pt x="8135" y="14353"/>
                  <a:pt x="8260" y="14354"/>
                  <a:pt x="8334" y="14312"/>
                </a:cubicBezTo>
                <a:cubicBezTo>
                  <a:pt x="8469" y="14235"/>
                  <a:pt x="8568" y="13984"/>
                  <a:pt x="8607" y="13841"/>
                </a:cubicBezTo>
                <a:cubicBezTo>
                  <a:pt x="8657" y="13660"/>
                  <a:pt x="8629" y="13471"/>
                  <a:pt x="8607" y="13295"/>
                </a:cubicBezTo>
                <a:cubicBezTo>
                  <a:pt x="8599" y="13228"/>
                  <a:pt x="8592" y="13206"/>
                  <a:pt x="8582" y="13146"/>
                </a:cubicBezTo>
                <a:cubicBezTo>
                  <a:pt x="8580" y="13156"/>
                  <a:pt x="8536" y="13223"/>
                  <a:pt x="8533" y="13271"/>
                </a:cubicBezTo>
                <a:cubicBezTo>
                  <a:pt x="8517" y="13555"/>
                  <a:pt x="8517" y="13933"/>
                  <a:pt x="8657" y="14188"/>
                </a:cubicBezTo>
                <a:cubicBezTo>
                  <a:pt x="8701" y="14267"/>
                  <a:pt x="8800" y="14296"/>
                  <a:pt x="8830" y="14337"/>
                </a:cubicBezTo>
                <a:cubicBezTo>
                  <a:pt x="8846" y="14301"/>
                  <a:pt x="8912" y="14260"/>
                  <a:pt x="8930" y="14188"/>
                </a:cubicBezTo>
                <a:cubicBezTo>
                  <a:pt x="8961" y="14066"/>
                  <a:pt x="8971" y="13942"/>
                  <a:pt x="8979" y="13816"/>
                </a:cubicBezTo>
                <a:cubicBezTo>
                  <a:pt x="8989" y="13664"/>
                  <a:pt x="8959" y="13521"/>
                  <a:pt x="8954" y="13370"/>
                </a:cubicBezTo>
                <a:cubicBezTo>
                  <a:pt x="8947" y="13169"/>
                  <a:pt x="8995" y="13068"/>
                  <a:pt x="9054" y="12898"/>
                </a:cubicBezTo>
                <a:cubicBezTo>
                  <a:pt x="9087" y="12911"/>
                  <a:pt x="9169" y="12838"/>
                  <a:pt x="9227" y="12898"/>
                </a:cubicBezTo>
                <a:cubicBezTo>
                  <a:pt x="9334" y="13009"/>
                  <a:pt x="9392" y="13121"/>
                  <a:pt x="9451" y="13271"/>
                </a:cubicBezTo>
                <a:cubicBezTo>
                  <a:pt x="9528" y="13466"/>
                  <a:pt x="9516" y="13663"/>
                  <a:pt x="9525" y="13866"/>
                </a:cubicBezTo>
                <a:cubicBezTo>
                  <a:pt x="9520" y="13792"/>
                  <a:pt x="9531" y="13915"/>
                  <a:pt x="9525" y="13841"/>
                </a:cubicBezTo>
                <a:cubicBezTo>
                  <a:pt x="9509" y="13653"/>
                  <a:pt x="9482" y="13460"/>
                  <a:pt x="9475" y="13271"/>
                </a:cubicBezTo>
                <a:cubicBezTo>
                  <a:pt x="9470" y="13141"/>
                  <a:pt x="9480" y="13020"/>
                  <a:pt x="9500" y="12898"/>
                </a:cubicBezTo>
                <a:cubicBezTo>
                  <a:pt x="9504" y="12870"/>
                  <a:pt x="9522" y="12844"/>
                  <a:pt x="9525" y="12824"/>
                </a:cubicBezTo>
                <a:cubicBezTo>
                  <a:pt x="9544" y="12884"/>
                  <a:pt x="9584" y="12952"/>
                  <a:pt x="9599" y="13022"/>
                </a:cubicBezTo>
                <a:cubicBezTo>
                  <a:pt x="9637" y="13195"/>
                  <a:pt x="9654" y="13370"/>
                  <a:pt x="9699" y="13543"/>
                </a:cubicBezTo>
                <a:cubicBezTo>
                  <a:pt x="9736" y="13686"/>
                  <a:pt x="9762" y="13842"/>
                  <a:pt x="9847" y="13965"/>
                </a:cubicBezTo>
                <a:cubicBezTo>
                  <a:pt x="9915" y="14063"/>
                  <a:pt x="9995" y="14069"/>
                  <a:pt x="10071" y="14139"/>
                </a:cubicBezTo>
                <a:cubicBezTo>
                  <a:pt x="10150" y="14072"/>
                  <a:pt x="10215" y="14088"/>
                  <a:pt x="10294" y="13990"/>
                </a:cubicBezTo>
                <a:cubicBezTo>
                  <a:pt x="10460" y="13784"/>
                  <a:pt x="10485" y="13575"/>
                  <a:pt x="10492" y="13320"/>
                </a:cubicBezTo>
                <a:cubicBezTo>
                  <a:pt x="10496" y="13179"/>
                  <a:pt x="10486" y="13033"/>
                  <a:pt x="10443" y="12898"/>
                </a:cubicBezTo>
                <a:cubicBezTo>
                  <a:pt x="10436" y="12875"/>
                  <a:pt x="10399" y="12847"/>
                  <a:pt x="10393" y="12824"/>
                </a:cubicBezTo>
                <a:cubicBezTo>
                  <a:pt x="10403" y="13177"/>
                  <a:pt x="10404" y="13813"/>
                  <a:pt x="10691" y="14064"/>
                </a:cubicBezTo>
                <a:cubicBezTo>
                  <a:pt x="10777" y="14139"/>
                  <a:pt x="10872" y="14186"/>
                  <a:pt x="10988" y="14163"/>
                </a:cubicBezTo>
                <a:cubicBezTo>
                  <a:pt x="11192" y="14122"/>
                  <a:pt x="11302" y="13906"/>
                  <a:pt x="11385" y="13742"/>
                </a:cubicBezTo>
                <a:cubicBezTo>
                  <a:pt x="11536" y="13445"/>
                  <a:pt x="11615" y="13011"/>
                  <a:pt x="11435" y="12700"/>
                </a:cubicBezTo>
                <a:cubicBezTo>
                  <a:pt x="11388" y="12619"/>
                  <a:pt x="11292" y="12593"/>
                  <a:pt x="11237" y="12551"/>
                </a:cubicBezTo>
                <a:cubicBezTo>
                  <a:pt x="11220" y="12551"/>
                  <a:pt x="11204" y="12551"/>
                  <a:pt x="11187" y="12551"/>
                </a:cubicBezTo>
                <a:cubicBezTo>
                  <a:pt x="10942" y="12743"/>
                  <a:pt x="10829" y="12894"/>
                  <a:pt x="10815" y="13246"/>
                </a:cubicBezTo>
                <a:cubicBezTo>
                  <a:pt x="10808" y="13413"/>
                  <a:pt x="10833" y="13617"/>
                  <a:pt x="10914" y="13767"/>
                </a:cubicBezTo>
                <a:cubicBezTo>
                  <a:pt x="11009" y="13941"/>
                  <a:pt x="11136" y="14105"/>
                  <a:pt x="11311" y="14213"/>
                </a:cubicBezTo>
                <a:cubicBezTo>
                  <a:pt x="11421" y="14281"/>
                  <a:pt x="11491" y="14305"/>
                  <a:pt x="11609" y="14288"/>
                </a:cubicBezTo>
                <a:cubicBezTo>
                  <a:pt x="11658" y="14263"/>
                  <a:pt x="11675" y="14254"/>
                  <a:pt x="11683" y="14213"/>
                </a:cubicBezTo>
              </a:path>
              <a:path w="19671" h="4615">
                <a:moveTo>
                  <a:pt x="10492" y="12477"/>
                </a:moveTo>
                <a:cubicBezTo>
                  <a:pt x="10492" y="12452"/>
                  <a:pt x="10492" y="12444"/>
                  <a:pt x="10517" y="12452"/>
                </a:cubicBezTo>
              </a:path>
              <a:path w="19671" h="4615">
                <a:moveTo>
                  <a:pt x="3671" y="13643"/>
                </a:moveTo>
                <a:cubicBezTo>
                  <a:pt x="3750" y="13643"/>
                  <a:pt x="3822" y="13627"/>
                  <a:pt x="3894" y="13618"/>
                </a:cubicBezTo>
                <a:cubicBezTo>
                  <a:pt x="4001" y="13605"/>
                  <a:pt x="4111" y="13578"/>
                  <a:pt x="4217" y="13568"/>
                </a:cubicBezTo>
                <a:cubicBezTo>
                  <a:pt x="4325" y="13558"/>
                  <a:pt x="4433" y="13548"/>
                  <a:pt x="4539" y="13543"/>
                </a:cubicBezTo>
                <a:cubicBezTo>
                  <a:pt x="4609" y="13540"/>
                  <a:pt x="4673" y="13523"/>
                  <a:pt x="4738" y="13519"/>
                </a:cubicBezTo>
                <a:cubicBezTo>
                  <a:pt x="4779" y="13519"/>
                  <a:pt x="4787" y="13519"/>
                  <a:pt x="4812" y="13519"/>
                </a:cubicBezTo>
              </a:path>
              <a:path w="19671" h="4615">
                <a:moveTo>
                  <a:pt x="11410" y="12353"/>
                </a:moveTo>
                <a:cubicBezTo>
                  <a:pt x="11372" y="12366"/>
                  <a:pt x="11340" y="12327"/>
                  <a:pt x="11336" y="12378"/>
                </a:cubicBezTo>
                <a:cubicBezTo>
                  <a:pt x="11331" y="12434"/>
                  <a:pt x="11363" y="12577"/>
                  <a:pt x="11385" y="12626"/>
                </a:cubicBezTo>
                <a:cubicBezTo>
                  <a:pt x="11438" y="12743"/>
                  <a:pt x="11497" y="12854"/>
                  <a:pt x="11584" y="12948"/>
                </a:cubicBezTo>
                <a:cubicBezTo>
                  <a:pt x="11689" y="13061"/>
                  <a:pt x="11762" y="13123"/>
                  <a:pt x="11906" y="13171"/>
                </a:cubicBezTo>
                <a:cubicBezTo>
                  <a:pt x="12022" y="13210"/>
                  <a:pt x="12169" y="13215"/>
                  <a:pt x="12278" y="13146"/>
                </a:cubicBezTo>
                <a:cubicBezTo>
                  <a:pt x="12345" y="13104"/>
                  <a:pt x="12423" y="12901"/>
                  <a:pt x="12452" y="12824"/>
                </a:cubicBezTo>
                <a:cubicBezTo>
                  <a:pt x="12496" y="12707"/>
                  <a:pt x="12498" y="12551"/>
                  <a:pt x="12502" y="12427"/>
                </a:cubicBezTo>
                <a:cubicBezTo>
                  <a:pt x="12505" y="12324"/>
                  <a:pt x="12497" y="12226"/>
                  <a:pt x="12477" y="12129"/>
                </a:cubicBezTo>
                <a:cubicBezTo>
                  <a:pt x="12469" y="12104"/>
                  <a:pt x="12460" y="12080"/>
                  <a:pt x="12452" y="12055"/>
                </a:cubicBezTo>
                <a:cubicBezTo>
                  <a:pt x="12445" y="12085"/>
                  <a:pt x="12416" y="12152"/>
                  <a:pt x="12427" y="12229"/>
                </a:cubicBezTo>
                <a:cubicBezTo>
                  <a:pt x="12460" y="12457"/>
                  <a:pt x="12509" y="12691"/>
                  <a:pt x="12526" y="12923"/>
                </a:cubicBezTo>
                <a:cubicBezTo>
                  <a:pt x="12544" y="13168"/>
                  <a:pt x="12548" y="13421"/>
                  <a:pt x="12551" y="13667"/>
                </a:cubicBezTo>
                <a:cubicBezTo>
                  <a:pt x="12555" y="13926"/>
                  <a:pt x="12548" y="14180"/>
                  <a:pt x="12526" y="14436"/>
                </a:cubicBezTo>
                <a:cubicBezTo>
                  <a:pt x="12522" y="14484"/>
                  <a:pt x="12526" y="14536"/>
                  <a:pt x="12526" y="14585"/>
                </a:cubicBezTo>
                <a:cubicBezTo>
                  <a:pt x="12567" y="14463"/>
                  <a:pt x="12594" y="14376"/>
                  <a:pt x="12626" y="14238"/>
                </a:cubicBezTo>
              </a:path>
              <a:path w="19671" h="4615">
                <a:moveTo>
                  <a:pt x="13469" y="12129"/>
                </a:moveTo>
                <a:cubicBezTo>
                  <a:pt x="13526" y="12359"/>
                  <a:pt x="13588" y="12588"/>
                  <a:pt x="13618" y="12824"/>
                </a:cubicBezTo>
                <a:cubicBezTo>
                  <a:pt x="13660" y="13159"/>
                  <a:pt x="13686" y="13504"/>
                  <a:pt x="13717" y="13841"/>
                </a:cubicBezTo>
                <a:cubicBezTo>
                  <a:pt x="13731" y="13999"/>
                  <a:pt x="13756" y="14154"/>
                  <a:pt x="13767" y="14312"/>
                </a:cubicBezTo>
                <a:cubicBezTo>
                  <a:pt x="13767" y="14378"/>
                  <a:pt x="13767" y="14395"/>
                  <a:pt x="13767" y="14436"/>
                </a:cubicBezTo>
                <a:cubicBezTo>
                  <a:pt x="13762" y="14341"/>
                  <a:pt x="13756" y="14357"/>
                  <a:pt x="13742" y="14263"/>
                </a:cubicBezTo>
                <a:cubicBezTo>
                  <a:pt x="13713" y="14063"/>
                  <a:pt x="13679" y="13887"/>
                  <a:pt x="13618" y="13692"/>
                </a:cubicBezTo>
                <a:cubicBezTo>
                  <a:pt x="13573" y="13548"/>
                  <a:pt x="13517" y="13414"/>
                  <a:pt x="13419" y="13295"/>
                </a:cubicBezTo>
                <a:cubicBezTo>
                  <a:pt x="13349" y="13210"/>
                  <a:pt x="13258" y="13083"/>
                  <a:pt x="13146" y="13047"/>
                </a:cubicBezTo>
                <a:cubicBezTo>
                  <a:pt x="12953" y="12985"/>
                  <a:pt x="12809" y="13039"/>
                  <a:pt x="12675" y="13171"/>
                </a:cubicBezTo>
                <a:cubicBezTo>
                  <a:pt x="12568" y="13276"/>
                  <a:pt x="12513" y="13421"/>
                  <a:pt x="12502" y="13568"/>
                </a:cubicBezTo>
                <a:cubicBezTo>
                  <a:pt x="12476" y="13907"/>
                  <a:pt x="12747" y="14155"/>
                  <a:pt x="13047" y="14213"/>
                </a:cubicBezTo>
                <a:cubicBezTo>
                  <a:pt x="13188" y="14240"/>
                  <a:pt x="13372" y="14205"/>
                  <a:pt x="13494" y="14114"/>
                </a:cubicBezTo>
                <a:cubicBezTo>
                  <a:pt x="13602" y="14034"/>
                  <a:pt x="13671" y="13863"/>
                  <a:pt x="13717" y="13742"/>
                </a:cubicBezTo>
                <a:cubicBezTo>
                  <a:pt x="13777" y="13584"/>
                  <a:pt x="13788" y="13409"/>
                  <a:pt x="13816" y="13246"/>
                </a:cubicBezTo>
                <a:cubicBezTo>
                  <a:pt x="13839" y="13113"/>
                  <a:pt x="13842" y="12955"/>
                  <a:pt x="13940" y="12849"/>
                </a:cubicBezTo>
                <a:cubicBezTo>
                  <a:pt x="14008" y="12775"/>
                  <a:pt x="14064" y="12764"/>
                  <a:pt x="14163" y="12774"/>
                </a:cubicBezTo>
                <a:cubicBezTo>
                  <a:pt x="14381" y="12795"/>
                  <a:pt x="14482" y="13064"/>
                  <a:pt x="14560" y="13221"/>
                </a:cubicBezTo>
                <a:cubicBezTo>
                  <a:pt x="14601" y="13303"/>
                  <a:pt x="14629" y="13379"/>
                  <a:pt x="14660" y="13469"/>
                </a:cubicBezTo>
                <a:cubicBezTo>
                  <a:pt x="14660" y="13494"/>
                  <a:pt x="14660" y="13502"/>
                  <a:pt x="14660" y="13519"/>
                </a:cubicBezTo>
                <a:cubicBezTo>
                  <a:pt x="14610" y="13427"/>
                  <a:pt x="14572" y="13316"/>
                  <a:pt x="14511" y="13221"/>
                </a:cubicBezTo>
                <a:cubicBezTo>
                  <a:pt x="14458" y="13137"/>
                  <a:pt x="14389" y="13011"/>
                  <a:pt x="14312" y="12948"/>
                </a:cubicBezTo>
                <a:cubicBezTo>
                  <a:pt x="14230" y="12880"/>
                  <a:pt x="14150" y="12846"/>
                  <a:pt x="14039" y="12849"/>
                </a:cubicBezTo>
                <a:cubicBezTo>
                  <a:pt x="13812" y="12855"/>
                  <a:pt x="13707" y="13108"/>
                  <a:pt x="13643" y="13295"/>
                </a:cubicBezTo>
                <a:cubicBezTo>
                  <a:pt x="13585" y="13465"/>
                  <a:pt x="13589" y="13667"/>
                  <a:pt x="13618" y="13841"/>
                </a:cubicBezTo>
                <a:cubicBezTo>
                  <a:pt x="13648" y="14023"/>
                  <a:pt x="13749" y="14327"/>
                  <a:pt x="13915" y="14436"/>
                </a:cubicBezTo>
                <a:cubicBezTo>
                  <a:pt x="14031" y="14512"/>
                  <a:pt x="14186" y="14509"/>
                  <a:pt x="14312" y="14436"/>
                </a:cubicBezTo>
                <a:cubicBezTo>
                  <a:pt x="14434" y="14365"/>
                  <a:pt x="14492" y="14232"/>
                  <a:pt x="14560" y="14114"/>
                </a:cubicBezTo>
                <a:cubicBezTo>
                  <a:pt x="14631" y="13992"/>
                  <a:pt x="14680" y="13830"/>
                  <a:pt x="14709" y="13692"/>
                </a:cubicBezTo>
                <a:cubicBezTo>
                  <a:pt x="14733" y="13579"/>
                  <a:pt x="14736" y="13438"/>
                  <a:pt x="14734" y="13320"/>
                </a:cubicBezTo>
                <a:cubicBezTo>
                  <a:pt x="14726" y="13295"/>
                  <a:pt x="14717" y="13271"/>
                  <a:pt x="14709" y="13246"/>
                </a:cubicBezTo>
                <a:cubicBezTo>
                  <a:pt x="14714" y="13296"/>
                  <a:pt x="14709" y="13146"/>
                  <a:pt x="14709" y="13196"/>
                </a:cubicBezTo>
                <a:cubicBezTo>
                  <a:pt x="14709" y="13399"/>
                  <a:pt x="14736" y="13592"/>
                  <a:pt x="14784" y="13791"/>
                </a:cubicBezTo>
                <a:cubicBezTo>
                  <a:pt x="14823" y="13951"/>
                  <a:pt x="14855" y="14141"/>
                  <a:pt x="14932" y="14288"/>
                </a:cubicBezTo>
                <a:cubicBezTo>
                  <a:pt x="15005" y="14428"/>
                  <a:pt x="15093" y="14493"/>
                  <a:pt x="15205" y="14585"/>
                </a:cubicBezTo>
                <a:cubicBezTo>
                  <a:pt x="15230" y="14593"/>
                  <a:pt x="15255" y="14602"/>
                  <a:pt x="15280" y="14610"/>
                </a:cubicBezTo>
                <a:cubicBezTo>
                  <a:pt x="15324" y="14539"/>
                  <a:pt x="15393" y="14505"/>
                  <a:pt x="15429" y="14412"/>
                </a:cubicBezTo>
                <a:cubicBezTo>
                  <a:pt x="15479" y="14282"/>
                  <a:pt x="15492" y="14127"/>
                  <a:pt x="15478" y="13990"/>
                </a:cubicBezTo>
                <a:cubicBezTo>
                  <a:pt x="15459" y="13793"/>
                  <a:pt x="15375" y="13613"/>
                  <a:pt x="15280" y="13444"/>
                </a:cubicBezTo>
                <a:cubicBezTo>
                  <a:pt x="15211" y="13321"/>
                  <a:pt x="15111" y="13237"/>
                  <a:pt x="15007" y="13146"/>
                </a:cubicBezTo>
                <a:cubicBezTo>
                  <a:pt x="14955" y="13101"/>
                  <a:pt x="14850" y="13065"/>
                  <a:pt x="14808" y="13022"/>
                </a:cubicBezTo>
                <a:cubicBezTo>
                  <a:pt x="14808" y="12998"/>
                  <a:pt x="14808" y="12989"/>
                  <a:pt x="14808" y="12973"/>
                </a:cubicBezTo>
                <a:cubicBezTo>
                  <a:pt x="14869" y="12966"/>
                  <a:pt x="14936" y="12956"/>
                  <a:pt x="15007" y="12948"/>
                </a:cubicBezTo>
                <a:cubicBezTo>
                  <a:pt x="15165" y="12931"/>
                  <a:pt x="15275" y="12925"/>
                  <a:pt x="15429" y="12948"/>
                </a:cubicBezTo>
                <a:cubicBezTo>
                  <a:pt x="15541" y="12965"/>
                  <a:pt x="15585" y="13008"/>
                  <a:pt x="15677" y="13047"/>
                </a:cubicBezTo>
                <a:cubicBezTo>
                  <a:pt x="15645" y="13141"/>
                  <a:pt x="15613" y="13246"/>
                  <a:pt x="15577" y="13345"/>
                </a:cubicBezTo>
                <a:cubicBezTo>
                  <a:pt x="15511" y="13526"/>
                  <a:pt x="15453" y="13695"/>
                  <a:pt x="15453" y="13891"/>
                </a:cubicBezTo>
                <a:cubicBezTo>
                  <a:pt x="15453" y="14035"/>
                  <a:pt x="15489" y="14138"/>
                  <a:pt x="15553" y="14263"/>
                </a:cubicBezTo>
                <a:cubicBezTo>
                  <a:pt x="15606" y="14367"/>
                  <a:pt x="15653" y="14444"/>
                  <a:pt x="15751" y="14511"/>
                </a:cubicBezTo>
                <a:cubicBezTo>
                  <a:pt x="15780" y="14530"/>
                  <a:pt x="15869" y="14519"/>
                  <a:pt x="15900" y="14536"/>
                </a:cubicBezTo>
                <a:cubicBezTo>
                  <a:pt x="15931" y="14398"/>
                  <a:pt x="15954" y="14314"/>
                  <a:pt x="15949" y="14163"/>
                </a:cubicBezTo>
                <a:cubicBezTo>
                  <a:pt x="15945" y="14036"/>
                  <a:pt x="15931" y="13917"/>
                  <a:pt x="15925" y="13791"/>
                </a:cubicBezTo>
                <a:cubicBezTo>
                  <a:pt x="15918" y="13656"/>
                  <a:pt x="15921" y="13525"/>
                  <a:pt x="15949" y="13395"/>
                </a:cubicBezTo>
                <a:cubicBezTo>
                  <a:pt x="15969" y="13302"/>
                  <a:pt x="15969" y="13215"/>
                  <a:pt x="16049" y="13146"/>
                </a:cubicBezTo>
                <a:cubicBezTo>
                  <a:pt x="16148" y="13060"/>
                  <a:pt x="16260" y="13051"/>
                  <a:pt x="16371" y="13122"/>
                </a:cubicBezTo>
                <a:cubicBezTo>
                  <a:pt x="16517" y="13215"/>
                  <a:pt x="16595" y="13326"/>
                  <a:pt x="16694" y="13469"/>
                </a:cubicBezTo>
                <a:cubicBezTo>
                  <a:pt x="16760" y="13565"/>
                  <a:pt x="16784" y="13670"/>
                  <a:pt x="16842" y="13767"/>
                </a:cubicBezTo>
                <a:cubicBezTo>
                  <a:pt x="16853" y="13786"/>
                  <a:pt x="16913" y="13859"/>
                  <a:pt x="16917" y="13866"/>
                </a:cubicBezTo>
                <a:cubicBezTo>
                  <a:pt x="16898" y="13783"/>
                  <a:pt x="16892" y="13704"/>
                  <a:pt x="16867" y="13618"/>
                </a:cubicBezTo>
                <a:cubicBezTo>
                  <a:pt x="16820" y="13458"/>
                  <a:pt x="16781" y="13311"/>
                  <a:pt x="16669" y="13171"/>
                </a:cubicBezTo>
                <a:cubicBezTo>
                  <a:pt x="16533" y="13001"/>
                  <a:pt x="16373" y="12945"/>
                  <a:pt x="16197" y="13072"/>
                </a:cubicBezTo>
                <a:cubicBezTo>
                  <a:pt x="16096" y="13145"/>
                  <a:pt x="16018" y="13250"/>
                  <a:pt x="15974" y="13370"/>
                </a:cubicBezTo>
                <a:cubicBezTo>
                  <a:pt x="15867" y="13658"/>
                  <a:pt x="15893" y="13995"/>
                  <a:pt x="15949" y="14288"/>
                </a:cubicBezTo>
                <a:cubicBezTo>
                  <a:pt x="15983" y="14464"/>
                  <a:pt x="16079" y="14662"/>
                  <a:pt x="16272" y="14709"/>
                </a:cubicBezTo>
                <a:cubicBezTo>
                  <a:pt x="16387" y="14737"/>
                  <a:pt x="16454" y="14711"/>
                  <a:pt x="16545" y="14635"/>
                </a:cubicBezTo>
                <a:cubicBezTo>
                  <a:pt x="16658" y="14541"/>
                  <a:pt x="16681" y="14373"/>
                  <a:pt x="16718" y="14238"/>
                </a:cubicBezTo>
                <a:cubicBezTo>
                  <a:pt x="16764" y="14070"/>
                  <a:pt x="16784" y="13919"/>
                  <a:pt x="16793" y="13742"/>
                </a:cubicBezTo>
                <a:cubicBezTo>
                  <a:pt x="16809" y="13438"/>
                  <a:pt x="16793" y="13129"/>
                  <a:pt x="16793" y="12824"/>
                </a:cubicBezTo>
                <a:cubicBezTo>
                  <a:pt x="16797" y="12917"/>
                  <a:pt x="16821" y="12996"/>
                  <a:pt x="16818" y="13097"/>
                </a:cubicBezTo>
                <a:cubicBezTo>
                  <a:pt x="16814" y="13272"/>
                  <a:pt x="16795" y="13441"/>
                  <a:pt x="16793" y="13618"/>
                </a:cubicBezTo>
                <a:cubicBezTo>
                  <a:pt x="16790" y="13894"/>
                  <a:pt x="16774" y="14195"/>
                  <a:pt x="16867" y="14461"/>
                </a:cubicBezTo>
                <a:cubicBezTo>
                  <a:pt x="16903" y="14563"/>
                  <a:pt x="16986" y="14662"/>
                  <a:pt x="17066" y="14734"/>
                </a:cubicBezTo>
                <a:cubicBezTo>
                  <a:pt x="17114" y="14758"/>
                  <a:pt x="17128" y="14767"/>
                  <a:pt x="17165" y="14759"/>
                </a:cubicBezTo>
                <a:cubicBezTo>
                  <a:pt x="17278" y="14579"/>
                  <a:pt x="17328" y="14501"/>
                  <a:pt x="17363" y="14263"/>
                </a:cubicBezTo>
                <a:cubicBezTo>
                  <a:pt x="17404" y="13989"/>
                  <a:pt x="17391" y="13713"/>
                  <a:pt x="17363" y="13444"/>
                </a:cubicBezTo>
                <a:cubicBezTo>
                  <a:pt x="17357" y="13383"/>
                  <a:pt x="17346" y="13319"/>
                  <a:pt x="17338" y="13271"/>
                </a:cubicBezTo>
                <a:cubicBezTo>
                  <a:pt x="17358" y="13483"/>
                  <a:pt x="17356" y="13703"/>
                  <a:pt x="17388" y="13915"/>
                </a:cubicBezTo>
                <a:cubicBezTo>
                  <a:pt x="17439" y="14256"/>
                  <a:pt x="17527" y="14412"/>
                  <a:pt x="17735" y="14660"/>
                </a:cubicBezTo>
                <a:cubicBezTo>
                  <a:pt x="17763" y="14621"/>
                  <a:pt x="17849" y="14638"/>
                  <a:pt x="17884" y="14560"/>
                </a:cubicBezTo>
                <a:cubicBezTo>
                  <a:pt x="17943" y="14429"/>
                  <a:pt x="17981" y="14256"/>
                  <a:pt x="17983" y="14114"/>
                </a:cubicBezTo>
                <a:cubicBezTo>
                  <a:pt x="17985" y="13985"/>
                  <a:pt x="17970" y="13846"/>
                  <a:pt x="17959" y="13717"/>
                </a:cubicBezTo>
                <a:cubicBezTo>
                  <a:pt x="17947" y="13571"/>
                  <a:pt x="17911" y="13437"/>
                  <a:pt x="17959" y="13295"/>
                </a:cubicBezTo>
                <a:cubicBezTo>
                  <a:pt x="17980" y="13234"/>
                  <a:pt x="18036" y="13198"/>
                  <a:pt x="18058" y="13146"/>
                </a:cubicBezTo>
                <a:cubicBezTo>
                  <a:pt x="18153" y="13232"/>
                  <a:pt x="18256" y="13255"/>
                  <a:pt x="18331" y="13395"/>
                </a:cubicBezTo>
                <a:cubicBezTo>
                  <a:pt x="18425" y="13571"/>
                  <a:pt x="18436" y="13779"/>
                  <a:pt x="18479" y="13965"/>
                </a:cubicBezTo>
                <a:cubicBezTo>
                  <a:pt x="18505" y="14077"/>
                  <a:pt x="18523" y="14206"/>
                  <a:pt x="18554" y="14312"/>
                </a:cubicBezTo>
                <a:cubicBezTo>
                  <a:pt x="18564" y="14348"/>
                  <a:pt x="18595" y="14382"/>
                  <a:pt x="18604" y="14412"/>
                </a:cubicBezTo>
                <a:cubicBezTo>
                  <a:pt x="18594" y="14343"/>
                  <a:pt x="18590" y="14282"/>
                  <a:pt x="18579" y="14213"/>
                </a:cubicBezTo>
                <a:cubicBezTo>
                  <a:pt x="18558" y="14087"/>
                  <a:pt x="18533" y="13966"/>
                  <a:pt x="18504" y="13841"/>
                </a:cubicBezTo>
                <a:cubicBezTo>
                  <a:pt x="18458" y="13642"/>
                  <a:pt x="18419" y="13468"/>
                  <a:pt x="18455" y="13271"/>
                </a:cubicBezTo>
                <a:cubicBezTo>
                  <a:pt x="18463" y="13226"/>
                  <a:pt x="18497" y="13181"/>
                  <a:pt x="18504" y="13146"/>
                </a:cubicBezTo>
                <a:cubicBezTo>
                  <a:pt x="18536" y="13194"/>
                  <a:pt x="18591" y="13116"/>
                  <a:pt x="18628" y="13221"/>
                </a:cubicBezTo>
                <a:cubicBezTo>
                  <a:pt x="18664" y="13324"/>
                  <a:pt x="18679" y="13459"/>
                  <a:pt x="18703" y="13568"/>
                </a:cubicBezTo>
                <a:cubicBezTo>
                  <a:pt x="18739" y="13728"/>
                  <a:pt x="18772" y="13886"/>
                  <a:pt x="18827" y="14039"/>
                </a:cubicBezTo>
                <a:cubicBezTo>
                  <a:pt x="18881" y="14191"/>
                  <a:pt x="18942" y="14339"/>
                  <a:pt x="19050" y="14461"/>
                </a:cubicBezTo>
                <a:cubicBezTo>
                  <a:pt x="19215" y="14647"/>
                  <a:pt x="19475" y="14777"/>
                  <a:pt x="19695" y="14610"/>
                </a:cubicBezTo>
                <a:cubicBezTo>
                  <a:pt x="19899" y="14455"/>
                  <a:pt x="19943" y="14049"/>
                  <a:pt x="19943" y="13816"/>
                </a:cubicBezTo>
                <a:cubicBezTo>
                  <a:pt x="19943" y="13627"/>
                  <a:pt x="19924" y="13386"/>
                  <a:pt x="19819" y="13221"/>
                </a:cubicBezTo>
                <a:cubicBezTo>
                  <a:pt x="19728" y="13078"/>
                  <a:pt x="19622" y="12955"/>
                  <a:pt x="19447" y="12923"/>
                </a:cubicBezTo>
                <a:cubicBezTo>
                  <a:pt x="19337" y="12903"/>
                  <a:pt x="19180" y="13005"/>
                  <a:pt x="19100" y="13072"/>
                </a:cubicBezTo>
                <a:cubicBezTo>
                  <a:pt x="18965" y="13186"/>
                  <a:pt x="18867" y="13429"/>
                  <a:pt x="18827" y="13593"/>
                </a:cubicBezTo>
                <a:cubicBezTo>
                  <a:pt x="18760" y="13865"/>
                  <a:pt x="18902" y="14207"/>
                  <a:pt x="19149" y="14337"/>
                </a:cubicBezTo>
                <a:cubicBezTo>
                  <a:pt x="19256" y="14393"/>
                  <a:pt x="19363" y="14389"/>
                  <a:pt x="19472" y="14362"/>
                </a:cubicBezTo>
                <a:cubicBezTo>
                  <a:pt x="19696" y="14307"/>
                  <a:pt x="19828" y="14023"/>
                  <a:pt x="19869" y="13816"/>
                </a:cubicBezTo>
                <a:cubicBezTo>
                  <a:pt x="19892" y="13696"/>
                  <a:pt x="19850" y="13546"/>
                  <a:pt x="19844" y="13444"/>
                </a:cubicBezTo>
                <a:cubicBezTo>
                  <a:pt x="19835" y="13540"/>
                  <a:pt x="19820" y="13638"/>
                  <a:pt x="19819" y="13742"/>
                </a:cubicBezTo>
                <a:cubicBezTo>
                  <a:pt x="19817" y="13940"/>
                  <a:pt x="19824" y="14141"/>
                  <a:pt x="19844" y="14337"/>
                </a:cubicBezTo>
                <a:cubicBezTo>
                  <a:pt x="19871" y="14598"/>
                  <a:pt x="19893" y="14843"/>
                  <a:pt x="19893" y="15106"/>
                </a:cubicBezTo>
                <a:cubicBezTo>
                  <a:pt x="19893" y="15449"/>
                  <a:pt x="19935" y="15836"/>
                  <a:pt x="19869" y="16173"/>
                </a:cubicBezTo>
                <a:cubicBezTo>
                  <a:pt x="19821" y="16419"/>
                  <a:pt x="19735" y="16501"/>
                  <a:pt x="19596" y="16669"/>
                </a:cubicBezTo>
                <a:cubicBezTo>
                  <a:pt x="19511" y="16619"/>
                  <a:pt x="19436" y="16669"/>
                  <a:pt x="19348" y="16570"/>
                </a:cubicBezTo>
                <a:cubicBezTo>
                  <a:pt x="19252" y="16462"/>
                  <a:pt x="19212" y="16261"/>
                  <a:pt x="19199" y="16123"/>
                </a:cubicBezTo>
                <a:cubicBezTo>
                  <a:pt x="19166" y="15780"/>
                  <a:pt x="19247" y="15441"/>
                  <a:pt x="19397" y="15131"/>
                </a:cubicBezTo>
                <a:cubicBezTo>
                  <a:pt x="19505" y="14909"/>
                  <a:pt x="19740" y="14625"/>
                  <a:pt x="19943" y="14486"/>
                </a:cubicBezTo>
                <a:cubicBezTo>
                  <a:pt x="20142" y="14349"/>
                  <a:pt x="20367" y="14230"/>
                  <a:pt x="20613" y="14213"/>
                </a:cubicBezTo>
                <a:cubicBezTo>
                  <a:pt x="20793" y="14200"/>
                  <a:pt x="20904" y="14281"/>
                  <a:pt x="21059" y="14337"/>
                </a:cubicBezTo>
              </a:path>
              <a:path w="19671" h="4615">
                <a:moveTo>
                  <a:pt x="17487" y="12576"/>
                </a:moveTo>
                <a:cubicBezTo>
                  <a:pt x="17520" y="12602"/>
                  <a:pt x="17554" y="12624"/>
                  <a:pt x="17587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240" y="1108080"/>
            <a:ext cx="216000" cy="32076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1761" y="3101"/>
                </a:moveTo>
                <a:cubicBezTo>
                  <a:pt x="1821" y="3126"/>
                  <a:pt x="1845" y="3125"/>
                  <a:pt x="1910" y="3125"/>
                </a:cubicBezTo>
                <a:cubicBezTo>
                  <a:pt x="1968" y="3125"/>
                  <a:pt x="1997" y="3101"/>
                  <a:pt x="2059" y="3101"/>
                </a:cubicBezTo>
                <a:cubicBezTo>
                  <a:pt x="2113" y="3101"/>
                  <a:pt x="2193" y="3121"/>
                  <a:pt x="2208" y="3076"/>
                </a:cubicBezTo>
              </a:path>
              <a:path w="596" h="894">
                <a:moveTo>
                  <a:pt x="1786" y="3150"/>
                </a:moveTo>
                <a:cubicBezTo>
                  <a:pt x="1786" y="3286"/>
                  <a:pt x="1779" y="3419"/>
                  <a:pt x="1811" y="3547"/>
                </a:cubicBezTo>
                <a:cubicBezTo>
                  <a:pt x="1823" y="3596"/>
                  <a:pt x="1803" y="3603"/>
                  <a:pt x="1836" y="3646"/>
                </a:cubicBezTo>
                <a:cubicBezTo>
                  <a:pt x="1849" y="3605"/>
                  <a:pt x="1853" y="3621"/>
                  <a:pt x="1860" y="3572"/>
                </a:cubicBezTo>
                <a:cubicBezTo>
                  <a:pt x="1864" y="3541"/>
                  <a:pt x="1857" y="3466"/>
                  <a:pt x="1885" y="3448"/>
                </a:cubicBezTo>
                <a:cubicBezTo>
                  <a:pt x="1913" y="3430"/>
                  <a:pt x="1930" y="3408"/>
                  <a:pt x="1960" y="3423"/>
                </a:cubicBezTo>
                <a:cubicBezTo>
                  <a:pt x="2000" y="3444"/>
                  <a:pt x="2074" y="3457"/>
                  <a:pt x="2108" y="3497"/>
                </a:cubicBezTo>
                <a:cubicBezTo>
                  <a:pt x="2160" y="3558"/>
                  <a:pt x="2191" y="3646"/>
                  <a:pt x="2208" y="3721"/>
                </a:cubicBezTo>
                <a:cubicBezTo>
                  <a:pt x="2221" y="3777"/>
                  <a:pt x="2191" y="3827"/>
                  <a:pt x="2158" y="3870"/>
                </a:cubicBezTo>
                <a:cubicBezTo>
                  <a:pt x="2113" y="3929"/>
                  <a:pt x="2070" y="3923"/>
                  <a:pt x="2009" y="3944"/>
                </a:cubicBezTo>
                <a:cubicBezTo>
                  <a:pt x="1938" y="3968"/>
                  <a:pt x="1887" y="3969"/>
                  <a:pt x="1811" y="3969"/>
                </a:cubicBezTo>
                <a:cubicBezTo>
                  <a:pt x="1754" y="3969"/>
                  <a:pt x="1751" y="3966"/>
                  <a:pt x="1786" y="3919"/>
                </a:cubicBezTo>
              </a:path>
              <a:path w="596" h="894">
                <a:moveTo>
                  <a:pt x="2356" y="3969"/>
                </a:moveTo>
                <a:cubicBezTo>
                  <a:pt x="2326" y="3969"/>
                  <a:pt x="2315" y="3943"/>
                  <a:pt x="2307" y="39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955800"/>
            <a:ext cx="1714320" cy="446040"/>
          </a:xfrm>
          <a:custGeom>
            <a:avLst/>
            <a:gdLst/>
            <a:ahLst/>
            <a:rect l="l" t="t" r="r" b="b"/>
            <a:pathLst>
              <a:path w="4763" h="1241">
                <a:moveTo>
                  <a:pt x="3894" y="3200"/>
                </a:moveTo>
                <a:cubicBezTo>
                  <a:pt x="3846" y="3234"/>
                  <a:pt x="3881" y="3195"/>
                  <a:pt x="3820" y="3175"/>
                </a:cubicBezTo>
                <a:cubicBezTo>
                  <a:pt x="3774" y="3160"/>
                  <a:pt x="3754" y="3189"/>
                  <a:pt x="3721" y="3200"/>
                </a:cubicBezTo>
                <a:cubicBezTo>
                  <a:pt x="3687" y="3211"/>
                  <a:pt x="3627" y="3231"/>
                  <a:pt x="3597" y="3249"/>
                </a:cubicBezTo>
                <a:cubicBezTo>
                  <a:pt x="3564" y="3269"/>
                  <a:pt x="3525" y="3313"/>
                  <a:pt x="3522" y="3349"/>
                </a:cubicBezTo>
                <a:cubicBezTo>
                  <a:pt x="3518" y="3405"/>
                  <a:pt x="3519" y="3430"/>
                  <a:pt x="3572" y="3448"/>
                </a:cubicBezTo>
                <a:cubicBezTo>
                  <a:pt x="3621" y="3464"/>
                  <a:pt x="3668" y="3474"/>
                  <a:pt x="3721" y="3497"/>
                </a:cubicBezTo>
                <a:cubicBezTo>
                  <a:pt x="3796" y="3530"/>
                  <a:pt x="3818" y="3534"/>
                  <a:pt x="3870" y="3597"/>
                </a:cubicBezTo>
                <a:cubicBezTo>
                  <a:pt x="3897" y="3630"/>
                  <a:pt x="3936" y="3673"/>
                  <a:pt x="3919" y="3721"/>
                </a:cubicBezTo>
                <a:cubicBezTo>
                  <a:pt x="3897" y="3782"/>
                  <a:pt x="3847" y="3813"/>
                  <a:pt x="3795" y="3845"/>
                </a:cubicBezTo>
                <a:cubicBezTo>
                  <a:pt x="3740" y="3878"/>
                  <a:pt x="3660" y="3889"/>
                  <a:pt x="3597" y="3894"/>
                </a:cubicBezTo>
                <a:cubicBezTo>
                  <a:pt x="3593" y="3894"/>
                  <a:pt x="3497" y="3871"/>
                  <a:pt x="3497" y="3870"/>
                </a:cubicBezTo>
                <a:cubicBezTo>
                  <a:pt x="3471" y="3837"/>
                  <a:pt x="3467" y="3803"/>
                  <a:pt x="3497" y="3770"/>
                </a:cubicBezTo>
                <a:cubicBezTo>
                  <a:pt x="3505" y="3762"/>
                  <a:pt x="3514" y="3754"/>
                  <a:pt x="3522" y="3746"/>
                </a:cubicBezTo>
              </a:path>
              <a:path w="4763" h="1241">
                <a:moveTo>
                  <a:pt x="4118" y="3349"/>
                </a:moveTo>
                <a:cubicBezTo>
                  <a:pt x="4098" y="3439"/>
                  <a:pt x="4093" y="3506"/>
                  <a:pt x="4093" y="3597"/>
                </a:cubicBezTo>
                <a:cubicBezTo>
                  <a:pt x="4093" y="3682"/>
                  <a:pt x="4089" y="3750"/>
                  <a:pt x="4068" y="3820"/>
                </a:cubicBezTo>
                <a:cubicBezTo>
                  <a:pt x="4050" y="3879"/>
                  <a:pt x="4068" y="3784"/>
                  <a:pt x="4068" y="3770"/>
                </a:cubicBezTo>
              </a:path>
              <a:path w="4763" h="1241">
                <a:moveTo>
                  <a:pt x="4217" y="2927"/>
                </a:moveTo>
                <a:cubicBezTo>
                  <a:pt x="4258" y="2885"/>
                  <a:pt x="4266" y="2860"/>
                  <a:pt x="4291" y="2902"/>
                </a:cubicBezTo>
              </a:path>
              <a:path w="4763" h="1241">
                <a:moveTo>
                  <a:pt x="4316" y="3522"/>
                </a:moveTo>
                <a:cubicBezTo>
                  <a:pt x="4316" y="3630"/>
                  <a:pt x="4318" y="3706"/>
                  <a:pt x="4291" y="3795"/>
                </a:cubicBezTo>
                <a:cubicBezTo>
                  <a:pt x="4291" y="3803"/>
                  <a:pt x="4291" y="3812"/>
                  <a:pt x="4291" y="3820"/>
                </a:cubicBezTo>
                <a:cubicBezTo>
                  <a:pt x="4291" y="3757"/>
                  <a:pt x="4313" y="3730"/>
                  <a:pt x="4316" y="3671"/>
                </a:cubicBezTo>
                <a:cubicBezTo>
                  <a:pt x="4320" y="3603"/>
                  <a:pt x="4320" y="3536"/>
                  <a:pt x="4341" y="3473"/>
                </a:cubicBezTo>
                <a:cubicBezTo>
                  <a:pt x="4369" y="3389"/>
                  <a:pt x="4386" y="3312"/>
                  <a:pt x="4440" y="3249"/>
                </a:cubicBezTo>
                <a:cubicBezTo>
                  <a:pt x="4492" y="3188"/>
                  <a:pt x="4538" y="3131"/>
                  <a:pt x="4614" y="3125"/>
                </a:cubicBezTo>
                <a:cubicBezTo>
                  <a:pt x="4645" y="3122"/>
                  <a:pt x="4671" y="3194"/>
                  <a:pt x="4688" y="3225"/>
                </a:cubicBezTo>
                <a:cubicBezTo>
                  <a:pt x="4721" y="3286"/>
                  <a:pt x="4724" y="3379"/>
                  <a:pt x="4713" y="3448"/>
                </a:cubicBezTo>
                <a:cubicBezTo>
                  <a:pt x="4698" y="3542"/>
                  <a:pt x="4670" y="3629"/>
                  <a:pt x="4663" y="3721"/>
                </a:cubicBezTo>
                <a:cubicBezTo>
                  <a:pt x="4660" y="3762"/>
                  <a:pt x="4663" y="3804"/>
                  <a:pt x="4663" y="3845"/>
                </a:cubicBezTo>
                <a:cubicBezTo>
                  <a:pt x="4705" y="3831"/>
                  <a:pt x="4688" y="3797"/>
                  <a:pt x="4688" y="3746"/>
                </a:cubicBezTo>
              </a:path>
              <a:path w="4763" h="1241">
                <a:moveTo>
                  <a:pt x="4936" y="2704"/>
                </a:moveTo>
                <a:cubicBezTo>
                  <a:pt x="4984" y="2656"/>
                  <a:pt x="4991" y="2654"/>
                  <a:pt x="5060" y="2654"/>
                </a:cubicBezTo>
                <a:cubicBezTo>
                  <a:pt x="5080" y="2654"/>
                  <a:pt x="5162" y="2703"/>
                  <a:pt x="5159" y="2729"/>
                </a:cubicBezTo>
                <a:cubicBezTo>
                  <a:pt x="5152" y="2794"/>
                  <a:pt x="5109" y="2836"/>
                  <a:pt x="5060" y="2877"/>
                </a:cubicBezTo>
                <a:cubicBezTo>
                  <a:pt x="5035" y="2897"/>
                  <a:pt x="4999" y="2968"/>
                  <a:pt x="4986" y="2977"/>
                </a:cubicBezTo>
                <a:cubicBezTo>
                  <a:pt x="4978" y="2977"/>
                  <a:pt x="4969" y="2977"/>
                  <a:pt x="4961" y="2977"/>
                </a:cubicBezTo>
                <a:cubicBezTo>
                  <a:pt x="4984" y="2993"/>
                  <a:pt x="5027" y="3019"/>
                  <a:pt x="5060" y="3001"/>
                </a:cubicBezTo>
                <a:cubicBezTo>
                  <a:pt x="5111" y="2974"/>
                  <a:pt x="5147" y="2977"/>
                  <a:pt x="5209" y="2977"/>
                </a:cubicBezTo>
              </a:path>
              <a:path w="4763" h="1241">
                <a:moveTo>
                  <a:pt x="5308" y="3150"/>
                </a:moveTo>
                <a:cubicBezTo>
                  <a:pt x="5356" y="3245"/>
                  <a:pt x="5391" y="3359"/>
                  <a:pt x="5432" y="3448"/>
                </a:cubicBezTo>
                <a:cubicBezTo>
                  <a:pt x="5451" y="3490"/>
                  <a:pt x="5481" y="3557"/>
                  <a:pt x="5507" y="3597"/>
                </a:cubicBezTo>
                <a:cubicBezTo>
                  <a:pt x="5540" y="3646"/>
                  <a:pt x="5556" y="3659"/>
                  <a:pt x="5556" y="3597"/>
                </a:cubicBezTo>
              </a:path>
              <a:path w="4763" h="1241">
                <a:moveTo>
                  <a:pt x="5631" y="3101"/>
                </a:moveTo>
                <a:cubicBezTo>
                  <a:pt x="5588" y="3153"/>
                  <a:pt x="5544" y="3218"/>
                  <a:pt x="5507" y="3274"/>
                </a:cubicBezTo>
                <a:cubicBezTo>
                  <a:pt x="5462" y="3341"/>
                  <a:pt x="5410" y="3412"/>
                  <a:pt x="5358" y="3473"/>
                </a:cubicBezTo>
                <a:cubicBezTo>
                  <a:pt x="5303" y="3538"/>
                  <a:pt x="5268" y="3588"/>
                  <a:pt x="5234" y="3646"/>
                </a:cubicBezTo>
                <a:cubicBezTo>
                  <a:pt x="5215" y="3678"/>
                  <a:pt x="5168" y="3678"/>
                  <a:pt x="5159" y="3696"/>
                </a:cubicBezTo>
                <a:cubicBezTo>
                  <a:pt x="5139" y="3735"/>
                  <a:pt x="5159" y="3701"/>
                  <a:pt x="5159" y="3671"/>
                </a:cubicBezTo>
              </a:path>
              <a:path w="4763" h="1241">
                <a:moveTo>
                  <a:pt x="6201" y="3200"/>
                </a:moveTo>
                <a:cubicBezTo>
                  <a:pt x="6201" y="3175"/>
                  <a:pt x="6201" y="3150"/>
                  <a:pt x="6201" y="3125"/>
                </a:cubicBezTo>
                <a:cubicBezTo>
                  <a:pt x="6155" y="3125"/>
                  <a:pt x="6137" y="3119"/>
                  <a:pt x="6102" y="3150"/>
                </a:cubicBezTo>
                <a:cubicBezTo>
                  <a:pt x="6063" y="3185"/>
                  <a:pt x="6029" y="3230"/>
                  <a:pt x="6003" y="3274"/>
                </a:cubicBezTo>
                <a:cubicBezTo>
                  <a:pt x="5961" y="3345"/>
                  <a:pt x="5939" y="3423"/>
                  <a:pt x="5904" y="3497"/>
                </a:cubicBezTo>
                <a:cubicBezTo>
                  <a:pt x="5864" y="3583"/>
                  <a:pt x="5876" y="3665"/>
                  <a:pt x="5928" y="3746"/>
                </a:cubicBezTo>
                <a:cubicBezTo>
                  <a:pt x="5955" y="3788"/>
                  <a:pt x="5983" y="3795"/>
                  <a:pt x="6028" y="3795"/>
                </a:cubicBezTo>
                <a:cubicBezTo>
                  <a:pt x="6082" y="3795"/>
                  <a:pt x="6187" y="3763"/>
                  <a:pt x="6226" y="3721"/>
                </a:cubicBezTo>
                <a:cubicBezTo>
                  <a:pt x="6234" y="3704"/>
                  <a:pt x="6243" y="3688"/>
                  <a:pt x="6251" y="3671"/>
                </a:cubicBezTo>
              </a:path>
              <a:path w="4763" h="1241">
                <a:moveTo>
                  <a:pt x="6449" y="3324"/>
                </a:moveTo>
                <a:cubicBezTo>
                  <a:pt x="6431" y="3407"/>
                  <a:pt x="6404" y="3489"/>
                  <a:pt x="6400" y="3572"/>
                </a:cubicBezTo>
                <a:cubicBezTo>
                  <a:pt x="6398" y="3618"/>
                  <a:pt x="6401" y="3683"/>
                  <a:pt x="6424" y="3721"/>
                </a:cubicBezTo>
                <a:cubicBezTo>
                  <a:pt x="6461" y="3783"/>
                  <a:pt x="6528" y="3732"/>
                  <a:pt x="6573" y="3721"/>
                </a:cubicBezTo>
                <a:cubicBezTo>
                  <a:pt x="6630" y="3707"/>
                  <a:pt x="6686" y="3666"/>
                  <a:pt x="6722" y="3621"/>
                </a:cubicBezTo>
                <a:cubicBezTo>
                  <a:pt x="6771" y="3560"/>
                  <a:pt x="6772" y="3496"/>
                  <a:pt x="6772" y="3423"/>
                </a:cubicBezTo>
                <a:cubicBezTo>
                  <a:pt x="6772" y="3362"/>
                  <a:pt x="6751" y="3309"/>
                  <a:pt x="6697" y="3274"/>
                </a:cubicBezTo>
                <a:cubicBezTo>
                  <a:pt x="6630" y="3230"/>
                  <a:pt x="6621" y="3215"/>
                  <a:pt x="6548" y="3249"/>
                </a:cubicBezTo>
                <a:cubicBezTo>
                  <a:pt x="6489" y="3277"/>
                  <a:pt x="6456" y="3305"/>
                  <a:pt x="6449" y="3373"/>
                </a:cubicBezTo>
                <a:cubicBezTo>
                  <a:pt x="6445" y="3415"/>
                  <a:pt x="6450" y="3416"/>
                  <a:pt x="6474" y="3448"/>
                </a:cubicBezTo>
              </a:path>
              <a:path w="4763" h="1241">
                <a:moveTo>
                  <a:pt x="7169" y="2927"/>
                </a:moveTo>
                <a:cubicBezTo>
                  <a:pt x="7159" y="3004"/>
                  <a:pt x="7130" y="3072"/>
                  <a:pt x="7119" y="3150"/>
                </a:cubicBezTo>
                <a:cubicBezTo>
                  <a:pt x="7107" y="3235"/>
                  <a:pt x="7094" y="3310"/>
                  <a:pt x="7094" y="3398"/>
                </a:cubicBezTo>
                <a:cubicBezTo>
                  <a:pt x="7094" y="3490"/>
                  <a:pt x="7093" y="3568"/>
                  <a:pt x="7069" y="3646"/>
                </a:cubicBezTo>
                <a:cubicBezTo>
                  <a:pt x="7063" y="3666"/>
                  <a:pt x="7069" y="3700"/>
                  <a:pt x="7069" y="3721"/>
                </a:cubicBezTo>
              </a:path>
              <a:path w="4763" h="1241">
                <a:moveTo>
                  <a:pt x="6945" y="3423"/>
                </a:moveTo>
                <a:cubicBezTo>
                  <a:pt x="6989" y="3442"/>
                  <a:pt x="7043" y="3463"/>
                  <a:pt x="7094" y="3448"/>
                </a:cubicBezTo>
                <a:cubicBezTo>
                  <a:pt x="7155" y="3430"/>
                  <a:pt x="7213" y="3418"/>
                  <a:pt x="7268" y="3398"/>
                </a:cubicBezTo>
                <a:cubicBezTo>
                  <a:pt x="7356" y="3366"/>
                  <a:pt x="7397" y="3302"/>
                  <a:pt x="7466" y="3249"/>
                </a:cubicBezTo>
              </a:path>
              <a:path w="4763" h="1241">
                <a:moveTo>
                  <a:pt x="7565" y="2704"/>
                </a:moveTo>
                <a:cubicBezTo>
                  <a:pt x="7604" y="2696"/>
                  <a:pt x="7749" y="2640"/>
                  <a:pt x="7789" y="2654"/>
                </a:cubicBezTo>
                <a:cubicBezTo>
                  <a:pt x="7821" y="2665"/>
                  <a:pt x="7869" y="2708"/>
                  <a:pt x="7838" y="2753"/>
                </a:cubicBezTo>
                <a:cubicBezTo>
                  <a:pt x="7800" y="2810"/>
                  <a:pt x="7715" y="2912"/>
                  <a:pt x="7665" y="2952"/>
                </a:cubicBezTo>
                <a:cubicBezTo>
                  <a:pt x="7621" y="2987"/>
                  <a:pt x="7583" y="2997"/>
                  <a:pt x="7565" y="3051"/>
                </a:cubicBezTo>
                <a:cubicBezTo>
                  <a:pt x="7565" y="3076"/>
                  <a:pt x="7565" y="3084"/>
                  <a:pt x="7565" y="3101"/>
                </a:cubicBezTo>
                <a:cubicBezTo>
                  <a:pt x="7631" y="3101"/>
                  <a:pt x="7684" y="3087"/>
                  <a:pt x="7739" y="3076"/>
                </a:cubicBezTo>
                <a:cubicBezTo>
                  <a:pt x="7756" y="3076"/>
                  <a:pt x="7772" y="3076"/>
                  <a:pt x="7789" y="3076"/>
                </a:cubicBezTo>
              </a:path>
              <a:path w="4763" h="1241">
                <a:moveTo>
                  <a:pt x="7888" y="3200"/>
                </a:moveTo>
                <a:cubicBezTo>
                  <a:pt x="7929" y="3294"/>
                  <a:pt x="7948" y="3362"/>
                  <a:pt x="7987" y="3448"/>
                </a:cubicBezTo>
                <a:cubicBezTo>
                  <a:pt x="8011" y="3501"/>
                  <a:pt x="8041" y="3544"/>
                  <a:pt x="8062" y="3597"/>
                </a:cubicBezTo>
                <a:cubicBezTo>
                  <a:pt x="8081" y="3644"/>
                  <a:pt x="8116" y="3681"/>
                  <a:pt x="8161" y="3696"/>
                </a:cubicBezTo>
                <a:cubicBezTo>
                  <a:pt x="8169" y="3696"/>
                  <a:pt x="8178" y="3696"/>
                  <a:pt x="8186" y="3696"/>
                </a:cubicBezTo>
                <a:cubicBezTo>
                  <a:pt x="8186" y="3652"/>
                  <a:pt x="8200" y="3636"/>
                  <a:pt x="8210" y="3597"/>
                </a:cubicBezTo>
              </a:path>
              <a:path w="4763" h="1241">
                <a:moveTo>
                  <a:pt x="8235" y="3125"/>
                </a:moveTo>
                <a:cubicBezTo>
                  <a:pt x="8164" y="3239"/>
                  <a:pt x="8058" y="3327"/>
                  <a:pt x="7962" y="3423"/>
                </a:cubicBezTo>
                <a:cubicBezTo>
                  <a:pt x="7898" y="3488"/>
                  <a:pt x="7850" y="3555"/>
                  <a:pt x="7789" y="3621"/>
                </a:cubicBezTo>
                <a:cubicBezTo>
                  <a:pt x="7771" y="3641"/>
                  <a:pt x="7719" y="3693"/>
                  <a:pt x="7714" y="3696"/>
                </a:cubicBezTo>
                <a:cubicBezTo>
                  <a:pt x="7686" y="3696"/>
                  <a:pt x="7680" y="3694"/>
                  <a:pt x="7714" y="36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7800" y="1035000"/>
            <a:ext cx="1135080" cy="376200"/>
          </a:xfrm>
          <a:custGeom>
            <a:avLst/>
            <a:gdLst/>
            <a:ahLst/>
            <a:rect l="l" t="t" r="r" b="b"/>
            <a:pathLst>
              <a:path w="3151" h="1043">
                <a:moveTo>
                  <a:pt x="9054" y="2977"/>
                </a:moveTo>
                <a:cubicBezTo>
                  <a:pt x="9091" y="3073"/>
                  <a:pt x="9079" y="3169"/>
                  <a:pt x="9079" y="3274"/>
                </a:cubicBezTo>
                <a:cubicBezTo>
                  <a:pt x="9079" y="3344"/>
                  <a:pt x="9054" y="3402"/>
                  <a:pt x="9054" y="3473"/>
                </a:cubicBezTo>
                <a:cubicBezTo>
                  <a:pt x="9054" y="3526"/>
                  <a:pt x="9079" y="3605"/>
                  <a:pt x="9029" y="3572"/>
                </a:cubicBezTo>
              </a:path>
              <a:path w="3151" h="1043">
                <a:moveTo>
                  <a:pt x="8855" y="3299"/>
                </a:moveTo>
                <a:cubicBezTo>
                  <a:pt x="8920" y="3317"/>
                  <a:pt x="9009" y="3344"/>
                  <a:pt x="9079" y="3324"/>
                </a:cubicBezTo>
                <a:cubicBezTo>
                  <a:pt x="9157" y="3302"/>
                  <a:pt x="9217" y="3299"/>
                  <a:pt x="9302" y="3299"/>
                </a:cubicBezTo>
              </a:path>
              <a:path w="3151" h="1043">
                <a:moveTo>
                  <a:pt x="9996" y="3200"/>
                </a:moveTo>
                <a:cubicBezTo>
                  <a:pt x="9919" y="3166"/>
                  <a:pt x="9916" y="3186"/>
                  <a:pt x="9847" y="3200"/>
                </a:cubicBezTo>
                <a:cubicBezTo>
                  <a:pt x="9801" y="3209"/>
                  <a:pt x="9740" y="3224"/>
                  <a:pt x="9699" y="3249"/>
                </a:cubicBezTo>
                <a:cubicBezTo>
                  <a:pt x="9666" y="3269"/>
                  <a:pt x="9631" y="3302"/>
                  <a:pt x="9624" y="3324"/>
                </a:cubicBezTo>
                <a:cubicBezTo>
                  <a:pt x="9665" y="3365"/>
                  <a:pt x="9703" y="3389"/>
                  <a:pt x="9748" y="3423"/>
                </a:cubicBezTo>
                <a:cubicBezTo>
                  <a:pt x="9791" y="3456"/>
                  <a:pt x="9833" y="3483"/>
                  <a:pt x="9872" y="3522"/>
                </a:cubicBezTo>
                <a:cubicBezTo>
                  <a:pt x="9904" y="3554"/>
                  <a:pt x="9951" y="3618"/>
                  <a:pt x="9922" y="3671"/>
                </a:cubicBezTo>
                <a:cubicBezTo>
                  <a:pt x="9903" y="3706"/>
                  <a:pt x="9849" y="3703"/>
                  <a:pt x="9823" y="3721"/>
                </a:cubicBezTo>
                <a:cubicBezTo>
                  <a:pt x="9780" y="3750"/>
                  <a:pt x="9751" y="3746"/>
                  <a:pt x="9699" y="3746"/>
                </a:cubicBezTo>
                <a:cubicBezTo>
                  <a:pt x="9647" y="3746"/>
                  <a:pt x="9682" y="3719"/>
                  <a:pt x="9699" y="3696"/>
                </a:cubicBezTo>
              </a:path>
              <a:path w="3151" h="1043">
                <a:moveTo>
                  <a:pt x="10220" y="3299"/>
                </a:moveTo>
                <a:cubicBezTo>
                  <a:pt x="10213" y="3402"/>
                  <a:pt x="10195" y="3493"/>
                  <a:pt x="10195" y="3597"/>
                </a:cubicBezTo>
                <a:cubicBezTo>
                  <a:pt x="10195" y="3675"/>
                  <a:pt x="10186" y="3730"/>
                  <a:pt x="10170" y="3795"/>
                </a:cubicBezTo>
                <a:cubicBezTo>
                  <a:pt x="10214" y="3780"/>
                  <a:pt x="10195" y="3764"/>
                  <a:pt x="10195" y="3696"/>
                </a:cubicBezTo>
              </a:path>
              <a:path w="3151" h="1043">
                <a:moveTo>
                  <a:pt x="10244" y="3101"/>
                </a:moveTo>
                <a:cubicBezTo>
                  <a:pt x="10285" y="3030"/>
                  <a:pt x="10286" y="3026"/>
                  <a:pt x="10368" y="3026"/>
                </a:cubicBezTo>
              </a:path>
              <a:path w="3151" h="1043">
                <a:moveTo>
                  <a:pt x="10418" y="3572"/>
                </a:moveTo>
                <a:cubicBezTo>
                  <a:pt x="10418" y="3671"/>
                  <a:pt x="10418" y="3919"/>
                  <a:pt x="10418" y="3820"/>
                </a:cubicBezTo>
                <a:cubicBezTo>
                  <a:pt x="10418" y="3745"/>
                  <a:pt x="10430" y="3683"/>
                  <a:pt x="10443" y="3621"/>
                </a:cubicBezTo>
                <a:cubicBezTo>
                  <a:pt x="10458" y="3546"/>
                  <a:pt x="10435" y="3512"/>
                  <a:pt x="10492" y="3448"/>
                </a:cubicBezTo>
                <a:cubicBezTo>
                  <a:pt x="10539" y="3395"/>
                  <a:pt x="10587" y="3365"/>
                  <a:pt x="10641" y="3324"/>
                </a:cubicBezTo>
                <a:cubicBezTo>
                  <a:pt x="10674" y="3299"/>
                  <a:pt x="10756" y="3294"/>
                  <a:pt x="10790" y="3324"/>
                </a:cubicBezTo>
                <a:cubicBezTo>
                  <a:pt x="10828" y="3358"/>
                  <a:pt x="10845" y="3501"/>
                  <a:pt x="10840" y="3547"/>
                </a:cubicBezTo>
                <a:cubicBezTo>
                  <a:pt x="10828" y="3656"/>
                  <a:pt x="10789" y="3730"/>
                  <a:pt x="10765" y="3820"/>
                </a:cubicBezTo>
                <a:cubicBezTo>
                  <a:pt x="10762" y="3831"/>
                  <a:pt x="10740" y="3959"/>
                  <a:pt x="10740" y="3894"/>
                </a:cubicBezTo>
                <a:cubicBezTo>
                  <a:pt x="10740" y="3886"/>
                  <a:pt x="10740" y="3878"/>
                  <a:pt x="10740" y="3870"/>
                </a:cubicBezTo>
              </a:path>
              <a:path w="3151" h="1043">
                <a:moveTo>
                  <a:pt x="11112" y="2902"/>
                </a:moveTo>
                <a:cubicBezTo>
                  <a:pt x="11182" y="2881"/>
                  <a:pt x="11215" y="2877"/>
                  <a:pt x="11286" y="2877"/>
                </a:cubicBezTo>
                <a:cubicBezTo>
                  <a:pt x="11328" y="2877"/>
                  <a:pt x="11333" y="2923"/>
                  <a:pt x="11311" y="2952"/>
                </a:cubicBezTo>
                <a:cubicBezTo>
                  <a:pt x="11263" y="3013"/>
                  <a:pt x="11219" y="3069"/>
                  <a:pt x="11162" y="3125"/>
                </a:cubicBezTo>
                <a:cubicBezTo>
                  <a:pt x="11133" y="3154"/>
                  <a:pt x="11066" y="3198"/>
                  <a:pt x="11063" y="3225"/>
                </a:cubicBezTo>
                <a:cubicBezTo>
                  <a:pt x="11057" y="3268"/>
                  <a:pt x="11127" y="3294"/>
                  <a:pt x="11162" y="3299"/>
                </a:cubicBezTo>
                <a:cubicBezTo>
                  <a:pt x="11249" y="3311"/>
                  <a:pt x="11347" y="3299"/>
                  <a:pt x="11435" y="3299"/>
                </a:cubicBezTo>
              </a:path>
              <a:path w="3151" h="1043">
                <a:moveTo>
                  <a:pt x="11683" y="3349"/>
                </a:moveTo>
                <a:cubicBezTo>
                  <a:pt x="11683" y="3456"/>
                  <a:pt x="11669" y="3573"/>
                  <a:pt x="11708" y="3671"/>
                </a:cubicBezTo>
                <a:cubicBezTo>
                  <a:pt x="11735" y="3738"/>
                  <a:pt x="11788" y="3774"/>
                  <a:pt x="11857" y="3795"/>
                </a:cubicBezTo>
                <a:cubicBezTo>
                  <a:pt x="11927" y="3817"/>
                  <a:pt x="11936" y="3825"/>
                  <a:pt x="12005" y="3795"/>
                </a:cubicBezTo>
              </a:path>
              <a:path w="3151" h="1043">
                <a:moveTo>
                  <a:pt x="11981" y="3497"/>
                </a:moveTo>
                <a:cubicBezTo>
                  <a:pt x="11877" y="3579"/>
                  <a:pt x="11762" y="3642"/>
                  <a:pt x="11658" y="3721"/>
                </a:cubicBezTo>
                <a:cubicBezTo>
                  <a:pt x="11601" y="3764"/>
                  <a:pt x="11546" y="3808"/>
                  <a:pt x="11485" y="3845"/>
                </a:cubicBezTo>
                <a:cubicBezTo>
                  <a:pt x="11433" y="3877"/>
                  <a:pt x="11395" y="3870"/>
                  <a:pt x="11336" y="38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94200" y="1125360"/>
            <a:ext cx="142920" cy="312840"/>
          </a:xfrm>
          <a:custGeom>
            <a:avLst/>
            <a:gdLst/>
            <a:ahLst/>
            <a:rect l="l" t="t" r="r" b="b"/>
            <a:pathLst>
              <a:path w="398" h="870">
                <a:moveTo>
                  <a:pt x="13692" y="3125"/>
                </a:moveTo>
                <a:cubicBezTo>
                  <a:pt x="13692" y="3181"/>
                  <a:pt x="13672" y="3159"/>
                  <a:pt x="13667" y="3200"/>
                </a:cubicBezTo>
                <a:cubicBezTo>
                  <a:pt x="13662" y="3243"/>
                  <a:pt x="13659" y="3285"/>
                  <a:pt x="13643" y="3324"/>
                </a:cubicBezTo>
                <a:cubicBezTo>
                  <a:pt x="13614" y="3396"/>
                  <a:pt x="13627" y="3446"/>
                  <a:pt x="13618" y="3522"/>
                </a:cubicBezTo>
                <a:cubicBezTo>
                  <a:pt x="13612" y="3571"/>
                  <a:pt x="13565" y="3772"/>
                  <a:pt x="13593" y="3845"/>
                </a:cubicBezTo>
                <a:cubicBezTo>
                  <a:pt x="13605" y="3875"/>
                  <a:pt x="13636" y="3951"/>
                  <a:pt x="13667" y="3969"/>
                </a:cubicBezTo>
                <a:cubicBezTo>
                  <a:pt x="13694" y="3984"/>
                  <a:pt x="13753" y="4010"/>
                  <a:pt x="13791" y="3994"/>
                </a:cubicBezTo>
                <a:cubicBezTo>
                  <a:pt x="13818" y="3983"/>
                  <a:pt x="13870" y="3938"/>
                  <a:pt x="13891" y="3919"/>
                </a:cubicBezTo>
                <a:cubicBezTo>
                  <a:pt x="13928" y="3885"/>
                  <a:pt x="13956" y="3837"/>
                  <a:pt x="13965" y="3795"/>
                </a:cubicBezTo>
                <a:cubicBezTo>
                  <a:pt x="13977" y="3733"/>
                  <a:pt x="13955" y="3717"/>
                  <a:pt x="13940" y="3671"/>
                </a:cubicBezTo>
                <a:cubicBezTo>
                  <a:pt x="13936" y="3658"/>
                  <a:pt x="13869" y="3608"/>
                  <a:pt x="13841" y="3621"/>
                </a:cubicBezTo>
                <a:cubicBezTo>
                  <a:pt x="13814" y="3633"/>
                  <a:pt x="13756" y="3664"/>
                  <a:pt x="13742" y="3696"/>
                </a:cubicBezTo>
                <a:cubicBezTo>
                  <a:pt x="13725" y="3735"/>
                  <a:pt x="13683" y="3779"/>
                  <a:pt x="13667" y="3820"/>
                </a:cubicBezTo>
                <a:cubicBezTo>
                  <a:pt x="13655" y="3850"/>
                  <a:pt x="13633" y="3863"/>
                  <a:pt x="13643" y="3894"/>
                </a:cubicBezTo>
                <a:cubicBezTo>
                  <a:pt x="13662" y="3954"/>
                  <a:pt x="13661" y="3929"/>
                  <a:pt x="13692" y="3919"/>
                </a:cubicBezTo>
              </a:path>
              <a:path w="398" h="870">
                <a:moveTo>
                  <a:pt x="13990" y="3795"/>
                </a:moveTo>
                <a:cubicBezTo>
                  <a:pt x="13982" y="3795"/>
                  <a:pt x="13973" y="3795"/>
                  <a:pt x="13965" y="37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9800" y="1116000"/>
            <a:ext cx="760320" cy="233280"/>
          </a:xfrm>
          <a:custGeom>
            <a:avLst/>
            <a:gdLst/>
            <a:ahLst/>
            <a:rect l="l" t="t" r="r" b="b"/>
            <a:pathLst>
              <a:path w="2110" h="646">
                <a:moveTo>
                  <a:pt x="15478" y="3125"/>
                </a:moveTo>
                <a:cubicBezTo>
                  <a:pt x="15455" y="3148"/>
                  <a:pt x="15447" y="3152"/>
                  <a:pt x="15453" y="3175"/>
                </a:cubicBezTo>
                <a:cubicBezTo>
                  <a:pt x="15443" y="3133"/>
                  <a:pt x="15426" y="3106"/>
                  <a:pt x="15379" y="3101"/>
                </a:cubicBezTo>
                <a:cubicBezTo>
                  <a:pt x="15328" y="3096"/>
                  <a:pt x="15268" y="3092"/>
                  <a:pt x="15230" y="3125"/>
                </a:cubicBezTo>
                <a:cubicBezTo>
                  <a:pt x="15165" y="3182"/>
                  <a:pt x="15131" y="3227"/>
                  <a:pt x="15106" y="3299"/>
                </a:cubicBezTo>
                <a:cubicBezTo>
                  <a:pt x="15082" y="3367"/>
                  <a:pt x="15034" y="3418"/>
                  <a:pt x="15056" y="3497"/>
                </a:cubicBezTo>
                <a:cubicBezTo>
                  <a:pt x="15071" y="3549"/>
                  <a:pt x="15083" y="3603"/>
                  <a:pt x="15106" y="3646"/>
                </a:cubicBezTo>
                <a:cubicBezTo>
                  <a:pt x="15132" y="3695"/>
                  <a:pt x="15174" y="3740"/>
                  <a:pt x="15230" y="3746"/>
                </a:cubicBezTo>
                <a:cubicBezTo>
                  <a:pt x="15278" y="3751"/>
                  <a:pt x="15318" y="3716"/>
                  <a:pt x="15354" y="3696"/>
                </a:cubicBezTo>
                <a:cubicBezTo>
                  <a:pt x="15421" y="3657"/>
                  <a:pt x="15425" y="3617"/>
                  <a:pt x="15478" y="3572"/>
                </a:cubicBezTo>
                <a:cubicBezTo>
                  <a:pt x="15528" y="3547"/>
                  <a:pt x="15545" y="3539"/>
                  <a:pt x="15553" y="3497"/>
                </a:cubicBezTo>
              </a:path>
              <a:path w="2110" h="646">
                <a:moveTo>
                  <a:pt x="15652" y="3299"/>
                </a:moveTo>
                <a:cubicBezTo>
                  <a:pt x="15644" y="3375"/>
                  <a:pt x="15627" y="3418"/>
                  <a:pt x="15627" y="3497"/>
                </a:cubicBezTo>
                <a:cubicBezTo>
                  <a:pt x="15627" y="3549"/>
                  <a:pt x="15644" y="3584"/>
                  <a:pt x="15677" y="3621"/>
                </a:cubicBezTo>
                <a:cubicBezTo>
                  <a:pt x="15722" y="3673"/>
                  <a:pt x="15750" y="3668"/>
                  <a:pt x="15801" y="3646"/>
                </a:cubicBezTo>
                <a:cubicBezTo>
                  <a:pt x="15877" y="3613"/>
                  <a:pt x="15929" y="3566"/>
                  <a:pt x="15974" y="3497"/>
                </a:cubicBezTo>
                <a:cubicBezTo>
                  <a:pt x="16004" y="3451"/>
                  <a:pt x="16043" y="3381"/>
                  <a:pt x="16024" y="3324"/>
                </a:cubicBezTo>
                <a:cubicBezTo>
                  <a:pt x="16006" y="3269"/>
                  <a:pt x="15988" y="3219"/>
                  <a:pt x="15949" y="3175"/>
                </a:cubicBezTo>
                <a:cubicBezTo>
                  <a:pt x="15935" y="3159"/>
                  <a:pt x="15873" y="3115"/>
                  <a:pt x="15850" y="3125"/>
                </a:cubicBezTo>
                <a:cubicBezTo>
                  <a:pt x="15813" y="3141"/>
                  <a:pt x="15759" y="3153"/>
                  <a:pt x="15726" y="3175"/>
                </a:cubicBezTo>
                <a:cubicBezTo>
                  <a:pt x="15687" y="3201"/>
                  <a:pt x="15641" y="3258"/>
                  <a:pt x="15627" y="3299"/>
                </a:cubicBezTo>
                <a:cubicBezTo>
                  <a:pt x="15614" y="3337"/>
                  <a:pt x="15634" y="3396"/>
                  <a:pt x="15652" y="3423"/>
                </a:cubicBezTo>
                <a:cubicBezTo>
                  <a:pt x="15670" y="3450"/>
                  <a:pt x="15722" y="3461"/>
                  <a:pt x="15751" y="3473"/>
                </a:cubicBezTo>
              </a:path>
              <a:path w="2110" h="646">
                <a:moveTo>
                  <a:pt x="16446" y="3125"/>
                </a:moveTo>
                <a:cubicBezTo>
                  <a:pt x="16384" y="3125"/>
                  <a:pt x="16354" y="3157"/>
                  <a:pt x="16297" y="3175"/>
                </a:cubicBezTo>
                <a:cubicBezTo>
                  <a:pt x="16257" y="3187"/>
                  <a:pt x="16227" y="3202"/>
                  <a:pt x="16222" y="3249"/>
                </a:cubicBezTo>
                <a:cubicBezTo>
                  <a:pt x="16216" y="3302"/>
                  <a:pt x="16288" y="3318"/>
                  <a:pt x="16321" y="3349"/>
                </a:cubicBezTo>
                <a:cubicBezTo>
                  <a:pt x="16382" y="3406"/>
                  <a:pt x="16422" y="3432"/>
                  <a:pt x="16470" y="3497"/>
                </a:cubicBezTo>
                <a:cubicBezTo>
                  <a:pt x="16503" y="3541"/>
                  <a:pt x="16520" y="3540"/>
                  <a:pt x="16520" y="3597"/>
                </a:cubicBezTo>
                <a:cubicBezTo>
                  <a:pt x="16520" y="3617"/>
                  <a:pt x="16472" y="3654"/>
                  <a:pt x="16446" y="3671"/>
                </a:cubicBezTo>
                <a:cubicBezTo>
                  <a:pt x="16386" y="3710"/>
                  <a:pt x="16316" y="3696"/>
                  <a:pt x="16247" y="3696"/>
                </a:cubicBezTo>
                <a:cubicBezTo>
                  <a:pt x="16195" y="3696"/>
                  <a:pt x="16230" y="3669"/>
                  <a:pt x="16247" y="3646"/>
                </a:cubicBezTo>
              </a:path>
              <a:path w="2110" h="646">
                <a:moveTo>
                  <a:pt x="16842" y="3175"/>
                </a:moveTo>
                <a:cubicBezTo>
                  <a:pt x="16850" y="3216"/>
                  <a:pt x="16867" y="3402"/>
                  <a:pt x="16917" y="3448"/>
                </a:cubicBezTo>
                <a:cubicBezTo>
                  <a:pt x="16968" y="3495"/>
                  <a:pt x="17020" y="3544"/>
                  <a:pt x="17090" y="3572"/>
                </a:cubicBezTo>
                <a:cubicBezTo>
                  <a:pt x="17129" y="3588"/>
                  <a:pt x="17156" y="3573"/>
                  <a:pt x="17165" y="3547"/>
                </a:cubicBezTo>
              </a:path>
              <a:path w="2110" h="646">
                <a:moveTo>
                  <a:pt x="17090" y="3200"/>
                </a:moveTo>
                <a:cubicBezTo>
                  <a:pt x="17043" y="3275"/>
                  <a:pt x="16997" y="3357"/>
                  <a:pt x="16942" y="3423"/>
                </a:cubicBezTo>
                <a:cubicBezTo>
                  <a:pt x="16903" y="3470"/>
                  <a:pt x="16856" y="3491"/>
                  <a:pt x="16842" y="3547"/>
                </a:cubicBezTo>
                <a:cubicBezTo>
                  <a:pt x="16803" y="3557"/>
                  <a:pt x="16779" y="3585"/>
                  <a:pt x="16743" y="3597"/>
                </a:cubicBezTo>
                <a:cubicBezTo>
                  <a:pt x="16735" y="3597"/>
                  <a:pt x="16726" y="3597"/>
                  <a:pt x="16718" y="35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1276200"/>
            <a:ext cx="1812960" cy="233640"/>
          </a:xfrm>
          <a:custGeom>
            <a:avLst/>
            <a:gdLst/>
            <a:ahLst/>
            <a:rect l="l" t="t" r="r" b="b"/>
            <a:pathLst>
              <a:path w="5036" h="646">
                <a:moveTo>
                  <a:pt x="3324" y="3621"/>
                </a:moveTo>
                <a:cubicBezTo>
                  <a:pt x="3338" y="3683"/>
                  <a:pt x="3347" y="3726"/>
                  <a:pt x="3349" y="3795"/>
                </a:cubicBezTo>
                <a:cubicBezTo>
                  <a:pt x="3351" y="3862"/>
                  <a:pt x="3328" y="3908"/>
                  <a:pt x="3324" y="3969"/>
                </a:cubicBezTo>
                <a:cubicBezTo>
                  <a:pt x="3320" y="4026"/>
                  <a:pt x="3304" y="4128"/>
                  <a:pt x="3349" y="4167"/>
                </a:cubicBezTo>
                <a:cubicBezTo>
                  <a:pt x="3388" y="4200"/>
                  <a:pt x="3467" y="4196"/>
                  <a:pt x="3522" y="4192"/>
                </a:cubicBezTo>
                <a:cubicBezTo>
                  <a:pt x="3587" y="4187"/>
                  <a:pt x="3677" y="4176"/>
                  <a:pt x="3746" y="4167"/>
                </a:cubicBezTo>
                <a:cubicBezTo>
                  <a:pt x="3844" y="4155"/>
                  <a:pt x="3945" y="4156"/>
                  <a:pt x="4043" y="4142"/>
                </a:cubicBezTo>
                <a:cubicBezTo>
                  <a:pt x="4199" y="4120"/>
                  <a:pt x="4356" y="4097"/>
                  <a:pt x="4514" y="4093"/>
                </a:cubicBezTo>
                <a:cubicBezTo>
                  <a:pt x="4666" y="4089"/>
                  <a:pt x="4811" y="4078"/>
                  <a:pt x="4961" y="4068"/>
                </a:cubicBezTo>
                <a:cubicBezTo>
                  <a:pt x="5281" y="4046"/>
                  <a:pt x="5608" y="4059"/>
                  <a:pt x="5928" y="4043"/>
                </a:cubicBezTo>
                <a:cubicBezTo>
                  <a:pt x="6682" y="4005"/>
                  <a:pt x="7534" y="4168"/>
                  <a:pt x="8260" y="4018"/>
                </a:cubicBezTo>
                <a:cubicBezTo>
                  <a:pt x="8310" y="4008"/>
                  <a:pt x="8311" y="4031"/>
                  <a:pt x="8334" y="3994"/>
                </a:cubicBezTo>
                <a:cubicBezTo>
                  <a:pt x="8353" y="3964"/>
                  <a:pt x="8366" y="3619"/>
                  <a:pt x="8359" y="3597"/>
                </a:cubicBezTo>
                <a:cubicBezTo>
                  <a:pt x="8324" y="3485"/>
                  <a:pt x="8398" y="3643"/>
                  <a:pt x="8310" y="35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8720" y="1366920"/>
            <a:ext cx="3295440" cy="839880"/>
          </a:xfrm>
          <a:custGeom>
            <a:avLst/>
            <a:gdLst/>
            <a:ahLst/>
            <a:rect l="l" t="t" r="r" b="b"/>
            <a:pathLst>
              <a:path w="9154" h="2333">
                <a:moveTo>
                  <a:pt x="3621" y="5556"/>
                </a:moveTo>
                <a:cubicBezTo>
                  <a:pt x="3621" y="5597"/>
                  <a:pt x="3602" y="5537"/>
                  <a:pt x="3572" y="5507"/>
                </a:cubicBezTo>
                <a:cubicBezTo>
                  <a:pt x="3548" y="5483"/>
                  <a:pt x="3507" y="5459"/>
                  <a:pt x="3473" y="5457"/>
                </a:cubicBezTo>
                <a:cubicBezTo>
                  <a:pt x="3424" y="5453"/>
                  <a:pt x="3361" y="5478"/>
                  <a:pt x="3324" y="5507"/>
                </a:cubicBezTo>
                <a:cubicBezTo>
                  <a:pt x="3286" y="5537"/>
                  <a:pt x="3230" y="5584"/>
                  <a:pt x="3225" y="5631"/>
                </a:cubicBezTo>
                <a:cubicBezTo>
                  <a:pt x="3219" y="5682"/>
                  <a:pt x="3240" y="5695"/>
                  <a:pt x="3274" y="5730"/>
                </a:cubicBezTo>
                <a:cubicBezTo>
                  <a:pt x="3322" y="5778"/>
                  <a:pt x="3389" y="5821"/>
                  <a:pt x="3448" y="5854"/>
                </a:cubicBezTo>
                <a:cubicBezTo>
                  <a:pt x="3501" y="5884"/>
                  <a:pt x="3552" y="5942"/>
                  <a:pt x="3572" y="6003"/>
                </a:cubicBezTo>
                <a:cubicBezTo>
                  <a:pt x="3590" y="6058"/>
                  <a:pt x="3550" y="6058"/>
                  <a:pt x="3522" y="6077"/>
                </a:cubicBezTo>
                <a:cubicBezTo>
                  <a:pt x="3455" y="6121"/>
                  <a:pt x="3439" y="6127"/>
                  <a:pt x="3349" y="6127"/>
                </a:cubicBezTo>
                <a:cubicBezTo>
                  <a:pt x="3266" y="6127"/>
                  <a:pt x="3167" y="6147"/>
                  <a:pt x="3101" y="6102"/>
                </a:cubicBezTo>
                <a:cubicBezTo>
                  <a:pt x="3076" y="6085"/>
                  <a:pt x="3028" y="6069"/>
                  <a:pt x="3051" y="6028"/>
                </a:cubicBezTo>
                <a:cubicBezTo>
                  <a:pt x="3071" y="5992"/>
                  <a:pt x="3104" y="5967"/>
                  <a:pt x="3125" y="5928"/>
                </a:cubicBezTo>
              </a:path>
              <a:path w="9154" h="2333">
                <a:moveTo>
                  <a:pt x="3919" y="5631"/>
                </a:moveTo>
                <a:cubicBezTo>
                  <a:pt x="3933" y="5722"/>
                  <a:pt x="3922" y="5862"/>
                  <a:pt x="3944" y="5953"/>
                </a:cubicBezTo>
                <a:cubicBezTo>
                  <a:pt x="3959" y="6018"/>
                  <a:pt x="3969" y="6058"/>
                  <a:pt x="3969" y="6127"/>
                </a:cubicBezTo>
                <a:cubicBezTo>
                  <a:pt x="3969" y="6036"/>
                  <a:pt x="3969" y="5945"/>
                  <a:pt x="3969" y="5854"/>
                </a:cubicBezTo>
              </a:path>
              <a:path w="9154" h="2333">
                <a:moveTo>
                  <a:pt x="4018" y="5209"/>
                </a:moveTo>
                <a:cubicBezTo>
                  <a:pt x="4062" y="5187"/>
                  <a:pt x="4074" y="5174"/>
                  <a:pt x="4093" y="5209"/>
                </a:cubicBezTo>
              </a:path>
              <a:path w="9154" h="2333">
                <a:moveTo>
                  <a:pt x="4192" y="5755"/>
                </a:moveTo>
                <a:cubicBezTo>
                  <a:pt x="4196" y="5771"/>
                  <a:pt x="4223" y="5975"/>
                  <a:pt x="4242" y="6003"/>
                </a:cubicBezTo>
                <a:cubicBezTo>
                  <a:pt x="4250" y="6003"/>
                  <a:pt x="4258" y="6003"/>
                  <a:pt x="4266" y="6003"/>
                </a:cubicBezTo>
                <a:cubicBezTo>
                  <a:pt x="4266" y="5931"/>
                  <a:pt x="4251" y="5863"/>
                  <a:pt x="4242" y="5804"/>
                </a:cubicBezTo>
                <a:cubicBezTo>
                  <a:pt x="4231" y="5731"/>
                  <a:pt x="4248" y="5649"/>
                  <a:pt x="4266" y="5581"/>
                </a:cubicBezTo>
                <a:cubicBezTo>
                  <a:pt x="4296" y="5467"/>
                  <a:pt x="4333" y="5447"/>
                  <a:pt x="4415" y="5407"/>
                </a:cubicBezTo>
                <a:cubicBezTo>
                  <a:pt x="4483" y="5374"/>
                  <a:pt x="4505" y="5418"/>
                  <a:pt x="4539" y="5482"/>
                </a:cubicBezTo>
                <a:cubicBezTo>
                  <a:pt x="4583" y="5564"/>
                  <a:pt x="4594" y="5619"/>
                  <a:pt x="4614" y="5705"/>
                </a:cubicBezTo>
                <a:cubicBezTo>
                  <a:pt x="4635" y="5800"/>
                  <a:pt x="4638" y="5880"/>
                  <a:pt x="4638" y="5978"/>
                </a:cubicBezTo>
                <a:cubicBezTo>
                  <a:pt x="4638" y="5988"/>
                  <a:pt x="4647" y="6158"/>
                  <a:pt x="4614" y="6077"/>
                </a:cubicBezTo>
                <a:cubicBezTo>
                  <a:pt x="4614" y="6044"/>
                  <a:pt x="4614" y="6028"/>
                  <a:pt x="4614" y="6003"/>
                </a:cubicBezTo>
              </a:path>
              <a:path w="9154" h="2333">
                <a:moveTo>
                  <a:pt x="4911" y="4936"/>
                </a:moveTo>
                <a:cubicBezTo>
                  <a:pt x="4945" y="4886"/>
                  <a:pt x="4958" y="4864"/>
                  <a:pt x="5011" y="4911"/>
                </a:cubicBezTo>
                <a:cubicBezTo>
                  <a:pt x="5055" y="4950"/>
                  <a:pt x="5096" y="4996"/>
                  <a:pt x="5085" y="5060"/>
                </a:cubicBezTo>
                <a:cubicBezTo>
                  <a:pt x="5071" y="5140"/>
                  <a:pt x="5013" y="5191"/>
                  <a:pt x="4986" y="5259"/>
                </a:cubicBezTo>
                <a:cubicBezTo>
                  <a:pt x="4976" y="5284"/>
                  <a:pt x="4968" y="5306"/>
                  <a:pt x="4961" y="5333"/>
                </a:cubicBezTo>
                <a:cubicBezTo>
                  <a:pt x="5035" y="5333"/>
                  <a:pt x="5110" y="5333"/>
                  <a:pt x="5184" y="5333"/>
                </a:cubicBezTo>
              </a:path>
              <a:path w="9154" h="2333">
                <a:moveTo>
                  <a:pt x="5358" y="5432"/>
                </a:moveTo>
                <a:cubicBezTo>
                  <a:pt x="5396" y="5604"/>
                  <a:pt x="5406" y="5766"/>
                  <a:pt x="5581" y="5854"/>
                </a:cubicBezTo>
                <a:cubicBezTo>
                  <a:pt x="5635" y="5881"/>
                  <a:pt x="5703" y="5913"/>
                  <a:pt x="5755" y="5928"/>
                </a:cubicBezTo>
                <a:cubicBezTo>
                  <a:pt x="5781" y="5936"/>
                  <a:pt x="5804" y="5910"/>
                  <a:pt x="5829" y="5904"/>
                </a:cubicBezTo>
              </a:path>
              <a:path w="9154" h="2333">
                <a:moveTo>
                  <a:pt x="5755" y="5407"/>
                </a:moveTo>
                <a:cubicBezTo>
                  <a:pt x="5645" y="5522"/>
                  <a:pt x="5559" y="5637"/>
                  <a:pt x="5457" y="5755"/>
                </a:cubicBezTo>
                <a:cubicBezTo>
                  <a:pt x="5416" y="5802"/>
                  <a:pt x="5336" y="5855"/>
                  <a:pt x="5308" y="5904"/>
                </a:cubicBezTo>
                <a:cubicBezTo>
                  <a:pt x="5290" y="5936"/>
                  <a:pt x="5268" y="5951"/>
                  <a:pt x="5259" y="5978"/>
                </a:cubicBezTo>
                <a:cubicBezTo>
                  <a:pt x="5269" y="5937"/>
                  <a:pt x="5276" y="5926"/>
                  <a:pt x="5283" y="5879"/>
                </a:cubicBezTo>
              </a:path>
              <a:path w="9154" h="2333">
                <a:moveTo>
                  <a:pt x="6598" y="4787"/>
                </a:moveTo>
                <a:cubicBezTo>
                  <a:pt x="6578" y="4822"/>
                  <a:pt x="6553" y="4875"/>
                  <a:pt x="6524" y="4911"/>
                </a:cubicBezTo>
                <a:cubicBezTo>
                  <a:pt x="6462" y="4986"/>
                  <a:pt x="6410" y="5044"/>
                  <a:pt x="6375" y="5135"/>
                </a:cubicBezTo>
                <a:cubicBezTo>
                  <a:pt x="6332" y="5247"/>
                  <a:pt x="6273" y="5348"/>
                  <a:pt x="6226" y="5457"/>
                </a:cubicBezTo>
                <a:cubicBezTo>
                  <a:pt x="6193" y="5534"/>
                  <a:pt x="6182" y="5672"/>
                  <a:pt x="6201" y="5755"/>
                </a:cubicBezTo>
                <a:cubicBezTo>
                  <a:pt x="6217" y="5824"/>
                  <a:pt x="6279" y="5927"/>
                  <a:pt x="6325" y="5978"/>
                </a:cubicBezTo>
                <a:cubicBezTo>
                  <a:pt x="6363" y="6021"/>
                  <a:pt x="6416" y="6015"/>
                  <a:pt x="6449" y="6052"/>
                </a:cubicBezTo>
                <a:cubicBezTo>
                  <a:pt x="6449" y="6060"/>
                  <a:pt x="6449" y="6069"/>
                  <a:pt x="6449" y="6077"/>
                </a:cubicBezTo>
                <a:cubicBezTo>
                  <a:pt x="6465" y="6061"/>
                  <a:pt x="6483" y="6044"/>
                  <a:pt x="6499" y="6028"/>
                </a:cubicBezTo>
              </a:path>
              <a:path w="9154" h="2333">
                <a:moveTo>
                  <a:pt x="7094" y="5383"/>
                </a:moveTo>
                <a:cubicBezTo>
                  <a:pt x="7121" y="5444"/>
                  <a:pt x="7132" y="5462"/>
                  <a:pt x="7119" y="5457"/>
                </a:cubicBezTo>
                <a:cubicBezTo>
                  <a:pt x="7110" y="5453"/>
                  <a:pt x="7051" y="5416"/>
                  <a:pt x="7045" y="5407"/>
                </a:cubicBezTo>
                <a:cubicBezTo>
                  <a:pt x="7027" y="5381"/>
                  <a:pt x="7014" y="5369"/>
                  <a:pt x="6970" y="5358"/>
                </a:cubicBezTo>
                <a:cubicBezTo>
                  <a:pt x="6948" y="5386"/>
                  <a:pt x="6880" y="5449"/>
                  <a:pt x="6871" y="5482"/>
                </a:cubicBezTo>
                <a:cubicBezTo>
                  <a:pt x="6853" y="5545"/>
                  <a:pt x="6863" y="5618"/>
                  <a:pt x="6846" y="5680"/>
                </a:cubicBezTo>
                <a:cubicBezTo>
                  <a:pt x="6833" y="5728"/>
                  <a:pt x="6825" y="5823"/>
                  <a:pt x="6846" y="5879"/>
                </a:cubicBezTo>
                <a:cubicBezTo>
                  <a:pt x="6863" y="5922"/>
                  <a:pt x="6931" y="5949"/>
                  <a:pt x="6970" y="5953"/>
                </a:cubicBezTo>
                <a:cubicBezTo>
                  <a:pt x="7005" y="5956"/>
                  <a:pt x="7089" y="5924"/>
                  <a:pt x="7119" y="5904"/>
                </a:cubicBezTo>
                <a:cubicBezTo>
                  <a:pt x="7146" y="5886"/>
                  <a:pt x="7225" y="5783"/>
                  <a:pt x="7243" y="5755"/>
                </a:cubicBezTo>
                <a:cubicBezTo>
                  <a:pt x="7260" y="5722"/>
                  <a:pt x="7276" y="5688"/>
                  <a:pt x="7293" y="5655"/>
                </a:cubicBezTo>
              </a:path>
              <a:path w="9154" h="2333">
                <a:moveTo>
                  <a:pt x="7342" y="5457"/>
                </a:moveTo>
                <a:cubicBezTo>
                  <a:pt x="7342" y="5531"/>
                  <a:pt x="7321" y="5585"/>
                  <a:pt x="7317" y="5655"/>
                </a:cubicBezTo>
                <a:cubicBezTo>
                  <a:pt x="7314" y="5717"/>
                  <a:pt x="7304" y="5782"/>
                  <a:pt x="7342" y="5829"/>
                </a:cubicBezTo>
                <a:cubicBezTo>
                  <a:pt x="7370" y="5864"/>
                  <a:pt x="7400" y="5854"/>
                  <a:pt x="7441" y="5854"/>
                </a:cubicBezTo>
                <a:cubicBezTo>
                  <a:pt x="7525" y="5854"/>
                  <a:pt x="7553" y="5825"/>
                  <a:pt x="7590" y="5755"/>
                </a:cubicBezTo>
                <a:cubicBezTo>
                  <a:pt x="7629" y="5682"/>
                  <a:pt x="7676" y="5639"/>
                  <a:pt x="7689" y="5556"/>
                </a:cubicBezTo>
                <a:cubicBezTo>
                  <a:pt x="7697" y="5508"/>
                  <a:pt x="7667" y="5424"/>
                  <a:pt x="7640" y="5383"/>
                </a:cubicBezTo>
                <a:cubicBezTo>
                  <a:pt x="7592" y="5312"/>
                  <a:pt x="7546" y="5330"/>
                  <a:pt x="7466" y="5358"/>
                </a:cubicBezTo>
                <a:cubicBezTo>
                  <a:pt x="7426" y="5372"/>
                  <a:pt x="7331" y="5467"/>
                  <a:pt x="7317" y="5507"/>
                </a:cubicBezTo>
                <a:cubicBezTo>
                  <a:pt x="7300" y="5557"/>
                  <a:pt x="7312" y="5643"/>
                  <a:pt x="7342" y="5680"/>
                </a:cubicBezTo>
                <a:cubicBezTo>
                  <a:pt x="7408" y="5763"/>
                  <a:pt x="7472" y="5694"/>
                  <a:pt x="7565" y="5655"/>
                </a:cubicBezTo>
              </a:path>
              <a:path w="9154" h="2333">
                <a:moveTo>
                  <a:pt x="7987" y="5085"/>
                </a:moveTo>
                <a:cubicBezTo>
                  <a:pt x="7968" y="5189"/>
                  <a:pt x="7948" y="5302"/>
                  <a:pt x="7938" y="5407"/>
                </a:cubicBezTo>
                <a:cubicBezTo>
                  <a:pt x="7929" y="5502"/>
                  <a:pt x="7913" y="5581"/>
                  <a:pt x="7913" y="5680"/>
                </a:cubicBezTo>
                <a:cubicBezTo>
                  <a:pt x="7913" y="5730"/>
                  <a:pt x="7913" y="5934"/>
                  <a:pt x="7913" y="5904"/>
                </a:cubicBezTo>
                <a:cubicBezTo>
                  <a:pt x="7913" y="5861"/>
                  <a:pt x="7907" y="5836"/>
                  <a:pt x="7888" y="5804"/>
                </a:cubicBezTo>
              </a:path>
              <a:path w="9154" h="2333">
                <a:moveTo>
                  <a:pt x="7739" y="5606"/>
                </a:moveTo>
                <a:cubicBezTo>
                  <a:pt x="7855" y="5631"/>
                  <a:pt x="7882" y="5624"/>
                  <a:pt x="7987" y="5606"/>
                </a:cubicBezTo>
                <a:cubicBezTo>
                  <a:pt x="8068" y="5592"/>
                  <a:pt x="8108" y="5595"/>
                  <a:pt x="8186" y="5556"/>
                </a:cubicBezTo>
              </a:path>
              <a:path w="9154" h="2333">
                <a:moveTo>
                  <a:pt x="8235" y="4936"/>
                </a:moveTo>
                <a:cubicBezTo>
                  <a:pt x="8317" y="4862"/>
                  <a:pt x="8329" y="4837"/>
                  <a:pt x="8434" y="4837"/>
                </a:cubicBezTo>
                <a:cubicBezTo>
                  <a:pt x="8482" y="4837"/>
                  <a:pt x="8495" y="4839"/>
                  <a:pt x="8533" y="4862"/>
                </a:cubicBezTo>
                <a:cubicBezTo>
                  <a:pt x="8499" y="4907"/>
                  <a:pt x="8468" y="4961"/>
                  <a:pt x="8434" y="5011"/>
                </a:cubicBezTo>
                <a:cubicBezTo>
                  <a:pt x="8387" y="5082"/>
                  <a:pt x="8294" y="5101"/>
                  <a:pt x="8260" y="5184"/>
                </a:cubicBezTo>
                <a:cubicBezTo>
                  <a:pt x="8242" y="5228"/>
                  <a:pt x="8267" y="5246"/>
                  <a:pt x="8285" y="5259"/>
                </a:cubicBezTo>
                <a:cubicBezTo>
                  <a:pt x="8331" y="5293"/>
                  <a:pt x="8376" y="5283"/>
                  <a:pt x="8434" y="5283"/>
                </a:cubicBezTo>
                <a:cubicBezTo>
                  <a:pt x="8467" y="5283"/>
                  <a:pt x="8500" y="5283"/>
                  <a:pt x="8533" y="5283"/>
                </a:cubicBezTo>
              </a:path>
              <a:path w="9154" h="2333">
                <a:moveTo>
                  <a:pt x="8632" y="5407"/>
                </a:moveTo>
                <a:cubicBezTo>
                  <a:pt x="8632" y="5509"/>
                  <a:pt x="8631" y="5588"/>
                  <a:pt x="8682" y="5680"/>
                </a:cubicBezTo>
                <a:cubicBezTo>
                  <a:pt x="8715" y="5740"/>
                  <a:pt x="8753" y="5811"/>
                  <a:pt x="8806" y="5854"/>
                </a:cubicBezTo>
                <a:cubicBezTo>
                  <a:pt x="8838" y="5880"/>
                  <a:pt x="8916" y="5900"/>
                  <a:pt x="8954" y="5904"/>
                </a:cubicBezTo>
                <a:cubicBezTo>
                  <a:pt x="8979" y="5904"/>
                  <a:pt x="8987" y="5904"/>
                  <a:pt x="9004" y="5904"/>
                </a:cubicBezTo>
              </a:path>
              <a:path w="9154" h="2333">
                <a:moveTo>
                  <a:pt x="8954" y="5482"/>
                </a:moveTo>
                <a:cubicBezTo>
                  <a:pt x="8878" y="5558"/>
                  <a:pt x="8795" y="5666"/>
                  <a:pt x="8706" y="5730"/>
                </a:cubicBezTo>
                <a:cubicBezTo>
                  <a:pt x="8670" y="5756"/>
                  <a:pt x="8598" y="5811"/>
                  <a:pt x="8558" y="5829"/>
                </a:cubicBezTo>
                <a:cubicBezTo>
                  <a:pt x="8533" y="5829"/>
                  <a:pt x="8525" y="5829"/>
                  <a:pt x="8508" y="5829"/>
                </a:cubicBezTo>
                <a:cubicBezTo>
                  <a:pt x="8535" y="5793"/>
                  <a:pt x="8538" y="5776"/>
                  <a:pt x="8558" y="5730"/>
                </a:cubicBezTo>
              </a:path>
              <a:path w="9154" h="2333">
                <a:moveTo>
                  <a:pt x="9451" y="3795"/>
                </a:moveTo>
                <a:cubicBezTo>
                  <a:pt x="9451" y="3871"/>
                  <a:pt x="9451" y="3923"/>
                  <a:pt x="9426" y="3994"/>
                </a:cubicBezTo>
                <a:cubicBezTo>
                  <a:pt x="9411" y="4036"/>
                  <a:pt x="9388" y="4078"/>
                  <a:pt x="9376" y="4118"/>
                </a:cubicBezTo>
                <a:cubicBezTo>
                  <a:pt x="9376" y="4126"/>
                  <a:pt x="9376" y="4134"/>
                  <a:pt x="9376" y="4142"/>
                </a:cubicBezTo>
                <a:cubicBezTo>
                  <a:pt x="9618" y="4142"/>
                  <a:pt x="9855" y="4118"/>
                  <a:pt x="10096" y="4118"/>
                </a:cubicBezTo>
                <a:cubicBezTo>
                  <a:pt x="10509" y="4118"/>
                  <a:pt x="10928" y="4107"/>
                  <a:pt x="11336" y="4142"/>
                </a:cubicBezTo>
                <a:cubicBezTo>
                  <a:pt x="11462" y="4153"/>
                  <a:pt x="11587" y="4157"/>
                  <a:pt x="11708" y="4192"/>
                </a:cubicBezTo>
                <a:cubicBezTo>
                  <a:pt x="11797" y="4218"/>
                  <a:pt x="11894" y="4215"/>
                  <a:pt x="11981" y="4242"/>
                </a:cubicBezTo>
                <a:cubicBezTo>
                  <a:pt x="12036" y="4259"/>
                  <a:pt x="12072" y="4262"/>
                  <a:pt x="12129" y="4266"/>
                </a:cubicBezTo>
                <a:cubicBezTo>
                  <a:pt x="12145" y="4267"/>
                  <a:pt x="12108" y="4292"/>
                  <a:pt x="12105" y="4242"/>
                </a:cubicBezTo>
                <a:cubicBezTo>
                  <a:pt x="12101" y="4184"/>
                  <a:pt x="12122" y="4138"/>
                  <a:pt x="12129" y="4093"/>
                </a:cubicBezTo>
                <a:cubicBezTo>
                  <a:pt x="12139" y="4029"/>
                  <a:pt x="12158" y="3985"/>
                  <a:pt x="12179" y="3919"/>
                </a:cubicBezTo>
                <a:cubicBezTo>
                  <a:pt x="12191" y="3881"/>
                  <a:pt x="12194" y="3834"/>
                  <a:pt x="12204" y="3795"/>
                </a:cubicBezTo>
              </a:path>
              <a:path w="9154" h="2333">
                <a:moveTo>
                  <a:pt x="10021" y="5011"/>
                </a:moveTo>
                <a:cubicBezTo>
                  <a:pt x="10021" y="5118"/>
                  <a:pt x="10011" y="5205"/>
                  <a:pt x="9996" y="5308"/>
                </a:cubicBezTo>
                <a:cubicBezTo>
                  <a:pt x="9987" y="5374"/>
                  <a:pt x="9988" y="5426"/>
                  <a:pt x="9971" y="5482"/>
                </a:cubicBezTo>
                <a:cubicBezTo>
                  <a:pt x="9959" y="5522"/>
                  <a:pt x="9998" y="5541"/>
                  <a:pt x="9947" y="5507"/>
                </a:cubicBezTo>
              </a:path>
              <a:path w="9154" h="2333">
                <a:moveTo>
                  <a:pt x="9748" y="5358"/>
                </a:moveTo>
                <a:cubicBezTo>
                  <a:pt x="9797" y="5387"/>
                  <a:pt x="9884" y="5398"/>
                  <a:pt x="9947" y="5383"/>
                </a:cubicBezTo>
                <a:cubicBezTo>
                  <a:pt x="10019" y="5366"/>
                  <a:pt x="10094" y="5344"/>
                  <a:pt x="10170" y="5333"/>
                </a:cubicBezTo>
                <a:cubicBezTo>
                  <a:pt x="10237" y="5323"/>
                  <a:pt x="10275" y="5327"/>
                  <a:pt x="10344" y="5308"/>
                </a:cubicBezTo>
              </a:path>
              <a:path w="9154" h="2333">
                <a:moveTo>
                  <a:pt x="10815" y="5085"/>
                </a:moveTo>
                <a:cubicBezTo>
                  <a:pt x="10796" y="5173"/>
                  <a:pt x="10759" y="5249"/>
                  <a:pt x="10740" y="5333"/>
                </a:cubicBezTo>
                <a:cubicBezTo>
                  <a:pt x="10724" y="5405"/>
                  <a:pt x="10695" y="5483"/>
                  <a:pt x="10691" y="5556"/>
                </a:cubicBezTo>
                <a:cubicBezTo>
                  <a:pt x="10688" y="5612"/>
                  <a:pt x="10666" y="5650"/>
                  <a:pt x="10666" y="5705"/>
                </a:cubicBezTo>
                <a:cubicBezTo>
                  <a:pt x="10666" y="5764"/>
                  <a:pt x="10653" y="5794"/>
                  <a:pt x="10666" y="5680"/>
                </a:cubicBezTo>
              </a:path>
              <a:path w="9154" h="2333">
                <a:moveTo>
                  <a:pt x="11063" y="4490"/>
                </a:moveTo>
                <a:cubicBezTo>
                  <a:pt x="11138" y="4565"/>
                  <a:pt x="11238" y="4641"/>
                  <a:pt x="11286" y="4738"/>
                </a:cubicBezTo>
                <a:cubicBezTo>
                  <a:pt x="11357" y="4881"/>
                  <a:pt x="11442" y="5048"/>
                  <a:pt x="11460" y="5209"/>
                </a:cubicBezTo>
                <a:cubicBezTo>
                  <a:pt x="11474" y="5335"/>
                  <a:pt x="11479" y="5511"/>
                  <a:pt x="11435" y="5631"/>
                </a:cubicBezTo>
                <a:cubicBezTo>
                  <a:pt x="11402" y="5722"/>
                  <a:pt x="11304" y="5766"/>
                  <a:pt x="11237" y="5829"/>
                </a:cubicBezTo>
                <a:cubicBezTo>
                  <a:pt x="11177" y="5885"/>
                  <a:pt x="11106" y="5890"/>
                  <a:pt x="11038" y="5928"/>
                </a:cubicBezTo>
                <a:cubicBezTo>
                  <a:pt x="11024" y="5936"/>
                  <a:pt x="10998" y="5968"/>
                  <a:pt x="11038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57880" y="1177920"/>
            <a:ext cx="2384280" cy="760320"/>
          </a:xfrm>
          <a:custGeom>
            <a:avLst/>
            <a:gdLst/>
            <a:ahLst/>
            <a:rect l="l" t="t" r="r" b="b"/>
            <a:pathLst>
              <a:path w="6624" h="2110">
                <a:moveTo>
                  <a:pt x="14883" y="4068"/>
                </a:moveTo>
                <a:cubicBezTo>
                  <a:pt x="15248" y="4068"/>
                  <a:pt x="15612" y="4071"/>
                  <a:pt x="15974" y="4043"/>
                </a:cubicBezTo>
                <a:cubicBezTo>
                  <a:pt x="16245" y="4022"/>
                  <a:pt x="16524" y="4045"/>
                  <a:pt x="16793" y="4068"/>
                </a:cubicBezTo>
                <a:cubicBezTo>
                  <a:pt x="16855" y="4073"/>
                  <a:pt x="17082" y="4068"/>
                  <a:pt x="17066" y="4068"/>
                </a:cubicBezTo>
                <a:cubicBezTo>
                  <a:pt x="17041" y="4068"/>
                  <a:pt x="17033" y="4068"/>
                  <a:pt x="17016" y="4068"/>
                </a:cubicBezTo>
              </a:path>
              <a:path w="6624" h="2110">
                <a:moveTo>
                  <a:pt x="15007" y="4465"/>
                </a:moveTo>
                <a:cubicBezTo>
                  <a:pt x="15007" y="4531"/>
                  <a:pt x="15023" y="4568"/>
                  <a:pt x="15032" y="4638"/>
                </a:cubicBezTo>
                <a:cubicBezTo>
                  <a:pt x="15051" y="4785"/>
                  <a:pt x="15030" y="4947"/>
                  <a:pt x="15007" y="5085"/>
                </a:cubicBezTo>
                <a:cubicBezTo>
                  <a:pt x="15000" y="5128"/>
                  <a:pt x="15007" y="5321"/>
                  <a:pt x="15007" y="5283"/>
                </a:cubicBezTo>
                <a:cubicBezTo>
                  <a:pt x="15007" y="5259"/>
                  <a:pt x="15007" y="5250"/>
                  <a:pt x="15007" y="5234"/>
                </a:cubicBezTo>
              </a:path>
              <a:path w="6624" h="2110">
                <a:moveTo>
                  <a:pt x="15453" y="4911"/>
                </a:moveTo>
                <a:cubicBezTo>
                  <a:pt x="15507" y="4911"/>
                  <a:pt x="15525" y="4900"/>
                  <a:pt x="15577" y="4887"/>
                </a:cubicBezTo>
                <a:cubicBezTo>
                  <a:pt x="15624" y="4876"/>
                  <a:pt x="15660" y="4876"/>
                  <a:pt x="15701" y="4862"/>
                </a:cubicBezTo>
                <a:cubicBezTo>
                  <a:pt x="15709" y="4862"/>
                  <a:pt x="15718" y="4862"/>
                  <a:pt x="15726" y="4862"/>
                </a:cubicBezTo>
              </a:path>
              <a:path w="6624" h="2110">
                <a:moveTo>
                  <a:pt x="16173" y="4713"/>
                </a:moveTo>
                <a:cubicBezTo>
                  <a:pt x="16120" y="4673"/>
                  <a:pt x="16125" y="4691"/>
                  <a:pt x="16073" y="4713"/>
                </a:cubicBezTo>
                <a:cubicBezTo>
                  <a:pt x="16014" y="4738"/>
                  <a:pt x="15977" y="4764"/>
                  <a:pt x="15925" y="4787"/>
                </a:cubicBezTo>
                <a:cubicBezTo>
                  <a:pt x="15881" y="4807"/>
                  <a:pt x="15896" y="4824"/>
                  <a:pt x="15900" y="4837"/>
                </a:cubicBezTo>
                <a:cubicBezTo>
                  <a:pt x="15910" y="4866"/>
                  <a:pt x="15955" y="4897"/>
                  <a:pt x="15999" y="4911"/>
                </a:cubicBezTo>
                <a:cubicBezTo>
                  <a:pt x="16041" y="4925"/>
                  <a:pt x="16116" y="4949"/>
                  <a:pt x="16148" y="4986"/>
                </a:cubicBezTo>
                <a:cubicBezTo>
                  <a:pt x="16171" y="5013"/>
                  <a:pt x="16218" y="5077"/>
                  <a:pt x="16222" y="5110"/>
                </a:cubicBezTo>
                <a:cubicBezTo>
                  <a:pt x="16228" y="5168"/>
                  <a:pt x="16209" y="5160"/>
                  <a:pt x="16173" y="5184"/>
                </a:cubicBezTo>
                <a:cubicBezTo>
                  <a:pt x="16120" y="5220"/>
                  <a:pt x="16072" y="5210"/>
                  <a:pt x="16024" y="5234"/>
                </a:cubicBezTo>
                <a:cubicBezTo>
                  <a:pt x="16011" y="5241"/>
                  <a:pt x="15926" y="5254"/>
                  <a:pt x="15949" y="5209"/>
                </a:cubicBezTo>
                <a:cubicBezTo>
                  <a:pt x="15974" y="5184"/>
                  <a:pt x="15982" y="5176"/>
                  <a:pt x="15999" y="5159"/>
                </a:cubicBezTo>
              </a:path>
              <a:path w="6624" h="2110">
                <a:moveTo>
                  <a:pt x="16470" y="4812"/>
                </a:moveTo>
                <a:cubicBezTo>
                  <a:pt x="16470" y="4950"/>
                  <a:pt x="16470" y="5076"/>
                  <a:pt x="16495" y="5209"/>
                </a:cubicBezTo>
                <a:cubicBezTo>
                  <a:pt x="16496" y="5217"/>
                  <a:pt x="16495" y="5301"/>
                  <a:pt x="16495" y="5234"/>
                </a:cubicBezTo>
              </a:path>
              <a:path w="6624" h="2110">
                <a:moveTo>
                  <a:pt x="16520" y="4539"/>
                </a:moveTo>
                <a:cubicBezTo>
                  <a:pt x="16528" y="4531"/>
                  <a:pt x="16537" y="4522"/>
                  <a:pt x="16545" y="4514"/>
                </a:cubicBezTo>
              </a:path>
              <a:path w="6624" h="2110">
                <a:moveTo>
                  <a:pt x="16669" y="5060"/>
                </a:moveTo>
                <a:cubicBezTo>
                  <a:pt x="16688" y="5140"/>
                  <a:pt x="16694" y="5181"/>
                  <a:pt x="16694" y="5259"/>
                </a:cubicBezTo>
                <a:cubicBezTo>
                  <a:pt x="16694" y="5283"/>
                  <a:pt x="16694" y="5291"/>
                  <a:pt x="16694" y="5259"/>
                </a:cubicBezTo>
                <a:cubicBezTo>
                  <a:pt x="16694" y="5231"/>
                  <a:pt x="16668" y="5116"/>
                  <a:pt x="16669" y="5110"/>
                </a:cubicBezTo>
                <a:cubicBezTo>
                  <a:pt x="16682" y="5044"/>
                  <a:pt x="16708" y="4977"/>
                  <a:pt x="16743" y="4911"/>
                </a:cubicBezTo>
                <a:cubicBezTo>
                  <a:pt x="16762" y="4875"/>
                  <a:pt x="16801" y="4805"/>
                  <a:pt x="16842" y="4787"/>
                </a:cubicBezTo>
                <a:cubicBezTo>
                  <a:pt x="16930" y="4747"/>
                  <a:pt x="16973" y="4810"/>
                  <a:pt x="17016" y="4862"/>
                </a:cubicBezTo>
                <a:cubicBezTo>
                  <a:pt x="17051" y="4905"/>
                  <a:pt x="17063" y="4977"/>
                  <a:pt x="17066" y="5035"/>
                </a:cubicBezTo>
                <a:cubicBezTo>
                  <a:pt x="17072" y="5134"/>
                  <a:pt x="17066" y="5234"/>
                  <a:pt x="17066" y="5333"/>
                </a:cubicBezTo>
                <a:cubicBezTo>
                  <a:pt x="17105" y="5319"/>
                  <a:pt x="17090" y="5283"/>
                  <a:pt x="17090" y="5234"/>
                </a:cubicBezTo>
                <a:cubicBezTo>
                  <a:pt x="17090" y="5217"/>
                  <a:pt x="17090" y="5201"/>
                  <a:pt x="17090" y="5184"/>
                </a:cubicBezTo>
              </a:path>
              <a:path w="6624" h="2110">
                <a:moveTo>
                  <a:pt x="17214" y="4415"/>
                </a:moveTo>
                <a:cubicBezTo>
                  <a:pt x="17221" y="4409"/>
                  <a:pt x="17307" y="4327"/>
                  <a:pt x="17338" y="4366"/>
                </a:cubicBezTo>
                <a:cubicBezTo>
                  <a:pt x="17350" y="4381"/>
                  <a:pt x="17376" y="4405"/>
                  <a:pt x="17363" y="4440"/>
                </a:cubicBezTo>
                <a:cubicBezTo>
                  <a:pt x="17345" y="4491"/>
                  <a:pt x="17300" y="4549"/>
                  <a:pt x="17264" y="4589"/>
                </a:cubicBezTo>
                <a:cubicBezTo>
                  <a:pt x="17213" y="4645"/>
                  <a:pt x="17253" y="4658"/>
                  <a:pt x="17314" y="4663"/>
                </a:cubicBezTo>
                <a:cubicBezTo>
                  <a:pt x="17346" y="4666"/>
                  <a:pt x="17381" y="4663"/>
                  <a:pt x="17413" y="4663"/>
                </a:cubicBezTo>
              </a:path>
              <a:path w="6624" h="2110">
                <a:moveTo>
                  <a:pt x="17611" y="4762"/>
                </a:moveTo>
                <a:cubicBezTo>
                  <a:pt x="17639" y="4838"/>
                  <a:pt x="17653" y="4915"/>
                  <a:pt x="17686" y="4986"/>
                </a:cubicBezTo>
                <a:cubicBezTo>
                  <a:pt x="17723" y="5066"/>
                  <a:pt x="17766" y="5136"/>
                  <a:pt x="17810" y="5209"/>
                </a:cubicBezTo>
                <a:cubicBezTo>
                  <a:pt x="17833" y="5248"/>
                  <a:pt x="17892" y="5294"/>
                  <a:pt x="17909" y="5333"/>
                </a:cubicBezTo>
                <a:cubicBezTo>
                  <a:pt x="17918" y="5353"/>
                  <a:pt x="17934" y="5402"/>
                  <a:pt x="17934" y="5358"/>
                </a:cubicBezTo>
                <a:cubicBezTo>
                  <a:pt x="17934" y="5317"/>
                  <a:pt x="17934" y="5275"/>
                  <a:pt x="17934" y="5234"/>
                </a:cubicBezTo>
              </a:path>
              <a:path w="6624" h="2110">
                <a:moveTo>
                  <a:pt x="17959" y="4762"/>
                </a:moveTo>
                <a:cubicBezTo>
                  <a:pt x="17897" y="4842"/>
                  <a:pt x="17848" y="4933"/>
                  <a:pt x="17785" y="5011"/>
                </a:cubicBezTo>
                <a:cubicBezTo>
                  <a:pt x="17730" y="5079"/>
                  <a:pt x="17670" y="5146"/>
                  <a:pt x="17611" y="5209"/>
                </a:cubicBezTo>
                <a:cubicBezTo>
                  <a:pt x="17558" y="5266"/>
                  <a:pt x="17498" y="5288"/>
                  <a:pt x="17438" y="5333"/>
                </a:cubicBezTo>
                <a:cubicBezTo>
                  <a:pt x="17395" y="5366"/>
                  <a:pt x="17413" y="5351"/>
                  <a:pt x="17413" y="5308"/>
                </a:cubicBezTo>
              </a:path>
              <a:path w="6624" h="2110">
                <a:moveTo>
                  <a:pt x="18132" y="4093"/>
                </a:moveTo>
                <a:cubicBezTo>
                  <a:pt x="18214" y="4112"/>
                  <a:pt x="18252" y="4118"/>
                  <a:pt x="18331" y="4118"/>
                </a:cubicBezTo>
                <a:cubicBezTo>
                  <a:pt x="18360" y="4118"/>
                  <a:pt x="18529" y="4118"/>
                  <a:pt x="18479" y="4118"/>
                </a:cubicBezTo>
              </a:path>
              <a:path w="6624" h="2110">
                <a:moveTo>
                  <a:pt x="18182" y="4291"/>
                </a:moveTo>
                <a:cubicBezTo>
                  <a:pt x="18252" y="4291"/>
                  <a:pt x="18297" y="4285"/>
                  <a:pt x="18355" y="4266"/>
                </a:cubicBezTo>
                <a:cubicBezTo>
                  <a:pt x="18408" y="4248"/>
                  <a:pt x="18485" y="4296"/>
                  <a:pt x="18504" y="4242"/>
                </a:cubicBezTo>
              </a:path>
              <a:path w="6624" h="2110">
                <a:moveTo>
                  <a:pt x="19745" y="3349"/>
                </a:moveTo>
                <a:cubicBezTo>
                  <a:pt x="19745" y="3373"/>
                  <a:pt x="19745" y="3382"/>
                  <a:pt x="19745" y="3398"/>
                </a:cubicBezTo>
                <a:cubicBezTo>
                  <a:pt x="19745" y="3345"/>
                  <a:pt x="19733" y="3337"/>
                  <a:pt x="19695" y="3299"/>
                </a:cubicBezTo>
                <a:cubicBezTo>
                  <a:pt x="19655" y="3259"/>
                  <a:pt x="19638" y="3281"/>
                  <a:pt x="19596" y="3299"/>
                </a:cubicBezTo>
                <a:cubicBezTo>
                  <a:pt x="19529" y="3328"/>
                  <a:pt x="19476" y="3381"/>
                  <a:pt x="19447" y="3448"/>
                </a:cubicBezTo>
                <a:cubicBezTo>
                  <a:pt x="19415" y="3521"/>
                  <a:pt x="19364" y="3619"/>
                  <a:pt x="19348" y="3696"/>
                </a:cubicBezTo>
                <a:cubicBezTo>
                  <a:pt x="19335" y="3761"/>
                  <a:pt x="19346" y="3836"/>
                  <a:pt x="19372" y="3894"/>
                </a:cubicBezTo>
                <a:cubicBezTo>
                  <a:pt x="19400" y="3958"/>
                  <a:pt x="19425" y="3963"/>
                  <a:pt x="19472" y="3994"/>
                </a:cubicBezTo>
                <a:cubicBezTo>
                  <a:pt x="19530" y="4032"/>
                  <a:pt x="19565" y="4012"/>
                  <a:pt x="19621" y="3969"/>
                </a:cubicBezTo>
                <a:cubicBezTo>
                  <a:pt x="19629" y="3961"/>
                  <a:pt x="19637" y="3952"/>
                  <a:pt x="19645" y="3944"/>
                </a:cubicBezTo>
              </a:path>
              <a:path w="6624" h="2110">
                <a:moveTo>
                  <a:pt x="19893" y="3547"/>
                </a:moveTo>
                <a:cubicBezTo>
                  <a:pt x="19893" y="3646"/>
                  <a:pt x="19859" y="3821"/>
                  <a:pt x="19918" y="3894"/>
                </a:cubicBezTo>
                <a:cubicBezTo>
                  <a:pt x="19951" y="3934"/>
                  <a:pt x="19968" y="3944"/>
                  <a:pt x="20017" y="3944"/>
                </a:cubicBezTo>
                <a:cubicBezTo>
                  <a:pt x="20085" y="3944"/>
                  <a:pt x="20132" y="3934"/>
                  <a:pt x="20191" y="3894"/>
                </a:cubicBezTo>
                <a:cubicBezTo>
                  <a:pt x="20243" y="3858"/>
                  <a:pt x="20287" y="3752"/>
                  <a:pt x="20290" y="3696"/>
                </a:cubicBezTo>
                <a:cubicBezTo>
                  <a:pt x="20293" y="3648"/>
                  <a:pt x="20288" y="3586"/>
                  <a:pt x="20265" y="3547"/>
                </a:cubicBezTo>
                <a:cubicBezTo>
                  <a:pt x="20249" y="3520"/>
                  <a:pt x="20193" y="3479"/>
                  <a:pt x="20166" y="3473"/>
                </a:cubicBezTo>
                <a:cubicBezTo>
                  <a:pt x="20120" y="3463"/>
                  <a:pt x="20032" y="3496"/>
                  <a:pt x="19993" y="3522"/>
                </a:cubicBezTo>
                <a:cubicBezTo>
                  <a:pt x="19951" y="3550"/>
                  <a:pt x="19869" y="3646"/>
                  <a:pt x="19869" y="3696"/>
                </a:cubicBezTo>
                <a:cubicBezTo>
                  <a:pt x="19869" y="3723"/>
                  <a:pt x="19940" y="3812"/>
                  <a:pt x="19968" y="3820"/>
                </a:cubicBezTo>
                <a:cubicBezTo>
                  <a:pt x="20044" y="3842"/>
                  <a:pt x="20090" y="3830"/>
                  <a:pt x="20166" y="3820"/>
                </a:cubicBezTo>
              </a:path>
              <a:path w="6624" h="2110">
                <a:moveTo>
                  <a:pt x="20638" y="3423"/>
                </a:moveTo>
                <a:cubicBezTo>
                  <a:pt x="20604" y="3432"/>
                  <a:pt x="20463" y="3447"/>
                  <a:pt x="20439" y="3473"/>
                </a:cubicBezTo>
                <a:cubicBezTo>
                  <a:pt x="20387" y="3529"/>
                  <a:pt x="20444" y="3572"/>
                  <a:pt x="20489" y="3597"/>
                </a:cubicBezTo>
                <a:cubicBezTo>
                  <a:pt x="20551" y="3631"/>
                  <a:pt x="20607" y="3678"/>
                  <a:pt x="20662" y="3721"/>
                </a:cubicBezTo>
                <a:cubicBezTo>
                  <a:pt x="20698" y="3749"/>
                  <a:pt x="20747" y="3827"/>
                  <a:pt x="20762" y="3870"/>
                </a:cubicBezTo>
                <a:cubicBezTo>
                  <a:pt x="20781" y="3925"/>
                  <a:pt x="20740" y="3925"/>
                  <a:pt x="20712" y="3944"/>
                </a:cubicBezTo>
                <a:cubicBezTo>
                  <a:pt x="20666" y="3975"/>
                  <a:pt x="20649" y="3969"/>
                  <a:pt x="20588" y="3969"/>
                </a:cubicBezTo>
                <a:cubicBezTo>
                  <a:pt x="20546" y="3969"/>
                  <a:pt x="20472" y="3982"/>
                  <a:pt x="20439" y="3944"/>
                </a:cubicBezTo>
                <a:cubicBezTo>
                  <a:pt x="20439" y="3909"/>
                  <a:pt x="20444" y="3892"/>
                  <a:pt x="20464" y="3870"/>
                </a:cubicBezTo>
              </a:path>
              <a:path w="6624" h="2110">
                <a:moveTo>
                  <a:pt x="20985" y="3448"/>
                </a:moveTo>
                <a:cubicBezTo>
                  <a:pt x="21010" y="3540"/>
                  <a:pt x="21004" y="3629"/>
                  <a:pt x="21034" y="3721"/>
                </a:cubicBezTo>
                <a:cubicBezTo>
                  <a:pt x="21048" y="3762"/>
                  <a:pt x="21099" y="3845"/>
                  <a:pt x="21134" y="3870"/>
                </a:cubicBezTo>
                <a:cubicBezTo>
                  <a:pt x="21162" y="3890"/>
                  <a:pt x="21227" y="3916"/>
                  <a:pt x="21258" y="3919"/>
                </a:cubicBezTo>
                <a:cubicBezTo>
                  <a:pt x="21266" y="3919"/>
                  <a:pt x="21274" y="3919"/>
                  <a:pt x="21282" y="3919"/>
                </a:cubicBezTo>
              </a:path>
              <a:path w="6624" h="2110">
                <a:moveTo>
                  <a:pt x="21258" y="3497"/>
                </a:moveTo>
                <a:cubicBezTo>
                  <a:pt x="21211" y="3571"/>
                  <a:pt x="21165" y="3655"/>
                  <a:pt x="21109" y="3721"/>
                </a:cubicBezTo>
                <a:cubicBezTo>
                  <a:pt x="21066" y="3772"/>
                  <a:pt x="21035" y="3852"/>
                  <a:pt x="20985" y="3894"/>
                </a:cubicBezTo>
                <a:cubicBezTo>
                  <a:pt x="20936" y="3935"/>
                  <a:pt x="20891" y="3980"/>
                  <a:pt x="20836" y="3994"/>
                </a:cubicBezTo>
              </a:path>
              <a:path w="6624" h="2110">
                <a:moveTo>
                  <a:pt x="19149" y="4316"/>
                </a:moveTo>
                <a:cubicBezTo>
                  <a:pt x="19383" y="4316"/>
                  <a:pt x="19614" y="4308"/>
                  <a:pt x="19844" y="4291"/>
                </a:cubicBezTo>
                <a:cubicBezTo>
                  <a:pt x="20264" y="4259"/>
                  <a:pt x="20719" y="4275"/>
                  <a:pt x="21134" y="4316"/>
                </a:cubicBezTo>
                <a:cubicBezTo>
                  <a:pt x="21266" y="4329"/>
                  <a:pt x="21349" y="4316"/>
                  <a:pt x="21481" y="43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1187280"/>
            <a:ext cx="2133720" cy="1278000"/>
          </a:xfrm>
          <a:custGeom>
            <a:avLst/>
            <a:gdLst/>
            <a:ahLst/>
            <a:rect l="l" t="t" r="r" b="b"/>
            <a:pathLst>
              <a:path w="5929" h="3548">
                <a:moveTo>
                  <a:pt x="19596" y="4738"/>
                </a:moveTo>
                <a:cubicBezTo>
                  <a:pt x="19596" y="4785"/>
                  <a:pt x="19616" y="4817"/>
                  <a:pt x="19621" y="4862"/>
                </a:cubicBezTo>
                <a:cubicBezTo>
                  <a:pt x="19626" y="4911"/>
                  <a:pt x="19616" y="4834"/>
                  <a:pt x="19596" y="4812"/>
                </a:cubicBezTo>
                <a:cubicBezTo>
                  <a:pt x="19573" y="4787"/>
                  <a:pt x="19505" y="4770"/>
                  <a:pt x="19472" y="4762"/>
                </a:cubicBezTo>
                <a:cubicBezTo>
                  <a:pt x="19413" y="4747"/>
                  <a:pt x="19303" y="4839"/>
                  <a:pt x="19273" y="4862"/>
                </a:cubicBezTo>
                <a:cubicBezTo>
                  <a:pt x="19224" y="4900"/>
                  <a:pt x="19201" y="4981"/>
                  <a:pt x="19174" y="5035"/>
                </a:cubicBezTo>
                <a:cubicBezTo>
                  <a:pt x="19141" y="5101"/>
                  <a:pt x="19128" y="5185"/>
                  <a:pt x="19124" y="5259"/>
                </a:cubicBezTo>
                <a:cubicBezTo>
                  <a:pt x="19121" y="5324"/>
                  <a:pt x="19162" y="5403"/>
                  <a:pt x="19199" y="5457"/>
                </a:cubicBezTo>
                <a:cubicBezTo>
                  <a:pt x="19232" y="5505"/>
                  <a:pt x="19297" y="5528"/>
                  <a:pt x="19348" y="5531"/>
                </a:cubicBezTo>
                <a:cubicBezTo>
                  <a:pt x="19420" y="5535"/>
                  <a:pt x="19487" y="5528"/>
                  <a:pt x="19546" y="5482"/>
                </a:cubicBezTo>
                <a:cubicBezTo>
                  <a:pt x="19599" y="5441"/>
                  <a:pt x="19617" y="5391"/>
                  <a:pt x="19645" y="5333"/>
                </a:cubicBezTo>
              </a:path>
              <a:path w="5929" h="3548">
                <a:moveTo>
                  <a:pt x="19844" y="4911"/>
                </a:moveTo>
                <a:cubicBezTo>
                  <a:pt x="19832" y="4958"/>
                  <a:pt x="19833" y="5010"/>
                  <a:pt x="19819" y="5060"/>
                </a:cubicBezTo>
                <a:cubicBezTo>
                  <a:pt x="19797" y="5138"/>
                  <a:pt x="19794" y="5198"/>
                  <a:pt x="19794" y="5283"/>
                </a:cubicBezTo>
                <a:cubicBezTo>
                  <a:pt x="19794" y="5339"/>
                  <a:pt x="19797" y="5415"/>
                  <a:pt x="19844" y="5457"/>
                </a:cubicBezTo>
                <a:cubicBezTo>
                  <a:pt x="19877" y="5487"/>
                  <a:pt x="19927" y="5473"/>
                  <a:pt x="19968" y="5457"/>
                </a:cubicBezTo>
                <a:cubicBezTo>
                  <a:pt x="20032" y="5431"/>
                  <a:pt x="20080" y="5363"/>
                  <a:pt x="20117" y="5308"/>
                </a:cubicBezTo>
                <a:cubicBezTo>
                  <a:pt x="20145" y="5267"/>
                  <a:pt x="20177" y="5135"/>
                  <a:pt x="20166" y="5085"/>
                </a:cubicBezTo>
                <a:cubicBezTo>
                  <a:pt x="20155" y="5036"/>
                  <a:pt x="20111" y="4964"/>
                  <a:pt x="20067" y="4936"/>
                </a:cubicBezTo>
                <a:cubicBezTo>
                  <a:pt x="20021" y="4907"/>
                  <a:pt x="19977" y="4870"/>
                  <a:pt x="19918" y="4887"/>
                </a:cubicBezTo>
                <a:cubicBezTo>
                  <a:pt x="19846" y="4907"/>
                  <a:pt x="19834" y="4959"/>
                  <a:pt x="19794" y="5011"/>
                </a:cubicBezTo>
                <a:cubicBezTo>
                  <a:pt x="19772" y="5040"/>
                  <a:pt x="19748" y="5093"/>
                  <a:pt x="19769" y="5135"/>
                </a:cubicBezTo>
                <a:cubicBezTo>
                  <a:pt x="19785" y="5167"/>
                  <a:pt x="19816" y="5177"/>
                  <a:pt x="19844" y="5184"/>
                </a:cubicBezTo>
              </a:path>
              <a:path w="5929" h="3548">
                <a:moveTo>
                  <a:pt x="20513" y="4787"/>
                </a:moveTo>
                <a:cubicBezTo>
                  <a:pt x="20460" y="4811"/>
                  <a:pt x="20367" y="4826"/>
                  <a:pt x="20340" y="4887"/>
                </a:cubicBezTo>
                <a:cubicBezTo>
                  <a:pt x="20332" y="4905"/>
                  <a:pt x="20296" y="4926"/>
                  <a:pt x="20315" y="4961"/>
                </a:cubicBezTo>
                <a:cubicBezTo>
                  <a:pt x="20343" y="5012"/>
                  <a:pt x="20416" y="5059"/>
                  <a:pt x="20464" y="5085"/>
                </a:cubicBezTo>
                <a:cubicBezTo>
                  <a:pt x="20536" y="5124"/>
                  <a:pt x="20580" y="5150"/>
                  <a:pt x="20638" y="5209"/>
                </a:cubicBezTo>
                <a:cubicBezTo>
                  <a:pt x="20656" y="5227"/>
                  <a:pt x="20694" y="5308"/>
                  <a:pt x="20687" y="5333"/>
                </a:cubicBezTo>
                <a:cubicBezTo>
                  <a:pt x="20664" y="5415"/>
                  <a:pt x="20606" y="5426"/>
                  <a:pt x="20538" y="5457"/>
                </a:cubicBezTo>
                <a:cubicBezTo>
                  <a:pt x="20464" y="5491"/>
                  <a:pt x="20457" y="5478"/>
                  <a:pt x="20389" y="5457"/>
                </a:cubicBezTo>
                <a:cubicBezTo>
                  <a:pt x="20346" y="5444"/>
                  <a:pt x="20327" y="5428"/>
                  <a:pt x="20315" y="5383"/>
                </a:cubicBezTo>
              </a:path>
              <a:path w="5929" h="3548">
                <a:moveTo>
                  <a:pt x="20737" y="4564"/>
                </a:moveTo>
                <a:cubicBezTo>
                  <a:pt x="20800" y="4545"/>
                  <a:pt x="20825" y="4539"/>
                  <a:pt x="20886" y="4539"/>
                </a:cubicBezTo>
                <a:cubicBezTo>
                  <a:pt x="20907" y="4539"/>
                  <a:pt x="20944" y="4583"/>
                  <a:pt x="20935" y="4614"/>
                </a:cubicBezTo>
                <a:cubicBezTo>
                  <a:pt x="20924" y="4653"/>
                  <a:pt x="20886" y="4710"/>
                  <a:pt x="20861" y="4738"/>
                </a:cubicBezTo>
                <a:cubicBezTo>
                  <a:pt x="20842" y="4759"/>
                  <a:pt x="20818" y="4805"/>
                  <a:pt x="20836" y="4837"/>
                </a:cubicBezTo>
                <a:cubicBezTo>
                  <a:pt x="20864" y="4888"/>
                  <a:pt x="20962" y="4862"/>
                  <a:pt x="21010" y="4862"/>
                </a:cubicBezTo>
                <a:cubicBezTo>
                  <a:pt x="21050" y="4862"/>
                  <a:pt x="21096" y="4831"/>
                  <a:pt x="21109" y="4812"/>
                </a:cubicBezTo>
              </a:path>
              <a:path w="5929" h="3548">
                <a:moveTo>
                  <a:pt x="21183" y="4862"/>
                </a:moveTo>
                <a:cubicBezTo>
                  <a:pt x="21216" y="4952"/>
                  <a:pt x="21242" y="5015"/>
                  <a:pt x="21307" y="5085"/>
                </a:cubicBezTo>
                <a:cubicBezTo>
                  <a:pt x="21369" y="5153"/>
                  <a:pt x="21435" y="5206"/>
                  <a:pt x="21506" y="5259"/>
                </a:cubicBezTo>
                <a:cubicBezTo>
                  <a:pt x="21545" y="5288"/>
                  <a:pt x="21594" y="5300"/>
                  <a:pt x="21605" y="5333"/>
                </a:cubicBezTo>
                <a:cubicBezTo>
                  <a:pt x="21666" y="5287"/>
                  <a:pt x="21654" y="5308"/>
                  <a:pt x="21654" y="5209"/>
                </a:cubicBezTo>
              </a:path>
              <a:path w="5929" h="3548">
                <a:moveTo>
                  <a:pt x="21630" y="4911"/>
                </a:moveTo>
                <a:cubicBezTo>
                  <a:pt x="21543" y="5013"/>
                  <a:pt x="21467" y="5111"/>
                  <a:pt x="21357" y="5184"/>
                </a:cubicBezTo>
                <a:cubicBezTo>
                  <a:pt x="21317" y="5211"/>
                  <a:pt x="21250" y="5265"/>
                  <a:pt x="21208" y="5283"/>
                </a:cubicBezTo>
                <a:cubicBezTo>
                  <a:pt x="21176" y="5297"/>
                  <a:pt x="21163" y="5332"/>
                  <a:pt x="21208" y="5259"/>
                </a:cubicBezTo>
              </a:path>
              <a:path w="5929" h="3548">
                <a:moveTo>
                  <a:pt x="22151" y="4266"/>
                </a:moveTo>
                <a:cubicBezTo>
                  <a:pt x="22207" y="4266"/>
                  <a:pt x="22248" y="4244"/>
                  <a:pt x="22299" y="4242"/>
                </a:cubicBezTo>
                <a:cubicBezTo>
                  <a:pt x="22357" y="4240"/>
                  <a:pt x="22415" y="4242"/>
                  <a:pt x="22473" y="4242"/>
                </a:cubicBezTo>
              </a:path>
              <a:path w="5929" h="3548">
                <a:moveTo>
                  <a:pt x="22200" y="4490"/>
                </a:moveTo>
                <a:cubicBezTo>
                  <a:pt x="22283" y="4490"/>
                  <a:pt x="22344" y="4508"/>
                  <a:pt x="22423" y="4514"/>
                </a:cubicBezTo>
                <a:cubicBezTo>
                  <a:pt x="22476" y="4518"/>
                  <a:pt x="22508" y="4491"/>
                  <a:pt x="22547" y="4465"/>
                </a:cubicBezTo>
              </a:path>
              <a:path w="5929" h="3548">
                <a:moveTo>
                  <a:pt x="19149" y="4192"/>
                </a:moveTo>
                <a:cubicBezTo>
                  <a:pt x="19184" y="4157"/>
                  <a:pt x="19216" y="4119"/>
                  <a:pt x="19248" y="4093"/>
                </a:cubicBezTo>
                <a:cubicBezTo>
                  <a:pt x="19325" y="4032"/>
                  <a:pt x="19437" y="3994"/>
                  <a:pt x="19521" y="3944"/>
                </a:cubicBezTo>
                <a:cubicBezTo>
                  <a:pt x="19657" y="3862"/>
                  <a:pt x="19797" y="3784"/>
                  <a:pt x="19943" y="3721"/>
                </a:cubicBezTo>
                <a:cubicBezTo>
                  <a:pt x="20148" y="3632"/>
                  <a:pt x="20350" y="3541"/>
                  <a:pt x="20563" y="3473"/>
                </a:cubicBezTo>
                <a:cubicBezTo>
                  <a:pt x="20673" y="3438"/>
                  <a:pt x="20781" y="3399"/>
                  <a:pt x="20886" y="3349"/>
                </a:cubicBezTo>
                <a:cubicBezTo>
                  <a:pt x="20928" y="3329"/>
                  <a:pt x="20949" y="3317"/>
                  <a:pt x="20985" y="3299"/>
                </a:cubicBezTo>
                <a:cubicBezTo>
                  <a:pt x="20957" y="3344"/>
                  <a:pt x="20952" y="3351"/>
                  <a:pt x="20910" y="3398"/>
                </a:cubicBezTo>
              </a:path>
              <a:path w="5929" h="3548">
                <a:moveTo>
                  <a:pt x="19149" y="5581"/>
                </a:moveTo>
                <a:cubicBezTo>
                  <a:pt x="19181" y="5565"/>
                  <a:pt x="19215" y="5547"/>
                  <a:pt x="19248" y="5531"/>
                </a:cubicBezTo>
                <a:cubicBezTo>
                  <a:pt x="19526" y="5394"/>
                  <a:pt x="19803" y="5218"/>
                  <a:pt x="20092" y="5110"/>
                </a:cubicBezTo>
                <a:cubicBezTo>
                  <a:pt x="20304" y="5031"/>
                  <a:pt x="20522" y="4928"/>
                  <a:pt x="20737" y="4862"/>
                </a:cubicBezTo>
                <a:cubicBezTo>
                  <a:pt x="20954" y="4795"/>
                  <a:pt x="21170" y="4737"/>
                  <a:pt x="21382" y="4663"/>
                </a:cubicBezTo>
                <a:cubicBezTo>
                  <a:pt x="21447" y="4640"/>
                  <a:pt x="21533" y="4589"/>
                  <a:pt x="21580" y="4539"/>
                </a:cubicBezTo>
                <a:cubicBezTo>
                  <a:pt x="21609" y="4509"/>
                  <a:pt x="21610" y="4462"/>
                  <a:pt x="21630" y="4514"/>
                </a:cubicBezTo>
                <a:cubicBezTo>
                  <a:pt x="21630" y="4547"/>
                  <a:pt x="21630" y="4564"/>
                  <a:pt x="21630" y="4589"/>
                </a:cubicBezTo>
              </a:path>
              <a:path w="5929" h="3548">
                <a:moveTo>
                  <a:pt x="19348" y="6201"/>
                </a:moveTo>
                <a:cubicBezTo>
                  <a:pt x="19371" y="6233"/>
                  <a:pt x="19393" y="6287"/>
                  <a:pt x="19397" y="6325"/>
                </a:cubicBezTo>
                <a:cubicBezTo>
                  <a:pt x="19399" y="6339"/>
                  <a:pt x="19372" y="6398"/>
                  <a:pt x="19372" y="6350"/>
                </a:cubicBezTo>
                <a:cubicBezTo>
                  <a:pt x="19372" y="6307"/>
                  <a:pt x="19366" y="6300"/>
                  <a:pt x="19348" y="6276"/>
                </a:cubicBezTo>
                <a:cubicBezTo>
                  <a:pt x="19329" y="6251"/>
                  <a:pt x="19293" y="6228"/>
                  <a:pt x="19273" y="6226"/>
                </a:cubicBezTo>
                <a:cubicBezTo>
                  <a:pt x="19224" y="6220"/>
                  <a:pt x="19222" y="6237"/>
                  <a:pt x="19199" y="6276"/>
                </a:cubicBezTo>
                <a:cubicBezTo>
                  <a:pt x="19162" y="6340"/>
                  <a:pt x="19153" y="6382"/>
                  <a:pt x="19124" y="6449"/>
                </a:cubicBezTo>
                <a:cubicBezTo>
                  <a:pt x="19091" y="6526"/>
                  <a:pt x="19075" y="6563"/>
                  <a:pt x="19075" y="6648"/>
                </a:cubicBezTo>
                <a:cubicBezTo>
                  <a:pt x="19075" y="6723"/>
                  <a:pt x="19072" y="6744"/>
                  <a:pt x="19124" y="6796"/>
                </a:cubicBezTo>
                <a:cubicBezTo>
                  <a:pt x="19170" y="6842"/>
                  <a:pt x="19182" y="6846"/>
                  <a:pt x="19248" y="6846"/>
                </a:cubicBezTo>
                <a:cubicBezTo>
                  <a:pt x="19326" y="6846"/>
                  <a:pt x="19361" y="6846"/>
                  <a:pt x="19422" y="6796"/>
                </a:cubicBezTo>
              </a:path>
              <a:path w="5929" h="3548">
                <a:moveTo>
                  <a:pt x="19645" y="6400"/>
                </a:moveTo>
                <a:cubicBezTo>
                  <a:pt x="19645" y="6505"/>
                  <a:pt x="19613" y="6681"/>
                  <a:pt x="19670" y="6772"/>
                </a:cubicBezTo>
                <a:cubicBezTo>
                  <a:pt x="19689" y="6802"/>
                  <a:pt x="19761" y="6827"/>
                  <a:pt x="19794" y="6821"/>
                </a:cubicBezTo>
                <a:cubicBezTo>
                  <a:pt x="19885" y="6804"/>
                  <a:pt x="19965" y="6747"/>
                  <a:pt x="20017" y="6672"/>
                </a:cubicBezTo>
                <a:cubicBezTo>
                  <a:pt x="20054" y="6619"/>
                  <a:pt x="20042" y="6560"/>
                  <a:pt x="20042" y="6499"/>
                </a:cubicBezTo>
                <a:cubicBezTo>
                  <a:pt x="20042" y="6434"/>
                  <a:pt x="20008" y="6396"/>
                  <a:pt x="19943" y="6375"/>
                </a:cubicBezTo>
                <a:cubicBezTo>
                  <a:pt x="19893" y="6358"/>
                  <a:pt x="19813" y="6383"/>
                  <a:pt x="19769" y="6400"/>
                </a:cubicBezTo>
                <a:cubicBezTo>
                  <a:pt x="19733" y="6414"/>
                  <a:pt x="19662" y="6460"/>
                  <a:pt x="19645" y="6499"/>
                </a:cubicBezTo>
                <a:cubicBezTo>
                  <a:pt x="19633" y="6526"/>
                  <a:pt x="19643" y="6584"/>
                  <a:pt x="19670" y="6598"/>
                </a:cubicBezTo>
                <a:cubicBezTo>
                  <a:pt x="19695" y="6598"/>
                  <a:pt x="19703" y="6598"/>
                  <a:pt x="19720" y="6598"/>
                </a:cubicBezTo>
              </a:path>
              <a:path w="5929" h="3548">
                <a:moveTo>
                  <a:pt x="20265" y="6276"/>
                </a:moveTo>
                <a:cubicBezTo>
                  <a:pt x="20230" y="6276"/>
                  <a:pt x="20192" y="6283"/>
                  <a:pt x="20166" y="6300"/>
                </a:cubicBezTo>
                <a:cubicBezTo>
                  <a:pt x="20111" y="6337"/>
                  <a:pt x="20154" y="6364"/>
                  <a:pt x="20166" y="6400"/>
                </a:cubicBezTo>
                <a:cubicBezTo>
                  <a:pt x="20184" y="6451"/>
                  <a:pt x="20246" y="6463"/>
                  <a:pt x="20290" y="6499"/>
                </a:cubicBezTo>
                <a:cubicBezTo>
                  <a:pt x="20335" y="6536"/>
                  <a:pt x="20395" y="6614"/>
                  <a:pt x="20414" y="6672"/>
                </a:cubicBezTo>
                <a:cubicBezTo>
                  <a:pt x="20425" y="6704"/>
                  <a:pt x="20417" y="6753"/>
                  <a:pt x="20389" y="6772"/>
                </a:cubicBezTo>
                <a:cubicBezTo>
                  <a:pt x="20321" y="6819"/>
                  <a:pt x="20301" y="6778"/>
                  <a:pt x="20241" y="6772"/>
                </a:cubicBezTo>
                <a:cubicBezTo>
                  <a:pt x="20233" y="6772"/>
                  <a:pt x="20224" y="6772"/>
                  <a:pt x="20216" y="6772"/>
                </a:cubicBezTo>
                <a:cubicBezTo>
                  <a:pt x="20216" y="6719"/>
                  <a:pt x="20228" y="6710"/>
                  <a:pt x="20265" y="6672"/>
                </a:cubicBezTo>
              </a:path>
              <a:path w="5929" h="3548">
                <a:moveTo>
                  <a:pt x="20662" y="6325"/>
                </a:moveTo>
                <a:cubicBezTo>
                  <a:pt x="20689" y="6420"/>
                  <a:pt x="20719" y="6466"/>
                  <a:pt x="20762" y="6548"/>
                </a:cubicBezTo>
                <a:cubicBezTo>
                  <a:pt x="20781" y="6585"/>
                  <a:pt x="20866" y="6679"/>
                  <a:pt x="20910" y="6697"/>
                </a:cubicBezTo>
                <a:cubicBezTo>
                  <a:pt x="20949" y="6713"/>
                  <a:pt x="21013" y="6722"/>
                  <a:pt x="21059" y="6722"/>
                </a:cubicBezTo>
                <a:cubicBezTo>
                  <a:pt x="21123" y="6722"/>
                  <a:pt x="21109" y="6714"/>
                  <a:pt x="21109" y="6648"/>
                </a:cubicBezTo>
              </a:path>
              <a:path w="5929" h="3548">
                <a:moveTo>
                  <a:pt x="20985" y="6424"/>
                </a:moveTo>
                <a:cubicBezTo>
                  <a:pt x="20861" y="6556"/>
                  <a:pt x="20849" y="6572"/>
                  <a:pt x="20712" y="6648"/>
                </a:cubicBezTo>
                <a:cubicBezTo>
                  <a:pt x="20668" y="6672"/>
                  <a:pt x="20553" y="6687"/>
                  <a:pt x="20588" y="6722"/>
                </a:cubicBezTo>
                <a:cubicBezTo>
                  <a:pt x="20596" y="6722"/>
                  <a:pt x="20605" y="6722"/>
                  <a:pt x="20613" y="6722"/>
                </a:cubicBezTo>
              </a:path>
              <a:path w="5929" h="3548">
                <a:moveTo>
                  <a:pt x="22746" y="4415"/>
                </a:moveTo>
                <a:cubicBezTo>
                  <a:pt x="22795" y="4399"/>
                  <a:pt x="22811" y="4393"/>
                  <a:pt x="22870" y="4390"/>
                </a:cubicBezTo>
                <a:cubicBezTo>
                  <a:pt x="22972" y="4384"/>
                  <a:pt x="23090" y="4379"/>
                  <a:pt x="23192" y="4366"/>
                </a:cubicBezTo>
                <a:cubicBezTo>
                  <a:pt x="23342" y="4346"/>
                  <a:pt x="23486" y="4319"/>
                  <a:pt x="23639" y="4316"/>
                </a:cubicBezTo>
                <a:cubicBezTo>
                  <a:pt x="23824" y="4312"/>
                  <a:pt x="24002" y="4294"/>
                  <a:pt x="24185" y="4291"/>
                </a:cubicBezTo>
                <a:cubicBezTo>
                  <a:pt x="24378" y="4287"/>
                  <a:pt x="24566" y="4282"/>
                  <a:pt x="24755" y="4266"/>
                </a:cubicBezTo>
                <a:cubicBezTo>
                  <a:pt x="24836" y="4259"/>
                  <a:pt x="24921" y="4266"/>
                  <a:pt x="25003" y="4266"/>
                </a:cubicBezTo>
                <a:cubicBezTo>
                  <a:pt x="24973" y="4252"/>
                  <a:pt x="24970" y="4242"/>
                  <a:pt x="24904" y="4242"/>
                </a:cubicBezTo>
                <a:cubicBezTo>
                  <a:pt x="24887" y="4242"/>
                  <a:pt x="24871" y="4242"/>
                  <a:pt x="24854" y="4242"/>
                </a:cubicBezTo>
              </a:path>
              <a:path w="5929" h="3548">
                <a:moveTo>
                  <a:pt x="22994" y="4862"/>
                </a:moveTo>
                <a:cubicBezTo>
                  <a:pt x="23003" y="4914"/>
                  <a:pt x="23034" y="4932"/>
                  <a:pt x="23019" y="4911"/>
                </a:cubicBezTo>
                <a:cubicBezTo>
                  <a:pt x="23004" y="4890"/>
                  <a:pt x="22978" y="4841"/>
                  <a:pt x="22969" y="4837"/>
                </a:cubicBezTo>
                <a:cubicBezTo>
                  <a:pt x="22927" y="4816"/>
                  <a:pt x="22895" y="4863"/>
                  <a:pt x="22870" y="4887"/>
                </a:cubicBezTo>
                <a:cubicBezTo>
                  <a:pt x="22805" y="4950"/>
                  <a:pt x="22802" y="5029"/>
                  <a:pt x="22771" y="5110"/>
                </a:cubicBezTo>
                <a:cubicBezTo>
                  <a:pt x="22747" y="5173"/>
                  <a:pt x="22746" y="5215"/>
                  <a:pt x="22746" y="5283"/>
                </a:cubicBezTo>
                <a:cubicBezTo>
                  <a:pt x="22746" y="5347"/>
                  <a:pt x="22763" y="5382"/>
                  <a:pt x="22796" y="5407"/>
                </a:cubicBezTo>
                <a:cubicBezTo>
                  <a:pt x="22844" y="5444"/>
                  <a:pt x="22886" y="5442"/>
                  <a:pt x="22944" y="5407"/>
                </a:cubicBezTo>
                <a:cubicBezTo>
                  <a:pt x="22988" y="5380"/>
                  <a:pt x="23023" y="5337"/>
                  <a:pt x="23068" y="5308"/>
                </a:cubicBezTo>
              </a:path>
              <a:path w="5929" h="3548">
                <a:moveTo>
                  <a:pt x="23217" y="5011"/>
                </a:moveTo>
                <a:cubicBezTo>
                  <a:pt x="23217" y="5077"/>
                  <a:pt x="23184" y="5258"/>
                  <a:pt x="23242" y="5308"/>
                </a:cubicBezTo>
                <a:cubicBezTo>
                  <a:pt x="23263" y="5326"/>
                  <a:pt x="23308" y="5333"/>
                  <a:pt x="23341" y="5333"/>
                </a:cubicBezTo>
                <a:cubicBezTo>
                  <a:pt x="23367" y="5333"/>
                  <a:pt x="23448" y="5278"/>
                  <a:pt x="23465" y="5259"/>
                </a:cubicBezTo>
                <a:cubicBezTo>
                  <a:pt x="23540" y="5178"/>
                  <a:pt x="23588" y="5099"/>
                  <a:pt x="23564" y="4986"/>
                </a:cubicBezTo>
                <a:cubicBezTo>
                  <a:pt x="23552" y="4929"/>
                  <a:pt x="23519" y="4883"/>
                  <a:pt x="23465" y="4862"/>
                </a:cubicBezTo>
                <a:cubicBezTo>
                  <a:pt x="23419" y="4844"/>
                  <a:pt x="23395" y="4843"/>
                  <a:pt x="23341" y="4862"/>
                </a:cubicBezTo>
                <a:cubicBezTo>
                  <a:pt x="23246" y="4896"/>
                  <a:pt x="23244" y="4936"/>
                  <a:pt x="23192" y="5011"/>
                </a:cubicBezTo>
                <a:cubicBezTo>
                  <a:pt x="23161" y="5056"/>
                  <a:pt x="23143" y="5079"/>
                  <a:pt x="23143" y="5135"/>
                </a:cubicBezTo>
                <a:cubicBezTo>
                  <a:pt x="23143" y="5165"/>
                  <a:pt x="23187" y="5221"/>
                  <a:pt x="23217" y="5234"/>
                </a:cubicBezTo>
                <a:cubicBezTo>
                  <a:pt x="23258" y="5234"/>
                  <a:pt x="23283" y="5234"/>
                  <a:pt x="23316" y="5234"/>
                </a:cubicBezTo>
              </a:path>
              <a:path w="5929" h="3548">
                <a:moveTo>
                  <a:pt x="23788" y="4837"/>
                </a:moveTo>
                <a:cubicBezTo>
                  <a:pt x="23735" y="4858"/>
                  <a:pt x="23688" y="4899"/>
                  <a:pt x="23639" y="4911"/>
                </a:cubicBezTo>
                <a:cubicBezTo>
                  <a:pt x="23664" y="4974"/>
                  <a:pt x="23702" y="5003"/>
                  <a:pt x="23763" y="5035"/>
                </a:cubicBezTo>
                <a:cubicBezTo>
                  <a:pt x="23808" y="5059"/>
                  <a:pt x="23881" y="5117"/>
                  <a:pt x="23912" y="5159"/>
                </a:cubicBezTo>
                <a:cubicBezTo>
                  <a:pt x="23919" y="5169"/>
                  <a:pt x="23987" y="5262"/>
                  <a:pt x="23961" y="5283"/>
                </a:cubicBezTo>
                <a:cubicBezTo>
                  <a:pt x="23929" y="5309"/>
                  <a:pt x="23882" y="5329"/>
                  <a:pt x="23837" y="5333"/>
                </a:cubicBezTo>
                <a:cubicBezTo>
                  <a:pt x="23800" y="5336"/>
                  <a:pt x="23733" y="5349"/>
                  <a:pt x="23713" y="5308"/>
                </a:cubicBezTo>
                <a:cubicBezTo>
                  <a:pt x="23698" y="5278"/>
                  <a:pt x="23747" y="5250"/>
                  <a:pt x="23763" y="5234"/>
                </a:cubicBezTo>
              </a:path>
              <a:path w="5929" h="3548">
                <a:moveTo>
                  <a:pt x="24110" y="4837"/>
                </a:moveTo>
                <a:cubicBezTo>
                  <a:pt x="24158" y="4892"/>
                  <a:pt x="24197" y="4950"/>
                  <a:pt x="24234" y="5011"/>
                </a:cubicBezTo>
                <a:cubicBezTo>
                  <a:pt x="24276" y="5081"/>
                  <a:pt x="24311" y="5104"/>
                  <a:pt x="24358" y="5159"/>
                </a:cubicBezTo>
                <a:cubicBezTo>
                  <a:pt x="24406" y="5215"/>
                  <a:pt x="24411" y="5238"/>
                  <a:pt x="24482" y="5259"/>
                </a:cubicBezTo>
                <a:cubicBezTo>
                  <a:pt x="24521" y="5271"/>
                  <a:pt x="24523" y="5260"/>
                  <a:pt x="24532" y="5234"/>
                </a:cubicBezTo>
              </a:path>
              <a:path w="5929" h="3548">
                <a:moveTo>
                  <a:pt x="24408" y="4862"/>
                </a:moveTo>
                <a:cubicBezTo>
                  <a:pt x="24318" y="4933"/>
                  <a:pt x="24241" y="5004"/>
                  <a:pt x="24160" y="5085"/>
                </a:cubicBezTo>
                <a:cubicBezTo>
                  <a:pt x="24107" y="5138"/>
                  <a:pt x="24075" y="5217"/>
                  <a:pt x="24011" y="5259"/>
                </a:cubicBezTo>
                <a:cubicBezTo>
                  <a:pt x="23972" y="5285"/>
                  <a:pt x="23956" y="5348"/>
                  <a:pt x="23912" y="5333"/>
                </a:cubicBezTo>
                <a:cubicBezTo>
                  <a:pt x="23904" y="5325"/>
                  <a:pt x="23895" y="5316"/>
                  <a:pt x="23887" y="5308"/>
                </a:cubicBezTo>
              </a:path>
              <a:path w="5929" h="3548">
                <a:moveTo>
                  <a:pt x="23738" y="3448"/>
                </a:moveTo>
                <a:cubicBezTo>
                  <a:pt x="23748" y="3574"/>
                  <a:pt x="23763" y="3692"/>
                  <a:pt x="23763" y="3820"/>
                </a:cubicBezTo>
                <a:cubicBezTo>
                  <a:pt x="23763" y="3908"/>
                  <a:pt x="23738" y="3977"/>
                  <a:pt x="23738" y="4068"/>
                </a:cubicBezTo>
                <a:cubicBezTo>
                  <a:pt x="23738" y="4142"/>
                  <a:pt x="23738" y="4217"/>
                  <a:pt x="23738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62040" y="2473200"/>
            <a:ext cx="920880" cy="40176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4663" y="7392"/>
                </a:moveTo>
                <a:cubicBezTo>
                  <a:pt x="4663" y="7408"/>
                  <a:pt x="4663" y="7425"/>
                  <a:pt x="4663" y="7441"/>
                </a:cubicBezTo>
                <a:cubicBezTo>
                  <a:pt x="4696" y="7425"/>
                  <a:pt x="4663" y="7454"/>
                  <a:pt x="4663" y="7417"/>
                </a:cubicBezTo>
                <a:cubicBezTo>
                  <a:pt x="4663" y="7394"/>
                  <a:pt x="4615" y="7376"/>
                  <a:pt x="4589" y="7367"/>
                </a:cubicBezTo>
                <a:cubicBezTo>
                  <a:pt x="4551" y="7354"/>
                  <a:pt x="4520" y="7382"/>
                  <a:pt x="4490" y="7392"/>
                </a:cubicBezTo>
                <a:cubicBezTo>
                  <a:pt x="4419" y="7414"/>
                  <a:pt x="4394" y="7428"/>
                  <a:pt x="4366" y="7466"/>
                </a:cubicBezTo>
                <a:cubicBezTo>
                  <a:pt x="4357" y="7478"/>
                  <a:pt x="4315" y="7545"/>
                  <a:pt x="4341" y="7565"/>
                </a:cubicBezTo>
                <a:cubicBezTo>
                  <a:pt x="4369" y="7587"/>
                  <a:pt x="4430" y="7601"/>
                  <a:pt x="4465" y="7615"/>
                </a:cubicBezTo>
                <a:cubicBezTo>
                  <a:pt x="4555" y="7652"/>
                  <a:pt x="4642" y="7699"/>
                  <a:pt x="4713" y="7764"/>
                </a:cubicBezTo>
                <a:cubicBezTo>
                  <a:pt x="4742" y="7790"/>
                  <a:pt x="4805" y="7842"/>
                  <a:pt x="4787" y="7888"/>
                </a:cubicBezTo>
                <a:cubicBezTo>
                  <a:pt x="4769" y="7934"/>
                  <a:pt x="4740" y="7957"/>
                  <a:pt x="4688" y="7962"/>
                </a:cubicBezTo>
                <a:cubicBezTo>
                  <a:pt x="4618" y="7969"/>
                  <a:pt x="4600" y="7974"/>
                  <a:pt x="4539" y="7962"/>
                </a:cubicBezTo>
                <a:cubicBezTo>
                  <a:pt x="4467" y="7947"/>
                  <a:pt x="4438" y="7970"/>
                  <a:pt x="4390" y="7888"/>
                </a:cubicBezTo>
                <a:cubicBezTo>
                  <a:pt x="4361" y="7839"/>
                  <a:pt x="4419" y="7826"/>
                  <a:pt x="4440" y="7813"/>
                </a:cubicBezTo>
                <a:cubicBezTo>
                  <a:pt x="4448" y="7805"/>
                  <a:pt x="4457" y="7797"/>
                  <a:pt x="4465" y="7789"/>
                </a:cubicBezTo>
              </a:path>
              <a:path w="2556" h="1117">
                <a:moveTo>
                  <a:pt x="5135" y="7565"/>
                </a:moveTo>
                <a:cubicBezTo>
                  <a:pt x="5135" y="7685"/>
                  <a:pt x="5145" y="7809"/>
                  <a:pt x="5110" y="7913"/>
                </a:cubicBezTo>
                <a:cubicBezTo>
                  <a:pt x="5090" y="7974"/>
                  <a:pt x="5107" y="7872"/>
                  <a:pt x="5110" y="7863"/>
                </a:cubicBezTo>
                <a:cubicBezTo>
                  <a:pt x="5118" y="7846"/>
                  <a:pt x="5127" y="7830"/>
                  <a:pt x="5135" y="7813"/>
                </a:cubicBezTo>
              </a:path>
              <a:path w="2556" h="1117">
                <a:moveTo>
                  <a:pt x="5209" y="7144"/>
                </a:moveTo>
                <a:cubicBezTo>
                  <a:pt x="5250" y="7089"/>
                  <a:pt x="5213" y="7104"/>
                  <a:pt x="5259" y="7119"/>
                </a:cubicBezTo>
              </a:path>
              <a:path w="2556" h="1117">
                <a:moveTo>
                  <a:pt x="5358" y="7565"/>
                </a:moveTo>
                <a:cubicBezTo>
                  <a:pt x="5365" y="7616"/>
                  <a:pt x="5370" y="7801"/>
                  <a:pt x="5407" y="7863"/>
                </a:cubicBezTo>
                <a:cubicBezTo>
                  <a:pt x="5415" y="7871"/>
                  <a:pt x="5424" y="7880"/>
                  <a:pt x="5432" y="7888"/>
                </a:cubicBezTo>
                <a:cubicBezTo>
                  <a:pt x="5432" y="7955"/>
                  <a:pt x="5432" y="7849"/>
                  <a:pt x="5432" y="7838"/>
                </a:cubicBezTo>
                <a:cubicBezTo>
                  <a:pt x="5432" y="7776"/>
                  <a:pt x="5425" y="7747"/>
                  <a:pt x="5432" y="7689"/>
                </a:cubicBezTo>
                <a:cubicBezTo>
                  <a:pt x="5440" y="7621"/>
                  <a:pt x="5436" y="7555"/>
                  <a:pt x="5457" y="7491"/>
                </a:cubicBezTo>
                <a:cubicBezTo>
                  <a:pt x="5474" y="7442"/>
                  <a:pt x="5520" y="7385"/>
                  <a:pt x="5556" y="7367"/>
                </a:cubicBezTo>
                <a:cubicBezTo>
                  <a:pt x="5603" y="7343"/>
                  <a:pt x="5685" y="7318"/>
                  <a:pt x="5730" y="7367"/>
                </a:cubicBezTo>
                <a:cubicBezTo>
                  <a:pt x="5779" y="7420"/>
                  <a:pt x="5801" y="7500"/>
                  <a:pt x="5829" y="7565"/>
                </a:cubicBezTo>
                <a:cubicBezTo>
                  <a:pt x="5862" y="7642"/>
                  <a:pt x="5879" y="7679"/>
                  <a:pt x="5879" y="7764"/>
                </a:cubicBezTo>
                <a:cubicBezTo>
                  <a:pt x="5879" y="7781"/>
                  <a:pt x="5862" y="7905"/>
                  <a:pt x="5854" y="7913"/>
                </a:cubicBezTo>
                <a:cubicBezTo>
                  <a:pt x="5820" y="7947"/>
                  <a:pt x="5829" y="7869"/>
                  <a:pt x="5829" y="7863"/>
                </a:cubicBezTo>
              </a:path>
              <a:path w="2556" h="1117">
                <a:moveTo>
                  <a:pt x="5978" y="6921"/>
                </a:moveTo>
                <a:cubicBezTo>
                  <a:pt x="6053" y="6880"/>
                  <a:pt x="6096" y="6842"/>
                  <a:pt x="6176" y="6896"/>
                </a:cubicBezTo>
                <a:cubicBezTo>
                  <a:pt x="6230" y="6933"/>
                  <a:pt x="6241" y="6970"/>
                  <a:pt x="6201" y="7020"/>
                </a:cubicBezTo>
                <a:cubicBezTo>
                  <a:pt x="6174" y="7054"/>
                  <a:pt x="6119" y="7105"/>
                  <a:pt x="6102" y="7144"/>
                </a:cubicBezTo>
                <a:cubicBezTo>
                  <a:pt x="6087" y="7178"/>
                  <a:pt x="6077" y="7202"/>
                  <a:pt x="6077" y="7243"/>
                </a:cubicBezTo>
                <a:cubicBezTo>
                  <a:pt x="6131" y="7243"/>
                  <a:pt x="6147" y="7265"/>
                  <a:pt x="6201" y="7268"/>
                </a:cubicBezTo>
                <a:cubicBezTo>
                  <a:pt x="6250" y="7271"/>
                  <a:pt x="6301" y="7268"/>
                  <a:pt x="6350" y="7268"/>
                </a:cubicBezTo>
              </a:path>
              <a:path w="2556" h="1117">
                <a:moveTo>
                  <a:pt x="6524" y="7441"/>
                </a:moveTo>
                <a:cubicBezTo>
                  <a:pt x="6532" y="7533"/>
                  <a:pt x="6556" y="7582"/>
                  <a:pt x="6598" y="7665"/>
                </a:cubicBezTo>
                <a:cubicBezTo>
                  <a:pt x="6629" y="7726"/>
                  <a:pt x="6681" y="7784"/>
                  <a:pt x="6722" y="7838"/>
                </a:cubicBezTo>
                <a:cubicBezTo>
                  <a:pt x="6754" y="7881"/>
                  <a:pt x="6803" y="7908"/>
                  <a:pt x="6846" y="7938"/>
                </a:cubicBezTo>
                <a:cubicBezTo>
                  <a:pt x="6871" y="7913"/>
                  <a:pt x="6879" y="7905"/>
                  <a:pt x="6896" y="7888"/>
                </a:cubicBezTo>
              </a:path>
              <a:path w="2556" h="1117">
                <a:moveTo>
                  <a:pt x="6821" y="7392"/>
                </a:moveTo>
                <a:cubicBezTo>
                  <a:pt x="6763" y="7472"/>
                  <a:pt x="6701" y="7579"/>
                  <a:pt x="6623" y="7640"/>
                </a:cubicBezTo>
                <a:cubicBezTo>
                  <a:pt x="6571" y="7681"/>
                  <a:pt x="6514" y="7730"/>
                  <a:pt x="6474" y="7789"/>
                </a:cubicBezTo>
                <a:cubicBezTo>
                  <a:pt x="6450" y="7825"/>
                  <a:pt x="6382" y="7896"/>
                  <a:pt x="6424" y="7888"/>
                </a:cubicBezTo>
                <a:cubicBezTo>
                  <a:pt x="6447" y="7865"/>
                  <a:pt x="6451" y="7857"/>
                  <a:pt x="6474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87760" y="2428920"/>
            <a:ext cx="1214280" cy="411120"/>
          </a:xfrm>
          <a:custGeom>
            <a:avLst/>
            <a:gdLst/>
            <a:ahLst/>
            <a:rect l="l" t="t" r="r" b="b"/>
            <a:pathLst>
              <a:path w="3375" h="1142">
                <a:moveTo>
                  <a:pt x="7516" y="7491"/>
                </a:moveTo>
                <a:cubicBezTo>
                  <a:pt x="7444" y="7545"/>
                  <a:pt x="7487" y="7512"/>
                  <a:pt x="7541" y="7466"/>
                </a:cubicBezTo>
              </a:path>
              <a:path w="3375" h="1142">
                <a:moveTo>
                  <a:pt x="8384" y="7317"/>
                </a:moveTo>
                <a:cubicBezTo>
                  <a:pt x="8415" y="7354"/>
                  <a:pt x="8437" y="7460"/>
                  <a:pt x="8458" y="7417"/>
                </a:cubicBezTo>
                <a:cubicBezTo>
                  <a:pt x="8482" y="7367"/>
                  <a:pt x="8424" y="7351"/>
                  <a:pt x="8409" y="7317"/>
                </a:cubicBezTo>
                <a:cubicBezTo>
                  <a:pt x="8392" y="7279"/>
                  <a:pt x="8384" y="7249"/>
                  <a:pt x="8334" y="7243"/>
                </a:cubicBezTo>
                <a:cubicBezTo>
                  <a:pt x="8287" y="7238"/>
                  <a:pt x="8248" y="7265"/>
                  <a:pt x="8210" y="7293"/>
                </a:cubicBezTo>
                <a:cubicBezTo>
                  <a:pt x="8158" y="7331"/>
                  <a:pt x="8129" y="7394"/>
                  <a:pt x="8086" y="7441"/>
                </a:cubicBezTo>
                <a:cubicBezTo>
                  <a:pt x="8036" y="7496"/>
                  <a:pt x="8030" y="7578"/>
                  <a:pt x="7987" y="7640"/>
                </a:cubicBezTo>
                <a:cubicBezTo>
                  <a:pt x="7965" y="7672"/>
                  <a:pt x="7940" y="7746"/>
                  <a:pt x="7962" y="7789"/>
                </a:cubicBezTo>
                <a:cubicBezTo>
                  <a:pt x="7979" y="7823"/>
                  <a:pt x="8051" y="7880"/>
                  <a:pt x="8086" y="7888"/>
                </a:cubicBezTo>
                <a:cubicBezTo>
                  <a:pt x="8158" y="7905"/>
                  <a:pt x="8220" y="7874"/>
                  <a:pt x="8285" y="7863"/>
                </a:cubicBezTo>
                <a:cubicBezTo>
                  <a:pt x="8345" y="7853"/>
                  <a:pt x="8377" y="7841"/>
                  <a:pt x="8434" y="7813"/>
                </a:cubicBezTo>
              </a:path>
              <a:path w="3375" h="1142">
                <a:moveTo>
                  <a:pt x="9004" y="7218"/>
                </a:moveTo>
                <a:cubicBezTo>
                  <a:pt x="8935" y="7218"/>
                  <a:pt x="8886" y="7221"/>
                  <a:pt x="8830" y="7268"/>
                </a:cubicBezTo>
                <a:cubicBezTo>
                  <a:pt x="8813" y="7282"/>
                  <a:pt x="8735" y="7336"/>
                  <a:pt x="8731" y="7342"/>
                </a:cubicBezTo>
                <a:cubicBezTo>
                  <a:pt x="8705" y="7381"/>
                  <a:pt x="8750" y="7414"/>
                  <a:pt x="8781" y="7417"/>
                </a:cubicBezTo>
                <a:cubicBezTo>
                  <a:pt x="8814" y="7421"/>
                  <a:pt x="8875" y="7446"/>
                  <a:pt x="8905" y="7466"/>
                </a:cubicBezTo>
                <a:cubicBezTo>
                  <a:pt x="8940" y="7489"/>
                  <a:pt x="8935" y="7536"/>
                  <a:pt x="8954" y="7565"/>
                </a:cubicBezTo>
                <a:cubicBezTo>
                  <a:pt x="8995" y="7627"/>
                  <a:pt x="8972" y="7634"/>
                  <a:pt x="8954" y="7689"/>
                </a:cubicBezTo>
                <a:cubicBezTo>
                  <a:pt x="8943" y="7721"/>
                  <a:pt x="8918" y="7772"/>
                  <a:pt x="8880" y="7789"/>
                </a:cubicBezTo>
                <a:cubicBezTo>
                  <a:pt x="8847" y="7804"/>
                  <a:pt x="8821" y="7813"/>
                  <a:pt x="8781" y="7813"/>
                </a:cubicBezTo>
                <a:cubicBezTo>
                  <a:pt x="8742" y="7813"/>
                  <a:pt x="8726" y="7789"/>
                  <a:pt x="8682" y="7789"/>
                </a:cubicBezTo>
                <a:cubicBezTo>
                  <a:pt x="8682" y="7730"/>
                  <a:pt x="8675" y="7752"/>
                  <a:pt x="8731" y="7714"/>
                </a:cubicBezTo>
              </a:path>
              <a:path w="3375" h="1142">
                <a:moveTo>
                  <a:pt x="9550" y="7293"/>
                </a:moveTo>
                <a:cubicBezTo>
                  <a:pt x="9550" y="7317"/>
                  <a:pt x="9550" y="7326"/>
                  <a:pt x="9550" y="7342"/>
                </a:cubicBezTo>
                <a:cubicBezTo>
                  <a:pt x="9513" y="7330"/>
                  <a:pt x="9526" y="7285"/>
                  <a:pt x="9500" y="7268"/>
                </a:cubicBezTo>
                <a:cubicBezTo>
                  <a:pt x="9484" y="7257"/>
                  <a:pt x="9461" y="7223"/>
                  <a:pt x="9451" y="7218"/>
                </a:cubicBezTo>
                <a:cubicBezTo>
                  <a:pt x="9443" y="7218"/>
                  <a:pt x="9434" y="7218"/>
                  <a:pt x="9426" y="7218"/>
                </a:cubicBezTo>
                <a:cubicBezTo>
                  <a:pt x="9365" y="7279"/>
                  <a:pt x="9294" y="7340"/>
                  <a:pt x="9252" y="7417"/>
                </a:cubicBezTo>
                <a:cubicBezTo>
                  <a:pt x="9218" y="7480"/>
                  <a:pt x="9182" y="7570"/>
                  <a:pt x="9178" y="7640"/>
                </a:cubicBezTo>
                <a:cubicBezTo>
                  <a:pt x="9175" y="7698"/>
                  <a:pt x="9208" y="7742"/>
                  <a:pt x="9252" y="7764"/>
                </a:cubicBezTo>
                <a:cubicBezTo>
                  <a:pt x="9318" y="7797"/>
                  <a:pt x="9378" y="7789"/>
                  <a:pt x="9451" y="7789"/>
                </a:cubicBezTo>
                <a:cubicBezTo>
                  <a:pt x="9555" y="7789"/>
                  <a:pt x="9579" y="7725"/>
                  <a:pt x="9624" y="7640"/>
                </a:cubicBezTo>
                <a:cubicBezTo>
                  <a:pt x="9632" y="7623"/>
                  <a:pt x="9641" y="7607"/>
                  <a:pt x="9649" y="7590"/>
                </a:cubicBezTo>
              </a:path>
              <a:path w="3375" h="1142">
                <a:moveTo>
                  <a:pt x="9823" y="6772"/>
                </a:moveTo>
                <a:cubicBezTo>
                  <a:pt x="9888" y="6747"/>
                  <a:pt x="9942" y="6714"/>
                  <a:pt x="9971" y="6796"/>
                </a:cubicBezTo>
                <a:cubicBezTo>
                  <a:pt x="9992" y="6854"/>
                  <a:pt x="9936" y="6914"/>
                  <a:pt x="9897" y="6945"/>
                </a:cubicBezTo>
                <a:cubicBezTo>
                  <a:pt x="9854" y="6979"/>
                  <a:pt x="9811" y="6980"/>
                  <a:pt x="9798" y="7020"/>
                </a:cubicBezTo>
                <a:cubicBezTo>
                  <a:pt x="9814" y="7068"/>
                  <a:pt x="9846" y="7051"/>
                  <a:pt x="9897" y="7069"/>
                </a:cubicBezTo>
                <a:cubicBezTo>
                  <a:pt x="9959" y="7091"/>
                  <a:pt x="10011" y="7093"/>
                  <a:pt x="10071" y="7119"/>
                </a:cubicBezTo>
              </a:path>
              <a:path w="3375" h="1142">
                <a:moveTo>
                  <a:pt x="10294" y="7293"/>
                </a:moveTo>
                <a:cubicBezTo>
                  <a:pt x="10321" y="7398"/>
                  <a:pt x="10352" y="7498"/>
                  <a:pt x="10418" y="7590"/>
                </a:cubicBezTo>
                <a:cubicBezTo>
                  <a:pt x="10465" y="7656"/>
                  <a:pt x="10554" y="7691"/>
                  <a:pt x="10616" y="7739"/>
                </a:cubicBezTo>
                <a:cubicBezTo>
                  <a:pt x="10662" y="7774"/>
                  <a:pt x="10706" y="7764"/>
                  <a:pt x="10765" y="7764"/>
                </a:cubicBezTo>
                <a:cubicBezTo>
                  <a:pt x="10831" y="7764"/>
                  <a:pt x="10809" y="7741"/>
                  <a:pt x="10840" y="7689"/>
                </a:cubicBezTo>
              </a:path>
              <a:path w="3375" h="1142">
                <a:moveTo>
                  <a:pt x="10616" y="7367"/>
                </a:moveTo>
                <a:cubicBezTo>
                  <a:pt x="10513" y="7446"/>
                  <a:pt x="10394" y="7508"/>
                  <a:pt x="10294" y="7590"/>
                </a:cubicBezTo>
                <a:cubicBezTo>
                  <a:pt x="10229" y="7643"/>
                  <a:pt x="10170" y="7698"/>
                  <a:pt x="10096" y="7739"/>
                </a:cubicBezTo>
                <a:cubicBezTo>
                  <a:pt x="10046" y="7764"/>
                  <a:pt x="10029" y="7772"/>
                  <a:pt x="9996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0240" y="3125880"/>
            <a:ext cx="2044800" cy="741240"/>
          </a:xfrm>
          <a:custGeom>
            <a:avLst/>
            <a:gdLst/>
            <a:ahLst/>
            <a:rect l="l" t="t" r="r" b="b"/>
            <a:pathLst>
              <a:path w="5681" h="2059">
                <a:moveTo>
                  <a:pt x="6003" y="8830"/>
                </a:moveTo>
                <a:cubicBezTo>
                  <a:pt x="5996" y="8902"/>
                  <a:pt x="5978" y="8957"/>
                  <a:pt x="5978" y="9029"/>
                </a:cubicBezTo>
                <a:cubicBezTo>
                  <a:pt x="5978" y="9099"/>
                  <a:pt x="5953" y="9154"/>
                  <a:pt x="5953" y="9227"/>
                </a:cubicBezTo>
                <a:cubicBezTo>
                  <a:pt x="5953" y="9267"/>
                  <a:pt x="5959" y="9319"/>
                  <a:pt x="5978" y="9351"/>
                </a:cubicBezTo>
                <a:cubicBezTo>
                  <a:pt x="5986" y="9359"/>
                  <a:pt x="5995" y="9368"/>
                  <a:pt x="6003" y="9376"/>
                </a:cubicBezTo>
              </a:path>
              <a:path w="5681" h="2059">
                <a:moveTo>
                  <a:pt x="5259" y="9475"/>
                </a:moveTo>
                <a:cubicBezTo>
                  <a:pt x="5359" y="9497"/>
                  <a:pt x="5454" y="9521"/>
                  <a:pt x="5556" y="9525"/>
                </a:cubicBezTo>
                <a:cubicBezTo>
                  <a:pt x="5682" y="9530"/>
                  <a:pt x="5804" y="9541"/>
                  <a:pt x="5928" y="9550"/>
                </a:cubicBezTo>
                <a:cubicBezTo>
                  <a:pt x="6176" y="9568"/>
                  <a:pt x="6871" y="9550"/>
                  <a:pt x="6623" y="9550"/>
                </a:cubicBezTo>
                <a:cubicBezTo>
                  <a:pt x="6582" y="9550"/>
                  <a:pt x="6557" y="9550"/>
                  <a:pt x="6524" y="9550"/>
                </a:cubicBezTo>
              </a:path>
              <a:path w="5681" h="2059">
                <a:moveTo>
                  <a:pt x="5507" y="10071"/>
                </a:moveTo>
                <a:cubicBezTo>
                  <a:pt x="5535" y="10165"/>
                  <a:pt x="5580" y="10221"/>
                  <a:pt x="5531" y="10145"/>
                </a:cubicBezTo>
                <a:cubicBezTo>
                  <a:pt x="5504" y="10103"/>
                  <a:pt x="5483" y="10052"/>
                  <a:pt x="5432" y="10046"/>
                </a:cubicBezTo>
                <a:cubicBezTo>
                  <a:pt x="5378" y="10040"/>
                  <a:pt x="5354" y="10015"/>
                  <a:pt x="5308" y="10046"/>
                </a:cubicBezTo>
                <a:cubicBezTo>
                  <a:pt x="5253" y="10083"/>
                  <a:pt x="5253" y="10155"/>
                  <a:pt x="5209" y="10195"/>
                </a:cubicBezTo>
                <a:cubicBezTo>
                  <a:pt x="5147" y="10253"/>
                  <a:pt x="5103" y="10297"/>
                  <a:pt x="5085" y="10393"/>
                </a:cubicBezTo>
                <a:cubicBezTo>
                  <a:pt x="5071" y="10466"/>
                  <a:pt x="5067" y="10619"/>
                  <a:pt x="5135" y="10666"/>
                </a:cubicBezTo>
                <a:cubicBezTo>
                  <a:pt x="5174" y="10693"/>
                  <a:pt x="5278" y="10731"/>
                  <a:pt x="5333" y="10716"/>
                </a:cubicBezTo>
                <a:cubicBezTo>
                  <a:pt x="5350" y="10708"/>
                  <a:pt x="5366" y="10699"/>
                  <a:pt x="5383" y="10691"/>
                </a:cubicBezTo>
              </a:path>
              <a:path w="5681" h="2059">
                <a:moveTo>
                  <a:pt x="6003" y="10096"/>
                </a:moveTo>
                <a:cubicBezTo>
                  <a:pt x="5885" y="10096"/>
                  <a:pt x="5886" y="10092"/>
                  <a:pt x="5804" y="10145"/>
                </a:cubicBezTo>
                <a:cubicBezTo>
                  <a:pt x="5751" y="10179"/>
                  <a:pt x="5726" y="10174"/>
                  <a:pt x="5680" y="10220"/>
                </a:cubicBezTo>
                <a:cubicBezTo>
                  <a:pt x="5725" y="10263"/>
                  <a:pt x="5757" y="10258"/>
                  <a:pt x="5804" y="10294"/>
                </a:cubicBezTo>
                <a:cubicBezTo>
                  <a:pt x="5860" y="10337"/>
                  <a:pt x="5904" y="10404"/>
                  <a:pt x="5953" y="10443"/>
                </a:cubicBezTo>
                <a:cubicBezTo>
                  <a:pt x="5990" y="10473"/>
                  <a:pt x="6036" y="10500"/>
                  <a:pt x="6003" y="10567"/>
                </a:cubicBezTo>
                <a:cubicBezTo>
                  <a:pt x="5990" y="10592"/>
                  <a:pt x="5929" y="10614"/>
                  <a:pt x="5904" y="10616"/>
                </a:cubicBezTo>
                <a:cubicBezTo>
                  <a:pt x="5879" y="10618"/>
                  <a:pt x="5730" y="10631"/>
                  <a:pt x="5730" y="10592"/>
                </a:cubicBezTo>
                <a:cubicBezTo>
                  <a:pt x="5738" y="10584"/>
                  <a:pt x="5747" y="10575"/>
                  <a:pt x="5755" y="10567"/>
                </a:cubicBezTo>
              </a:path>
              <a:path w="5681" h="2059">
                <a:moveTo>
                  <a:pt x="6449" y="10170"/>
                </a:moveTo>
                <a:cubicBezTo>
                  <a:pt x="6440" y="10208"/>
                  <a:pt x="6407" y="10230"/>
                  <a:pt x="6400" y="10244"/>
                </a:cubicBezTo>
                <a:cubicBezTo>
                  <a:pt x="6400" y="10269"/>
                  <a:pt x="6400" y="10277"/>
                  <a:pt x="6375" y="10269"/>
                </a:cubicBezTo>
                <a:cubicBezTo>
                  <a:pt x="6365" y="10230"/>
                  <a:pt x="6332" y="10210"/>
                  <a:pt x="6325" y="10195"/>
                </a:cubicBezTo>
                <a:cubicBezTo>
                  <a:pt x="6325" y="10170"/>
                  <a:pt x="6325" y="10162"/>
                  <a:pt x="6300" y="10170"/>
                </a:cubicBezTo>
                <a:cubicBezTo>
                  <a:pt x="6280" y="10177"/>
                  <a:pt x="6246" y="10192"/>
                  <a:pt x="6226" y="10220"/>
                </a:cubicBezTo>
                <a:cubicBezTo>
                  <a:pt x="6178" y="10288"/>
                  <a:pt x="6132" y="10387"/>
                  <a:pt x="6127" y="10468"/>
                </a:cubicBezTo>
                <a:cubicBezTo>
                  <a:pt x="6123" y="10536"/>
                  <a:pt x="6124" y="10586"/>
                  <a:pt x="6152" y="10641"/>
                </a:cubicBezTo>
                <a:cubicBezTo>
                  <a:pt x="6177" y="10689"/>
                  <a:pt x="6220" y="10736"/>
                  <a:pt x="6276" y="10740"/>
                </a:cubicBezTo>
                <a:cubicBezTo>
                  <a:pt x="6361" y="10746"/>
                  <a:pt x="6417" y="10719"/>
                  <a:pt x="6474" y="10666"/>
                </a:cubicBezTo>
                <a:cubicBezTo>
                  <a:pt x="6482" y="10658"/>
                  <a:pt x="6491" y="10649"/>
                  <a:pt x="6499" y="10641"/>
                </a:cubicBezTo>
              </a:path>
              <a:path w="5681" h="2059">
                <a:moveTo>
                  <a:pt x="6648" y="9798"/>
                </a:moveTo>
                <a:cubicBezTo>
                  <a:pt x="6725" y="9778"/>
                  <a:pt x="6743" y="9754"/>
                  <a:pt x="6772" y="9798"/>
                </a:cubicBezTo>
                <a:cubicBezTo>
                  <a:pt x="6772" y="9863"/>
                  <a:pt x="6741" y="9899"/>
                  <a:pt x="6697" y="9947"/>
                </a:cubicBezTo>
                <a:cubicBezTo>
                  <a:pt x="6660" y="9986"/>
                  <a:pt x="6615" y="9995"/>
                  <a:pt x="6598" y="10046"/>
                </a:cubicBezTo>
                <a:cubicBezTo>
                  <a:pt x="6598" y="10054"/>
                  <a:pt x="6598" y="10063"/>
                  <a:pt x="6598" y="10071"/>
                </a:cubicBezTo>
                <a:cubicBezTo>
                  <a:pt x="6645" y="10071"/>
                  <a:pt x="6677" y="10093"/>
                  <a:pt x="6722" y="10096"/>
                </a:cubicBezTo>
                <a:cubicBezTo>
                  <a:pt x="6739" y="10096"/>
                  <a:pt x="6755" y="10096"/>
                  <a:pt x="6772" y="10096"/>
                </a:cubicBezTo>
              </a:path>
              <a:path w="5681" h="2059">
                <a:moveTo>
                  <a:pt x="6945" y="10269"/>
                </a:moveTo>
                <a:cubicBezTo>
                  <a:pt x="6977" y="10404"/>
                  <a:pt x="6998" y="10435"/>
                  <a:pt x="7069" y="10542"/>
                </a:cubicBezTo>
                <a:cubicBezTo>
                  <a:pt x="7116" y="10613"/>
                  <a:pt x="7153" y="10642"/>
                  <a:pt x="7218" y="10691"/>
                </a:cubicBezTo>
                <a:cubicBezTo>
                  <a:pt x="7281" y="10738"/>
                  <a:pt x="7252" y="10737"/>
                  <a:pt x="7317" y="10716"/>
                </a:cubicBezTo>
                <a:cubicBezTo>
                  <a:pt x="7325" y="10716"/>
                  <a:pt x="7334" y="10716"/>
                  <a:pt x="7342" y="10716"/>
                </a:cubicBezTo>
              </a:path>
              <a:path w="5681" h="2059">
                <a:moveTo>
                  <a:pt x="7243" y="10195"/>
                </a:moveTo>
                <a:cubicBezTo>
                  <a:pt x="7163" y="10289"/>
                  <a:pt x="7044" y="10391"/>
                  <a:pt x="6970" y="10492"/>
                </a:cubicBezTo>
                <a:cubicBezTo>
                  <a:pt x="6927" y="10551"/>
                  <a:pt x="6897" y="10616"/>
                  <a:pt x="6821" y="10641"/>
                </a:cubicBezTo>
                <a:cubicBezTo>
                  <a:pt x="6793" y="10641"/>
                  <a:pt x="6782" y="10643"/>
                  <a:pt x="6772" y="10666"/>
                </a:cubicBezTo>
                <a:cubicBezTo>
                  <a:pt x="6784" y="10617"/>
                  <a:pt x="6804" y="10608"/>
                  <a:pt x="6846" y="10567"/>
                </a:cubicBezTo>
              </a:path>
              <a:path w="5681" h="2059">
                <a:moveTo>
                  <a:pt x="7987" y="9550"/>
                </a:moveTo>
                <a:cubicBezTo>
                  <a:pt x="7977" y="9590"/>
                  <a:pt x="7978" y="9589"/>
                  <a:pt x="7938" y="9599"/>
                </a:cubicBezTo>
                <a:cubicBezTo>
                  <a:pt x="7962" y="9599"/>
                  <a:pt x="7970" y="9599"/>
                  <a:pt x="7962" y="9575"/>
                </a:cubicBezTo>
              </a:path>
              <a:path w="5681" h="2059">
                <a:moveTo>
                  <a:pt x="8880" y="9128"/>
                </a:moveTo>
                <a:cubicBezTo>
                  <a:pt x="8880" y="9136"/>
                  <a:pt x="8880" y="9145"/>
                  <a:pt x="8880" y="9153"/>
                </a:cubicBezTo>
                <a:cubicBezTo>
                  <a:pt x="8841" y="9140"/>
                  <a:pt x="8853" y="9114"/>
                  <a:pt x="8830" y="9079"/>
                </a:cubicBezTo>
                <a:cubicBezTo>
                  <a:pt x="8796" y="9027"/>
                  <a:pt x="8740" y="9004"/>
                  <a:pt x="8682" y="9054"/>
                </a:cubicBezTo>
                <a:cubicBezTo>
                  <a:pt x="8635" y="9094"/>
                  <a:pt x="8566" y="9197"/>
                  <a:pt x="8533" y="9252"/>
                </a:cubicBezTo>
                <a:cubicBezTo>
                  <a:pt x="8491" y="9323"/>
                  <a:pt x="8483" y="9370"/>
                  <a:pt x="8483" y="9451"/>
                </a:cubicBezTo>
                <a:cubicBezTo>
                  <a:pt x="8483" y="9520"/>
                  <a:pt x="8484" y="9527"/>
                  <a:pt x="8533" y="9575"/>
                </a:cubicBezTo>
                <a:cubicBezTo>
                  <a:pt x="8576" y="9617"/>
                  <a:pt x="8648" y="9599"/>
                  <a:pt x="8706" y="9599"/>
                </a:cubicBezTo>
                <a:cubicBezTo>
                  <a:pt x="8773" y="9599"/>
                  <a:pt x="8820" y="9577"/>
                  <a:pt x="8880" y="9550"/>
                </a:cubicBezTo>
              </a:path>
              <a:path w="5681" h="2059">
                <a:moveTo>
                  <a:pt x="9227" y="9079"/>
                </a:moveTo>
                <a:cubicBezTo>
                  <a:pt x="9213" y="9127"/>
                  <a:pt x="9183" y="9184"/>
                  <a:pt x="9178" y="9227"/>
                </a:cubicBezTo>
                <a:cubicBezTo>
                  <a:pt x="9171" y="9288"/>
                  <a:pt x="9188" y="9177"/>
                  <a:pt x="9128" y="9203"/>
                </a:cubicBezTo>
                <a:cubicBezTo>
                  <a:pt x="9090" y="9219"/>
                  <a:pt x="9073" y="9264"/>
                  <a:pt x="9054" y="9277"/>
                </a:cubicBezTo>
                <a:cubicBezTo>
                  <a:pt x="9029" y="9277"/>
                  <a:pt x="9021" y="9277"/>
                  <a:pt x="9029" y="9302"/>
                </a:cubicBezTo>
                <a:cubicBezTo>
                  <a:pt x="9059" y="9332"/>
                  <a:pt x="9092" y="9378"/>
                  <a:pt x="9128" y="9401"/>
                </a:cubicBezTo>
                <a:cubicBezTo>
                  <a:pt x="9180" y="9434"/>
                  <a:pt x="9228" y="9490"/>
                  <a:pt x="9252" y="9550"/>
                </a:cubicBezTo>
                <a:cubicBezTo>
                  <a:pt x="9252" y="9558"/>
                  <a:pt x="9252" y="9567"/>
                  <a:pt x="9252" y="9575"/>
                </a:cubicBezTo>
                <a:cubicBezTo>
                  <a:pt x="9214" y="9602"/>
                  <a:pt x="9201" y="9599"/>
                  <a:pt x="9153" y="9599"/>
                </a:cubicBezTo>
                <a:cubicBezTo>
                  <a:pt x="9117" y="9599"/>
                  <a:pt x="9080" y="9593"/>
                  <a:pt x="9054" y="9575"/>
                </a:cubicBezTo>
                <a:cubicBezTo>
                  <a:pt x="8960" y="9513"/>
                  <a:pt x="9161" y="9437"/>
                  <a:pt x="9178" y="9426"/>
                </a:cubicBezTo>
              </a:path>
              <a:path w="5681" h="2059">
                <a:moveTo>
                  <a:pt x="9723" y="9153"/>
                </a:moveTo>
                <a:cubicBezTo>
                  <a:pt x="9723" y="9196"/>
                  <a:pt x="9723" y="9252"/>
                  <a:pt x="9699" y="9203"/>
                </a:cubicBezTo>
                <a:cubicBezTo>
                  <a:pt x="9681" y="9165"/>
                  <a:pt x="9676" y="9134"/>
                  <a:pt x="9624" y="9128"/>
                </a:cubicBezTo>
                <a:cubicBezTo>
                  <a:pt x="9589" y="9124"/>
                  <a:pt x="9543" y="9175"/>
                  <a:pt x="9525" y="9203"/>
                </a:cubicBezTo>
                <a:cubicBezTo>
                  <a:pt x="9485" y="9264"/>
                  <a:pt x="9455" y="9330"/>
                  <a:pt x="9451" y="9401"/>
                </a:cubicBezTo>
                <a:cubicBezTo>
                  <a:pt x="9449" y="9447"/>
                  <a:pt x="9452" y="9512"/>
                  <a:pt x="9475" y="9550"/>
                </a:cubicBezTo>
                <a:cubicBezTo>
                  <a:pt x="9494" y="9583"/>
                  <a:pt x="9565" y="9622"/>
                  <a:pt x="9599" y="9624"/>
                </a:cubicBezTo>
                <a:cubicBezTo>
                  <a:pt x="9652" y="9628"/>
                  <a:pt x="9656" y="9610"/>
                  <a:pt x="9699" y="9599"/>
                </a:cubicBezTo>
              </a:path>
              <a:path w="5681" h="2059">
                <a:moveTo>
                  <a:pt x="9897" y="8706"/>
                </a:moveTo>
                <a:cubicBezTo>
                  <a:pt x="9999" y="8690"/>
                  <a:pt x="10046" y="8665"/>
                  <a:pt x="10046" y="8781"/>
                </a:cubicBezTo>
                <a:cubicBezTo>
                  <a:pt x="10046" y="8833"/>
                  <a:pt x="10040" y="8892"/>
                  <a:pt x="9996" y="8930"/>
                </a:cubicBezTo>
                <a:cubicBezTo>
                  <a:pt x="9951" y="8969"/>
                  <a:pt x="9921" y="8972"/>
                  <a:pt x="9971" y="9029"/>
                </a:cubicBezTo>
                <a:cubicBezTo>
                  <a:pt x="10003" y="9066"/>
                  <a:pt x="10049" y="9075"/>
                  <a:pt x="10096" y="9079"/>
                </a:cubicBezTo>
                <a:cubicBezTo>
                  <a:pt x="10129" y="9079"/>
                  <a:pt x="10145" y="9079"/>
                  <a:pt x="10170" y="9079"/>
                </a:cubicBezTo>
              </a:path>
              <a:path w="5681" h="2059">
                <a:moveTo>
                  <a:pt x="10344" y="9203"/>
                </a:moveTo>
                <a:cubicBezTo>
                  <a:pt x="10425" y="9342"/>
                  <a:pt x="10428" y="9347"/>
                  <a:pt x="10542" y="9426"/>
                </a:cubicBezTo>
                <a:cubicBezTo>
                  <a:pt x="10590" y="9459"/>
                  <a:pt x="10631" y="9451"/>
                  <a:pt x="10691" y="9451"/>
                </a:cubicBezTo>
              </a:path>
              <a:path w="5681" h="2059">
                <a:moveTo>
                  <a:pt x="10765" y="9103"/>
                </a:moveTo>
                <a:cubicBezTo>
                  <a:pt x="10681" y="9163"/>
                  <a:pt x="10602" y="9221"/>
                  <a:pt x="10517" y="9277"/>
                </a:cubicBezTo>
                <a:cubicBezTo>
                  <a:pt x="10450" y="9321"/>
                  <a:pt x="10345" y="9393"/>
                  <a:pt x="10294" y="9451"/>
                </a:cubicBezTo>
                <a:cubicBezTo>
                  <a:pt x="10267" y="9504"/>
                  <a:pt x="10255" y="9524"/>
                  <a:pt x="10220" y="9550"/>
                </a:cubicBezTo>
              </a:path>
              <a:path w="5681" h="2059">
                <a:moveTo>
                  <a:pt x="5209" y="10517"/>
                </a:moveTo>
                <a:cubicBezTo>
                  <a:pt x="5256" y="10511"/>
                  <a:pt x="5268" y="10506"/>
                  <a:pt x="5308" y="10492"/>
                </a:cubicBezTo>
                <a:cubicBezTo>
                  <a:pt x="5409" y="10458"/>
                  <a:pt x="5502" y="10420"/>
                  <a:pt x="5606" y="10393"/>
                </a:cubicBezTo>
                <a:cubicBezTo>
                  <a:pt x="5767" y="10351"/>
                  <a:pt x="5919" y="10289"/>
                  <a:pt x="6077" y="10244"/>
                </a:cubicBezTo>
                <a:cubicBezTo>
                  <a:pt x="6254" y="10193"/>
                  <a:pt x="6423" y="10124"/>
                  <a:pt x="6598" y="10071"/>
                </a:cubicBezTo>
                <a:cubicBezTo>
                  <a:pt x="6721" y="10034"/>
                  <a:pt x="6840" y="10021"/>
                  <a:pt x="6945" y="9947"/>
                </a:cubicBezTo>
                <a:cubicBezTo>
                  <a:pt x="6973" y="9927"/>
                  <a:pt x="6971" y="9905"/>
                  <a:pt x="6995" y="9872"/>
                </a:cubicBezTo>
                <a:cubicBezTo>
                  <a:pt x="7003" y="9864"/>
                  <a:pt x="7012" y="9855"/>
                  <a:pt x="7020" y="9847"/>
                </a:cubicBezTo>
              </a:path>
              <a:path w="5681" h="2059">
                <a:moveTo>
                  <a:pt x="8359" y="9426"/>
                </a:moveTo>
                <a:cubicBezTo>
                  <a:pt x="8453" y="9389"/>
                  <a:pt x="8559" y="9335"/>
                  <a:pt x="8657" y="9302"/>
                </a:cubicBezTo>
                <a:cubicBezTo>
                  <a:pt x="8810" y="9249"/>
                  <a:pt x="8995" y="9212"/>
                  <a:pt x="9153" y="9178"/>
                </a:cubicBezTo>
                <a:cubicBezTo>
                  <a:pt x="9329" y="9140"/>
                  <a:pt x="9528" y="9137"/>
                  <a:pt x="9699" y="9079"/>
                </a:cubicBezTo>
                <a:cubicBezTo>
                  <a:pt x="9812" y="9040"/>
                  <a:pt x="9940" y="9024"/>
                  <a:pt x="10046" y="8979"/>
                </a:cubicBezTo>
                <a:cubicBezTo>
                  <a:pt x="10047" y="8979"/>
                  <a:pt x="10197" y="8926"/>
                  <a:pt x="10120" y="8930"/>
                </a:cubicBezTo>
                <a:cubicBezTo>
                  <a:pt x="10043" y="8949"/>
                  <a:pt x="10025" y="8941"/>
                  <a:pt x="9996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53240" y="2660760"/>
            <a:ext cx="1071720" cy="250560"/>
          </a:xfrm>
          <a:custGeom>
            <a:avLst/>
            <a:gdLst/>
            <a:ahLst/>
            <a:rect l="l" t="t" r="r" b="b"/>
            <a:pathLst>
              <a:path w="2977" h="695">
                <a:moveTo>
                  <a:pt x="21307" y="7615"/>
                </a:moveTo>
                <a:cubicBezTo>
                  <a:pt x="21353" y="7630"/>
                  <a:pt x="21331" y="7640"/>
                  <a:pt x="21406" y="7640"/>
                </a:cubicBezTo>
                <a:cubicBezTo>
                  <a:pt x="21474" y="7640"/>
                  <a:pt x="21525" y="7626"/>
                  <a:pt x="21580" y="7615"/>
                </a:cubicBezTo>
                <a:cubicBezTo>
                  <a:pt x="21635" y="7604"/>
                  <a:pt x="21682" y="7597"/>
                  <a:pt x="21654" y="7640"/>
                </a:cubicBezTo>
              </a:path>
              <a:path w="2977" h="695">
                <a:moveTo>
                  <a:pt x="21258" y="7888"/>
                </a:moveTo>
                <a:cubicBezTo>
                  <a:pt x="21383" y="7912"/>
                  <a:pt x="21421" y="7907"/>
                  <a:pt x="21530" y="7888"/>
                </a:cubicBezTo>
                <a:cubicBezTo>
                  <a:pt x="21576" y="7880"/>
                  <a:pt x="21633" y="7888"/>
                  <a:pt x="21679" y="7888"/>
                </a:cubicBezTo>
              </a:path>
              <a:path w="2977" h="695">
                <a:moveTo>
                  <a:pt x="22423" y="7491"/>
                </a:moveTo>
                <a:cubicBezTo>
                  <a:pt x="22390" y="7456"/>
                  <a:pt x="22357" y="7439"/>
                  <a:pt x="22324" y="7417"/>
                </a:cubicBezTo>
                <a:cubicBezTo>
                  <a:pt x="22266" y="7378"/>
                  <a:pt x="22282" y="7398"/>
                  <a:pt x="22225" y="7417"/>
                </a:cubicBezTo>
                <a:cubicBezTo>
                  <a:pt x="22186" y="7430"/>
                  <a:pt x="22149" y="7413"/>
                  <a:pt x="22126" y="7466"/>
                </a:cubicBezTo>
                <a:cubicBezTo>
                  <a:pt x="22103" y="7518"/>
                  <a:pt x="22172" y="7562"/>
                  <a:pt x="22200" y="7590"/>
                </a:cubicBezTo>
                <a:cubicBezTo>
                  <a:pt x="22239" y="7629"/>
                  <a:pt x="22284" y="7652"/>
                  <a:pt x="22324" y="7689"/>
                </a:cubicBezTo>
                <a:cubicBezTo>
                  <a:pt x="22384" y="7745"/>
                  <a:pt x="22395" y="7793"/>
                  <a:pt x="22423" y="7863"/>
                </a:cubicBezTo>
                <a:cubicBezTo>
                  <a:pt x="22454" y="7940"/>
                  <a:pt x="22457" y="7954"/>
                  <a:pt x="22399" y="8012"/>
                </a:cubicBezTo>
                <a:cubicBezTo>
                  <a:pt x="22369" y="8042"/>
                  <a:pt x="22318" y="8058"/>
                  <a:pt x="22275" y="8062"/>
                </a:cubicBezTo>
                <a:cubicBezTo>
                  <a:pt x="22215" y="8068"/>
                  <a:pt x="22195" y="8052"/>
                  <a:pt x="22151" y="8037"/>
                </a:cubicBezTo>
                <a:cubicBezTo>
                  <a:pt x="22109" y="8023"/>
                  <a:pt x="22120" y="7997"/>
                  <a:pt x="22151" y="7962"/>
                </a:cubicBezTo>
                <a:cubicBezTo>
                  <a:pt x="22159" y="7954"/>
                  <a:pt x="22167" y="7946"/>
                  <a:pt x="22175" y="7938"/>
                </a:cubicBezTo>
              </a:path>
              <a:path w="2977" h="695">
                <a:moveTo>
                  <a:pt x="22647" y="7714"/>
                </a:moveTo>
                <a:cubicBezTo>
                  <a:pt x="22688" y="7724"/>
                  <a:pt x="22752" y="7739"/>
                  <a:pt x="22796" y="7714"/>
                </a:cubicBezTo>
                <a:cubicBezTo>
                  <a:pt x="22828" y="7696"/>
                  <a:pt x="22869" y="7663"/>
                  <a:pt x="22895" y="7640"/>
                </a:cubicBezTo>
                <a:cubicBezTo>
                  <a:pt x="22924" y="7615"/>
                  <a:pt x="22934" y="7554"/>
                  <a:pt x="22920" y="7516"/>
                </a:cubicBezTo>
                <a:cubicBezTo>
                  <a:pt x="22898" y="7454"/>
                  <a:pt x="22879" y="7441"/>
                  <a:pt x="22820" y="7441"/>
                </a:cubicBezTo>
                <a:cubicBezTo>
                  <a:pt x="22760" y="7441"/>
                  <a:pt x="22729" y="7502"/>
                  <a:pt x="22696" y="7541"/>
                </a:cubicBezTo>
                <a:cubicBezTo>
                  <a:pt x="22656" y="7588"/>
                  <a:pt x="22644" y="7636"/>
                  <a:pt x="22622" y="7689"/>
                </a:cubicBezTo>
                <a:cubicBezTo>
                  <a:pt x="22594" y="7759"/>
                  <a:pt x="22597" y="7812"/>
                  <a:pt x="22597" y="7888"/>
                </a:cubicBezTo>
                <a:cubicBezTo>
                  <a:pt x="22597" y="7939"/>
                  <a:pt x="22616" y="8012"/>
                  <a:pt x="22671" y="8037"/>
                </a:cubicBezTo>
                <a:cubicBezTo>
                  <a:pt x="22732" y="8065"/>
                  <a:pt x="22760" y="8066"/>
                  <a:pt x="22820" y="8037"/>
                </a:cubicBezTo>
                <a:cubicBezTo>
                  <a:pt x="22837" y="8029"/>
                  <a:pt x="22853" y="8020"/>
                  <a:pt x="22870" y="8012"/>
                </a:cubicBezTo>
              </a:path>
              <a:path w="2977" h="695">
                <a:moveTo>
                  <a:pt x="23292" y="7590"/>
                </a:moveTo>
                <a:cubicBezTo>
                  <a:pt x="23316" y="7590"/>
                  <a:pt x="23325" y="7590"/>
                  <a:pt x="23341" y="7590"/>
                </a:cubicBezTo>
                <a:cubicBezTo>
                  <a:pt x="23310" y="7549"/>
                  <a:pt x="23305" y="7542"/>
                  <a:pt x="23267" y="7516"/>
                </a:cubicBezTo>
                <a:cubicBezTo>
                  <a:pt x="23226" y="7488"/>
                  <a:pt x="23208" y="7505"/>
                  <a:pt x="23192" y="7541"/>
                </a:cubicBezTo>
                <a:cubicBezTo>
                  <a:pt x="23165" y="7601"/>
                  <a:pt x="23085" y="7624"/>
                  <a:pt x="23068" y="7689"/>
                </a:cubicBezTo>
                <a:cubicBezTo>
                  <a:pt x="23054" y="7743"/>
                  <a:pt x="23028" y="7830"/>
                  <a:pt x="23044" y="7888"/>
                </a:cubicBezTo>
                <a:cubicBezTo>
                  <a:pt x="23056" y="7933"/>
                  <a:pt x="23076" y="7985"/>
                  <a:pt x="23118" y="8012"/>
                </a:cubicBezTo>
                <a:cubicBezTo>
                  <a:pt x="23168" y="8044"/>
                  <a:pt x="23212" y="8037"/>
                  <a:pt x="23267" y="8037"/>
                </a:cubicBezTo>
                <a:cubicBezTo>
                  <a:pt x="23346" y="8037"/>
                  <a:pt x="23385" y="7968"/>
                  <a:pt x="23440" y="7913"/>
                </a:cubicBezTo>
              </a:path>
              <a:path w="2977" h="695">
                <a:moveTo>
                  <a:pt x="23614" y="7615"/>
                </a:moveTo>
                <a:cubicBezTo>
                  <a:pt x="23653" y="7683"/>
                  <a:pt x="23682" y="7715"/>
                  <a:pt x="23738" y="7764"/>
                </a:cubicBezTo>
                <a:cubicBezTo>
                  <a:pt x="23817" y="7833"/>
                  <a:pt x="23869" y="7903"/>
                  <a:pt x="23961" y="7962"/>
                </a:cubicBezTo>
                <a:cubicBezTo>
                  <a:pt x="24012" y="7995"/>
                  <a:pt x="24088" y="8009"/>
                  <a:pt x="24135" y="8037"/>
                </a:cubicBezTo>
                <a:cubicBezTo>
                  <a:pt x="24173" y="8060"/>
                  <a:pt x="24186" y="8062"/>
                  <a:pt x="24234" y="8062"/>
                </a:cubicBezTo>
                <a:cubicBezTo>
                  <a:pt x="24234" y="8021"/>
                  <a:pt x="24234" y="7979"/>
                  <a:pt x="24234" y="7938"/>
                </a:cubicBezTo>
              </a:path>
              <a:path w="2977" h="695">
                <a:moveTo>
                  <a:pt x="24061" y="7640"/>
                </a:moveTo>
                <a:cubicBezTo>
                  <a:pt x="23972" y="7713"/>
                  <a:pt x="23892" y="7782"/>
                  <a:pt x="23812" y="7863"/>
                </a:cubicBezTo>
                <a:cubicBezTo>
                  <a:pt x="23754" y="7921"/>
                  <a:pt x="23698" y="7962"/>
                  <a:pt x="23639" y="8012"/>
                </a:cubicBezTo>
                <a:cubicBezTo>
                  <a:pt x="23602" y="8043"/>
                  <a:pt x="23597" y="8076"/>
                  <a:pt x="23564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51120" y="4313160"/>
            <a:ext cx="27000" cy="330120"/>
          </a:xfrm>
          <a:custGeom>
            <a:avLst/>
            <a:gdLst/>
            <a:ahLst/>
            <a:rect l="l" t="t" r="r" b="b"/>
            <a:pathLst>
              <a:path w="75" h="918">
                <a:moveTo>
                  <a:pt x="7689" y="11981"/>
                </a:moveTo>
                <a:cubicBezTo>
                  <a:pt x="7704" y="12010"/>
                  <a:pt x="7696" y="12128"/>
                  <a:pt x="7689" y="12179"/>
                </a:cubicBezTo>
                <a:cubicBezTo>
                  <a:pt x="7674" y="12290"/>
                  <a:pt x="7665" y="12388"/>
                  <a:pt x="7665" y="12502"/>
                </a:cubicBezTo>
                <a:cubicBezTo>
                  <a:pt x="7665" y="12642"/>
                  <a:pt x="7747" y="12987"/>
                  <a:pt x="7665" y="12874"/>
                </a:cubicBezTo>
                <a:cubicBezTo>
                  <a:pt x="7657" y="12866"/>
                  <a:pt x="7648" y="12857"/>
                  <a:pt x="7640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2760" y="1224000"/>
            <a:ext cx="268200" cy="357120"/>
          </a:xfrm>
          <a:custGeom>
            <a:avLst/>
            <a:gdLst/>
            <a:ahLst/>
            <a:rect l="l" t="t" r="r" b="b"/>
            <a:pathLst>
              <a:path w="746" h="993">
                <a:moveTo>
                  <a:pt x="1339" y="3448"/>
                </a:moveTo>
                <a:cubicBezTo>
                  <a:pt x="1407" y="3448"/>
                  <a:pt x="1450" y="3439"/>
                  <a:pt x="1513" y="3423"/>
                </a:cubicBezTo>
                <a:cubicBezTo>
                  <a:pt x="1574" y="3408"/>
                  <a:pt x="1677" y="3404"/>
                  <a:pt x="1736" y="3398"/>
                </a:cubicBezTo>
                <a:cubicBezTo>
                  <a:pt x="1820" y="3389"/>
                  <a:pt x="1886" y="3396"/>
                  <a:pt x="1885" y="3398"/>
                </a:cubicBezTo>
                <a:cubicBezTo>
                  <a:pt x="1871" y="3433"/>
                  <a:pt x="1860" y="3455"/>
                  <a:pt x="1860" y="3497"/>
                </a:cubicBezTo>
                <a:cubicBezTo>
                  <a:pt x="1860" y="3586"/>
                  <a:pt x="1848" y="3660"/>
                  <a:pt x="1836" y="3746"/>
                </a:cubicBezTo>
                <a:cubicBezTo>
                  <a:pt x="1826" y="3817"/>
                  <a:pt x="1817" y="3903"/>
                  <a:pt x="1811" y="3969"/>
                </a:cubicBezTo>
                <a:cubicBezTo>
                  <a:pt x="1803" y="4058"/>
                  <a:pt x="1791" y="4155"/>
                  <a:pt x="1786" y="4242"/>
                </a:cubicBezTo>
                <a:cubicBezTo>
                  <a:pt x="1783" y="4291"/>
                  <a:pt x="1786" y="4341"/>
                  <a:pt x="1786" y="4390"/>
                </a:cubicBezTo>
                <a:cubicBezTo>
                  <a:pt x="1796" y="4350"/>
                  <a:pt x="1826" y="4331"/>
                  <a:pt x="1836" y="4291"/>
                </a:cubicBezTo>
              </a:path>
              <a:path w="746" h="993">
                <a:moveTo>
                  <a:pt x="2084" y="4217"/>
                </a:moveTo>
                <a:cubicBezTo>
                  <a:pt x="2076" y="4225"/>
                  <a:pt x="2067" y="4234"/>
                  <a:pt x="2059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089000"/>
            <a:ext cx="2071800" cy="884160"/>
          </a:xfrm>
          <a:custGeom>
            <a:avLst/>
            <a:gdLst/>
            <a:ahLst/>
            <a:rect l="l" t="t" r="r" b="b"/>
            <a:pathLst>
              <a:path w="5755" h="2457">
                <a:moveTo>
                  <a:pt x="3473" y="3572"/>
                </a:moveTo>
                <a:cubicBezTo>
                  <a:pt x="3481" y="3597"/>
                  <a:pt x="3489" y="3621"/>
                  <a:pt x="3497" y="3646"/>
                </a:cubicBezTo>
                <a:cubicBezTo>
                  <a:pt x="3485" y="3607"/>
                  <a:pt x="3476" y="3618"/>
                  <a:pt x="3448" y="3597"/>
                </a:cubicBezTo>
                <a:cubicBezTo>
                  <a:pt x="3410" y="3569"/>
                  <a:pt x="3397" y="3572"/>
                  <a:pt x="3349" y="3572"/>
                </a:cubicBezTo>
                <a:cubicBezTo>
                  <a:pt x="3282" y="3572"/>
                  <a:pt x="3252" y="3575"/>
                  <a:pt x="3200" y="3621"/>
                </a:cubicBezTo>
                <a:cubicBezTo>
                  <a:pt x="3164" y="3653"/>
                  <a:pt x="3146" y="3688"/>
                  <a:pt x="3125" y="3721"/>
                </a:cubicBezTo>
                <a:cubicBezTo>
                  <a:pt x="3109" y="3746"/>
                  <a:pt x="3107" y="3799"/>
                  <a:pt x="3150" y="3820"/>
                </a:cubicBezTo>
                <a:cubicBezTo>
                  <a:pt x="3179" y="3835"/>
                  <a:pt x="3264" y="3864"/>
                  <a:pt x="3299" y="3870"/>
                </a:cubicBezTo>
                <a:cubicBezTo>
                  <a:pt x="3393" y="3887"/>
                  <a:pt x="3423" y="3910"/>
                  <a:pt x="3473" y="3994"/>
                </a:cubicBezTo>
                <a:cubicBezTo>
                  <a:pt x="3518" y="4070"/>
                  <a:pt x="3477" y="4100"/>
                  <a:pt x="3423" y="4167"/>
                </a:cubicBezTo>
                <a:cubicBezTo>
                  <a:pt x="3363" y="4242"/>
                  <a:pt x="3285" y="4242"/>
                  <a:pt x="3200" y="4242"/>
                </a:cubicBezTo>
                <a:cubicBezTo>
                  <a:pt x="3167" y="4242"/>
                  <a:pt x="3134" y="4242"/>
                  <a:pt x="3101" y="4242"/>
                </a:cubicBezTo>
                <a:cubicBezTo>
                  <a:pt x="3101" y="4197"/>
                  <a:pt x="3094" y="4176"/>
                  <a:pt x="3125" y="4142"/>
                </a:cubicBezTo>
                <a:cubicBezTo>
                  <a:pt x="3148" y="4116"/>
                  <a:pt x="3175" y="4093"/>
                  <a:pt x="3200" y="4068"/>
                </a:cubicBezTo>
              </a:path>
              <a:path w="5755" h="2457">
                <a:moveTo>
                  <a:pt x="3820" y="3746"/>
                </a:moveTo>
                <a:cubicBezTo>
                  <a:pt x="3839" y="3852"/>
                  <a:pt x="3845" y="3936"/>
                  <a:pt x="3845" y="4043"/>
                </a:cubicBezTo>
                <a:cubicBezTo>
                  <a:pt x="3845" y="4093"/>
                  <a:pt x="3845" y="4142"/>
                  <a:pt x="3845" y="4192"/>
                </a:cubicBezTo>
                <a:cubicBezTo>
                  <a:pt x="3845" y="4151"/>
                  <a:pt x="3845" y="4109"/>
                  <a:pt x="3845" y="4068"/>
                </a:cubicBezTo>
              </a:path>
              <a:path w="5755" h="2457">
                <a:moveTo>
                  <a:pt x="3944" y="3423"/>
                </a:moveTo>
                <a:cubicBezTo>
                  <a:pt x="3961" y="3415"/>
                  <a:pt x="3977" y="3406"/>
                  <a:pt x="3994" y="3398"/>
                </a:cubicBezTo>
              </a:path>
              <a:path w="5755" h="2457">
                <a:moveTo>
                  <a:pt x="4142" y="4043"/>
                </a:moveTo>
                <a:cubicBezTo>
                  <a:pt x="4142" y="4084"/>
                  <a:pt x="4142" y="4126"/>
                  <a:pt x="4142" y="4167"/>
                </a:cubicBezTo>
                <a:cubicBezTo>
                  <a:pt x="4142" y="4069"/>
                  <a:pt x="4145" y="3986"/>
                  <a:pt x="4167" y="3894"/>
                </a:cubicBezTo>
                <a:cubicBezTo>
                  <a:pt x="4180" y="3837"/>
                  <a:pt x="4202" y="3791"/>
                  <a:pt x="4242" y="3746"/>
                </a:cubicBezTo>
                <a:cubicBezTo>
                  <a:pt x="4272" y="3713"/>
                  <a:pt x="4325" y="3676"/>
                  <a:pt x="4366" y="3671"/>
                </a:cubicBezTo>
                <a:cubicBezTo>
                  <a:pt x="4423" y="3665"/>
                  <a:pt x="4467" y="3753"/>
                  <a:pt x="4490" y="3795"/>
                </a:cubicBezTo>
                <a:cubicBezTo>
                  <a:pt x="4535" y="3878"/>
                  <a:pt x="4535" y="3976"/>
                  <a:pt x="4539" y="4068"/>
                </a:cubicBezTo>
                <a:cubicBezTo>
                  <a:pt x="4540" y="4088"/>
                  <a:pt x="4539" y="4227"/>
                  <a:pt x="4539" y="4167"/>
                </a:cubicBezTo>
                <a:cubicBezTo>
                  <a:pt x="4539" y="4159"/>
                  <a:pt x="4539" y="4150"/>
                  <a:pt x="4539" y="4142"/>
                </a:cubicBezTo>
              </a:path>
              <a:path w="5755" h="2457">
                <a:moveTo>
                  <a:pt x="4762" y="3671"/>
                </a:moveTo>
                <a:cubicBezTo>
                  <a:pt x="4816" y="3778"/>
                  <a:pt x="4871" y="3872"/>
                  <a:pt x="4936" y="3969"/>
                </a:cubicBezTo>
                <a:cubicBezTo>
                  <a:pt x="4974" y="4026"/>
                  <a:pt x="4993" y="4090"/>
                  <a:pt x="5060" y="4118"/>
                </a:cubicBezTo>
                <a:cubicBezTo>
                  <a:pt x="5104" y="4137"/>
                  <a:pt x="5145" y="4138"/>
                  <a:pt x="5184" y="4167"/>
                </a:cubicBezTo>
                <a:cubicBezTo>
                  <a:pt x="5213" y="4138"/>
                  <a:pt x="5225" y="4130"/>
                  <a:pt x="5234" y="4093"/>
                </a:cubicBezTo>
              </a:path>
              <a:path w="5755" h="2457">
                <a:moveTo>
                  <a:pt x="5209" y="3671"/>
                </a:moveTo>
                <a:cubicBezTo>
                  <a:pt x="5170" y="3719"/>
                  <a:pt x="5121" y="3770"/>
                  <a:pt x="5085" y="3820"/>
                </a:cubicBezTo>
                <a:cubicBezTo>
                  <a:pt x="5038" y="3886"/>
                  <a:pt x="5033" y="3975"/>
                  <a:pt x="4986" y="4043"/>
                </a:cubicBezTo>
                <a:cubicBezTo>
                  <a:pt x="4940" y="4109"/>
                  <a:pt x="4872" y="4147"/>
                  <a:pt x="4812" y="4192"/>
                </a:cubicBezTo>
                <a:cubicBezTo>
                  <a:pt x="4789" y="4215"/>
                  <a:pt x="4785" y="4223"/>
                  <a:pt x="4762" y="4217"/>
                </a:cubicBezTo>
              </a:path>
              <a:path w="5755" h="2457">
                <a:moveTo>
                  <a:pt x="3200" y="4440"/>
                </a:moveTo>
                <a:cubicBezTo>
                  <a:pt x="3297" y="4431"/>
                  <a:pt x="3371" y="4415"/>
                  <a:pt x="3473" y="4415"/>
                </a:cubicBezTo>
                <a:cubicBezTo>
                  <a:pt x="3691" y="4415"/>
                  <a:pt x="3903" y="4406"/>
                  <a:pt x="4118" y="4390"/>
                </a:cubicBezTo>
                <a:cubicBezTo>
                  <a:pt x="4234" y="4381"/>
                  <a:pt x="4871" y="4387"/>
                  <a:pt x="4862" y="4415"/>
                </a:cubicBezTo>
              </a:path>
              <a:path w="5755" h="2457">
                <a:moveTo>
                  <a:pt x="4142" y="4738"/>
                </a:moveTo>
                <a:cubicBezTo>
                  <a:pt x="4108" y="4851"/>
                  <a:pt x="4073" y="4946"/>
                  <a:pt x="4068" y="5060"/>
                </a:cubicBezTo>
                <a:cubicBezTo>
                  <a:pt x="4063" y="5158"/>
                  <a:pt x="4058" y="5242"/>
                  <a:pt x="4043" y="5333"/>
                </a:cubicBezTo>
                <a:cubicBezTo>
                  <a:pt x="4035" y="5379"/>
                  <a:pt x="4043" y="5435"/>
                  <a:pt x="4043" y="5482"/>
                </a:cubicBezTo>
                <a:cubicBezTo>
                  <a:pt x="4079" y="5470"/>
                  <a:pt x="4065" y="5445"/>
                  <a:pt x="4093" y="5407"/>
                </a:cubicBezTo>
              </a:path>
              <a:path w="5755" h="2457">
                <a:moveTo>
                  <a:pt x="5854" y="4018"/>
                </a:moveTo>
                <a:cubicBezTo>
                  <a:pt x="5848" y="4122"/>
                  <a:pt x="5829" y="4213"/>
                  <a:pt x="5829" y="4316"/>
                </a:cubicBezTo>
                <a:cubicBezTo>
                  <a:pt x="5829" y="4372"/>
                  <a:pt x="5804" y="4385"/>
                  <a:pt x="5804" y="4440"/>
                </a:cubicBezTo>
                <a:cubicBezTo>
                  <a:pt x="5804" y="4465"/>
                  <a:pt x="5804" y="4473"/>
                  <a:pt x="5804" y="4490"/>
                </a:cubicBezTo>
              </a:path>
              <a:path w="5755" h="2457">
                <a:moveTo>
                  <a:pt x="5655" y="4291"/>
                </a:moveTo>
                <a:cubicBezTo>
                  <a:pt x="5707" y="4313"/>
                  <a:pt x="5725" y="4316"/>
                  <a:pt x="5779" y="4316"/>
                </a:cubicBezTo>
                <a:cubicBezTo>
                  <a:pt x="5854" y="4316"/>
                  <a:pt x="5928" y="4316"/>
                  <a:pt x="6003" y="4316"/>
                </a:cubicBezTo>
                <a:cubicBezTo>
                  <a:pt x="6003" y="4291"/>
                  <a:pt x="6003" y="4283"/>
                  <a:pt x="6003" y="4266"/>
                </a:cubicBezTo>
              </a:path>
              <a:path w="5755" h="2457">
                <a:moveTo>
                  <a:pt x="6995" y="3572"/>
                </a:moveTo>
                <a:cubicBezTo>
                  <a:pt x="6995" y="3630"/>
                  <a:pt x="6995" y="3671"/>
                  <a:pt x="6995" y="3621"/>
                </a:cubicBezTo>
                <a:cubicBezTo>
                  <a:pt x="7017" y="3590"/>
                  <a:pt x="7008" y="3589"/>
                  <a:pt x="6970" y="3547"/>
                </a:cubicBezTo>
                <a:cubicBezTo>
                  <a:pt x="6941" y="3514"/>
                  <a:pt x="6904" y="3481"/>
                  <a:pt x="6871" y="3522"/>
                </a:cubicBezTo>
                <a:cubicBezTo>
                  <a:pt x="6830" y="3572"/>
                  <a:pt x="6801" y="3638"/>
                  <a:pt x="6772" y="3696"/>
                </a:cubicBezTo>
                <a:cubicBezTo>
                  <a:pt x="6740" y="3760"/>
                  <a:pt x="6725" y="3848"/>
                  <a:pt x="6722" y="3919"/>
                </a:cubicBezTo>
                <a:cubicBezTo>
                  <a:pt x="6720" y="3955"/>
                  <a:pt x="6743" y="4068"/>
                  <a:pt x="6772" y="4093"/>
                </a:cubicBezTo>
                <a:cubicBezTo>
                  <a:pt x="6820" y="4135"/>
                  <a:pt x="6865" y="4106"/>
                  <a:pt x="6921" y="4093"/>
                </a:cubicBezTo>
                <a:cubicBezTo>
                  <a:pt x="7008" y="4073"/>
                  <a:pt x="6998" y="4038"/>
                  <a:pt x="7045" y="3969"/>
                </a:cubicBezTo>
                <a:cubicBezTo>
                  <a:pt x="7070" y="3936"/>
                  <a:pt x="7094" y="3903"/>
                  <a:pt x="7119" y="3870"/>
                </a:cubicBezTo>
              </a:path>
              <a:path w="5755" h="2457">
                <a:moveTo>
                  <a:pt x="7268" y="3721"/>
                </a:moveTo>
                <a:cubicBezTo>
                  <a:pt x="7250" y="3804"/>
                  <a:pt x="7223" y="3887"/>
                  <a:pt x="7218" y="3969"/>
                </a:cubicBezTo>
                <a:cubicBezTo>
                  <a:pt x="7215" y="4021"/>
                  <a:pt x="7238" y="4064"/>
                  <a:pt x="7293" y="4068"/>
                </a:cubicBezTo>
                <a:cubicBezTo>
                  <a:pt x="7365" y="4073"/>
                  <a:pt x="7402" y="4049"/>
                  <a:pt x="7466" y="4018"/>
                </a:cubicBezTo>
                <a:cubicBezTo>
                  <a:pt x="7568" y="3968"/>
                  <a:pt x="7634" y="3856"/>
                  <a:pt x="7640" y="3746"/>
                </a:cubicBezTo>
                <a:cubicBezTo>
                  <a:pt x="7643" y="3689"/>
                  <a:pt x="7642" y="3654"/>
                  <a:pt x="7590" y="3621"/>
                </a:cubicBezTo>
                <a:cubicBezTo>
                  <a:pt x="7532" y="3584"/>
                  <a:pt x="7494" y="3593"/>
                  <a:pt x="7441" y="3621"/>
                </a:cubicBezTo>
                <a:cubicBezTo>
                  <a:pt x="7395" y="3645"/>
                  <a:pt x="7348" y="3667"/>
                  <a:pt x="7342" y="3721"/>
                </a:cubicBezTo>
                <a:cubicBezTo>
                  <a:pt x="7342" y="3749"/>
                  <a:pt x="7344" y="3760"/>
                  <a:pt x="7367" y="3770"/>
                </a:cubicBezTo>
              </a:path>
              <a:path w="5755" h="2457">
                <a:moveTo>
                  <a:pt x="7888" y="3522"/>
                </a:moveTo>
                <a:cubicBezTo>
                  <a:pt x="7821" y="3522"/>
                  <a:pt x="7810" y="3526"/>
                  <a:pt x="7764" y="3572"/>
                </a:cubicBezTo>
                <a:cubicBezTo>
                  <a:pt x="7726" y="3610"/>
                  <a:pt x="7714" y="3618"/>
                  <a:pt x="7714" y="3671"/>
                </a:cubicBezTo>
                <a:cubicBezTo>
                  <a:pt x="7714" y="3758"/>
                  <a:pt x="7770" y="3745"/>
                  <a:pt x="7813" y="3795"/>
                </a:cubicBezTo>
                <a:cubicBezTo>
                  <a:pt x="7841" y="3828"/>
                  <a:pt x="7898" y="3906"/>
                  <a:pt x="7913" y="3944"/>
                </a:cubicBezTo>
                <a:cubicBezTo>
                  <a:pt x="7922" y="3967"/>
                  <a:pt x="7899" y="4036"/>
                  <a:pt x="7888" y="4043"/>
                </a:cubicBezTo>
                <a:cubicBezTo>
                  <a:pt x="7856" y="4064"/>
                  <a:pt x="7786" y="4037"/>
                  <a:pt x="7764" y="4018"/>
                </a:cubicBezTo>
                <a:cubicBezTo>
                  <a:pt x="7733" y="3991"/>
                  <a:pt x="7723" y="3980"/>
                  <a:pt x="7714" y="3944"/>
                </a:cubicBezTo>
              </a:path>
              <a:path w="5755" h="2457">
                <a:moveTo>
                  <a:pt x="8136" y="3051"/>
                </a:moveTo>
                <a:cubicBezTo>
                  <a:pt x="8223" y="3036"/>
                  <a:pt x="8250" y="3009"/>
                  <a:pt x="8260" y="3101"/>
                </a:cubicBezTo>
                <a:cubicBezTo>
                  <a:pt x="8268" y="3171"/>
                  <a:pt x="8203" y="3188"/>
                  <a:pt x="8161" y="3225"/>
                </a:cubicBezTo>
                <a:cubicBezTo>
                  <a:pt x="8138" y="3247"/>
                  <a:pt x="8130" y="3252"/>
                  <a:pt x="8136" y="3274"/>
                </a:cubicBezTo>
                <a:cubicBezTo>
                  <a:pt x="8179" y="3307"/>
                  <a:pt x="8203" y="3319"/>
                  <a:pt x="8260" y="3324"/>
                </a:cubicBezTo>
                <a:cubicBezTo>
                  <a:pt x="8310" y="3324"/>
                  <a:pt x="8343" y="3324"/>
                  <a:pt x="8384" y="3324"/>
                </a:cubicBezTo>
              </a:path>
              <a:path w="5755" h="2457">
                <a:moveTo>
                  <a:pt x="8458" y="3473"/>
                </a:moveTo>
                <a:cubicBezTo>
                  <a:pt x="8458" y="3562"/>
                  <a:pt x="8447" y="3640"/>
                  <a:pt x="8483" y="3721"/>
                </a:cubicBezTo>
                <a:cubicBezTo>
                  <a:pt x="8513" y="3789"/>
                  <a:pt x="8570" y="3834"/>
                  <a:pt x="8632" y="3870"/>
                </a:cubicBezTo>
                <a:cubicBezTo>
                  <a:pt x="8688" y="3903"/>
                  <a:pt x="8743" y="3894"/>
                  <a:pt x="8806" y="3894"/>
                </a:cubicBezTo>
                <a:cubicBezTo>
                  <a:pt x="8865" y="3894"/>
                  <a:pt x="8852" y="3759"/>
                  <a:pt x="8855" y="3721"/>
                </a:cubicBezTo>
              </a:path>
              <a:path w="5755" h="2457">
                <a:moveTo>
                  <a:pt x="8806" y="3473"/>
                </a:moveTo>
                <a:cubicBezTo>
                  <a:pt x="8698" y="3580"/>
                  <a:pt x="8590" y="3687"/>
                  <a:pt x="8483" y="3795"/>
                </a:cubicBezTo>
                <a:cubicBezTo>
                  <a:pt x="8436" y="3843"/>
                  <a:pt x="8380" y="3906"/>
                  <a:pt x="8334" y="3944"/>
                </a:cubicBezTo>
                <a:cubicBezTo>
                  <a:pt x="8278" y="3973"/>
                  <a:pt x="8254" y="3984"/>
                  <a:pt x="8210" y="3994"/>
                </a:cubicBezTo>
              </a:path>
              <a:path w="5755" h="2457">
                <a:moveTo>
                  <a:pt x="6871" y="4217"/>
                </a:moveTo>
                <a:cubicBezTo>
                  <a:pt x="6920" y="4242"/>
                  <a:pt x="6956" y="4250"/>
                  <a:pt x="7020" y="4242"/>
                </a:cubicBezTo>
                <a:cubicBezTo>
                  <a:pt x="7170" y="4222"/>
                  <a:pt x="7318" y="4235"/>
                  <a:pt x="7466" y="4217"/>
                </a:cubicBezTo>
                <a:cubicBezTo>
                  <a:pt x="7623" y="4198"/>
                  <a:pt x="7781" y="4210"/>
                  <a:pt x="7938" y="4192"/>
                </a:cubicBezTo>
                <a:cubicBezTo>
                  <a:pt x="8081" y="4176"/>
                  <a:pt x="8214" y="4167"/>
                  <a:pt x="8359" y="4167"/>
                </a:cubicBezTo>
                <a:cubicBezTo>
                  <a:pt x="8400" y="4167"/>
                  <a:pt x="8521" y="4172"/>
                  <a:pt x="8558" y="4192"/>
                </a:cubicBezTo>
                <a:cubicBezTo>
                  <a:pt x="8586" y="4192"/>
                  <a:pt x="8591" y="4195"/>
                  <a:pt x="8558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7160" y="108108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12700" y="3225"/>
                </a:moveTo>
                <a:cubicBezTo>
                  <a:pt x="12625" y="3252"/>
                  <a:pt x="12581" y="3268"/>
                  <a:pt x="12526" y="3324"/>
                </a:cubicBezTo>
                <a:cubicBezTo>
                  <a:pt x="12499" y="3352"/>
                  <a:pt x="12493" y="3371"/>
                  <a:pt x="12477" y="3398"/>
                </a:cubicBezTo>
                <a:cubicBezTo>
                  <a:pt x="12508" y="3452"/>
                  <a:pt x="12521" y="3456"/>
                  <a:pt x="12576" y="3497"/>
                </a:cubicBezTo>
                <a:cubicBezTo>
                  <a:pt x="12634" y="3540"/>
                  <a:pt x="12684" y="3584"/>
                  <a:pt x="12725" y="3646"/>
                </a:cubicBezTo>
                <a:cubicBezTo>
                  <a:pt x="12757" y="3693"/>
                  <a:pt x="12788" y="3741"/>
                  <a:pt x="12799" y="3795"/>
                </a:cubicBezTo>
                <a:cubicBezTo>
                  <a:pt x="12812" y="3858"/>
                  <a:pt x="12780" y="3867"/>
                  <a:pt x="12725" y="3870"/>
                </a:cubicBezTo>
                <a:cubicBezTo>
                  <a:pt x="12700" y="3870"/>
                  <a:pt x="12692" y="3870"/>
                  <a:pt x="12675" y="3870"/>
                </a:cubicBezTo>
                <a:cubicBezTo>
                  <a:pt x="12661" y="3838"/>
                  <a:pt x="12630" y="3828"/>
                  <a:pt x="12650" y="3746"/>
                </a:cubicBezTo>
                <a:cubicBezTo>
                  <a:pt x="12666" y="3678"/>
                  <a:pt x="12715" y="3582"/>
                  <a:pt x="12750" y="3522"/>
                </a:cubicBezTo>
                <a:cubicBezTo>
                  <a:pt x="12801" y="3435"/>
                  <a:pt x="12881" y="3301"/>
                  <a:pt x="12898" y="3200"/>
                </a:cubicBezTo>
                <a:cubicBezTo>
                  <a:pt x="12910" y="3127"/>
                  <a:pt x="12896" y="3079"/>
                  <a:pt x="12849" y="3026"/>
                </a:cubicBezTo>
                <a:cubicBezTo>
                  <a:pt x="12817" y="2990"/>
                  <a:pt x="12722" y="2988"/>
                  <a:pt x="12675" y="3001"/>
                </a:cubicBezTo>
                <a:cubicBezTo>
                  <a:pt x="12597" y="3023"/>
                  <a:pt x="12509" y="3095"/>
                  <a:pt x="12452" y="3150"/>
                </a:cubicBezTo>
                <a:cubicBezTo>
                  <a:pt x="12368" y="3230"/>
                  <a:pt x="12280" y="3317"/>
                  <a:pt x="12229" y="3423"/>
                </a:cubicBezTo>
                <a:cubicBezTo>
                  <a:pt x="12179" y="3527"/>
                  <a:pt x="12118" y="3682"/>
                  <a:pt x="12129" y="3795"/>
                </a:cubicBezTo>
                <a:cubicBezTo>
                  <a:pt x="12137" y="3870"/>
                  <a:pt x="12172" y="3968"/>
                  <a:pt x="12229" y="4018"/>
                </a:cubicBezTo>
                <a:cubicBezTo>
                  <a:pt x="12294" y="4074"/>
                  <a:pt x="12373" y="4068"/>
                  <a:pt x="12452" y="4068"/>
                </a:cubicBezTo>
                <a:cubicBezTo>
                  <a:pt x="12555" y="4068"/>
                  <a:pt x="12671" y="4009"/>
                  <a:pt x="12750" y="3944"/>
                </a:cubicBezTo>
                <a:cubicBezTo>
                  <a:pt x="12827" y="3881"/>
                  <a:pt x="12902" y="3817"/>
                  <a:pt x="12973" y="3746"/>
                </a:cubicBezTo>
                <a:cubicBezTo>
                  <a:pt x="13044" y="3674"/>
                  <a:pt x="13047" y="3617"/>
                  <a:pt x="13047" y="3522"/>
                </a:cubicBezTo>
                <a:cubicBezTo>
                  <a:pt x="13047" y="3462"/>
                  <a:pt x="13038" y="3422"/>
                  <a:pt x="12998" y="3373"/>
                </a:cubicBezTo>
                <a:cubicBezTo>
                  <a:pt x="12929" y="3290"/>
                  <a:pt x="12958" y="3336"/>
                  <a:pt x="12898" y="3299"/>
                </a:cubicBezTo>
                <a:cubicBezTo>
                  <a:pt x="12898" y="3274"/>
                  <a:pt x="12898" y="3266"/>
                  <a:pt x="12874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91040" y="955800"/>
            <a:ext cx="2743200" cy="955440"/>
          </a:xfrm>
          <a:custGeom>
            <a:avLst/>
            <a:gdLst/>
            <a:ahLst/>
            <a:rect l="l" t="t" r="r" b="b"/>
            <a:pathLst>
              <a:path w="7616" h="2655">
                <a:moveTo>
                  <a:pt x="14114" y="2977"/>
                </a:moveTo>
                <a:cubicBezTo>
                  <a:pt x="14090" y="3123"/>
                  <a:pt x="14052" y="3276"/>
                  <a:pt x="14039" y="3423"/>
                </a:cubicBezTo>
                <a:cubicBezTo>
                  <a:pt x="14030" y="3526"/>
                  <a:pt x="13995" y="3620"/>
                  <a:pt x="13990" y="3721"/>
                </a:cubicBezTo>
                <a:cubicBezTo>
                  <a:pt x="13987" y="3781"/>
                  <a:pt x="13973" y="3825"/>
                  <a:pt x="13940" y="3870"/>
                </a:cubicBezTo>
                <a:cubicBezTo>
                  <a:pt x="13950" y="3820"/>
                  <a:pt x="13972" y="3771"/>
                  <a:pt x="13990" y="3721"/>
                </a:cubicBezTo>
              </a:path>
              <a:path w="7616" h="2655">
                <a:moveTo>
                  <a:pt x="14684" y="3026"/>
                </a:moveTo>
                <a:cubicBezTo>
                  <a:pt x="14661" y="3185"/>
                  <a:pt x="14616" y="3338"/>
                  <a:pt x="14610" y="3497"/>
                </a:cubicBezTo>
                <a:cubicBezTo>
                  <a:pt x="14607" y="3573"/>
                  <a:pt x="14601" y="3625"/>
                  <a:pt x="14585" y="3696"/>
                </a:cubicBezTo>
                <a:cubicBezTo>
                  <a:pt x="14583" y="3706"/>
                  <a:pt x="14585" y="3811"/>
                  <a:pt x="14585" y="3746"/>
                </a:cubicBezTo>
              </a:path>
              <a:path w="7616" h="2655">
                <a:moveTo>
                  <a:pt x="14436" y="3448"/>
                </a:moveTo>
                <a:cubicBezTo>
                  <a:pt x="14481" y="3459"/>
                  <a:pt x="14506" y="3473"/>
                  <a:pt x="14560" y="3473"/>
                </a:cubicBezTo>
                <a:cubicBezTo>
                  <a:pt x="14623" y="3473"/>
                  <a:pt x="14720" y="3460"/>
                  <a:pt x="14784" y="3448"/>
                </a:cubicBezTo>
                <a:cubicBezTo>
                  <a:pt x="14809" y="3440"/>
                  <a:pt x="14833" y="3431"/>
                  <a:pt x="14858" y="3423"/>
                </a:cubicBezTo>
              </a:path>
              <a:path w="7616" h="2655">
                <a:moveTo>
                  <a:pt x="15429" y="3051"/>
                </a:moveTo>
                <a:cubicBezTo>
                  <a:pt x="15406" y="3192"/>
                  <a:pt x="15373" y="3334"/>
                  <a:pt x="15354" y="3473"/>
                </a:cubicBezTo>
                <a:cubicBezTo>
                  <a:pt x="15343" y="3551"/>
                  <a:pt x="15352" y="3626"/>
                  <a:pt x="15329" y="3671"/>
                </a:cubicBezTo>
                <a:cubicBezTo>
                  <a:pt x="15315" y="3698"/>
                  <a:pt x="15309" y="3664"/>
                  <a:pt x="15280" y="3597"/>
                </a:cubicBezTo>
              </a:path>
              <a:path w="7616" h="2655">
                <a:moveTo>
                  <a:pt x="15131" y="3373"/>
                </a:moveTo>
                <a:cubicBezTo>
                  <a:pt x="15251" y="3373"/>
                  <a:pt x="15362" y="3362"/>
                  <a:pt x="15478" y="3349"/>
                </a:cubicBezTo>
                <a:cubicBezTo>
                  <a:pt x="15571" y="3339"/>
                  <a:pt x="15660" y="3337"/>
                  <a:pt x="15751" y="3324"/>
                </a:cubicBezTo>
                <a:cubicBezTo>
                  <a:pt x="15803" y="3317"/>
                  <a:pt x="15823" y="3299"/>
                  <a:pt x="15875" y="3299"/>
                </a:cubicBezTo>
                <a:cubicBezTo>
                  <a:pt x="15833" y="3313"/>
                  <a:pt x="15813" y="3379"/>
                  <a:pt x="15776" y="3423"/>
                </a:cubicBezTo>
                <a:cubicBezTo>
                  <a:pt x="15704" y="3510"/>
                  <a:pt x="15652" y="3604"/>
                  <a:pt x="15652" y="3721"/>
                </a:cubicBezTo>
                <a:cubicBezTo>
                  <a:pt x="15716" y="3737"/>
                  <a:pt x="15692" y="3741"/>
                  <a:pt x="15751" y="3721"/>
                </a:cubicBezTo>
                <a:cubicBezTo>
                  <a:pt x="15824" y="3697"/>
                  <a:pt x="15796" y="3679"/>
                  <a:pt x="15825" y="3621"/>
                </a:cubicBezTo>
                <a:cubicBezTo>
                  <a:pt x="15846" y="3579"/>
                  <a:pt x="15871" y="3526"/>
                  <a:pt x="15875" y="3473"/>
                </a:cubicBezTo>
                <a:cubicBezTo>
                  <a:pt x="15877" y="3440"/>
                  <a:pt x="15875" y="3390"/>
                  <a:pt x="15875" y="3423"/>
                </a:cubicBezTo>
                <a:cubicBezTo>
                  <a:pt x="15840" y="3515"/>
                  <a:pt x="15869" y="3573"/>
                  <a:pt x="15875" y="3671"/>
                </a:cubicBezTo>
                <a:cubicBezTo>
                  <a:pt x="15877" y="3713"/>
                  <a:pt x="15909" y="3741"/>
                  <a:pt x="15949" y="3746"/>
                </a:cubicBezTo>
                <a:cubicBezTo>
                  <a:pt x="16001" y="3752"/>
                  <a:pt x="16014" y="3731"/>
                  <a:pt x="16049" y="3696"/>
                </a:cubicBezTo>
              </a:path>
              <a:path w="7616" h="2655">
                <a:moveTo>
                  <a:pt x="16049" y="3497"/>
                </a:moveTo>
                <a:lnTo>
                  <a:pt x="16024" y="3621"/>
                </a:lnTo>
                <a:lnTo>
                  <a:pt x="16024" y="3671"/>
                </a:lnTo>
                <a:lnTo>
                  <a:pt x="16024" y="3721"/>
                </a:lnTo>
                <a:lnTo>
                  <a:pt x="16024" y="3746"/>
                </a:lnTo>
                <a:lnTo>
                  <a:pt x="16049" y="3746"/>
                </a:lnTo>
                <a:lnTo>
                  <a:pt x="16049" y="3770"/>
                </a:lnTo>
                <a:lnTo>
                  <a:pt x="16049" y="3746"/>
                </a:lnTo>
                <a:lnTo>
                  <a:pt x="16049" y="3721"/>
                </a:lnTo>
                <a:lnTo>
                  <a:pt x="16049" y="3671"/>
                </a:lnTo>
                <a:lnTo>
                  <a:pt x="16049" y="3646"/>
                </a:lnTo>
                <a:lnTo>
                  <a:pt x="16049" y="3597"/>
                </a:lnTo>
                <a:lnTo>
                  <a:pt x="16049" y="3547"/>
                </a:lnTo>
                <a:lnTo>
                  <a:pt x="16049" y="3497"/>
                </a:lnTo>
                <a:lnTo>
                  <a:pt x="16073" y="3473"/>
                </a:lnTo>
                <a:lnTo>
                  <a:pt x="16098" y="3423"/>
                </a:lnTo>
                <a:lnTo>
                  <a:pt x="16123" y="3398"/>
                </a:lnTo>
                <a:lnTo>
                  <a:pt x="16148" y="3373"/>
                </a:lnTo>
                <a:lnTo>
                  <a:pt x="16173" y="3349"/>
                </a:lnTo>
                <a:lnTo>
                  <a:pt x="16197" y="3373"/>
                </a:lnTo>
                <a:lnTo>
                  <a:pt x="16222" y="3398"/>
                </a:lnTo>
                <a:lnTo>
                  <a:pt x="16247" y="3448"/>
                </a:lnTo>
                <a:lnTo>
                  <a:pt x="16247" y="3497"/>
                </a:lnTo>
                <a:lnTo>
                  <a:pt x="16272" y="3621"/>
                </a:lnTo>
                <a:lnTo>
                  <a:pt x="16272" y="3671"/>
                </a:lnTo>
                <a:lnTo>
                  <a:pt x="16272" y="3721"/>
                </a:lnTo>
                <a:lnTo>
                  <a:pt x="16272" y="3746"/>
                </a:lnTo>
                <a:lnTo>
                  <a:pt x="16272" y="3721"/>
                </a:lnTo>
              </a:path>
              <a:path w="7616" h="2655">
                <a:moveTo>
                  <a:pt x="16346" y="3026"/>
                </a:moveTo>
                <a:cubicBezTo>
                  <a:pt x="16401" y="2950"/>
                  <a:pt x="16426" y="2952"/>
                  <a:pt x="16520" y="2952"/>
                </a:cubicBezTo>
                <a:cubicBezTo>
                  <a:pt x="16604" y="2952"/>
                  <a:pt x="16613" y="2999"/>
                  <a:pt x="16619" y="3076"/>
                </a:cubicBezTo>
                <a:cubicBezTo>
                  <a:pt x="16624" y="3142"/>
                  <a:pt x="16561" y="3206"/>
                  <a:pt x="16520" y="3249"/>
                </a:cubicBezTo>
                <a:cubicBezTo>
                  <a:pt x="16506" y="3264"/>
                  <a:pt x="16380" y="3336"/>
                  <a:pt x="16421" y="3373"/>
                </a:cubicBezTo>
                <a:cubicBezTo>
                  <a:pt x="16461" y="3393"/>
                  <a:pt x="16467" y="3402"/>
                  <a:pt x="16495" y="3398"/>
                </a:cubicBezTo>
              </a:path>
              <a:path w="7616" h="2655">
                <a:moveTo>
                  <a:pt x="16718" y="3249"/>
                </a:moveTo>
                <a:cubicBezTo>
                  <a:pt x="16746" y="3409"/>
                  <a:pt x="16733" y="3456"/>
                  <a:pt x="16842" y="3547"/>
                </a:cubicBezTo>
                <a:cubicBezTo>
                  <a:pt x="16898" y="3594"/>
                  <a:pt x="16971" y="3613"/>
                  <a:pt x="17041" y="3621"/>
                </a:cubicBezTo>
                <a:cubicBezTo>
                  <a:pt x="17066" y="3621"/>
                  <a:pt x="17090" y="3621"/>
                  <a:pt x="17115" y="3621"/>
                </a:cubicBezTo>
              </a:path>
              <a:path w="7616" h="2655">
                <a:moveTo>
                  <a:pt x="17066" y="3249"/>
                </a:moveTo>
                <a:cubicBezTo>
                  <a:pt x="16985" y="3337"/>
                  <a:pt x="16919" y="3432"/>
                  <a:pt x="16842" y="3522"/>
                </a:cubicBezTo>
                <a:cubicBezTo>
                  <a:pt x="16783" y="3591"/>
                  <a:pt x="16701" y="3662"/>
                  <a:pt x="16619" y="3696"/>
                </a:cubicBezTo>
                <a:cubicBezTo>
                  <a:pt x="16611" y="3696"/>
                  <a:pt x="16602" y="3696"/>
                  <a:pt x="16594" y="3696"/>
                </a:cubicBezTo>
              </a:path>
              <a:path w="7616" h="2655">
                <a:moveTo>
                  <a:pt x="13866" y="4217"/>
                </a:moveTo>
                <a:cubicBezTo>
                  <a:pt x="13936" y="4217"/>
                  <a:pt x="14000" y="4235"/>
                  <a:pt x="14064" y="4242"/>
                </a:cubicBezTo>
                <a:cubicBezTo>
                  <a:pt x="14231" y="4260"/>
                  <a:pt x="14414" y="4217"/>
                  <a:pt x="14585" y="4217"/>
                </a:cubicBezTo>
                <a:cubicBezTo>
                  <a:pt x="14769" y="4217"/>
                  <a:pt x="14972" y="4211"/>
                  <a:pt x="15156" y="4192"/>
                </a:cubicBezTo>
                <a:cubicBezTo>
                  <a:pt x="15339" y="4173"/>
                  <a:pt x="15516" y="4167"/>
                  <a:pt x="15701" y="4167"/>
                </a:cubicBezTo>
                <a:cubicBezTo>
                  <a:pt x="15724" y="4167"/>
                  <a:pt x="16024" y="4143"/>
                  <a:pt x="16024" y="4192"/>
                </a:cubicBezTo>
                <a:cubicBezTo>
                  <a:pt x="16016" y="4192"/>
                  <a:pt x="16007" y="4192"/>
                  <a:pt x="15999" y="4192"/>
                </a:cubicBezTo>
              </a:path>
              <a:path w="7616" h="2655">
                <a:moveTo>
                  <a:pt x="14709" y="4539"/>
                </a:moveTo>
                <a:cubicBezTo>
                  <a:pt x="14590" y="4612"/>
                  <a:pt x="14517" y="4656"/>
                  <a:pt x="14436" y="4762"/>
                </a:cubicBezTo>
                <a:cubicBezTo>
                  <a:pt x="14405" y="4803"/>
                  <a:pt x="14415" y="4848"/>
                  <a:pt x="14461" y="4887"/>
                </a:cubicBezTo>
                <a:cubicBezTo>
                  <a:pt x="14522" y="4938"/>
                  <a:pt x="14599" y="4955"/>
                  <a:pt x="14660" y="5011"/>
                </a:cubicBezTo>
                <a:cubicBezTo>
                  <a:pt x="14691" y="5039"/>
                  <a:pt x="14725" y="5090"/>
                  <a:pt x="14709" y="5135"/>
                </a:cubicBezTo>
                <a:cubicBezTo>
                  <a:pt x="14674" y="5232"/>
                  <a:pt x="14569" y="5248"/>
                  <a:pt x="14486" y="5283"/>
                </a:cubicBezTo>
                <a:cubicBezTo>
                  <a:pt x="14436" y="5304"/>
                  <a:pt x="14435" y="5308"/>
                  <a:pt x="14387" y="5308"/>
                </a:cubicBezTo>
                <a:cubicBezTo>
                  <a:pt x="14387" y="5250"/>
                  <a:pt x="14410" y="5212"/>
                  <a:pt x="14436" y="5159"/>
                </a:cubicBezTo>
              </a:path>
              <a:path w="7616" h="2655">
                <a:moveTo>
                  <a:pt x="14883" y="4986"/>
                </a:moveTo>
                <a:cubicBezTo>
                  <a:pt x="14964" y="4942"/>
                  <a:pt x="14996" y="4922"/>
                  <a:pt x="15056" y="4862"/>
                </a:cubicBezTo>
                <a:cubicBezTo>
                  <a:pt x="15108" y="4809"/>
                  <a:pt x="15106" y="4791"/>
                  <a:pt x="15106" y="4713"/>
                </a:cubicBezTo>
                <a:cubicBezTo>
                  <a:pt x="15106" y="4705"/>
                  <a:pt x="15106" y="4696"/>
                  <a:pt x="15106" y="4688"/>
                </a:cubicBezTo>
                <a:cubicBezTo>
                  <a:pt x="15056" y="4688"/>
                  <a:pt x="15021" y="4679"/>
                  <a:pt x="14982" y="4713"/>
                </a:cubicBezTo>
                <a:cubicBezTo>
                  <a:pt x="14914" y="4771"/>
                  <a:pt x="14889" y="4855"/>
                  <a:pt x="14858" y="4936"/>
                </a:cubicBezTo>
                <a:cubicBezTo>
                  <a:pt x="14829" y="5014"/>
                  <a:pt x="14828" y="5061"/>
                  <a:pt x="14858" y="5135"/>
                </a:cubicBezTo>
                <a:cubicBezTo>
                  <a:pt x="14881" y="5192"/>
                  <a:pt x="14947" y="5204"/>
                  <a:pt x="15007" y="5184"/>
                </a:cubicBezTo>
                <a:cubicBezTo>
                  <a:pt x="15056" y="5159"/>
                  <a:pt x="15073" y="5151"/>
                  <a:pt x="15106" y="5135"/>
                </a:cubicBezTo>
              </a:path>
              <a:path w="7616" h="2655">
                <a:moveTo>
                  <a:pt x="15429" y="4638"/>
                </a:moveTo>
                <a:cubicBezTo>
                  <a:pt x="15419" y="4698"/>
                  <a:pt x="15422" y="4693"/>
                  <a:pt x="15379" y="4713"/>
                </a:cubicBezTo>
                <a:cubicBezTo>
                  <a:pt x="15314" y="4743"/>
                  <a:pt x="15288" y="4775"/>
                  <a:pt x="15255" y="4837"/>
                </a:cubicBezTo>
                <a:cubicBezTo>
                  <a:pt x="15203" y="4937"/>
                  <a:pt x="15208" y="4984"/>
                  <a:pt x="15230" y="5085"/>
                </a:cubicBezTo>
                <a:cubicBezTo>
                  <a:pt x="15249" y="5172"/>
                  <a:pt x="15314" y="5144"/>
                  <a:pt x="15379" y="5135"/>
                </a:cubicBezTo>
                <a:cubicBezTo>
                  <a:pt x="15428" y="5128"/>
                  <a:pt x="15486" y="5068"/>
                  <a:pt x="15528" y="5035"/>
                </a:cubicBezTo>
              </a:path>
              <a:path w="7616" h="2655">
                <a:moveTo>
                  <a:pt x="15652" y="4638"/>
                </a:moveTo>
                <a:cubicBezTo>
                  <a:pt x="15705" y="4746"/>
                  <a:pt x="15758" y="4794"/>
                  <a:pt x="15825" y="4887"/>
                </a:cubicBezTo>
                <a:cubicBezTo>
                  <a:pt x="15879" y="4962"/>
                  <a:pt x="15899" y="5002"/>
                  <a:pt x="15974" y="5060"/>
                </a:cubicBezTo>
                <a:cubicBezTo>
                  <a:pt x="15992" y="5074"/>
                  <a:pt x="16048" y="5121"/>
                  <a:pt x="16073" y="5110"/>
                </a:cubicBezTo>
                <a:cubicBezTo>
                  <a:pt x="16081" y="5102"/>
                  <a:pt x="16090" y="5093"/>
                  <a:pt x="16098" y="5085"/>
                </a:cubicBezTo>
              </a:path>
              <a:path w="7616" h="2655">
                <a:moveTo>
                  <a:pt x="16024" y="4614"/>
                </a:moveTo>
                <a:cubicBezTo>
                  <a:pt x="15953" y="4745"/>
                  <a:pt x="15896" y="4883"/>
                  <a:pt x="15825" y="5011"/>
                </a:cubicBezTo>
                <a:cubicBezTo>
                  <a:pt x="15793" y="5068"/>
                  <a:pt x="15740" y="5178"/>
                  <a:pt x="15677" y="5209"/>
                </a:cubicBezTo>
                <a:cubicBezTo>
                  <a:pt x="15647" y="5224"/>
                  <a:pt x="15662" y="5239"/>
                  <a:pt x="15677" y="5209"/>
                </a:cubicBezTo>
              </a:path>
              <a:path w="7616" h="2655">
                <a:moveTo>
                  <a:pt x="17512" y="4043"/>
                </a:moveTo>
                <a:cubicBezTo>
                  <a:pt x="17603" y="4023"/>
                  <a:pt x="17693" y="4000"/>
                  <a:pt x="17785" y="3994"/>
                </a:cubicBezTo>
                <a:cubicBezTo>
                  <a:pt x="17817" y="3992"/>
                  <a:pt x="17829" y="3977"/>
                  <a:pt x="17859" y="3969"/>
                </a:cubicBezTo>
              </a:path>
              <a:path w="7616" h="2655">
                <a:moveTo>
                  <a:pt x="17587" y="4217"/>
                </a:moveTo>
                <a:cubicBezTo>
                  <a:pt x="17648" y="4217"/>
                  <a:pt x="17678" y="4180"/>
                  <a:pt x="17735" y="4167"/>
                </a:cubicBezTo>
                <a:cubicBezTo>
                  <a:pt x="17752" y="4167"/>
                  <a:pt x="17768" y="4167"/>
                  <a:pt x="17785" y="4167"/>
                </a:cubicBezTo>
              </a:path>
              <a:path w="7616" h="2655">
                <a:moveTo>
                  <a:pt x="18876" y="2977"/>
                </a:moveTo>
                <a:cubicBezTo>
                  <a:pt x="18812" y="2986"/>
                  <a:pt x="18711" y="3014"/>
                  <a:pt x="18653" y="3051"/>
                </a:cubicBezTo>
                <a:cubicBezTo>
                  <a:pt x="18604" y="3083"/>
                  <a:pt x="18515" y="3144"/>
                  <a:pt x="18504" y="3200"/>
                </a:cubicBezTo>
                <a:cubicBezTo>
                  <a:pt x="18493" y="3253"/>
                  <a:pt x="18567" y="3322"/>
                  <a:pt x="18604" y="3349"/>
                </a:cubicBezTo>
                <a:cubicBezTo>
                  <a:pt x="18683" y="3407"/>
                  <a:pt x="18822" y="3487"/>
                  <a:pt x="18852" y="3597"/>
                </a:cubicBezTo>
                <a:cubicBezTo>
                  <a:pt x="18860" y="3626"/>
                  <a:pt x="18837" y="3735"/>
                  <a:pt x="18802" y="3746"/>
                </a:cubicBezTo>
                <a:cubicBezTo>
                  <a:pt x="18732" y="3768"/>
                  <a:pt x="18655" y="3795"/>
                  <a:pt x="18579" y="3795"/>
                </a:cubicBezTo>
                <a:cubicBezTo>
                  <a:pt x="18571" y="3795"/>
                  <a:pt x="18562" y="3795"/>
                  <a:pt x="18554" y="3795"/>
                </a:cubicBezTo>
                <a:cubicBezTo>
                  <a:pt x="18554" y="3740"/>
                  <a:pt x="18576" y="3721"/>
                  <a:pt x="18604" y="3671"/>
                </a:cubicBezTo>
              </a:path>
              <a:path w="7616" h="2655">
                <a:moveTo>
                  <a:pt x="19025" y="3522"/>
                </a:moveTo>
                <a:cubicBezTo>
                  <a:pt x="19137" y="3490"/>
                  <a:pt x="19168" y="3468"/>
                  <a:pt x="19248" y="3398"/>
                </a:cubicBezTo>
                <a:cubicBezTo>
                  <a:pt x="19289" y="3362"/>
                  <a:pt x="19365" y="3301"/>
                  <a:pt x="19372" y="3249"/>
                </a:cubicBezTo>
                <a:cubicBezTo>
                  <a:pt x="19381" y="3183"/>
                  <a:pt x="19391" y="3125"/>
                  <a:pt x="19323" y="3101"/>
                </a:cubicBezTo>
                <a:cubicBezTo>
                  <a:pt x="19243" y="3072"/>
                  <a:pt x="19215" y="3129"/>
                  <a:pt x="19174" y="3175"/>
                </a:cubicBezTo>
                <a:cubicBezTo>
                  <a:pt x="19074" y="3289"/>
                  <a:pt x="19083" y="3336"/>
                  <a:pt x="19050" y="3473"/>
                </a:cubicBezTo>
                <a:cubicBezTo>
                  <a:pt x="19032" y="3548"/>
                  <a:pt x="19008" y="3619"/>
                  <a:pt x="19050" y="3696"/>
                </a:cubicBezTo>
                <a:cubicBezTo>
                  <a:pt x="19079" y="3749"/>
                  <a:pt x="19172" y="3761"/>
                  <a:pt x="19224" y="3746"/>
                </a:cubicBezTo>
                <a:cubicBezTo>
                  <a:pt x="19290" y="3713"/>
                  <a:pt x="19323" y="3696"/>
                  <a:pt x="19372" y="3671"/>
                </a:cubicBezTo>
              </a:path>
              <a:path w="7616" h="2655">
                <a:moveTo>
                  <a:pt x="19745" y="3150"/>
                </a:moveTo>
                <a:cubicBezTo>
                  <a:pt x="19745" y="3167"/>
                  <a:pt x="19745" y="3183"/>
                  <a:pt x="19745" y="3200"/>
                </a:cubicBezTo>
                <a:cubicBezTo>
                  <a:pt x="19694" y="3200"/>
                  <a:pt x="19686" y="3189"/>
                  <a:pt x="19645" y="3175"/>
                </a:cubicBezTo>
                <a:cubicBezTo>
                  <a:pt x="19597" y="3159"/>
                  <a:pt x="19552" y="3196"/>
                  <a:pt x="19521" y="3225"/>
                </a:cubicBezTo>
                <a:cubicBezTo>
                  <a:pt x="19452" y="3290"/>
                  <a:pt x="19404" y="3472"/>
                  <a:pt x="19422" y="3572"/>
                </a:cubicBezTo>
                <a:cubicBezTo>
                  <a:pt x="19438" y="3659"/>
                  <a:pt x="19455" y="3691"/>
                  <a:pt x="19546" y="3696"/>
                </a:cubicBezTo>
                <a:cubicBezTo>
                  <a:pt x="19628" y="3701"/>
                  <a:pt x="19672" y="3683"/>
                  <a:pt x="19745" y="3646"/>
                </a:cubicBezTo>
                <a:cubicBezTo>
                  <a:pt x="19794" y="3621"/>
                  <a:pt x="19810" y="3613"/>
                  <a:pt x="19819" y="3572"/>
                </a:cubicBezTo>
              </a:path>
              <a:path w="7616" h="2655">
                <a:moveTo>
                  <a:pt x="19918" y="2679"/>
                </a:moveTo>
                <a:cubicBezTo>
                  <a:pt x="20028" y="2657"/>
                  <a:pt x="20094" y="2637"/>
                  <a:pt x="20191" y="2704"/>
                </a:cubicBezTo>
                <a:cubicBezTo>
                  <a:pt x="20252" y="2747"/>
                  <a:pt x="20200" y="2855"/>
                  <a:pt x="20166" y="2902"/>
                </a:cubicBezTo>
                <a:cubicBezTo>
                  <a:pt x="20114" y="2973"/>
                  <a:pt x="20055" y="3020"/>
                  <a:pt x="19993" y="3076"/>
                </a:cubicBezTo>
                <a:cubicBezTo>
                  <a:pt x="19954" y="3111"/>
                  <a:pt x="19959" y="3134"/>
                  <a:pt x="19993" y="3150"/>
                </a:cubicBezTo>
                <a:cubicBezTo>
                  <a:pt x="20064" y="3183"/>
                  <a:pt x="20071" y="3177"/>
                  <a:pt x="20141" y="3150"/>
                </a:cubicBezTo>
              </a:path>
              <a:path w="7616" h="2655">
                <a:moveTo>
                  <a:pt x="20414" y="3076"/>
                </a:moveTo>
                <a:cubicBezTo>
                  <a:pt x="20428" y="3154"/>
                  <a:pt x="20429" y="3313"/>
                  <a:pt x="20513" y="3373"/>
                </a:cubicBezTo>
                <a:cubicBezTo>
                  <a:pt x="20570" y="3414"/>
                  <a:pt x="20644" y="3444"/>
                  <a:pt x="20712" y="3448"/>
                </a:cubicBezTo>
                <a:cubicBezTo>
                  <a:pt x="20770" y="3451"/>
                  <a:pt x="20771" y="3454"/>
                  <a:pt x="20811" y="3423"/>
                </a:cubicBezTo>
              </a:path>
              <a:path w="7616" h="2655">
                <a:moveTo>
                  <a:pt x="20762" y="3076"/>
                </a:moveTo>
                <a:cubicBezTo>
                  <a:pt x="20692" y="3131"/>
                  <a:pt x="20617" y="3199"/>
                  <a:pt x="20563" y="3274"/>
                </a:cubicBezTo>
                <a:cubicBezTo>
                  <a:pt x="20517" y="3338"/>
                  <a:pt x="20471" y="3391"/>
                  <a:pt x="20414" y="3448"/>
                </a:cubicBezTo>
                <a:cubicBezTo>
                  <a:pt x="20355" y="3507"/>
                  <a:pt x="20319" y="3518"/>
                  <a:pt x="20241" y="3547"/>
                </a:cubicBezTo>
              </a:path>
              <a:path w="7616" h="2655">
                <a:moveTo>
                  <a:pt x="18479" y="3994"/>
                </a:moveTo>
                <a:cubicBezTo>
                  <a:pt x="18616" y="3994"/>
                  <a:pt x="18742" y="3979"/>
                  <a:pt x="18876" y="3969"/>
                </a:cubicBezTo>
                <a:cubicBezTo>
                  <a:pt x="19098" y="3953"/>
                  <a:pt x="19323" y="3946"/>
                  <a:pt x="19546" y="3919"/>
                </a:cubicBezTo>
                <a:cubicBezTo>
                  <a:pt x="19705" y="3900"/>
                  <a:pt x="19856" y="3894"/>
                  <a:pt x="20017" y="3894"/>
                </a:cubicBezTo>
                <a:cubicBezTo>
                  <a:pt x="20020" y="3894"/>
                  <a:pt x="20318" y="3924"/>
                  <a:pt x="20216" y="3944"/>
                </a:cubicBezTo>
                <a:cubicBezTo>
                  <a:pt x="20124" y="3944"/>
                  <a:pt x="20097" y="3942"/>
                  <a:pt x="20042" y="3969"/>
                </a:cubicBezTo>
              </a:path>
              <a:path w="7616" h="2655">
                <a:moveTo>
                  <a:pt x="19025" y="4291"/>
                </a:moveTo>
                <a:cubicBezTo>
                  <a:pt x="18965" y="4346"/>
                  <a:pt x="18847" y="4397"/>
                  <a:pt x="18802" y="4465"/>
                </a:cubicBezTo>
                <a:cubicBezTo>
                  <a:pt x="18802" y="4473"/>
                  <a:pt x="18802" y="4482"/>
                  <a:pt x="18802" y="4490"/>
                </a:cubicBezTo>
                <a:cubicBezTo>
                  <a:pt x="18812" y="4518"/>
                  <a:pt x="18882" y="4554"/>
                  <a:pt x="18926" y="4564"/>
                </a:cubicBezTo>
                <a:cubicBezTo>
                  <a:pt x="19010" y="4583"/>
                  <a:pt x="19035" y="4608"/>
                  <a:pt x="19100" y="4663"/>
                </a:cubicBezTo>
                <a:cubicBezTo>
                  <a:pt x="19124" y="4684"/>
                  <a:pt x="19170" y="4724"/>
                  <a:pt x="19149" y="4762"/>
                </a:cubicBezTo>
                <a:cubicBezTo>
                  <a:pt x="19118" y="4816"/>
                  <a:pt x="19103" y="4822"/>
                  <a:pt x="19050" y="4862"/>
                </a:cubicBezTo>
                <a:cubicBezTo>
                  <a:pt x="19006" y="4895"/>
                  <a:pt x="18982" y="4911"/>
                  <a:pt x="18926" y="4911"/>
                </a:cubicBezTo>
                <a:cubicBezTo>
                  <a:pt x="18884" y="4911"/>
                  <a:pt x="18901" y="4877"/>
                  <a:pt x="18901" y="4837"/>
                </a:cubicBezTo>
              </a:path>
              <a:path w="7616" h="2655">
                <a:moveTo>
                  <a:pt x="19149" y="4688"/>
                </a:moveTo>
                <a:cubicBezTo>
                  <a:pt x="19218" y="4636"/>
                  <a:pt x="19241" y="4628"/>
                  <a:pt x="19298" y="4564"/>
                </a:cubicBezTo>
                <a:cubicBezTo>
                  <a:pt x="19340" y="4517"/>
                  <a:pt x="19372" y="4504"/>
                  <a:pt x="19372" y="4440"/>
                </a:cubicBezTo>
                <a:cubicBezTo>
                  <a:pt x="19372" y="4367"/>
                  <a:pt x="19371" y="4373"/>
                  <a:pt x="19323" y="4341"/>
                </a:cubicBezTo>
                <a:cubicBezTo>
                  <a:pt x="19277" y="4310"/>
                  <a:pt x="19232" y="4338"/>
                  <a:pt x="19199" y="4390"/>
                </a:cubicBezTo>
                <a:cubicBezTo>
                  <a:pt x="19158" y="4455"/>
                  <a:pt x="19133" y="4542"/>
                  <a:pt x="19124" y="4614"/>
                </a:cubicBezTo>
                <a:cubicBezTo>
                  <a:pt x="19117" y="4673"/>
                  <a:pt x="19136" y="4759"/>
                  <a:pt x="19199" y="4787"/>
                </a:cubicBezTo>
                <a:cubicBezTo>
                  <a:pt x="19253" y="4811"/>
                  <a:pt x="19375" y="4788"/>
                  <a:pt x="19422" y="4762"/>
                </a:cubicBezTo>
                <a:cubicBezTo>
                  <a:pt x="19447" y="4746"/>
                  <a:pt x="19471" y="4729"/>
                  <a:pt x="19496" y="4713"/>
                </a:cubicBezTo>
              </a:path>
              <a:path w="7616" h="2655">
                <a:moveTo>
                  <a:pt x="19844" y="4316"/>
                </a:moveTo>
                <a:cubicBezTo>
                  <a:pt x="19852" y="4324"/>
                  <a:pt x="19861" y="4333"/>
                  <a:pt x="19869" y="4341"/>
                </a:cubicBezTo>
                <a:cubicBezTo>
                  <a:pt x="19818" y="4341"/>
                  <a:pt x="19786" y="4334"/>
                  <a:pt x="19745" y="4366"/>
                </a:cubicBezTo>
                <a:cubicBezTo>
                  <a:pt x="19705" y="4397"/>
                  <a:pt x="19656" y="4490"/>
                  <a:pt x="19645" y="4539"/>
                </a:cubicBezTo>
                <a:cubicBezTo>
                  <a:pt x="19628" y="4614"/>
                  <a:pt x="19650" y="4680"/>
                  <a:pt x="19695" y="4738"/>
                </a:cubicBezTo>
                <a:cubicBezTo>
                  <a:pt x="19725" y="4778"/>
                  <a:pt x="19797" y="4783"/>
                  <a:pt x="19844" y="4787"/>
                </a:cubicBezTo>
                <a:cubicBezTo>
                  <a:pt x="19906" y="4792"/>
                  <a:pt x="19944" y="4777"/>
                  <a:pt x="19993" y="4762"/>
                </a:cubicBezTo>
                <a:cubicBezTo>
                  <a:pt x="20056" y="4743"/>
                  <a:pt x="20034" y="4773"/>
                  <a:pt x="20017" y="4738"/>
                </a:cubicBezTo>
                <a:cubicBezTo>
                  <a:pt x="20017" y="4730"/>
                  <a:pt x="20017" y="4721"/>
                  <a:pt x="20017" y="4713"/>
                </a:cubicBezTo>
              </a:path>
              <a:path w="7616" h="2655">
                <a:moveTo>
                  <a:pt x="20216" y="4465"/>
                </a:moveTo>
                <a:cubicBezTo>
                  <a:pt x="20273" y="4533"/>
                  <a:pt x="20365" y="4590"/>
                  <a:pt x="20414" y="4663"/>
                </a:cubicBezTo>
                <a:cubicBezTo>
                  <a:pt x="20443" y="4706"/>
                  <a:pt x="20486" y="4751"/>
                  <a:pt x="20538" y="4762"/>
                </a:cubicBezTo>
                <a:cubicBezTo>
                  <a:pt x="20588" y="4772"/>
                  <a:pt x="20603" y="4763"/>
                  <a:pt x="20638" y="4738"/>
                </a:cubicBezTo>
              </a:path>
              <a:path w="7616" h="2655">
                <a:moveTo>
                  <a:pt x="20489" y="4440"/>
                </a:moveTo>
                <a:cubicBezTo>
                  <a:pt x="20393" y="4587"/>
                  <a:pt x="20338" y="4696"/>
                  <a:pt x="20191" y="4787"/>
                </a:cubicBezTo>
                <a:cubicBezTo>
                  <a:pt x="20137" y="4820"/>
                  <a:pt x="20055" y="4856"/>
                  <a:pt x="19993" y="4862"/>
                </a:cubicBezTo>
                <a:cubicBezTo>
                  <a:pt x="19953" y="4862"/>
                  <a:pt x="19955" y="4851"/>
                  <a:pt x="20017" y="4812"/>
                </a:cubicBezTo>
              </a:path>
              <a:path w="7616" h="2655">
                <a:moveTo>
                  <a:pt x="21010" y="3944"/>
                </a:moveTo>
                <a:cubicBezTo>
                  <a:pt x="21115" y="3967"/>
                  <a:pt x="21199" y="3969"/>
                  <a:pt x="21307" y="3969"/>
                </a:cubicBezTo>
                <a:cubicBezTo>
                  <a:pt x="21366" y="3969"/>
                  <a:pt x="21392" y="3966"/>
                  <a:pt x="21431" y="3944"/>
                </a:cubicBezTo>
              </a:path>
              <a:path w="7616" h="2655">
                <a:moveTo>
                  <a:pt x="21158" y="4192"/>
                </a:moveTo>
                <a:cubicBezTo>
                  <a:pt x="21203" y="4226"/>
                  <a:pt x="21251" y="4211"/>
                  <a:pt x="21307" y="4192"/>
                </a:cubicBezTo>
                <a:cubicBezTo>
                  <a:pt x="21368" y="4172"/>
                  <a:pt x="21432" y="4132"/>
                  <a:pt x="21481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18640" y="1258920"/>
            <a:ext cx="661680" cy="260280"/>
          </a:xfrm>
          <a:custGeom>
            <a:avLst/>
            <a:gdLst/>
            <a:ahLst/>
            <a:rect l="l" t="t" r="r" b="b"/>
            <a:pathLst>
              <a:path w="1836" h="721">
                <a:moveTo>
                  <a:pt x="22721" y="3497"/>
                </a:moveTo>
                <a:cubicBezTo>
                  <a:pt x="22712" y="3533"/>
                  <a:pt x="22705" y="3568"/>
                  <a:pt x="22671" y="3572"/>
                </a:cubicBezTo>
                <a:cubicBezTo>
                  <a:pt x="22628" y="3578"/>
                  <a:pt x="22576" y="3525"/>
                  <a:pt x="22523" y="3522"/>
                </a:cubicBezTo>
                <a:cubicBezTo>
                  <a:pt x="22459" y="3518"/>
                  <a:pt x="22372" y="3504"/>
                  <a:pt x="22324" y="3547"/>
                </a:cubicBezTo>
                <a:cubicBezTo>
                  <a:pt x="22294" y="3574"/>
                  <a:pt x="22245" y="3625"/>
                  <a:pt x="22275" y="3671"/>
                </a:cubicBezTo>
                <a:cubicBezTo>
                  <a:pt x="22322" y="3743"/>
                  <a:pt x="22386" y="3809"/>
                  <a:pt x="22448" y="3870"/>
                </a:cubicBezTo>
                <a:cubicBezTo>
                  <a:pt x="22514" y="3936"/>
                  <a:pt x="22537" y="3974"/>
                  <a:pt x="22572" y="4043"/>
                </a:cubicBezTo>
                <a:cubicBezTo>
                  <a:pt x="22597" y="4092"/>
                  <a:pt x="22581" y="4093"/>
                  <a:pt x="22547" y="4118"/>
                </a:cubicBezTo>
                <a:cubicBezTo>
                  <a:pt x="22501" y="4152"/>
                  <a:pt x="22457" y="4142"/>
                  <a:pt x="22399" y="4142"/>
                </a:cubicBezTo>
                <a:cubicBezTo>
                  <a:pt x="22391" y="4142"/>
                  <a:pt x="22382" y="4142"/>
                  <a:pt x="22374" y="4142"/>
                </a:cubicBezTo>
                <a:cubicBezTo>
                  <a:pt x="22374" y="4078"/>
                  <a:pt x="22374" y="4052"/>
                  <a:pt x="22399" y="3994"/>
                </a:cubicBezTo>
              </a:path>
              <a:path w="1836" h="721">
                <a:moveTo>
                  <a:pt x="22721" y="3944"/>
                </a:moveTo>
                <a:cubicBezTo>
                  <a:pt x="22845" y="3913"/>
                  <a:pt x="22860" y="3921"/>
                  <a:pt x="22920" y="3820"/>
                </a:cubicBezTo>
                <a:cubicBezTo>
                  <a:pt x="22965" y="3743"/>
                  <a:pt x="22937" y="3681"/>
                  <a:pt x="22920" y="3597"/>
                </a:cubicBezTo>
              </a:path>
              <a:path w="1836" h="721">
                <a:moveTo>
                  <a:pt x="22820" y="3547"/>
                </a:moveTo>
                <a:cubicBezTo>
                  <a:pt x="22751" y="3651"/>
                  <a:pt x="22692" y="3744"/>
                  <a:pt x="22671" y="3870"/>
                </a:cubicBezTo>
                <a:cubicBezTo>
                  <a:pt x="22656" y="3960"/>
                  <a:pt x="22711" y="4083"/>
                  <a:pt x="22771" y="4142"/>
                </a:cubicBezTo>
                <a:cubicBezTo>
                  <a:pt x="22811" y="4181"/>
                  <a:pt x="22881" y="4166"/>
                  <a:pt x="22920" y="4142"/>
                </a:cubicBezTo>
              </a:path>
              <a:path w="1836" h="721">
                <a:moveTo>
                  <a:pt x="23391" y="3597"/>
                </a:moveTo>
                <a:cubicBezTo>
                  <a:pt x="23325" y="3597"/>
                  <a:pt x="23250" y="3582"/>
                  <a:pt x="23192" y="3621"/>
                </a:cubicBezTo>
                <a:cubicBezTo>
                  <a:pt x="23135" y="3659"/>
                  <a:pt x="23083" y="3782"/>
                  <a:pt x="23068" y="3845"/>
                </a:cubicBezTo>
                <a:cubicBezTo>
                  <a:pt x="23054" y="3904"/>
                  <a:pt x="23055" y="3999"/>
                  <a:pt x="23093" y="4043"/>
                </a:cubicBezTo>
                <a:cubicBezTo>
                  <a:pt x="23170" y="4132"/>
                  <a:pt x="23198" y="4118"/>
                  <a:pt x="23316" y="4118"/>
                </a:cubicBezTo>
                <a:cubicBezTo>
                  <a:pt x="23414" y="4118"/>
                  <a:pt x="23420" y="4113"/>
                  <a:pt x="23490" y="4043"/>
                </a:cubicBezTo>
              </a:path>
              <a:path w="1836" h="721">
                <a:moveTo>
                  <a:pt x="23639" y="3597"/>
                </a:moveTo>
                <a:cubicBezTo>
                  <a:pt x="23682" y="3677"/>
                  <a:pt x="23727" y="3738"/>
                  <a:pt x="23763" y="3820"/>
                </a:cubicBezTo>
                <a:cubicBezTo>
                  <a:pt x="23786" y="3873"/>
                  <a:pt x="23849" y="3968"/>
                  <a:pt x="23912" y="3994"/>
                </a:cubicBezTo>
                <a:cubicBezTo>
                  <a:pt x="23955" y="4012"/>
                  <a:pt x="24011" y="4018"/>
                  <a:pt x="24061" y="4018"/>
                </a:cubicBezTo>
                <a:cubicBezTo>
                  <a:pt x="24102" y="4018"/>
                  <a:pt x="24118" y="4026"/>
                  <a:pt x="24110" y="3994"/>
                </a:cubicBezTo>
              </a:path>
              <a:path w="1836" h="721">
                <a:moveTo>
                  <a:pt x="23986" y="3646"/>
                </a:moveTo>
                <a:cubicBezTo>
                  <a:pt x="23875" y="3744"/>
                  <a:pt x="23777" y="3826"/>
                  <a:pt x="23664" y="3919"/>
                </a:cubicBezTo>
                <a:cubicBezTo>
                  <a:pt x="23590" y="3980"/>
                  <a:pt x="23480" y="4050"/>
                  <a:pt x="23416" y="4118"/>
                </a:cubicBezTo>
                <a:cubicBezTo>
                  <a:pt x="23370" y="4167"/>
                  <a:pt x="23358" y="4184"/>
                  <a:pt x="23292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9960" y="1839960"/>
            <a:ext cx="615960" cy="312840"/>
          </a:xfrm>
          <a:custGeom>
            <a:avLst/>
            <a:gdLst/>
            <a:ahLst/>
            <a:rect l="l" t="t" r="r" b="b"/>
            <a:pathLst>
              <a:path w="1713" h="869">
                <a:moveTo>
                  <a:pt x="2133" y="5383"/>
                </a:moveTo>
                <a:cubicBezTo>
                  <a:pt x="2081" y="5412"/>
                  <a:pt x="2028" y="5441"/>
                  <a:pt x="1984" y="5482"/>
                </a:cubicBezTo>
                <a:cubicBezTo>
                  <a:pt x="1945" y="5519"/>
                  <a:pt x="1866" y="5577"/>
                  <a:pt x="1860" y="5631"/>
                </a:cubicBezTo>
                <a:cubicBezTo>
                  <a:pt x="1860" y="5639"/>
                  <a:pt x="1860" y="5647"/>
                  <a:pt x="1860" y="5655"/>
                </a:cubicBezTo>
                <a:cubicBezTo>
                  <a:pt x="1948" y="5655"/>
                  <a:pt x="2026" y="5666"/>
                  <a:pt x="2108" y="5680"/>
                </a:cubicBezTo>
                <a:cubicBezTo>
                  <a:pt x="2147" y="5687"/>
                  <a:pt x="2270" y="5714"/>
                  <a:pt x="2257" y="5779"/>
                </a:cubicBezTo>
                <a:cubicBezTo>
                  <a:pt x="2233" y="5902"/>
                  <a:pt x="2198" y="5924"/>
                  <a:pt x="2108" y="5953"/>
                </a:cubicBezTo>
                <a:cubicBezTo>
                  <a:pt x="2030" y="5978"/>
                  <a:pt x="1992" y="5996"/>
                  <a:pt x="1935" y="5953"/>
                </a:cubicBezTo>
                <a:cubicBezTo>
                  <a:pt x="1946" y="5911"/>
                  <a:pt x="1980" y="5842"/>
                  <a:pt x="2009" y="5804"/>
                </a:cubicBezTo>
                <a:cubicBezTo>
                  <a:pt x="2026" y="5788"/>
                  <a:pt x="2042" y="5771"/>
                  <a:pt x="2059" y="5755"/>
                </a:cubicBezTo>
              </a:path>
              <a:path w="1713" h="869">
                <a:moveTo>
                  <a:pt x="2406" y="5432"/>
                </a:moveTo>
                <a:cubicBezTo>
                  <a:pt x="2443" y="5554"/>
                  <a:pt x="2480" y="5635"/>
                  <a:pt x="2480" y="5755"/>
                </a:cubicBezTo>
                <a:cubicBezTo>
                  <a:pt x="2480" y="5788"/>
                  <a:pt x="2480" y="5821"/>
                  <a:pt x="2480" y="5854"/>
                </a:cubicBezTo>
                <a:cubicBezTo>
                  <a:pt x="2480" y="5813"/>
                  <a:pt x="2480" y="5771"/>
                  <a:pt x="2480" y="5730"/>
                </a:cubicBezTo>
              </a:path>
              <a:path w="1713" h="869">
                <a:moveTo>
                  <a:pt x="2406" y="5110"/>
                </a:moveTo>
                <a:lnTo>
                  <a:pt x="2406" y="5110"/>
                </a:lnTo>
              </a:path>
              <a:path w="1713" h="869">
                <a:moveTo>
                  <a:pt x="2654" y="5606"/>
                </a:moveTo>
                <a:cubicBezTo>
                  <a:pt x="2672" y="5667"/>
                  <a:pt x="2679" y="5677"/>
                  <a:pt x="2679" y="5730"/>
                </a:cubicBezTo>
                <a:cubicBezTo>
                  <a:pt x="2713" y="5708"/>
                  <a:pt x="2704" y="5682"/>
                  <a:pt x="2704" y="5631"/>
                </a:cubicBezTo>
                <a:cubicBezTo>
                  <a:pt x="2704" y="5561"/>
                  <a:pt x="2679" y="5505"/>
                  <a:pt x="2679" y="5432"/>
                </a:cubicBezTo>
                <a:cubicBezTo>
                  <a:pt x="2679" y="5403"/>
                  <a:pt x="2630" y="5258"/>
                  <a:pt x="2654" y="5234"/>
                </a:cubicBezTo>
                <a:cubicBezTo>
                  <a:pt x="2679" y="5234"/>
                  <a:pt x="2687" y="5234"/>
                  <a:pt x="2679" y="5209"/>
                </a:cubicBezTo>
                <a:cubicBezTo>
                  <a:pt x="2724" y="5254"/>
                  <a:pt x="2763" y="5287"/>
                  <a:pt x="2803" y="5333"/>
                </a:cubicBezTo>
                <a:cubicBezTo>
                  <a:pt x="2852" y="5388"/>
                  <a:pt x="2877" y="5454"/>
                  <a:pt x="2927" y="5507"/>
                </a:cubicBezTo>
                <a:cubicBezTo>
                  <a:pt x="2983" y="5566"/>
                  <a:pt x="3016" y="5598"/>
                  <a:pt x="3101" y="5606"/>
                </a:cubicBezTo>
                <a:cubicBezTo>
                  <a:pt x="3137" y="5609"/>
                  <a:pt x="3152" y="5579"/>
                  <a:pt x="3175" y="5556"/>
                </a:cubicBezTo>
              </a:path>
              <a:path w="1713" h="869">
                <a:moveTo>
                  <a:pt x="3026" y="5159"/>
                </a:moveTo>
                <a:cubicBezTo>
                  <a:pt x="3069" y="5244"/>
                  <a:pt x="3119" y="5268"/>
                  <a:pt x="3175" y="5333"/>
                </a:cubicBezTo>
                <a:cubicBezTo>
                  <a:pt x="3230" y="5396"/>
                  <a:pt x="3256" y="5427"/>
                  <a:pt x="3349" y="5432"/>
                </a:cubicBezTo>
                <a:cubicBezTo>
                  <a:pt x="3407" y="5435"/>
                  <a:pt x="3495" y="5471"/>
                  <a:pt x="3547" y="5432"/>
                </a:cubicBezTo>
                <a:cubicBezTo>
                  <a:pt x="3547" y="5397"/>
                  <a:pt x="3552" y="5380"/>
                  <a:pt x="3572" y="5358"/>
                </a:cubicBezTo>
              </a:path>
              <a:path w="1713" h="869">
                <a:moveTo>
                  <a:pt x="3324" y="5110"/>
                </a:moveTo>
                <a:cubicBezTo>
                  <a:pt x="3235" y="5270"/>
                  <a:pt x="3149" y="5425"/>
                  <a:pt x="3051" y="5556"/>
                </a:cubicBezTo>
                <a:cubicBezTo>
                  <a:pt x="2994" y="5631"/>
                  <a:pt x="2990" y="5626"/>
                  <a:pt x="2902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81200" y="1581120"/>
            <a:ext cx="768600" cy="347760"/>
          </a:xfrm>
          <a:custGeom>
            <a:avLst/>
            <a:gdLst/>
            <a:ahLst/>
            <a:rect l="l" t="t" r="r" b="b"/>
            <a:pathLst>
              <a:path w="2134" h="969">
                <a:moveTo>
                  <a:pt x="7392" y="4539"/>
                </a:moveTo>
                <a:cubicBezTo>
                  <a:pt x="7392" y="4575"/>
                  <a:pt x="7411" y="4538"/>
                  <a:pt x="7342" y="4564"/>
                </a:cubicBezTo>
                <a:cubicBezTo>
                  <a:pt x="7288" y="4584"/>
                  <a:pt x="7237" y="4598"/>
                  <a:pt x="7193" y="4638"/>
                </a:cubicBezTo>
                <a:cubicBezTo>
                  <a:pt x="7185" y="4646"/>
                  <a:pt x="7177" y="4655"/>
                  <a:pt x="7169" y="4663"/>
                </a:cubicBezTo>
                <a:cubicBezTo>
                  <a:pt x="7215" y="4710"/>
                  <a:pt x="7258" y="4733"/>
                  <a:pt x="7317" y="4762"/>
                </a:cubicBezTo>
                <a:cubicBezTo>
                  <a:pt x="7400" y="4803"/>
                  <a:pt x="7450" y="4846"/>
                  <a:pt x="7516" y="4911"/>
                </a:cubicBezTo>
                <a:cubicBezTo>
                  <a:pt x="7554" y="4949"/>
                  <a:pt x="7583" y="5004"/>
                  <a:pt x="7565" y="5060"/>
                </a:cubicBezTo>
                <a:cubicBezTo>
                  <a:pt x="7541" y="5136"/>
                  <a:pt x="7482" y="5151"/>
                  <a:pt x="7417" y="5184"/>
                </a:cubicBezTo>
                <a:cubicBezTo>
                  <a:pt x="7357" y="5214"/>
                  <a:pt x="7309" y="5209"/>
                  <a:pt x="7243" y="5209"/>
                </a:cubicBezTo>
                <a:cubicBezTo>
                  <a:pt x="7255" y="5148"/>
                  <a:pt x="7289" y="5092"/>
                  <a:pt x="7317" y="5035"/>
                </a:cubicBezTo>
              </a:path>
              <a:path w="2134" h="969">
                <a:moveTo>
                  <a:pt x="7813" y="4663"/>
                </a:moveTo>
                <a:cubicBezTo>
                  <a:pt x="7819" y="4706"/>
                  <a:pt x="7869" y="4907"/>
                  <a:pt x="7863" y="4961"/>
                </a:cubicBezTo>
                <a:cubicBezTo>
                  <a:pt x="7858" y="5007"/>
                  <a:pt x="7838" y="5035"/>
                  <a:pt x="7838" y="5085"/>
                </a:cubicBezTo>
                <a:cubicBezTo>
                  <a:pt x="7838" y="5129"/>
                  <a:pt x="7832" y="5086"/>
                  <a:pt x="7813" y="5060"/>
                </a:cubicBezTo>
              </a:path>
              <a:path w="2134" h="969">
                <a:moveTo>
                  <a:pt x="7863" y="4390"/>
                </a:moveTo>
                <a:cubicBezTo>
                  <a:pt x="7888" y="4390"/>
                  <a:pt x="7896" y="4390"/>
                  <a:pt x="7913" y="4390"/>
                </a:cubicBezTo>
              </a:path>
              <a:path w="2134" h="969">
                <a:moveTo>
                  <a:pt x="8161" y="5011"/>
                </a:moveTo>
                <a:cubicBezTo>
                  <a:pt x="8177" y="5064"/>
                  <a:pt x="8195" y="5114"/>
                  <a:pt x="8210" y="5159"/>
                </a:cubicBezTo>
                <a:cubicBezTo>
                  <a:pt x="8224" y="5201"/>
                  <a:pt x="8232" y="5123"/>
                  <a:pt x="8235" y="5085"/>
                </a:cubicBezTo>
                <a:cubicBezTo>
                  <a:pt x="8240" y="5005"/>
                  <a:pt x="8214" y="4940"/>
                  <a:pt x="8210" y="4862"/>
                </a:cubicBezTo>
                <a:cubicBezTo>
                  <a:pt x="8206" y="4787"/>
                  <a:pt x="8216" y="4725"/>
                  <a:pt x="8235" y="4663"/>
                </a:cubicBezTo>
                <a:cubicBezTo>
                  <a:pt x="8235" y="4635"/>
                  <a:pt x="8237" y="4624"/>
                  <a:pt x="8260" y="4614"/>
                </a:cubicBezTo>
                <a:cubicBezTo>
                  <a:pt x="8327" y="4627"/>
                  <a:pt x="8379" y="4625"/>
                  <a:pt x="8409" y="4688"/>
                </a:cubicBezTo>
                <a:cubicBezTo>
                  <a:pt x="8452" y="4778"/>
                  <a:pt x="8492" y="4870"/>
                  <a:pt x="8533" y="4961"/>
                </a:cubicBezTo>
                <a:cubicBezTo>
                  <a:pt x="8556" y="5011"/>
                  <a:pt x="8573" y="5072"/>
                  <a:pt x="8607" y="5110"/>
                </a:cubicBezTo>
                <a:cubicBezTo>
                  <a:pt x="8636" y="5143"/>
                  <a:pt x="8666" y="5186"/>
                  <a:pt x="8682" y="5135"/>
                </a:cubicBezTo>
                <a:cubicBezTo>
                  <a:pt x="8690" y="5110"/>
                  <a:pt x="8698" y="5085"/>
                  <a:pt x="8706" y="5060"/>
                </a:cubicBezTo>
              </a:path>
              <a:path w="2134" h="969">
                <a:moveTo>
                  <a:pt x="8756" y="4638"/>
                </a:moveTo>
                <a:cubicBezTo>
                  <a:pt x="8795" y="4765"/>
                  <a:pt x="8826" y="4942"/>
                  <a:pt x="8930" y="5035"/>
                </a:cubicBezTo>
                <a:cubicBezTo>
                  <a:pt x="8959" y="5061"/>
                  <a:pt x="9063" y="5126"/>
                  <a:pt x="9103" y="5135"/>
                </a:cubicBezTo>
                <a:cubicBezTo>
                  <a:pt x="9157" y="5148"/>
                  <a:pt x="9237" y="5142"/>
                  <a:pt x="9277" y="5110"/>
                </a:cubicBezTo>
                <a:cubicBezTo>
                  <a:pt x="9285" y="5102"/>
                  <a:pt x="9294" y="5093"/>
                  <a:pt x="9302" y="5085"/>
                </a:cubicBezTo>
              </a:path>
              <a:path w="2134" h="969">
                <a:moveTo>
                  <a:pt x="9128" y="4738"/>
                </a:moveTo>
                <a:cubicBezTo>
                  <a:pt x="9001" y="4859"/>
                  <a:pt x="8882" y="4971"/>
                  <a:pt x="8756" y="5085"/>
                </a:cubicBezTo>
                <a:cubicBezTo>
                  <a:pt x="8685" y="5149"/>
                  <a:pt x="8610" y="5227"/>
                  <a:pt x="8533" y="5283"/>
                </a:cubicBezTo>
                <a:cubicBezTo>
                  <a:pt x="8483" y="5308"/>
                  <a:pt x="8466" y="5316"/>
                  <a:pt x="8458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1920" y="2251080"/>
            <a:ext cx="2357280" cy="865080"/>
          </a:xfrm>
          <a:custGeom>
            <a:avLst/>
            <a:gdLst/>
            <a:ahLst/>
            <a:rect l="l" t="t" r="r" b="b"/>
            <a:pathLst>
              <a:path w="6549" h="2407">
                <a:moveTo>
                  <a:pt x="3845" y="6796"/>
                </a:moveTo>
                <a:cubicBezTo>
                  <a:pt x="3877" y="6829"/>
                  <a:pt x="3889" y="6861"/>
                  <a:pt x="3919" y="6871"/>
                </a:cubicBezTo>
                <a:cubicBezTo>
                  <a:pt x="3912" y="6843"/>
                  <a:pt x="3880" y="6782"/>
                  <a:pt x="3845" y="6772"/>
                </a:cubicBezTo>
                <a:cubicBezTo>
                  <a:pt x="3780" y="6754"/>
                  <a:pt x="3648" y="6763"/>
                  <a:pt x="3597" y="6796"/>
                </a:cubicBezTo>
                <a:cubicBezTo>
                  <a:pt x="3562" y="6819"/>
                  <a:pt x="3477" y="6862"/>
                  <a:pt x="3473" y="6896"/>
                </a:cubicBezTo>
                <a:cubicBezTo>
                  <a:pt x="3467" y="6947"/>
                  <a:pt x="3488" y="6961"/>
                  <a:pt x="3522" y="6995"/>
                </a:cubicBezTo>
                <a:cubicBezTo>
                  <a:pt x="3571" y="7044"/>
                  <a:pt x="3638" y="7059"/>
                  <a:pt x="3696" y="7094"/>
                </a:cubicBezTo>
                <a:cubicBezTo>
                  <a:pt x="3771" y="7140"/>
                  <a:pt x="3826" y="7194"/>
                  <a:pt x="3870" y="7268"/>
                </a:cubicBezTo>
                <a:cubicBezTo>
                  <a:pt x="3910" y="7336"/>
                  <a:pt x="3893" y="7355"/>
                  <a:pt x="3845" y="7392"/>
                </a:cubicBezTo>
                <a:cubicBezTo>
                  <a:pt x="3790" y="7435"/>
                  <a:pt x="3765" y="7441"/>
                  <a:pt x="3696" y="7441"/>
                </a:cubicBezTo>
                <a:cubicBezTo>
                  <a:pt x="3641" y="7441"/>
                  <a:pt x="3569" y="7445"/>
                  <a:pt x="3522" y="7417"/>
                </a:cubicBezTo>
                <a:cubicBezTo>
                  <a:pt x="3478" y="7391"/>
                  <a:pt x="3473" y="7393"/>
                  <a:pt x="3473" y="7342"/>
                </a:cubicBezTo>
                <a:cubicBezTo>
                  <a:pt x="3473" y="7297"/>
                  <a:pt x="3496" y="7276"/>
                  <a:pt x="3522" y="7243"/>
                </a:cubicBezTo>
              </a:path>
              <a:path w="6549" h="2407">
                <a:moveTo>
                  <a:pt x="4118" y="6871"/>
                </a:moveTo>
                <a:cubicBezTo>
                  <a:pt x="4118" y="7061"/>
                  <a:pt x="4118" y="7582"/>
                  <a:pt x="4118" y="7392"/>
                </a:cubicBezTo>
                <a:cubicBezTo>
                  <a:pt x="4118" y="7337"/>
                  <a:pt x="4100" y="7297"/>
                  <a:pt x="4093" y="7243"/>
                </a:cubicBezTo>
              </a:path>
              <a:path w="6549" h="2407">
                <a:moveTo>
                  <a:pt x="4167" y="6548"/>
                </a:moveTo>
                <a:cubicBezTo>
                  <a:pt x="4209" y="6548"/>
                  <a:pt x="4217" y="6548"/>
                  <a:pt x="4242" y="6548"/>
                </a:cubicBezTo>
              </a:path>
              <a:path w="6549" h="2407">
                <a:moveTo>
                  <a:pt x="4316" y="7069"/>
                </a:moveTo>
                <a:cubicBezTo>
                  <a:pt x="4316" y="7160"/>
                  <a:pt x="4316" y="7251"/>
                  <a:pt x="4316" y="7342"/>
                </a:cubicBezTo>
                <a:cubicBezTo>
                  <a:pt x="4316" y="7213"/>
                  <a:pt x="4321" y="7092"/>
                  <a:pt x="4341" y="6970"/>
                </a:cubicBezTo>
                <a:cubicBezTo>
                  <a:pt x="4358" y="6862"/>
                  <a:pt x="4381" y="6845"/>
                  <a:pt x="4440" y="6772"/>
                </a:cubicBezTo>
                <a:cubicBezTo>
                  <a:pt x="4481" y="6720"/>
                  <a:pt x="4521" y="6682"/>
                  <a:pt x="4589" y="6722"/>
                </a:cubicBezTo>
                <a:cubicBezTo>
                  <a:pt x="4704" y="6789"/>
                  <a:pt x="4701" y="7001"/>
                  <a:pt x="4713" y="7119"/>
                </a:cubicBezTo>
                <a:cubicBezTo>
                  <a:pt x="4719" y="7178"/>
                  <a:pt x="4713" y="7416"/>
                  <a:pt x="4713" y="7392"/>
                </a:cubicBezTo>
                <a:cubicBezTo>
                  <a:pt x="4713" y="7357"/>
                  <a:pt x="4708" y="7339"/>
                  <a:pt x="4688" y="7317"/>
                </a:cubicBezTo>
              </a:path>
              <a:path w="6549" h="2407">
                <a:moveTo>
                  <a:pt x="4911" y="6251"/>
                </a:moveTo>
                <a:cubicBezTo>
                  <a:pt x="5006" y="6251"/>
                  <a:pt x="5079" y="6219"/>
                  <a:pt x="5085" y="6325"/>
                </a:cubicBezTo>
                <a:cubicBezTo>
                  <a:pt x="5089" y="6386"/>
                  <a:pt x="5085" y="6455"/>
                  <a:pt x="5035" y="6499"/>
                </a:cubicBezTo>
                <a:cubicBezTo>
                  <a:pt x="5013" y="6518"/>
                  <a:pt x="4956" y="6588"/>
                  <a:pt x="4936" y="6598"/>
                </a:cubicBezTo>
                <a:cubicBezTo>
                  <a:pt x="4911" y="6598"/>
                  <a:pt x="4903" y="6598"/>
                  <a:pt x="4911" y="6623"/>
                </a:cubicBezTo>
                <a:cubicBezTo>
                  <a:pt x="4939" y="6644"/>
                  <a:pt x="4998" y="6667"/>
                  <a:pt x="5035" y="6672"/>
                </a:cubicBezTo>
                <a:cubicBezTo>
                  <a:pt x="5082" y="6678"/>
                  <a:pt x="5219" y="6700"/>
                  <a:pt x="5259" y="6697"/>
                </a:cubicBezTo>
                <a:cubicBezTo>
                  <a:pt x="5284" y="6689"/>
                  <a:pt x="5308" y="6680"/>
                  <a:pt x="5333" y="6672"/>
                </a:cubicBezTo>
              </a:path>
              <a:path w="6549" h="2407">
                <a:moveTo>
                  <a:pt x="5407" y="6672"/>
                </a:moveTo>
                <a:cubicBezTo>
                  <a:pt x="5413" y="6817"/>
                  <a:pt x="5412" y="6895"/>
                  <a:pt x="5482" y="7020"/>
                </a:cubicBezTo>
                <a:cubicBezTo>
                  <a:pt x="5541" y="7127"/>
                  <a:pt x="5582" y="7202"/>
                  <a:pt x="5680" y="7268"/>
                </a:cubicBezTo>
                <a:cubicBezTo>
                  <a:pt x="5739" y="7308"/>
                  <a:pt x="5771" y="7309"/>
                  <a:pt x="5829" y="7293"/>
                </a:cubicBezTo>
              </a:path>
              <a:path w="6549" h="2407">
                <a:moveTo>
                  <a:pt x="5705" y="6846"/>
                </a:moveTo>
                <a:cubicBezTo>
                  <a:pt x="5623" y="6928"/>
                  <a:pt x="5559" y="7012"/>
                  <a:pt x="5482" y="7094"/>
                </a:cubicBezTo>
                <a:cubicBezTo>
                  <a:pt x="5406" y="7174"/>
                  <a:pt x="5330" y="7263"/>
                  <a:pt x="5234" y="7317"/>
                </a:cubicBezTo>
              </a:path>
              <a:path w="6549" h="2407">
                <a:moveTo>
                  <a:pt x="3423" y="7590"/>
                </a:moveTo>
                <a:cubicBezTo>
                  <a:pt x="3640" y="7569"/>
                  <a:pt x="3850" y="7565"/>
                  <a:pt x="4068" y="7565"/>
                </a:cubicBezTo>
                <a:cubicBezTo>
                  <a:pt x="4267" y="7565"/>
                  <a:pt x="4463" y="7541"/>
                  <a:pt x="4663" y="7541"/>
                </a:cubicBezTo>
                <a:cubicBezTo>
                  <a:pt x="4872" y="7541"/>
                  <a:pt x="5079" y="7540"/>
                  <a:pt x="5283" y="7516"/>
                </a:cubicBezTo>
                <a:cubicBezTo>
                  <a:pt x="5336" y="7510"/>
                  <a:pt x="5339" y="7516"/>
                  <a:pt x="5283" y="7516"/>
                </a:cubicBezTo>
                <a:cubicBezTo>
                  <a:pt x="5275" y="7516"/>
                  <a:pt x="5267" y="7516"/>
                  <a:pt x="5259" y="7516"/>
                </a:cubicBezTo>
              </a:path>
              <a:path w="6549" h="2407">
                <a:moveTo>
                  <a:pt x="4018" y="8012"/>
                </a:moveTo>
                <a:cubicBezTo>
                  <a:pt x="3965" y="8035"/>
                  <a:pt x="3918" y="8050"/>
                  <a:pt x="3870" y="8086"/>
                </a:cubicBezTo>
                <a:cubicBezTo>
                  <a:pt x="3832" y="8115"/>
                  <a:pt x="3717" y="8156"/>
                  <a:pt x="3696" y="8186"/>
                </a:cubicBezTo>
                <a:cubicBezTo>
                  <a:pt x="3696" y="8210"/>
                  <a:pt x="3696" y="8219"/>
                  <a:pt x="3696" y="8235"/>
                </a:cubicBezTo>
                <a:cubicBezTo>
                  <a:pt x="3749" y="8278"/>
                  <a:pt x="3808" y="8303"/>
                  <a:pt x="3870" y="8334"/>
                </a:cubicBezTo>
                <a:cubicBezTo>
                  <a:pt x="3953" y="8376"/>
                  <a:pt x="4013" y="8417"/>
                  <a:pt x="4068" y="8483"/>
                </a:cubicBezTo>
                <a:cubicBezTo>
                  <a:pt x="4105" y="8527"/>
                  <a:pt x="4105" y="8566"/>
                  <a:pt x="4068" y="8607"/>
                </a:cubicBezTo>
                <a:cubicBezTo>
                  <a:pt x="4034" y="8646"/>
                  <a:pt x="3946" y="8654"/>
                  <a:pt x="3894" y="8657"/>
                </a:cubicBezTo>
                <a:cubicBezTo>
                  <a:pt x="3832" y="8660"/>
                  <a:pt x="3776" y="8631"/>
                  <a:pt x="3721" y="8607"/>
                </a:cubicBezTo>
                <a:cubicBezTo>
                  <a:pt x="3734" y="8556"/>
                  <a:pt x="3780" y="8523"/>
                  <a:pt x="3820" y="8483"/>
                </a:cubicBezTo>
                <a:cubicBezTo>
                  <a:pt x="3866" y="8437"/>
                  <a:pt x="3879" y="8423"/>
                  <a:pt x="3919" y="8409"/>
                </a:cubicBezTo>
              </a:path>
              <a:path w="6549" h="2407">
                <a:moveTo>
                  <a:pt x="4366" y="8186"/>
                </a:moveTo>
                <a:cubicBezTo>
                  <a:pt x="4366" y="8319"/>
                  <a:pt x="4356" y="8464"/>
                  <a:pt x="4390" y="8582"/>
                </a:cubicBezTo>
                <a:cubicBezTo>
                  <a:pt x="4407" y="8641"/>
                  <a:pt x="4390" y="8630"/>
                  <a:pt x="4390" y="8558"/>
                </a:cubicBezTo>
              </a:path>
              <a:path w="6549" h="2407">
                <a:moveTo>
                  <a:pt x="4638" y="8260"/>
                </a:moveTo>
                <a:cubicBezTo>
                  <a:pt x="4651" y="8360"/>
                  <a:pt x="4663" y="8437"/>
                  <a:pt x="4663" y="8533"/>
                </a:cubicBezTo>
                <a:cubicBezTo>
                  <a:pt x="4663" y="8541"/>
                  <a:pt x="4663" y="8550"/>
                  <a:pt x="4663" y="8558"/>
                </a:cubicBezTo>
                <a:cubicBezTo>
                  <a:pt x="4663" y="8477"/>
                  <a:pt x="4675" y="8409"/>
                  <a:pt x="4688" y="8334"/>
                </a:cubicBezTo>
                <a:cubicBezTo>
                  <a:pt x="4699" y="8266"/>
                  <a:pt x="4719" y="8218"/>
                  <a:pt x="4762" y="8161"/>
                </a:cubicBezTo>
                <a:cubicBezTo>
                  <a:pt x="4831" y="8069"/>
                  <a:pt x="4886" y="8113"/>
                  <a:pt x="4936" y="8186"/>
                </a:cubicBezTo>
                <a:cubicBezTo>
                  <a:pt x="4981" y="8252"/>
                  <a:pt x="5022" y="8316"/>
                  <a:pt x="5060" y="8384"/>
                </a:cubicBezTo>
                <a:cubicBezTo>
                  <a:pt x="5095" y="8445"/>
                  <a:pt x="5120" y="8544"/>
                  <a:pt x="5184" y="8582"/>
                </a:cubicBezTo>
                <a:cubicBezTo>
                  <a:pt x="5219" y="8603"/>
                  <a:pt x="5276" y="8580"/>
                  <a:pt x="5283" y="8558"/>
                </a:cubicBezTo>
              </a:path>
              <a:path w="6549" h="2407">
                <a:moveTo>
                  <a:pt x="5333" y="8186"/>
                </a:moveTo>
                <a:cubicBezTo>
                  <a:pt x="5386" y="8268"/>
                  <a:pt x="5456" y="8398"/>
                  <a:pt x="5531" y="8458"/>
                </a:cubicBezTo>
                <a:cubicBezTo>
                  <a:pt x="5598" y="8512"/>
                  <a:pt x="5660" y="8527"/>
                  <a:pt x="5730" y="8558"/>
                </a:cubicBezTo>
                <a:cubicBezTo>
                  <a:pt x="5745" y="8565"/>
                  <a:pt x="5832" y="8609"/>
                  <a:pt x="5854" y="8582"/>
                </a:cubicBezTo>
                <a:cubicBezTo>
                  <a:pt x="5854" y="8549"/>
                  <a:pt x="5854" y="8533"/>
                  <a:pt x="5854" y="8508"/>
                </a:cubicBezTo>
              </a:path>
              <a:path w="6549" h="2407">
                <a:moveTo>
                  <a:pt x="5606" y="8260"/>
                </a:moveTo>
                <a:cubicBezTo>
                  <a:pt x="5512" y="8368"/>
                  <a:pt x="5426" y="8479"/>
                  <a:pt x="5308" y="8558"/>
                </a:cubicBezTo>
                <a:cubicBezTo>
                  <a:pt x="5297" y="8566"/>
                  <a:pt x="5205" y="8634"/>
                  <a:pt x="5184" y="8607"/>
                </a:cubicBezTo>
                <a:cubicBezTo>
                  <a:pt x="5184" y="8579"/>
                  <a:pt x="5186" y="8568"/>
                  <a:pt x="5209" y="8558"/>
                </a:cubicBezTo>
              </a:path>
              <a:path w="6549" h="2407">
                <a:moveTo>
                  <a:pt x="6697" y="7293"/>
                </a:moveTo>
                <a:cubicBezTo>
                  <a:pt x="6674" y="7414"/>
                  <a:pt x="6648" y="7518"/>
                  <a:pt x="6648" y="7640"/>
                </a:cubicBezTo>
                <a:cubicBezTo>
                  <a:pt x="6648" y="7708"/>
                  <a:pt x="6656" y="7757"/>
                  <a:pt x="6672" y="7813"/>
                </a:cubicBezTo>
                <a:cubicBezTo>
                  <a:pt x="6672" y="7838"/>
                  <a:pt x="6672" y="7846"/>
                  <a:pt x="6672" y="7863"/>
                </a:cubicBezTo>
              </a:path>
              <a:path w="6549" h="2407">
                <a:moveTo>
                  <a:pt x="6474" y="7689"/>
                </a:moveTo>
                <a:cubicBezTo>
                  <a:pt x="6584" y="7679"/>
                  <a:pt x="6647" y="7656"/>
                  <a:pt x="6747" y="7615"/>
                </a:cubicBezTo>
                <a:cubicBezTo>
                  <a:pt x="6836" y="7578"/>
                  <a:pt x="6913" y="7542"/>
                  <a:pt x="6995" y="7491"/>
                </a:cubicBezTo>
              </a:path>
              <a:path w="6549" h="2407">
                <a:moveTo>
                  <a:pt x="7789" y="6896"/>
                </a:moveTo>
                <a:cubicBezTo>
                  <a:pt x="7789" y="6948"/>
                  <a:pt x="7809" y="6967"/>
                  <a:pt x="7813" y="7020"/>
                </a:cubicBezTo>
                <a:cubicBezTo>
                  <a:pt x="7817" y="7070"/>
                  <a:pt x="7798" y="7007"/>
                  <a:pt x="7789" y="6995"/>
                </a:cubicBezTo>
                <a:cubicBezTo>
                  <a:pt x="7755" y="6949"/>
                  <a:pt x="7756" y="6958"/>
                  <a:pt x="7714" y="6921"/>
                </a:cubicBezTo>
                <a:cubicBezTo>
                  <a:pt x="7665" y="6878"/>
                  <a:pt x="7637" y="6903"/>
                  <a:pt x="7590" y="6945"/>
                </a:cubicBezTo>
                <a:cubicBezTo>
                  <a:pt x="7551" y="6979"/>
                  <a:pt x="7544" y="7068"/>
                  <a:pt x="7541" y="7119"/>
                </a:cubicBezTo>
                <a:cubicBezTo>
                  <a:pt x="7537" y="7198"/>
                  <a:pt x="7533" y="7270"/>
                  <a:pt x="7565" y="7342"/>
                </a:cubicBezTo>
                <a:cubicBezTo>
                  <a:pt x="7604" y="7431"/>
                  <a:pt x="7646" y="7435"/>
                  <a:pt x="7739" y="7441"/>
                </a:cubicBezTo>
                <a:cubicBezTo>
                  <a:pt x="7818" y="7446"/>
                  <a:pt x="7888" y="7445"/>
                  <a:pt x="7962" y="7417"/>
                </a:cubicBezTo>
                <a:cubicBezTo>
                  <a:pt x="7979" y="7409"/>
                  <a:pt x="7995" y="7400"/>
                  <a:pt x="8012" y="7392"/>
                </a:cubicBezTo>
              </a:path>
              <a:path w="6549" h="2407">
                <a:moveTo>
                  <a:pt x="8186" y="6970"/>
                </a:moveTo>
                <a:cubicBezTo>
                  <a:pt x="8114" y="7052"/>
                  <a:pt x="8111" y="7083"/>
                  <a:pt x="8111" y="7193"/>
                </a:cubicBezTo>
                <a:cubicBezTo>
                  <a:pt x="8111" y="7234"/>
                  <a:pt x="8125" y="7292"/>
                  <a:pt x="8161" y="7317"/>
                </a:cubicBezTo>
                <a:cubicBezTo>
                  <a:pt x="8221" y="7359"/>
                  <a:pt x="8272" y="7344"/>
                  <a:pt x="8334" y="7317"/>
                </a:cubicBezTo>
                <a:cubicBezTo>
                  <a:pt x="8453" y="7265"/>
                  <a:pt x="8508" y="7141"/>
                  <a:pt x="8533" y="7020"/>
                </a:cubicBezTo>
                <a:cubicBezTo>
                  <a:pt x="8544" y="6966"/>
                  <a:pt x="8502" y="6878"/>
                  <a:pt x="8458" y="6846"/>
                </a:cubicBezTo>
                <a:cubicBezTo>
                  <a:pt x="8383" y="6792"/>
                  <a:pt x="8310" y="6834"/>
                  <a:pt x="8235" y="6846"/>
                </a:cubicBezTo>
                <a:cubicBezTo>
                  <a:pt x="8172" y="6856"/>
                  <a:pt x="8106" y="6871"/>
                  <a:pt x="8086" y="6945"/>
                </a:cubicBezTo>
                <a:cubicBezTo>
                  <a:pt x="8070" y="7005"/>
                  <a:pt x="8124" y="7033"/>
                  <a:pt x="8161" y="7069"/>
                </a:cubicBezTo>
                <a:cubicBezTo>
                  <a:pt x="8211" y="7118"/>
                  <a:pt x="8269" y="7124"/>
                  <a:pt x="8334" y="7144"/>
                </a:cubicBezTo>
              </a:path>
              <a:path w="6549" h="2407">
                <a:moveTo>
                  <a:pt x="8806" y="6796"/>
                </a:moveTo>
                <a:cubicBezTo>
                  <a:pt x="8756" y="6808"/>
                  <a:pt x="8626" y="6805"/>
                  <a:pt x="8607" y="6871"/>
                </a:cubicBezTo>
                <a:cubicBezTo>
                  <a:pt x="8586" y="6946"/>
                  <a:pt x="8651" y="7006"/>
                  <a:pt x="8706" y="7045"/>
                </a:cubicBezTo>
                <a:cubicBezTo>
                  <a:pt x="8760" y="7084"/>
                  <a:pt x="8835" y="7146"/>
                  <a:pt x="8855" y="7218"/>
                </a:cubicBezTo>
                <a:cubicBezTo>
                  <a:pt x="8868" y="7266"/>
                  <a:pt x="8881" y="7303"/>
                  <a:pt x="8855" y="7342"/>
                </a:cubicBezTo>
                <a:cubicBezTo>
                  <a:pt x="8837" y="7369"/>
                  <a:pt x="8788" y="7378"/>
                  <a:pt x="8756" y="7367"/>
                </a:cubicBezTo>
                <a:cubicBezTo>
                  <a:pt x="8676" y="7339"/>
                  <a:pt x="8661" y="7291"/>
                  <a:pt x="8632" y="7218"/>
                </a:cubicBezTo>
              </a:path>
              <a:path w="6549" h="2407">
                <a:moveTo>
                  <a:pt x="9004" y="6375"/>
                </a:moveTo>
                <a:cubicBezTo>
                  <a:pt x="9049" y="6375"/>
                  <a:pt x="9118" y="6374"/>
                  <a:pt x="9153" y="6400"/>
                </a:cubicBezTo>
                <a:cubicBezTo>
                  <a:pt x="9208" y="6440"/>
                  <a:pt x="9254" y="6501"/>
                  <a:pt x="9227" y="6573"/>
                </a:cubicBezTo>
                <a:cubicBezTo>
                  <a:pt x="9214" y="6608"/>
                  <a:pt x="9154" y="6669"/>
                  <a:pt x="9128" y="6697"/>
                </a:cubicBezTo>
                <a:cubicBezTo>
                  <a:pt x="9083" y="6746"/>
                  <a:pt x="9044" y="6768"/>
                  <a:pt x="9128" y="6821"/>
                </a:cubicBezTo>
                <a:cubicBezTo>
                  <a:pt x="9149" y="6835"/>
                  <a:pt x="9227" y="6821"/>
                  <a:pt x="9252" y="6821"/>
                </a:cubicBezTo>
              </a:path>
              <a:path w="6549" h="2407">
                <a:moveTo>
                  <a:pt x="9426" y="6921"/>
                </a:moveTo>
                <a:cubicBezTo>
                  <a:pt x="9434" y="7070"/>
                  <a:pt x="9426" y="7114"/>
                  <a:pt x="9525" y="7218"/>
                </a:cubicBezTo>
                <a:cubicBezTo>
                  <a:pt x="9579" y="7275"/>
                  <a:pt x="9650" y="7313"/>
                  <a:pt x="9723" y="7342"/>
                </a:cubicBezTo>
                <a:cubicBezTo>
                  <a:pt x="9757" y="7355"/>
                  <a:pt x="9882" y="7394"/>
                  <a:pt x="9922" y="7367"/>
                </a:cubicBezTo>
                <a:cubicBezTo>
                  <a:pt x="9938" y="7350"/>
                  <a:pt x="9955" y="7334"/>
                  <a:pt x="9971" y="7317"/>
                </a:cubicBezTo>
              </a:path>
              <a:path w="6549" h="2407">
                <a:moveTo>
                  <a:pt x="9897" y="6945"/>
                </a:moveTo>
                <a:cubicBezTo>
                  <a:pt x="9816" y="7027"/>
                  <a:pt x="9735" y="7095"/>
                  <a:pt x="9649" y="7169"/>
                </a:cubicBezTo>
                <a:cubicBezTo>
                  <a:pt x="9581" y="7227"/>
                  <a:pt x="9488" y="7302"/>
                  <a:pt x="9426" y="7367"/>
                </a:cubicBezTo>
                <a:cubicBezTo>
                  <a:pt x="9356" y="7441"/>
                  <a:pt x="9326" y="7434"/>
                  <a:pt x="9227" y="7466"/>
                </a:cubicBezTo>
                <a:cubicBezTo>
                  <a:pt x="9165" y="7498"/>
                  <a:pt x="9134" y="7506"/>
                  <a:pt x="9079" y="7491"/>
                </a:cubicBezTo>
              </a:path>
              <a:path w="6549" h="2407">
                <a:moveTo>
                  <a:pt x="7640" y="7615"/>
                </a:moveTo>
                <a:cubicBezTo>
                  <a:pt x="7733" y="7650"/>
                  <a:pt x="7836" y="7647"/>
                  <a:pt x="7938" y="7640"/>
                </a:cubicBezTo>
                <a:cubicBezTo>
                  <a:pt x="8189" y="7623"/>
                  <a:pt x="8431" y="7615"/>
                  <a:pt x="8682" y="7615"/>
                </a:cubicBezTo>
                <a:cubicBezTo>
                  <a:pt x="8882" y="7615"/>
                  <a:pt x="9076" y="7640"/>
                  <a:pt x="9277" y="7640"/>
                </a:cubicBezTo>
                <a:cubicBezTo>
                  <a:pt x="9353" y="7640"/>
                  <a:pt x="9511" y="7660"/>
                  <a:pt x="9550" y="7615"/>
                </a:cubicBezTo>
                <a:cubicBezTo>
                  <a:pt x="9586" y="7574"/>
                  <a:pt x="9454" y="7579"/>
                  <a:pt x="9401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95880" y="2446200"/>
            <a:ext cx="1482480" cy="428760"/>
          </a:xfrm>
          <a:custGeom>
            <a:avLst/>
            <a:gdLst/>
            <a:ahLst/>
            <a:rect l="l" t="t" r="r" b="b"/>
            <a:pathLst>
              <a:path w="4119" h="1192">
                <a:moveTo>
                  <a:pt x="12774" y="7193"/>
                </a:moveTo>
                <a:cubicBezTo>
                  <a:pt x="12774" y="7158"/>
                  <a:pt x="12767" y="7120"/>
                  <a:pt x="12750" y="7094"/>
                </a:cubicBezTo>
                <a:cubicBezTo>
                  <a:pt x="12717" y="7044"/>
                  <a:pt x="12672" y="7013"/>
                  <a:pt x="12626" y="7045"/>
                </a:cubicBezTo>
                <a:cubicBezTo>
                  <a:pt x="12568" y="7085"/>
                  <a:pt x="12571" y="7114"/>
                  <a:pt x="12551" y="7169"/>
                </a:cubicBezTo>
                <a:cubicBezTo>
                  <a:pt x="12536" y="7212"/>
                  <a:pt x="12505" y="7291"/>
                  <a:pt x="12526" y="7342"/>
                </a:cubicBezTo>
                <a:cubicBezTo>
                  <a:pt x="12537" y="7369"/>
                  <a:pt x="12584" y="7416"/>
                  <a:pt x="12601" y="7417"/>
                </a:cubicBezTo>
                <a:cubicBezTo>
                  <a:pt x="12646" y="7421"/>
                  <a:pt x="12705" y="7388"/>
                  <a:pt x="12725" y="7342"/>
                </a:cubicBezTo>
                <a:cubicBezTo>
                  <a:pt x="12745" y="7297"/>
                  <a:pt x="12750" y="7274"/>
                  <a:pt x="12750" y="7218"/>
                </a:cubicBezTo>
                <a:cubicBezTo>
                  <a:pt x="12723" y="7282"/>
                  <a:pt x="12725" y="7321"/>
                  <a:pt x="12725" y="7392"/>
                </a:cubicBezTo>
                <a:cubicBezTo>
                  <a:pt x="12725" y="7449"/>
                  <a:pt x="12700" y="7502"/>
                  <a:pt x="12700" y="7565"/>
                </a:cubicBezTo>
                <a:cubicBezTo>
                  <a:pt x="12700" y="7620"/>
                  <a:pt x="12670" y="7730"/>
                  <a:pt x="12725" y="7640"/>
                </a:cubicBezTo>
              </a:path>
              <a:path w="4119" h="1192">
                <a:moveTo>
                  <a:pt x="12799" y="6995"/>
                </a:moveTo>
                <a:cubicBezTo>
                  <a:pt x="12646" y="6860"/>
                  <a:pt x="12677" y="6871"/>
                  <a:pt x="12502" y="6871"/>
                </a:cubicBezTo>
                <a:cubicBezTo>
                  <a:pt x="12403" y="6871"/>
                  <a:pt x="12284" y="6933"/>
                  <a:pt x="12204" y="6995"/>
                </a:cubicBezTo>
                <a:cubicBezTo>
                  <a:pt x="12105" y="7072"/>
                  <a:pt x="11980" y="7186"/>
                  <a:pt x="11956" y="7317"/>
                </a:cubicBezTo>
                <a:cubicBezTo>
                  <a:pt x="11938" y="7413"/>
                  <a:pt x="11930" y="7519"/>
                  <a:pt x="11956" y="7615"/>
                </a:cubicBezTo>
                <a:cubicBezTo>
                  <a:pt x="11974" y="7682"/>
                  <a:pt x="12007" y="7762"/>
                  <a:pt x="12055" y="7813"/>
                </a:cubicBezTo>
                <a:cubicBezTo>
                  <a:pt x="12121" y="7883"/>
                  <a:pt x="12233" y="7884"/>
                  <a:pt x="12328" y="7888"/>
                </a:cubicBezTo>
                <a:cubicBezTo>
                  <a:pt x="12414" y="7892"/>
                  <a:pt x="12527" y="7855"/>
                  <a:pt x="12601" y="7813"/>
                </a:cubicBezTo>
                <a:cubicBezTo>
                  <a:pt x="12726" y="7743"/>
                  <a:pt x="12876" y="7612"/>
                  <a:pt x="12948" y="7491"/>
                </a:cubicBezTo>
                <a:cubicBezTo>
                  <a:pt x="12997" y="7409"/>
                  <a:pt x="12973" y="7284"/>
                  <a:pt x="12973" y="7193"/>
                </a:cubicBezTo>
                <a:cubicBezTo>
                  <a:pt x="12973" y="7112"/>
                  <a:pt x="12918" y="7023"/>
                  <a:pt x="12849" y="6970"/>
                </a:cubicBezTo>
                <a:cubicBezTo>
                  <a:pt x="12794" y="6927"/>
                  <a:pt x="12740" y="6891"/>
                  <a:pt x="12675" y="6871"/>
                </a:cubicBezTo>
                <a:cubicBezTo>
                  <a:pt x="12667" y="6871"/>
                  <a:pt x="12658" y="6871"/>
                  <a:pt x="12650" y="6871"/>
                </a:cubicBezTo>
              </a:path>
              <a:path w="4119" h="1192">
                <a:moveTo>
                  <a:pt x="14064" y="6995"/>
                </a:moveTo>
                <a:cubicBezTo>
                  <a:pt x="14083" y="7052"/>
                  <a:pt x="14092" y="7059"/>
                  <a:pt x="14089" y="7094"/>
                </a:cubicBezTo>
                <a:cubicBezTo>
                  <a:pt x="14052" y="7082"/>
                  <a:pt x="14059" y="7072"/>
                  <a:pt x="14039" y="7045"/>
                </a:cubicBezTo>
                <a:cubicBezTo>
                  <a:pt x="14020" y="7019"/>
                  <a:pt x="13985" y="6998"/>
                  <a:pt x="13965" y="6995"/>
                </a:cubicBezTo>
                <a:cubicBezTo>
                  <a:pt x="13912" y="6988"/>
                  <a:pt x="13879" y="7013"/>
                  <a:pt x="13866" y="7069"/>
                </a:cubicBezTo>
                <a:cubicBezTo>
                  <a:pt x="13849" y="7142"/>
                  <a:pt x="13832" y="7218"/>
                  <a:pt x="13816" y="7293"/>
                </a:cubicBezTo>
                <a:cubicBezTo>
                  <a:pt x="13796" y="7387"/>
                  <a:pt x="13764" y="7517"/>
                  <a:pt x="13791" y="7615"/>
                </a:cubicBezTo>
                <a:cubicBezTo>
                  <a:pt x="13812" y="7691"/>
                  <a:pt x="13870" y="7710"/>
                  <a:pt x="13940" y="7714"/>
                </a:cubicBezTo>
                <a:cubicBezTo>
                  <a:pt x="14040" y="7720"/>
                  <a:pt x="14078" y="7694"/>
                  <a:pt x="14163" y="7640"/>
                </a:cubicBezTo>
              </a:path>
              <a:path w="4119" h="1192">
                <a:moveTo>
                  <a:pt x="14436" y="7218"/>
                </a:moveTo>
                <a:cubicBezTo>
                  <a:pt x="14400" y="7359"/>
                  <a:pt x="14374" y="7423"/>
                  <a:pt x="14387" y="7541"/>
                </a:cubicBezTo>
                <a:cubicBezTo>
                  <a:pt x="14394" y="7605"/>
                  <a:pt x="14417" y="7642"/>
                  <a:pt x="14486" y="7665"/>
                </a:cubicBezTo>
                <a:cubicBezTo>
                  <a:pt x="14514" y="7674"/>
                  <a:pt x="14635" y="7633"/>
                  <a:pt x="14660" y="7615"/>
                </a:cubicBezTo>
                <a:cubicBezTo>
                  <a:pt x="14719" y="7572"/>
                  <a:pt x="14772" y="7461"/>
                  <a:pt x="14784" y="7392"/>
                </a:cubicBezTo>
                <a:cubicBezTo>
                  <a:pt x="14802" y="7283"/>
                  <a:pt x="14781" y="7220"/>
                  <a:pt x="14709" y="7144"/>
                </a:cubicBezTo>
                <a:cubicBezTo>
                  <a:pt x="14652" y="7083"/>
                  <a:pt x="14575" y="7029"/>
                  <a:pt x="14486" y="7045"/>
                </a:cubicBezTo>
                <a:cubicBezTo>
                  <a:pt x="14415" y="7058"/>
                  <a:pt x="14360" y="7121"/>
                  <a:pt x="14312" y="7169"/>
                </a:cubicBezTo>
                <a:cubicBezTo>
                  <a:pt x="14290" y="7191"/>
                  <a:pt x="14282" y="7196"/>
                  <a:pt x="14288" y="7218"/>
                </a:cubicBezTo>
                <a:cubicBezTo>
                  <a:pt x="14342" y="7260"/>
                  <a:pt x="14345" y="7243"/>
                  <a:pt x="14436" y="7243"/>
                </a:cubicBezTo>
              </a:path>
              <a:path w="4119" h="1192">
                <a:moveTo>
                  <a:pt x="15106" y="6796"/>
                </a:moveTo>
                <a:cubicBezTo>
                  <a:pt x="15067" y="6936"/>
                  <a:pt x="15021" y="7074"/>
                  <a:pt x="15007" y="7218"/>
                </a:cubicBezTo>
                <a:cubicBezTo>
                  <a:pt x="14996" y="7326"/>
                  <a:pt x="15008" y="7448"/>
                  <a:pt x="15032" y="7541"/>
                </a:cubicBezTo>
                <a:cubicBezTo>
                  <a:pt x="15043" y="7583"/>
                  <a:pt x="15014" y="7576"/>
                  <a:pt x="15056" y="7590"/>
                </a:cubicBezTo>
              </a:path>
              <a:path w="4119" h="1192">
                <a:moveTo>
                  <a:pt x="14858" y="7193"/>
                </a:moveTo>
                <a:cubicBezTo>
                  <a:pt x="14964" y="7262"/>
                  <a:pt x="15007" y="7287"/>
                  <a:pt x="15131" y="7293"/>
                </a:cubicBezTo>
                <a:cubicBezTo>
                  <a:pt x="15202" y="7296"/>
                  <a:pt x="15409" y="7326"/>
                  <a:pt x="15453" y="7268"/>
                </a:cubicBezTo>
                <a:cubicBezTo>
                  <a:pt x="15461" y="7251"/>
                  <a:pt x="15470" y="7235"/>
                  <a:pt x="15478" y="7218"/>
                </a:cubicBezTo>
              </a:path>
              <a:path w="4119" h="1192">
                <a:moveTo>
                  <a:pt x="15553" y="7119"/>
                </a:moveTo>
                <a:cubicBezTo>
                  <a:pt x="15566" y="7170"/>
                  <a:pt x="15593" y="7386"/>
                  <a:pt x="15652" y="7441"/>
                </a:cubicBezTo>
                <a:cubicBezTo>
                  <a:pt x="15699" y="7485"/>
                  <a:pt x="15790" y="7513"/>
                  <a:pt x="15850" y="7516"/>
                </a:cubicBezTo>
                <a:cubicBezTo>
                  <a:pt x="15934" y="7520"/>
                  <a:pt x="15976" y="7501"/>
                  <a:pt x="16049" y="7491"/>
                </a:cubicBezTo>
              </a:path>
              <a:path w="4119" h="1192">
                <a:moveTo>
                  <a:pt x="15999" y="7094"/>
                </a:moveTo>
                <a:cubicBezTo>
                  <a:pt x="15906" y="7201"/>
                  <a:pt x="15782" y="7322"/>
                  <a:pt x="15701" y="7441"/>
                </a:cubicBezTo>
                <a:cubicBezTo>
                  <a:pt x="15660" y="7501"/>
                  <a:pt x="15615" y="7571"/>
                  <a:pt x="15553" y="7615"/>
                </a:cubicBezTo>
                <a:cubicBezTo>
                  <a:pt x="15536" y="7623"/>
                  <a:pt x="15520" y="7632"/>
                  <a:pt x="15503" y="7640"/>
                </a:cubicBezTo>
              </a:path>
              <a:path w="4119" h="1192">
                <a:moveTo>
                  <a:pt x="13791" y="7962"/>
                </a:moveTo>
                <a:cubicBezTo>
                  <a:pt x="14189" y="7962"/>
                  <a:pt x="14587" y="7961"/>
                  <a:pt x="14982" y="7987"/>
                </a:cubicBezTo>
                <a:cubicBezTo>
                  <a:pt x="15154" y="7998"/>
                  <a:pt x="15330" y="7987"/>
                  <a:pt x="15503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7960" y="2874960"/>
            <a:ext cx="777960" cy="277920"/>
          </a:xfrm>
          <a:custGeom>
            <a:avLst/>
            <a:gdLst/>
            <a:ahLst/>
            <a:rect l="l" t="t" r="r" b="b"/>
            <a:pathLst>
              <a:path w="2159" h="770">
                <a:moveTo>
                  <a:pt x="8310" y="8012"/>
                </a:moveTo>
                <a:cubicBezTo>
                  <a:pt x="8265" y="8023"/>
                  <a:pt x="8227" y="8041"/>
                  <a:pt x="8186" y="8062"/>
                </a:cubicBezTo>
                <a:cubicBezTo>
                  <a:pt x="8114" y="8100"/>
                  <a:pt x="8029" y="8107"/>
                  <a:pt x="7962" y="8136"/>
                </a:cubicBezTo>
                <a:cubicBezTo>
                  <a:pt x="7912" y="8158"/>
                  <a:pt x="7959" y="8171"/>
                  <a:pt x="7913" y="8186"/>
                </a:cubicBezTo>
                <a:cubicBezTo>
                  <a:pt x="7963" y="8235"/>
                  <a:pt x="7997" y="8234"/>
                  <a:pt x="8062" y="8260"/>
                </a:cubicBezTo>
                <a:cubicBezTo>
                  <a:pt x="8194" y="8312"/>
                  <a:pt x="8210" y="8336"/>
                  <a:pt x="8285" y="8434"/>
                </a:cubicBezTo>
                <a:cubicBezTo>
                  <a:pt x="8324" y="8485"/>
                  <a:pt x="8277" y="8498"/>
                  <a:pt x="8235" y="8533"/>
                </a:cubicBezTo>
                <a:cubicBezTo>
                  <a:pt x="8163" y="8592"/>
                  <a:pt x="8076" y="8582"/>
                  <a:pt x="7987" y="8582"/>
                </a:cubicBezTo>
                <a:cubicBezTo>
                  <a:pt x="7944" y="8582"/>
                  <a:pt x="7948" y="8583"/>
                  <a:pt x="7913" y="8558"/>
                </a:cubicBezTo>
                <a:cubicBezTo>
                  <a:pt x="7925" y="8510"/>
                  <a:pt x="7947" y="8499"/>
                  <a:pt x="7987" y="8458"/>
                </a:cubicBezTo>
              </a:path>
              <a:path w="2159" h="770">
                <a:moveTo>
                  <a:pt x="8582" y="8310"/>
                </a:moveTo>
                <a:cubicBezTo>
                  <a:pt x="8582" y="8346"/>
                  <a:pt x="8582" y="8573"/>
                  <a:pt x="8582" y="8533"/>
                </a:cubicBezTo>
                <a:cubicBezTo>
                  <a:pt x="8582" y="8500"/>
                  <a:pt x="8582" y="8483"/>
                  <a:pt x="8582" y="8458"/>
                </a:cubicBezTo>
              </a:path>
              <a:path w="2159" h="770">
                <a:moveTo>
                  <a:pt x="8582" y="8062"/>
                </a:moveTo>
                <a:cubicBezTo>
                  <a:pt x="8616" y="8003"/>
                  <a:pt x="8616" y="7987"/>
                  <a:pt x="8682" y="7987"/>
                </a:cubicBezTo>
              </a:path>
              <a:path w="2159" h="770">
                <a:moveTo>
                  <a:pt x="8806" y="8409"/>
                </a:moveTo>
                <a:cubicBezTo>
                  <a:pt x="8806" y="8411"/>
                  <a:pt x="8781" y="8579"/>
                  <a:pt x="8781" y="8508"/>
                </a:cubicBezTo>
                <a:cubicBezTo>
                  <a:pt x="8781" y="8468"/>
                  <a:pt x="8794" y="8367"/>
                  <a:pt x="8830" y="8334"/>
                </a:cubicBezTo>
                <a:cubicBezTo>
                  <a:pt x="8873" y="8294"/>
                  <a:pt x="8916" y="8241"/>
                  <a:pt x="8979" y="8235"/>
                </a:cubicBezTo>
                <a:cubicBezTo>
                  <a:pt x="9044" y="8228"/>
                  <a:pt x="9097" y="8312"/>
                  <a:pt x="9128" y="8359"/>
                </a:cubicBezTo>
                <a:cubicBezTo>
                  <a:pt x="9156" y="8401"/>
                  <a:pt x="9188" y="8485"/>
                  <a:pt x="9203" y="8533"/>
                </a:cubicBezTo>
                <a:cubicBezTo>
                  <a:pt x="9211" y="8559"/>
                  <a:pt x="9222" y="8617"/>
                  <a:pt x="9252" y="8632"/>
                </a:cubicBezTo>
                <a:cubicBezTo>
                  <a:pt x="9291" y="8652"/>
                  <a:pt x="9277" y="8600"/>
                  <a:pt x="9277" y="8582"/>
                </a:cubicBezTo>
              </a:path>
              <a:path w="2159" h="770">
                <a:moveTo>
                  <a:pt x="9451" y="8186"/>
                </a:moveTo>
                <a:cubicBezTo>
                  <a:pt x="9544" y="8302"/>
                  <a:pt x="9595" y="8371"/>
                  <a:pt x="9699" y="8458"/>
                </a:cubicBezTo>
                <a:cubicBezTo>
                  <a:pt x="9772" y="8519"/>
                  <a:pt x="9835" y="8541"/>
                  <a:pt x="9922" y="8582"/>
                </a:cubicBezTo>
                <a:cubicBezTo>
                  <a:pt x="9984" y="8611"/>
                  <a:pt x="10019" y="8621"/>
                  <a:pt x="10071" y="8582"/>
                </a:cubicBezTo>
              </a:path>
              <a:path w="2159" h="770">
                <a:moveTo>
                  <a:pt x="9798" y="8186"/>
                </a:moveTo>
                <a:cubicBezTo>
                  <a:pt x="9662" y="8274"/>
                  <a:pt x="9551" y="8356"/>
                  <a:pt x="9426" y="8458"/>
                </a:cubicBezTo>
                <a:cubicBezTo>
                  <a:pt x="9319" y="8546"/>
                  <a:pt x="9213" y="8655"/>
                  <a:pt x="9128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6960" y="3062160"/>
            <a:ext cx="706320" cy="260640"/>
          </a:xfrm>
          <a:custGeom>
            <a:avLst/>
            <a:gdLst/>
            <a:ahLst/>
            <a:rect l="l" t="t" r="r" b="b"/>
            <a:pathLst>
              <a:path w="1961" h="720">
                <a:moveTo>
                  <a:pt x="14660" y="8508"/>
                </a:moveTo>
                <a:cubicBezTo>
                  <a:pt x="14704" y="8677"/>
                  <a:pt x="14655" y="8597"/>
                  <a:pt x="14734" y="8657"/>
                </a:cubicBezTo>
                <a:cubicBezTo>
                  <a:pt x="14734" y="8597"/>
                  <a:pt x="14725" y="8609"/>
                  <a:pt x="14684" y="8582"/>
                </a:cubicBezTo>
                <a:cubicBezTo>
                  <a:pt x="14635" y="8550"/>
                  <a:pt x="14551" y="8494"/>
                  <a:pt x="14486" y="8508"/>
                </a:cubicBezTo>
                <a:cubicBezTo>
                  <a:pt x="14427" y="8521"/>
                  <a:pt x="14368" y="8611"/>
                  <a:pt x="14337" y="8657"/>
                </a:cubicBezTo>
                <a:cubicBezTo>
                  <a:pt x="14273" y="8751"/>
                  <a:pt x="14240" y="8832"/>
                  <a:pt x="14213" y="8930"/>
                </a:cubicBezTo>
                <a:cubicBezTo>
                  <a:pt x="14195" y="8995"/>
                  <a:pt x="14169" y="9083"/>
                  <a:pt x="14188" y="9153"/>
                </a:cubicBezTo>
                <a:cubicBezTo>
                  <a:pt x="14203" y="9208"/>
                  <a:pt x="14279" y="9239"/>
                  <a:pt x="14337" y="9227"/>
                </a:cubicBezTo>
                <a:cubicBezTo>
                  <a:pt x="14390" y="9216"/>
                  <a:pt x="14460" y="9172"/>
                  <a:pt x="14511" y="9153"/>
                </a:cubicBezTo>
              </a:path>
              <a:path w="1961" h="720">
                <a:moveTo>
                  <a:pt x="14833" y="8756"/>
                </a:moveTo>
                <a:cubicBezTo>
                  <a:pt x="14827" y="8855"/>
                  <a:pt x="14808" y="8932"/>
                  <a:pt x="14808" y="9029"/>
                </a:cubicBezTo>
                <a:cubicBezTo>
                  <a:pt x="14808" y="9075"/>
                  <a:pt x="14834" y="9131"/>
                  <a:pt x="14883" y="9153"/>
                </a:cubicBezTo>
                <a:cubicBezTo>
                  <a:pt x="14949" y="9182"/>
                  <a:pt x="15030" y="9145"/>
                  <a:pt x="15081" y="9103"/>
                </a:cubicBezTo>
                <a:cubicBezTo>
                  <a:pt x="15139" y="9055"/>
                  <a:pt x="15213" y="8982"/>
                  <a:pt x="15230" y="8905"/>
                </a:cubicBezTo>
                <a:cubicBezTo>
                  <a:pt x="15245" y="8836"/>
                  <a:pt x="15219" y="8762"/>
                  <a:pt x="15180" y="8706"/>
                </a:cubicBezTo>
                <a:cubicBezTo>
                  <a:pt x="15148" y="8659"/>
                  <a:pt x="15057" y="8682"/>
                  <a:pt x="15007" y="8682"/>
                </a:cubicBezTo>
                <a:cubicBezTo>
                  <a:pt x="14978" y="8682"/>
                  <a:pt x="14808" y="8696"/>
                  <a:pt x="14808" y="8756"/>
                </a:cubicBezTo>
                <a:cubicBezTo>
                  <a:pt x="14833" y="8756"/>
                  <a:pt x="14841" y="8756"/>
                  <a:pt x="14858" y="8756"/>
                </a:cubicBezTo>
              </a:path>
              <a:path w="1961" h="720">
                <a:moveTo>
                  <a:pt x="15478" y="8607"/>
                </a:moveTo>
                <a:cubicBezTo>
                  <a:pt x="15418" y="8613"/>
                  <a:pt x="15313" y="8644"/>
                  <a:pt x="15280" y="8706"/>
                </a:cubicBezTo>
                <a:cubicBezTo>
                  <a:pt x="15251" y="8761"/>
                  <a:pt x="15293" y="8842"/>
                  <a:pt x="15329" y="8880"/>
                </a:cubicBezTo>
                <a:cubicBezTo>
                  <a:pt x="15375" y="8929"/>
                  <a:pt x="15406" y="8981"/>
                  <a:pt x="15453" y="9029"/>
                </a:cubicBezTo>
                <a:cubicBezTo>
                  <a:pt x="15479" y="9055"/>
                  <a:pt x="15500" y="9104"/>
                  <a:pt x="15453" y="9128"/>
                </a:cubicBezTo>
                <a:cubicBezTo>
                  <a:pt x="15424" y="9143"/>
                  <a:pt x="15349" y="9115"/>
                  <a:pt x="15329" y="9103"/>
                </a:cubicBezTo>
                <a:cubicBezTo>
                  <a:pt x="15304" y="9079"/>
                  <a:pt x="15296" y="9071"/>
                  <a:pt x="15280" y="9054"/>
                </a:cubicBezTo>
              </a:path>
              <a:path w="1961" h="720">
                <a:moveTo>
                  <a:pt x="15751" y="8682"/>
                </a:moveTo>
                <a:cubicBezTo>
                  <a:pt x="15805" y="8835"/>
                  <a:pt x="15795" y="8812"/>
                  <a:pt x="15875" y="8905"/>
                </a:cubicBezTo>
                <a:cubicBezTo>
                  <a:pt x="15920" y="8957"/>
                  <a:pt x="15958" y="8991"/>
                  <a:pt x="16024" y="9004"/>
                </a:cubicBezTo>
                <a:cubicBezTo>
                  <a:pt x="16077" y="9015"/>
                  <a:pt x="16108" y="9003"/>
                  <a:pt x="16148" y="8979"/>
                </a:cubicBezTo>
              </a:path>
              <a:path w="1961" h="720">
                <a:moveTo>
                  <a:pt x="15999" y="8781"/>
                </a:moveTo>
                <a:cubicBezTo>
                  <a:pt x="15919" y="8875"/>
                  <a:pt x="15839" y="8951"/>
                  <a:pt x="15751" y="9029"/>
                </a:cubicBezTo>
                <a:cubicBezTo>
                  <a:pt x="15701" y="9079"/>
                  <a:pt x="15685" y="9095"/>
                  <a:pt x="1565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4120" y="3652920"/>
            <a:ext cx="1982880" cy="446040"/>
          </a:xfrm>
          <a:custGeom>
            <a:avLst/>
            <a:gdLst/>
            <a:ahLst/>
            <a:rect l="l" t="t" r="r" b="b"/>
            <a:pathLst>
              <a:path w="5508" h="1241">
                <a:moveTo>
                  <a:pt x="4663" y="10492"/>
                </a:moveTo>
                <a:cubicBezTo>
                  <a:pt x="4663" y="10536"/>
                  <a:pt x="4664" y="10532"/>
                  <a:pt x="4638" y="10567"/>
                </a:cubicBezTo>
                <a:cubicBezTo>
                  <a:pt x="4588" y="10554"/>
                  <a:pt x="4575" y="10542"/>
                  <a:pt x="4514" y="10542"/>
                </a:cubicBezTo>
                <a:cubicBezTo>
                  <a:pt x="4459" y="10542"/>
                  <a:pt x="4407" y="10530"/>
                  <a:pt x="4366" y="10567"/>
                </a:cubicBezTo>
                <a:cubicBezTo>
                  <a:pt x="4323" y="10606"/>
                  <a:pt x="4299" y="10619"/>
                  <a:pt x="4341" y="10666"/>
                </a:cubicBezTo>
                <a:cubicBezTo>
                  <a:pt x="4391" y="10722"/>
                  <a:pt x="4425" y="10771"/>
                  <a:pt x="4490" y="10815"/>
                </a:cubicBezTo>
                <a:cubicBezTo>
                  <a:pt x="4575" y="10872"/>
                  <a:pt x="4655" y="10908"/>
                  <a:pt x="4688" y="11013"/>
                </a:cubicBezTo>
                <a:cubicBezTo>
                  <a:pt x="4702" y="11059"/>
                  <a:pt x="4684" y="11073"/>
                  <a:pt x="4663" y="11088"/>
                </a:cubicBezTo>
                <a:cubicBezTo>
                  <a:pt x="4607" y="11129"/>
                  <a:pt x="4594" y="11096"/>
                  <a:pt x="4539" y="11088"/>
                </a:cubicBezTo>
                <a:cubicBezTo>
                  <a:pt x="4502" y="11083"/>
                  <a:pt x="4393" y="11071"/>
                  <a:pt x="4366" y="11038"/>
                </a:cubicBezTo>
                <a:cubicBezTo>
                  <a:pt x="4342" y="11008"/>
                  <a:pt x="4378" y="10935"/>
                  <a:pt x="4390" y="10914"/>
                </a:cubicBezTo>
              </a:path>
              <a:path w="5508" h="1241">
                <a:moveTo>
                  <a:pt x="4936" y="10666"/>
                </a:moveTo>
                <a:cubicBezTo>
                  <a:pt x="4955" y="10756"/>
                  <a:pt x="4961" y="10823"/>
                  <a:pt x="4961" y="10914"/>
                </a:cubicBezTo>
                <a:cubicBezTo>
                  <a:pt x="4961" y="10942"/>
                  <a:pt x="4961" y="11114"/>
                  <a:pt x="4961" y="11063"/>
                </a:cubicBezTo>
                <a:cubicBezTo>
                  <a:pt x="4961" y="11004"/>
                  <a:pt x="4954" y="10963"/>
                  <a:pt x="4936" y="10914"/>
                </a:cubicBezTo>
              </a:path>
              <a:path w="5508" h="1241">
                <a:moveTo>
                  <a:pt x="4911" y="10319"/>
                </a:moveTo>
                <a:cubicBezTo>
                  <a:pt x="4911" y="10294"/>
                  <a:pt x="4911" y="10286"/>
                  <a:pt x="4936" y="10294"/>
                </a:cubicBezTo>
              </a:path>
              <a:path w="5508" h="1241">
                <a:moveTo>
                  <a:pt x="5110" y="10864"/>
                </a:moveTo>
                <a:cubicBezTo>
                  <a:pt x="5126" y="10967"/>
                  <a:pt x="5135" y="11001"/>
                  <a:pt x="5135" y="11088"/>
                </a:cubicBezTo>
                <a:cubicBezTo>
                  <a:pt x="5135" y="11124"/>
                  <a:pt x="5164" y="11074"/>
                  <a:pt x="5159" y="11038"/>
                </a:cubicBezTo>
                <a:cubicBezTo>
                  <a:pt x="5148" y="10956"/>
                  <a:pt x="5145" y="10950"/>
                  <a:pt x="5159" y="10864"/>
                </a:cubicBezTo>
                <a:cubicBezTo>
                  <a:pt x="5171" y="10789"/>
                  <a:pt x="5199" y="10736"/>
                  <a:pt x="5234" y="10666"/>
                </a:cubicBezTo>
                <a:cubicBezTo>
                  <a:pt x="5252" y="10630"/>
                  <a:pt x="5299" y="10541"/>
                  <a:pt x="5358" y="10567"/>
                </a:cubicBezTo>
                <a:cubicBezTo>
                  <a:pt x="5458" y="10612"/>
                  <a:pt x="5469" y="10699"/>
                  <a:pt x="5507" y="10790"/>
                </a:cubicBezTo>
                <a:cubicBezTo>
                  <a:pt x="5539" y="10867"/>
                  <a:pt x="5552" y="10955"/>
                  <a:pt x="5556" y="11038"/>
                </a:cubicBezTo>
                <a:cubicBezTo>
                  <a:pt x="5556" y="11048"/>
                  <a:pt x="5556" y="11204"/>
                  <a:pt x="5556" y="11137"/>
                </a:cubicBezTo>
                <a:cubicBezTo>
                  <a:pt x="5556" y="11121"/>
                  <a:pt x="5556" y="11104"/>
                  <a:pt x="5556" y="11088"/>
                </a:cubicBezTo>
              </a:path>
              <a:path w="5508" h="1241">
                <a:moveTo>
                  <a:pt x="5531" y="10145"/>
                </a:moveTo>
                <a:cubicBezTo>
                  <a:pt x="5633" y="10145"/>
                  <a:pt x="5694" y="10111"/>
                  <a:pt x="5705" y="10220"/>
                </a:cubicBezTo>
                <a:cubicBezTo>
                  <a:pt x="5709" y="10264"/>
                  <a:pt x="5657" y="10334"/>
                  <a:pt x="5631" y="10368"/>
                </a:cubicBezTo>
                <a:cubicBezTo>
                  <a:pt x="5590" y="10423"/>
                  <a:pt x="5595" y="10400"/>
                  <a:pt x="5606" y="10443"/>
                </a:cubicBezTo>
                <a:cubicBezTo>
                  <a:pt x="5619" y="10494"/>
                  <a:pt x="5655" y="10454"/>
                  <a:pt x="5705" y="10468"/>
                </a:cubicBezTo>
                <a:cubicBezTo>
                  <a:pt x="5769" y="10499"/>
                  <a:pt x="5801" y="10503"/>
                  <a:pt x="5854" y="10468"/>
                </a:cubicBezTo>
              </a:path>
              <a:path w="5508" h="1241">
                <a:moveTo>
                  <a:pt x="6028" y="10616"/>
                </a:moveTo>
                <a:cubicBezTo>
                  <a:pt x="6033" y="10731"/>
                  <a:pt x="6026" y="10843"/>
                  <a:pt x="6102" y="10939"/>
                </a:cubicBezTo>
                <a:cubicBezTo>
                  <a:pt x="6147" y="10996"/>
                  <a:pt x="6225" y="11071"/>
                  <a:pt x="6276" y="11112"/>
                </a:cubicBezTo>
                <a:cubicBezTo>
                  <a:pt x="6298" y="11130"/>
                  <a:pt x="6424" y="11172"/>
                  <a:pt x="6449" y="11162"/>
                </a:cubicBezTo>
                <a:cubicBezTo>
                  <a:pt x="6495" y="11143"/>
                  <a:pt x="6510" y="11074"/>
                  <a:pt x="6524" y="11038"/>
                </a:cubicBezTo>
              </a:path>
              <a:path w="5508" h="1241">
                <a:moveTo>
                  <a:pt x="6350" y="10691"/>
                </a:moveTo>
                <a:cubicBezTo>
                  <a:pt x="6277" y="10791"/>
                  <a:pt x="6204" y="10892"/>
                  <a:pt x="6127" y="10988"/>
                </a:cubicBezTo>
                <a:cubicBezTo>
                  <a:pt x="6067" y="11063"/>
                  <a:pt x="5919" y="11263"/>
                  <a:pt x="5978" y="11187"/>
                </a:cubicBezTo>
                <a:cubicBezTo>
                  <a:pt x="5986" y="11170"/>
                  <a:pt x="5995" y="11154"/>
                  <a:pt x="6003" y="11137"/>
                </a:cubicBezTo>
              </a:path>
              <a:path w="5508" h="1241">
                <a:moveTo>
                  <a:pt x="6871" y="10492"/>
                </a:moveTo>
                <a:cubicBezTo>
                  <a:pt x="6862" y="10624"/>
                  <a:pt x="6815" y="10732"/>
                  <a:pt x="6796" y="10864"/>
                </a:cubicBezTo>
                <a:cubicBezTo>
                  <a:pt x="6787" y="10927"/>
                  <a:pt x="6796" y="10999"/>
                  <a:pt x="6796" y="11063"/>
                </a:cubicBezTo>
                <a:cubicBezTo>
                  <a:pt x="6786" y="11022"/>
                  <a:pt x="6779" y="11011"/>
                  <a:pt x="6772" y="10964"/>
                </a:cubicBezTo>
              </a:path>
              <a:path w="5508" h="1241">
                <a:moveTo>
                  <a:pt x="6623" y="10716"/>
                </a:moveTo>
                <a:cubicBezTo>
                  <a:pt x="6792" y="10716"/>
                  <a:pt x="6958" y="10711"/>
                  <a:pt x="7119" y="10691"/>
                </a:cubicBezTo>
                <a:cubicBezTo>
                  <a:pt x="7193" y="10691"/>
                  <a:pt x="7218" y="10691"/>
                  <a:pt x="7268" y="10691"/>
                </a:cubicBezTo>
              </a:path>
              <a:path w="5508" h="1241">
                <a:moveTo>
                  <a:pt x="7640" y="10641"/>
                </a:moveTo>
                <a:cubicBezTo>
                  <a:pt x="7665" y="10641"/>
                  <a:pt x="7673" y="10641"/>
                  <a:pt x="7689" y="10641"/>
                </a:cubicBezTo>
                <a:cubicBezTo>
                  <a:pt x="7689" y="10601"/>
                  <a:pt x="7684" y="10561"/>
                  <a:pt x="7640" y="10542"/>
                </a:cubicBezTo>
                <a:cubicBezTo>
                  <a:pt x="7596" y="10522"/>
                  <a:pt x="7567" y="10566"/>
                  <a:pt x="7541" y="10592"/>
                </a:cubicBezTo>
                <a:cubicBezTo>
                  <a:pt x="7471" y="10662"/>
                  <a:pt x="7455" y="10726"/>
                  <a:pt x="7417" y="10815"/>
                </a:cubicBezTo>
                <a:cubicBezTo>
                  <a:pt x="7391" y="10875"/>
                  <a:pt x="7373" y="10970"/>
                  <a:pt x="7392" y="11038"/>
                </a:cubicBezTo>
                <a:cubicBezTo>
                  <a:pt x="7413" y="11112"/>
                  <a:pt x="7458" y="11113"/>
                  <a:pt x="7516" y="11137"/>
                </a:cubicBezTo>
                <a:cubicBezTo>
                  <a:pt x="7590" y="11167"/>
                  <a:pt x="7625" y="11167"/>
                  <a:pt x="7689" y="11112"/>
                </a:cubicBezTo>
                <a:cubicBezTo>
                  <a:pt x="7714" y="11087"/>
                  <a:pt x="7739" y="11063"/>
                  <a:pt x="7764" y="11038"/>
                </a:cubicBezTo>
              </a:path>
              <a:path w="5508" h="1241">
                <a:moveTo>
                  <a:pt x="7888" y="10666"/>
                </a:moveTo>
                <a:cubicBezTo>
                  <a:pt x="7870" y="10766"/>
                  <a:pt x="7803" y="10917"/>
                  <a:pt x="7863" y="11013"/>
                </a:cubicBezTo>
                <a:cubicBezTo>
                  <a:pt x="7898" y="11069"/>
                  <a:pt x="7952" y="11085"/>
                  <a:pt x="8012" y="11088"/>
                </a:cubicBezTo>
                <a:cubicBezTo>
                  <a:pt x="8068" y="11091"/>
                  <a:pt x="8145" y="11082"/>
                  <a:pt x="8186" y="11038"/>
                </a:cubicBezTo>
                <a:cubicBezTo>
                  <a:pt x="8243" y="10976"/>
                  <a:pt x="8272" y="10896"/>
                  <a:pt x="8285" y="10815"/>
                </a:cubicBezTo>
                <a:cubicBezTo>
                  <a:pt x="8295" y="10753"/>
                  <a:pt x="8290" y="10658"/>
                  <a:pt x="8235" y="10616"/>
                </a:cubicBezTo>
                <a:cubicBezTo>
                  <a:pt x="8202" y="10590"/>
                  <a:pt x="8129" y="10592"/>
                  <a:pt x="8086" y="10592"/>
                </a:cubicBezTo>
                <a:cubicBezTo>
                  <a:pt x="8064" y="10592"/>
                  <a:pt x="7956" y="10589"/>
                  <a:pt x="7962" y="10641"/>
                </a:cubicBezTo>
                <a:cubicBezTo>
                  <a:pt x="7985" y="10664"/>
                  <a:pt x="7989" y="10672"/>
                  <a:pt x="8012" y="10666"/>
                </a:cubicBezTo>
              </a:path>
              <a:path w="5508" h="1241">
                <a:moveTo>
                  <a:pt x="8558" y="10542"/>
                </a:moveTo>
                <a:cubicBezTo>
                  <a:pt x="8516" y="10565"/>
                  <a:pt x="8407" y="10590"/>
                  <a:pt x="8384" y="10641"/>
                </a:cubicBezTo>
                <a:cubicBezTo>
                  <a:pt x="8365" y="10683"/>
                  <a:pt x="8411" y="10761"/>
                  <a:pt x="8434" y="10790"/>
                </a:cubicBezTo>
                <a:cubicBezTo>
                  <a:pt x="8486" y="10858"/>
                  <a:pt x="8553" y="10924"/>
                  <a:pt x="8607" y="10988"/>
                </a:cubicBezTo>
                <a:cubicBezTo>
                  <a:pt x="8674" y="11069"/>
                  <a:pt x="8678" y="11098"/>
                  <a:pt x="8607" y="11162"/>
                </a:cubicBezTo>
                <a:cubicBezTo>
                  <a:pt x="8572" y="11194"/>
                  <a:pt x="8480" y="11165"/>
                  <a:pt x="8434" y="11137"/>
                </a:cubicBezTo>
                <a:cubicBezTo>
                  <a:pt x="8386" y="11107"/>
                  <a:pt x="8362" y="11037"/>
                  <a:pt x="8359" y="10988"/>
                </a:cubicBezTo>
                <a:cubicBezTo>
                  <a:pt x="8359" y="10972"/>
                  <a:pt x="8359" y="10955"/>
                  <a:pt x="8359" y="10939"/>
                </a:cubicBezTo>
              </a:path>
              <a:path w="5508" h="1241">
                <a:moveTo>
                  <a:pt x="8756" y="10244"/>
                </a:moveTo>
                <a:cubicBezTo>
                  <a:pt x="8847" y="10234"/>
                  <a:pt x="8987" y="10200"/>
                  <a:pt x="9029" y="10319"/>
                </a:cubicBezTo>
                <a:cubicBezTo>
                  <a:pt x="9055" y="10393"/>
                  <a:pt x="9012" y="10418"/>
                  <a:pt x="8979" y="10468"/>
                </a:cubicBezTo>
                <a:cubicBezTo>
                  <a:pt x="8956" y="10504"/>
                  <a:pt x="8909" y="10552"/>
                  <a:pt x="8905" y="10592"/>
                </a:cubicBezTo>
                <a:cubicBezTo>
                  <a:pt x="8899" y="10646"/>
                  <a:pt x="8913" y="10648"/>
                  <a:pt x="8954" y="10666"/>
                </a:cubicBezTo>
                <a:cubicBezTo>
                  <a:pt x="9012" y="10691"/>
                  <a:pt x="9040" y="10691"/>
                  <a:pt x="9103" y="10691"/>
                </a:cubicBezTo>
              </a:path>
              <a:path w="5508" h="1241">
                <a:moveTo>
                  <a:pt x="9252" y="10765"/>
                </a:moveTo>
                <a:cubicBezTo>
                  <a:pt x="9260" y="10854"/>
                  <a:pt x="9271" y="10908"/>
                  <a:pt x="9351" y="10964"/>
                </a:cubicBezTo>
                <a:cubicBezTo>
                  <a:pt x="9431" y="11020"/>
                  <a:pt x="9535" y="11073"/>
                  <a:pt x="9624" y="11112"/>
                </a:cubicBezTo>
                <a:cubicBezTo>
                  <a:pt x="9690" y="11141"/>
                  <a:pt x="9754" y="11154"/>
                  <a:pt x="9823" y="11162"/>
                </a:cubicBezTo>
              </a:path>
              <a:path w="5508" h="1241">
                <a:moveTo>
                  <a:pt x="9699" y="10815"/>
                </a:moveTo>
                <a:cubicBezTo>
                  <a:pt x="9615" y="10948"/>
                  <a:pt x="9539" y="11088"/>
                  <a:pt x="9451" y="11212"/>
                </a:cubicBezTo>
                <a:cubicBezTo>
                  <a:pt x="9404" y="11278"/>
                  <a:pt x="9359" y="11328"/>
                  <a:pt x="9302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83120" y="3875040"/>
            <a:ext cx="2251080" cy="689040"/>
          </a:xfrm>
          <a:custGeom>
            <a:avLst/>
            <a:gdLst/>
            <a:ahLst/>
            <a:rect l="l" t="t" r="r" b="b"/>
            <a:pathLst>
              <a:path w="6252" h="1911">
                <a:moveTo>
                  <a:pt x="14312" y="10889"/>
                </a:moveTo>
                <a:cubicBezTo>
                  <a:pt x="14333" y="10938"/>
                  <a:pt x="14337" y="10940"/>
                  <a:pt x="14337" y="10988"/>
                </a:cubicBezTo>
                <a:cubicBezTo>
                  <a:pt x="14308" y="10979"/>
                  <a:pt x="14292" y="10955"/>
                  <a:pt x="14288" y="10914"/>
                </a:cubicBezTo>
                <a:cubicBezTo>
                  <a:pt x="14284" y="10874"/>
                  <a:pt x="14241" y="10822"/>
                  <a:pt x="14213" y="10790"/>
                </a:cubicBezTo>
                <a:cubicBezTo>
                  <a:pt x="14183" y="10756"/>
                  <a:pt x="14144" y="10752"/>
                  <a:pt x="14114" y="10790"/>
                </a:cubicBezTo>
                <a:cubicBezTo>
                  <a:pt x="14062" y="10856"/>
                  <a:pt x="14006" y="10954"/>
                  <a:pt x="13990" y="11038"/>
                </a:cubicBezTo>
                <a:cubicBezTo>
                  <a:pt x="13976" y="11111"/>
                  <a:pt x="13945" y="11210"/>
                  <a:pt x="13965" y="11286"/>
                </a:cubicBezTo>
                <a:cubicBezTo>
                  <a:pt x="13977" y="11333"/>
                  <a:pt x="14038" y="11402"/>
                  <a:pt x="14089" y="11410"/>
                </a:cubicBezTo>
                <a:cubicBezTo>
                  <a:pt x="14198" y="11426"/>
                  <a:pt x="14286" y="11394"/>
                  <a:pt x="14387" y="11361"/>
                </a:cubicBezTo>
              </a:path>
              <a:path w="6252" h="1911">
                <a:moveTo>
                  <a:pt x="14734" y="11013"/>
                </a:moveTo>
                <a:cubicBezTo>
                  <a:pt x="14689" y="11128"/>
                  <a:pt x="14644" y="11219"/>
                  <a:pt x="14635" y="11336"/>
                </a:cubicBezTo>
                <a:cubicBezTo>
                  <a:pt x="14632" y="11375"/>
                  <a:pt x="14701" y="11426"/>
                  <a:pt x="14734" y="11435"/>
                </a:cubicBezTo>
                <a:cubicBezTo>
                  <a:pt x="14787" y="11449"/>
                  <a:pt x="14884" y="11406"/>
                  <a:pt x="14932" y="11385"/>
                </a:cubicBezTo>
                <a:cubicBezTo>
                  <a:pt x="14997" y="11357"/>
                  <a:pt x="15096" y="11274"/>
                  <a:pt x="15131" y="11212"/>
                </a:cubicBezTo>
                <a:cubicBezTo>
                  <a:pt x="15172" y="11139"/>
                  <a:pt x="15163" y="11059"/>
                  <a:pt x="15131" y="10988"/>
                </a:cubicBezTo>
                <a:cubicBezTo>
                  <a:pt x="15093" y="10904"/>
                  <a:pt x="15017" y="10902"/>
                  <a:pt x="14932" y="10914"/>
                </a:cubicBezTo>
                <a:cubicBezTo>
                  <a:pt x="14882" y="10921"/>
                  <a:pt x="14739" y="10921"/>
                  <a:pt x="14709" y="10988"/>
                </a:cubicBezTo>
                <a:cubicBezTo>
                  <a:pt x="14709" y="11021"/>
                  <a:pt x="14717" y="11030"/>
                  <a:pt x="14759" y="11013"/>
                </a:cubicBezTo>
              </a:path>
              <a:path w="6252" h="1911">
                <a:moveTo>
                  <a:pt x="15503" y="10840"/>
                </a:moveTo>
                <a:cubicBezTo>
                  <a:pt x="15455" y="10852"/>
                  <a:pt x="15294" y="10861"/>
                  <a:pt x="15329" y="10964"/>
                </a:cubicBezTo>
                <a:cubicBezTo>
                  <a:pt x="15343" y="11006"/>
                  <a:pt x="15400" y="11100"/>
                  <a:pt x="15429" y="11137"/>
                </a:cubicBezTo>
                <a:cubicBezTo>
                  <a:pt x="15473" y="11195"/>
                  <a:pt x="15550" y="11242"/>
                  <a:pt x="15577" y="11311"/>
                </a:cubicBezTo>
                <a:cubicBezTo>
                  <a:pt x="15599" y="11368"/>
                  <a:pt x="15507" y="11383"/>
                  <a:pt x="15478" y="11385"/>
                </a:cubicBezTo>
                <a:cubicBezTo>
                  <a:pt x="15422" y="11388"/>
                  <a:pt x="15352" y="11396"/>
                  <a:pt x="15304" y="11361"/>
                </a:cubicBezTo>
                <a:cubicBezTo>
                  <a:pt x="15242" y="11316"/>
                  <a:pt x="15255" y="11301"/>
                  <a:pt x="15255" y="11237"/>
                </a:cubicBezTo>
              </a:path>
              <a:path w="6252" h="1911">
                <a:moveTo>
                  <a:pt x="15776" y="10864"/>
                </a:moveTo>
                <a:cubicBezTo>
                  <a:pt x="15802" y="10956"/>
                  <a:pt x="15821" y="11012"/>
                  <a:pt x="15875" y="11088"/>
                </a:cubicBezTo>
                <a:cubicBezTo>
                  <a:pt x="15925" y="11158"/>
                  <a:pt x="15991" y="11226"/>
                  <a:pt x="16073" y="11261"/>
                </a:cubicBezTo>
                <a:cubicBezTo>
                  <a:pt x="16150" y="11294"/>
                  <a:pt x="16257" y="11305"/>
                  <a:pt x="16321" y="11286"/>
                </a:cubicBezTo>
              </a:path>
              <a:path w="6252" h="1911">
                <a:moveTo>
                  <a:pt x="16148" y="10889"/>
                </a:moveTo>
                <a:cubicBezTo>
                  <a:pt x="16070" y="10973"/>
                  <a:pt x="16016" y="11049"/>
                  <a:pt x="15949" y="11137"/>
                </a:cubicBezTo>
                <a:cubicBezTo>
                  <a:pt x="15889" y="11216"/>
                  <a:pt x="15842" y="11269"/>
                  <a:pt x="15776" y="11336"/>
                </a:cubicBezTo>
              </a:path>
              <a:path w="6252" h="1911">
                <a:moveTo>
                  <a:pt x="13841" y="11485"/>
                </a:moveTo>
                <a:cubicBezTo>
                  <a:pt x="14033" y="11504"/>
                  <a:pt x="14220" y="11530"/>
                  <a:pt x="14412" y="11534"/>
                </a:cubicBezTo>
                <a:cubicBezTo>
                  <a:pt x="14674" y="11540"/>
                  <a:pt x="14944" y="11561"/>
                  <a:pt x="15205" y="11584"/>
                </a:cubicBezTo>
                <a:cubicBezTo>
                  <a:pt x="15390" y="11600"/>
                  <a:pt x="15565" y="11609"/>
                  <a:pt x="15751" y="11609"/>
                </a:cubicBezTo>
                <a:cubicBezTo>
                  <a:pt x="15827" y="11609"/>
                  <a:pt x="15887" y="11578"/>
                  <a:pt x="15925" y="11559"/>
                </a:cubicBezTo>
                <a:cubicBezTo>
                  <a:pt x="15883" y="11534"/>
                  <a:pt x="15803" y="11516"/>
                  <a:pt x="15751" y="11509"/>
                </a:cubicBezTo>
                <a:cubicBezTo>
                  <a:pt x="15726" y="11509"/>
                  <a:pt x="15702" y="11509"/>
                  <a:pt x="15677" y="11509"/>
                </a:cubicBezTo>
              </a:path>
              <a:path w="6252" h="1911">
                <a:moveTo>
                  <a:pt x="14684" y="12055"/>
                </a:moveTo>
                <a:cubicBezTo>
                  <a:pt x="14692" y="12063"/>
                  <a:pt x="14701" y="12072"/>
                  <a:pt x="14709" y="12080"/>
                </a:cubicBezTo>
                <a:cubicBezTo>
                  <a:pt x="14709" y="12037"/>
                  <a:pt x="14704" y="12020"/>
                  <a:pt x="14660" y="12005"/>
                </a:cubicBezTo>
                <a:cubicBezTo>
                  <a:pt x="14616" y="11990"/>
                  <a:pt x="14526" y="12017"/>
                  <a:pt x="14486" y="12030"/>
                </a:cubicBezTo>
                <a:cubicBezTo>
                  <a:pt x="14418" y="12053"/>
                  <a:pt x="14363" y="12080"/>
                  <a:pt x="14312" y="12129"/>
                </a:cubicBezTo>
                <a:cubicBezTo>
                  <a:pt x="14335" y="12187"/>
                  <a:pt x="14389" y="12231"/>
                  <a:pt x="14436" y="12278"/>
                </a:cubicBezTo>
                <a:cubicBezTo>
                  <a:pt x="14505" y="12347"/>
                  <a:pt x="14580" y="12395"/>
                  <a:pt x="14635" y="12477"/>
                </a:cubicBezTo>
                <a:cubicBezTo>
                  <a:pt x="14670" y="12528"/>
                  <a:pt x="14675" y="12582"/>
                  <a:pt x="14635" y="12626"/>
                </a:cubicBezTo>
                <a:cubicBezTo>
                  <a:pt x="14579" y="12688"/>
                  <a:pt x="14513" y="12675"/>
                  <a:pt x="14436" y="12675"/>
                </a:cubicBezTo>
                <a:cubicBezTo>
                  <a:pt x="14386" y="12675"/>
                  <a:pt x="14296" y="12644"/>
                  <a:pt x="14263" y="12601"/>
                </a:cubicBezTo>
                <a:cubicBezTo>
                  <a:pt x="14230" y="12558"/>
                  <a:pt x="14294" y="12463"/>
                  <a:pt x="14312" y="12427"/>
                </a:cubicBezTo>
              </a:path>
              <a:path w="6252" h="1911">
                <a:moveTo>
                  <a:pt x="15081" y="12229"/>
                </a:moveTo>
                <a:cubicBezTo>
                  <a:pt x="15081" y="12339"/>
                  <a:pt x="15079" y="12383"/>
                  <a:pt x="15056" y="12477"/>
                </a:cubicBezTo>
                <a:cubicBezTo>
                  <a:pt x="15053" y="12487"/>
                  <a:pt x="15027" y="12577"/>
                  <a:pt x="15007" y="12551"/>
                </a:cubicBezTo>
                <a:cubicBezTo>
                  <a:pt x="14994" y="12534"/>
                  <a:pt x="15007" y="12476"/>
                  <a:pt x="15007" y="12452"/>
                </a:cubicBezTo>
              </a:path>
              <a:path w="6252" h="1911">
                <a:moveTo>
                  <a:pt x="15007" y="11857"/>
                </a:moveTo>
                <a:cubicBezTo>
                  <a:pt x="15062" y="11815"/>
                  <a:pt x="15052" y="11839"/>
                  <a:pt x="15106" y="11857"/>
                </a:cubicBezTo>
                <a:cubicBezTo>
                  <a:pt x="15114" y="11857"/>
                  <a:pt x="15123" y="11857"/>
                  <a:pt x="15131" y="11857"/>
                </a:cubicBezTo>
              </a:path>
              <a:path w="6252" h="1911">
                <a:moveTo>
                  <a:pt x="15329" y="12526"/>
                </a:moveTo>
                <a:cubicBezTo>
                  <a:pt x="15321" y="12559"/>
                  <a:pt x="15312" y="12593"/>
                  <a:pt x="15304" y="12626"/>
                </a:cubicBezTo>
                <a:cubicBezTo>
                  <a:pt x="15304" y="12554"/>
                  <a:pt x="15302" y="12497"/>
                  <a:pt x="15329" y="12427"/>
                </a:cubicBezTo>
                <a:cubicBezTo>
                  <a:pt x="15364" y="12337"/>
                  <a:pt x="15399" y="12241"/>
                  <a:pt x="15478" y="12179"/>
                </a:cubicBezTo>
                <a:cubicBezTo>
                  <a:pt x="15554" y="12120"/>
                  <a:pt x="15648" y="12127"/>
                  <a:pt x="15726" y="12179"/>
                </a:cubicBezTo>
                <a:cubicBezTo>
                  <a:pt x="15794" y="12225"/>
                  <a:pt x="15845" y="12303"/>
                  <a:pt x="15875" y="12378"/>
                </a:cubicBezTo>
                <a:cubicBezTo>
                  <a:pt x="15904" y="12452"/>
                  <a:pt x="15796" y="12601"/>
                  <a:pt x="15875" y="12601"/>
                </a:cubicBezTo>
                <a:cubicBezTo>
                  <a:pt x="15899" y="12601"/>
                  <a:pt x="15918" y="12495"/>
                  <a:pt x="15925" y="12477"/>
                </a:cubicBezTo>
              </a:path>
              <a:path w="6252" h="1911">
                <a:moveTo>
                  <a:pt x="16892" y="11311"/>
                </a:moveTo>
                <a:cubicBezTo>
                  <a:pt x="16892" y="11336"/>
                  <a:pt x="16892" y="11360"/>
                  <a:pt x="16892" y="11385"/>
                </a:cubicBezTo>
              </a:path>
              <a:path w="6252" h="1911">
                <a:moveTo>
                  <a:pt x="16867" y="12055"/>
                </a:moveTo>
                <a:cubicBezTo>
                  <a:pt x="16867" y="12202"/>
                  <a:pt x="16882" y="12157"/>
                  <a:pt x="16842" y="12105"/>
                </a:cubicBezTo>
              </a:path>
              <a:path w="6252" h="1911">
                <a:moveTo>
                  <a:pt x="16619" y="11509"/>
                </a:moveTo>
                <a:cubicBezTo>
                  <a:pt x="16749" y="11529"/>
                  <a:pt x="16860" y="11534"/>
                  <a:pt x="16991" y="11534"/>
                </a:cubicBezTo>
                <a:cubicBezTo>
                  <a:pt x="17084" y="11534"/>
                  <a:pt x="17171" y="11515"/>
                  <a:pt x="17264" y="11509"/>
                </a:cubicBezTo>
              </a:path>
              <a:path w="6252" h="1911">
                <a:moveTo>
                  <a:pt x="18306" y="11112"/>
                </a:moveTo>
                <a:cubicBezTo>
                  <a:pt x="18277" y="11084"/>
                  <a:pt x="18242" y="11050"/>
                  <a:pt x="18207" y="11038"/>
                </a:cubicBezTo>
                <a:cubicBezTo>
                  <a:pt x="18149" y="11019"/>
                  <a:pt x="18098" y="11051"/>
                  <a:pt x="18058" y="11088"/>
                </a:cubicBezTo>
                <a:cubicBezTo>
                  <a:pt x="18010" y="11132"/>
                  <a:pt x="17946" y="11219"/>
                  <a:pt x="17934" y="11286"/>
                </a:cubicBezTo>
                <a:cubicBezTo>
                  <a:pt x="17919" y="11374"/>
                  <a:pt x="17945" y="11433"/>
                  <a:pt x="17983" y="11509"/>
                </a:cubicBezTo>
                <a:cubicBezTo>
                  <a:pt x="18039" y="11623"/>
                  <a:pt x="18140" y="11606"/>
                  <a:pt x="18256" y="11609"/>
                </a:cubicBezTo>
                <a:cubicBezTo>
                  <a:pt x="18332" y="11609"/>
                  <a:pt x="18358" y="11609"/>
                  <a:pt x="18405" y="11584"/>
                </a:cubicBezTo>
              </a:path>
              <a:path w="6252" h="1911">
                <a:moveTo>
                  <a:pt x="18628" y="11088"/>
                </a:moveTo>
                <a:cubicBezTo>
                  <a:pt x="18571" y="11178"/>
                  <a:pt x="18534" y="11230"/>
                  <a:pt x="18529" y="11336"/>
                </a:cubicBezTo>
                <a:cubicBezTo>
                  <a:pt x="18526" y="11394"/>
                  <a:pt x="18555" y="11474"/>
                  <a:pt x="18604" y="11509"/>
                </a:cubicBezTo>
                <a:cubicBezTo>
                  <a:pt x="18673" y="11559"/>
                  <a:pt x="18745" y="11580"/>
                  <a:pt x="18827" y="11584"/>
                </a:cubicBezTo>
                <a:cubicBezTo>
                  <a:pt x="18890" y="11587"/>
                  <a:pt x="18961" y="11536"/>
                  <a:pt x="19000" y="11485"/>
                </a:cubicBezTo>
                <a:cubicBezTo>
                  <a:pt x="19056" y="11411"/>
                  <a:pt x="19029" y="11288"/>
                  <a:pt x="19000" y="11212"/>
                </a:cubicBezTo>
                <a:cubicBezTo>
                  <a:pt x="18976" y="11149"/>
                  <a:pt x="18869" y="11077"/>
                  <a:pt x="18802" y="11063"/>
                </a:cubicBezTo>
                <a:cubicBezTo>
                  <a:pt x="18732" y="11048"/>
                  <a:pt x="18616" y="11051"/>
                  <a:pt x="18554" y="11088"/>
                </a:cubicBezTo>
                <a:cubicBezTo>
                  <a:pt x="18514" y="11112"/>
                  <a:pt x="18480" y="11153"/>
                  <a:pt x="18529" y="11187"/>
                </a:cubicBezTo>
                <a:cubicBezTo>
                  <a:pt x="18584" y="11215"/>
                  <a:pt x="18607" y="11223"/>
                  <a:pt x="18653" y="11212"/>
                </a:cubicBezTo>
              </a:path>
              <a:path w="6252" h="1911">
                <a:moveTo>
                  <a:pt x="19273" y="11112"/>
                </a:moveTo>
                <a:cubicBezTo>
                  <a:pt x="19206" y="11117"/>
                  <a:pt x="19110" y="11107"/>
                  <a:pt x="19075" y="11187"/>
                </a:cubicBezTo>
                <a:cubicBezTo>
                  <a:pt x="19049" y="11245"/>
                  <a:pt x="19168" y="11330"/>
                  <a:pt x="19199" y="11361"/>
                </a:cubicBezTo>
                <a:cubicBezTo>
                  <a:pt x="19245" y="11407"/>
                  <a:pt x="19331" y="11495"/>
                  <a:pt x="19348" y="11559"/>
                </a:cubicBezTo>
                <a:cubicBezTo>
                  <a:pt x="19348" y="11600"/>
                  <a:pt x="19348" y="11608"/>
                  <a:pt x="19348" y="11633"/>
                </a:cubicBezTo>
                <a:cubicBezTo>
                  <a:pt x="19233" y="11633"/>
                  <a:pt x="19230" y="11593"/>
                  <a:pt x="19149" y="11509"/>
                </a:cubicBezTo>
                <a:cubicBezTo>
                  <a:pt x="19120" y="11481"/>
                  <a:pt x="19112" y="11468"/>
                  <a:pt x="19124" y="11435"/>
                </a:cubicBezTo>
              </a:path>
              <a:path w="6252" h="1911">
                <a:moveTo>
                  <a:pt x="19496" y="11237"/>
                </a:moveTo>
                <a:cubicBezTo>
                  <a:pt x="19595" y="11355"/>
                  <a:pt x="19696" y="11510"/>
                  <a:pt x="19819" y="11609"/>
                </a:cubicBezTo>
                <a:cubicBezTo>
                  <a:pt x="19874" y="11654"/>
                  <a:pt x="19990" y="11730"/>
                  <a:pt x="20067" y="11708"/>
                </a:cubicBezTo>
                <a:cubicBezTo>
                  <a:pt x="20075" y="11700"/>
                  <a:pt x="20084" y="11691"/>
                  <a:pt x="20092" y="11683"/>
                </a:cubicBezTo>
              </a:path>
              <a:path w="6252" h="1911">
                <a:moveTo>
                  <a:pt x="19844" y="11361"/>
                </a:moveTo>
                <a:cubicBezTo>
                  <a:pt x="19737" y="11431"/>
                  <a:pt x="19613" y="11527"/>
                  <a:pt x="19496" y="11584"/>
                </a:cubicBezTo>
                <a:cubicBezTo>
                  <a:pt x="19422" y="11609"/>
                  <a:pt x="19398" y="11617"/>
                  <a:pt x="19348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09840" y="4037040"/>
            <a:ext cx="1625400" cy="123840"/>
          </a:xfrm>
          <a:custGeom>
            <a:avLst/>
            <a:gdLst/>
            <a:ahLst/>
            <a:rect l="l" t="t" r="r" b="b"/>
            <a:pathLst>
              <a:path w="4515" h="348">
                <a:moveTo>
                  <a:pt x="4192" y="11212"/>
                </a:moveTo>
                <a:cubicBezTo>
                  <a:pt x="4254" y="11217"/>
                  <a:pt x="4305" y="11233"/>
                  <a:pt x="4366" y="11237"/>
                </a:cubicBezTo>
                <a:cubicBezTo>
                  <a:pt x="4491" y="11245"/>
                  <a:pt x="4613" y="11258"/>
                  <a:pt x="4738" y="11261"/>
                </a:cubicBezTo>
                <a:cubicBezTo>
                  <a:pt x="5020" y="11267"/>
                  <a:pt x="5300" y="11275"/>
                  <a:pt x="5581" y="11286"/>
                </a:cubicBezTo>
                <a:cubicBezTo>
                  <a:pt x="5891" y="11298"/>
                  <a:pt x="6189" y="11304"/>
                  <a:pt x="6499" y="11336"/>
                </a:cubicBezTo>
                <a:cubicBezTo>
                  <a:pt x="6907" y="11378"/>
                  <a:pt x="7309" y="11426"/>
                  <a:pt x="7714" y="11485"/>
                </a:cubicBezTo>
                <a:cubicBezTo>
                  <a:pt x="7943" y="11519"/>
                  <a:pt x="8180" y="11542"/>
                  <a:pt x="8409" y="11559"/>
                </a:cubicBezTo>
                <a:cubicBezTo>
                  <a:pt x="8528" y="11568"/>
                  <a:pt x="8580" y="11556"/>
                  <a:pt x="8682" y="11509"/>
                </a:cubicBezTo>
                <a:cubicBezTo>
                  <a:pt x="8660" y="11445"/>
                  <a:pt x="8726" y="11487"/>
                  <a:pt x="8632" y="11410"/>
                </a:cubicBezTo>
                <a:cubicBezTo>
                  <a:pt x="8586" y="11364"/>
                  <a:pt x="8573" y="11350"/>
                  <a:pt x="8533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27160" y="4268880"/>
            <a:ext cx="911160" cy="1357200"/>
          </a:xfrm>
          <a:custGeom>
            <a:avLst/>
            <a:gdLst/>
            <a:ahLst/>
            <a:rect l="l" t="t" r="r" b="b"/>
            <a:pathLst>
              <a:path w="2531" h="3771">
                <a:moveTo>
                  <a:pt x="5978" y="11906"/>
                </a:moveTo>
                <a:cubicBezTo>
                  <a:pt x="5909" y="11921"/>
                  <a:pt x="5792" y="11927"/>
                  <a:pt x="5730" y="11956"/>
                </a:cubicBezTo>
                <a:cubicBezTo>
                  <a:pt x="5702" y="11969"/>
                  <a:pt x="5657" y="12011"/>
                  <a:pt x="5655" y="12030"/>
                </a:cubicBezTo>
                <a:cubicBezTo>
                  <a:pt x="5646" y="12103"/>
                  <a:pt x="5735" y="12137"/>
                  <a:pt x="5779" y="12179"/>
                </a:cubicBezTo>
                <a:cubicBezTo>
                  <a:pt x="5854" y="12250"/>
                  <a:pt x="5912" y="12325"/>
                  <a:pt x="5978" y="12402"/>
                </a:cubicBezTo>
                <a:cubicBezTo>
                  <a:pt x="6039" y="12473"/>
                  <a:pt x="6064" y="12542"/>
                  <a:pt x="5978" y="12601"/>
                </a:cubicBezTo>
                <a:cubicBezTo>
                  <a:pt x="5932" y="12632"/>
                  <a:pt x="5833" y="12641"/>
                  <a:pt x="5779" y="12626"/>
                </a:cubicBezTo>
                <a:cubicBezTo>
                  <a:pt x="5749" y="12618"/>
                  <a:pt x="5645" y="12580"/>
                  <a:pt x="5631" y="12551"/>
                </a:cubicBezTo>
                <a:cubicBezTo>
                  <a:pt x="5606" y="12499"/>
                  <a:pt x="5647" y="12459"/>
                  <a:pt x="5680" y="12427"/>
                </a:cubicBezTo>
                <a:cubicBezTo>
                  <a:pt x="5730" y="12378"/>
                  <a:pt x="5747" y="12362"/>
                  <a:pt x="5779" y="12328"/>
                </a:cubicBezTo>
              </a:path>
              <a:path w="2531" h="3771">
                <a:moveTo>
                  <a:pt x="6176" y="12105"/>
                </a:moveTo>
                <a:cubicBezTo>
                  <a:pt x="6176" y="12251"/>
                  <a:pt x="6158" y="12422"/>
                  <a:pt x="6201" y="12551"/>
                </a:cubicBezTo>
                <a:cubicBezTo>
                  <a:pt x="6219" y="12606"/>
                  <a:pt x="6201" y="12521"/>
                  <a:pt x="6201" y="12502"/>
                </a:cubicBezTo>
              </a:path>
              <a:path w="2531" h="3771">
                <a:moveTo>
                  <a:pt x="6276" y="11881"/>
                </a:moveTo>
                <a:cubicBezTo>
                  <a:pt x="6292" y="11873"/>
                  <a:pt x="6309" y="11865"/>
                  <a:pt x="6325" y="11857"/>
                </a:cubicBezTo>
              </a:path>
              <a:path w="2531" h="3771">
                <a:moveTo>
                  <a:pt x="6474" y="12328"/>
                </a:moveTo>
                <a:cubicBezTo>
                  <a:pt x="6465" y="12469"/>
                  <a:pt x="6470" y="12419"/>
                  <a:pt x="6449" y="12502"/>
                </a:cubicBezTo>
                <a:cubicBezTo>
                  <a:pt x="6416" y="12458"/>
                  <a:pt x="6424" y="12436"/>
                  <a:pt x="6424" y="12378"/>
                </a:cubicBezTo>
                <a:cubicBezTo>
                  <a:pt x="6424" y="12302"/>
                  <a:pt x="6425" y="12224"/>
                  <a:pt x="6449" y="12154"/>
                </a:cubicBezTo>
                <a:cubicBezTo>
                  <a:pt x="6467" y="12102"/>
                  <a:pt x="6517" y="12023"/>
                  <a:pt x="6573" y="12030"/>
                </a:cubicBezTo>
                <a:cubicBezTo>
                  <a:pt x="6646" y="12040"/>
                  <a:pt x="6670" y="12125"/>
                  <a:pt x="6697" y="12179"/>
                </a:cubicBezTo>
                <a:cubicBezTo>
                  <a:pt x="6743" y="12271"/>
                  <a:pt x="6768" y="12305"/>
                  <a:pt x="6796" y="12402"/>
                </a:cubicBezTo>
                <a:cubicBezTo>
                  <a:pt x="6806" y="12439"/>
                  <a:pt x="6853" y="12499"/>
                  <a:pt x="6871" y="12526"/>
                </a:cubicBezTo>
                <a:cubicBezTo>
                  <a:pt x="6901" y="12571"/>
                  <a:pt x="6915" y="12550"/>
                  <a:pt x="6945" y="12526"/>
                </a:cubicBezTo>
              </a:path>
              <a:path w="2531" h="3771">
                <a:moveTo>
                  <a:pt x="7144" y="12179"/>
                </a:moveTo>
                <a:cubicBezTo>
                  <a:pt x="7239" y="12347"/>
                  <a:pt x="7260" y="12389"/>
                  <a:pt x="7392" y="12502"/>
                </a:cubicBezTo>
                <a:cubicBezTo>
                  <a:pt x="7473" y="12572"/>
                  <a:pt x="7531" y="12642"/>
                  <a:pt x="7640" y="12650"/>
                </a:cubicBezTo>
                <a:cubicBezTo>
                  <a:pt x="7692" y="12654"/>
                  <a:pt x="7697" y="12590"/>
                  <a:pt x="7714" y="12551"/>
                </a:cubicBezTo>
              </a:path>
              <a:path w="2531" h="3771">
                <a:moveTo>
                  <a:pt x="7466" y="12254"/>
                </a:moveTo>
                <a:cubicBezTo>
                  <a:pt x="7392" y="12328"/>
                  <a:pt x="7246" y="12518"/>
                  <a:pt x="7119" y="12551"/>
                </a:cubicBezTo>
                <a:cubicBezTo>
                  <a:pt x="7052" y="12569"/>
                  <a:pt x="6921" y="12534"/>
                  <a:pt x="6871" y="12526"/>
                </a:cubicBezTo>
              </a:path>
              <a:path w="2531" h="3771">
                <a:moveTo>
                  <a:pt x="6871" y="13395"/>
                </a:moveTo>
                <a:cubicBezTo>
                  <a:pt x="6871" y="13462"/>
                  <a:pt x="6856" y="13506"/>
                  <a:pt x="6846" y="13568"/>
                </a:cubicBezTo>
                <a:cubicBezTo>
                  <a:pt x="6834" y="13639"/>
                  <a:pt x="6823" y="13722"/>
                  <a:pt x="6821" y="13791"/>
                </a:cubicBezTo>
                <a:cubicBezTo>
                  <a:pt x="6818" y="13938"/>
                  <a:pt x="6825" y="13960"/>
                  <a:pt x="6846" y="14064"/>
                </a:cubicBezTo>
                <a:cubicBezTo>
                  <a:pt x="6846" y="14081"/>
                  <a:pt x="6846" y="14097"/>
                  <a:pt x="6846" y="14114"/>
                </a:cubicBezTo>
              </a:path>
              <a:path w="2531" h="3771">
                <a:moveTo>
                  <a:pt x="6127" y="14139"/>
                </a:moveTo>
                <a:cubicBezTo>
                  <a:pt x="6190" y="14188"/>
                  <a:pt x="6270" y="14204"/>
                  <a:pt x="6350" y="14213"/>
                </a:cubicBezTo>
                <a:cubicBezTo>
                  <a:pt x="6481" y="14228"/>
                  <a:pt x="6615" y="14254"/>
                  <a:pt x="6747" y="14263"/>
                </a:cubicBezTo>
                <a:cubicBezTo>
                  <a:pt x="6897" y="14273"/>
                  <a:pt x="7042" y="14288"/>
                  <a:pt x="7193" y="14288"/>
                </a:cubicBezTo>
                <a:cubicBezTo>
                  <a:pt x="7338" y="14288"/>
                  <a:pt x="7456" y="14292"/>
                  <a:pt x="7590" y="14312"/>
                </a:cubicBezTo>
                <a:cubicBezTo>
                  <a:pt x="7631" y="14318"/>
                  <a:pt x="7624" y="14312"/>
                  <a:pt x="7665" y="14312"/>
                </a:cubicBezTo>
                <a:cubicBezTo>
                  <a:pt x="7597" y="14341"/>
                  <a:pt x="7643" y="14328"/>
                  <a:pt x="7541" y="14337"/>
                </a:cubicBezTo>
              </a:path>
              <a:path w="2531" h="3771">
                <a:moveTo>
                  <a:pt x="6573" y="14932"/>
                </a:moveTo>
                <a:cubicBezTo>
                  <a:pt x="6564" y="14896"/>
                  <a:pt x="6550" y="14863"/>
                  <a:pt x="6524" y="14833"/>
                </a:cubicBezTo>
                <a:cubicBezTo>
                  <a:pt x="6498" y="14804"/>
                  <a:pt x="6458" y="14770"/>
                  <a:pt x="6424" y="14759"/>
                </a:cubicBezTo>
                <a:cubicBezTo>
                  <a:pt x="6377" y="14743"/>
                  <a:pt x="6332" y="14779"/>
                  <a:pt x="6300" y="14808"/>
                </a:cubicBezTo>
                <a:cubicBezTo>
                  <a:pt x="6284" y="14822"/>
                  <a:pt x="6241" y="14887"/>
                  <a:pt x="6251" y="14908"/>
                </a:cubicBezTo>
                <a:cubicBezTo>
                  <a:pt x="6270" y="14949"/>
                  <a:pt x="6320" y="15020"/>
                  <a:pt x="6350" y="15056"/>
                </a:cubicBezTo>
                <a:cubicBezTo>
                  <a:pt x="6399" y="15115"/>
                  <a:pt x="6452" y="15173"/>
                  <a:pt x="6499" y="15230"/>
                </a:cubicBezTo>
                <a:cubicBezTo>
                  <a:pt x="6541" y="15281"/>
                  <a:pt x="6566" y="15310"/>
                  <a:pt x="6573" y="15379"/>
                </a:cubicBezTo>
                <a:cubicBezTo>
                  <a:pt x="6579" y="15440"/>
                  <a:pt x="6544" y="15494"/>
                  <a:pt x="6474" y="15478"/>
                </a:cubicBezTo>
                <a:cubicBezTo>
                  <a:pt x="6432" y="15468"/>
                  <a:pt x="6365" y="15434"/>
                  <a:pt x="6325" y="15404"/>
                </a:cubicBezTo>
                <a:cubicBezTo>
                  <a:pt x="6275" y="15367"/>
                  <a:pt x="6223" y="15345"/>
                  <a:pt x="6201" y="15280"/>
                </a:cubicBezTo>
                <a:cubicBezTo>
                  <a:pt x="6194" y="15258"/>
                  <a:pt x="6201" y="15199"/>
                  <a:pt x="6201" y="15180"/>
                </a:cubicBezTo>
              </a:path>
              <a:path w="2531" h="3771">
                <a:moveTo>
                  <a:pt x="6945" y="15081"/>
                </a:moveTo>
                <a:cubicBezTo>
                  <a:pt x="6945" y="15180"/>
                  <a:pt x="6926" y="15261"/>
                  <a:pt x="6921" y="15354"/>
                </a:cubicBezTo>
                <a:cubicBezTo>
                  <a:pt x="6920" y="15364"/>
                  <a:pt x="6905" y="15471"/>
                  <a:pt x="6896" y="15478"/>
                </a:cubicBezTo>
                <a:cubicBezTo>
                  <a:pt x="6871" y="15478"/>
                  <a:pt x="6863" y="15478"/>
                  <a:pt x="6871" y="15453"/>
                </a:cubicBezTo>
              </a:path>
              <a:path w="2531" h="3771">
                <a:moveTo>
                  <a:pt x="6871" y="14660"/>
                </a:moveTo>
                <a:cubicBezTo>
                  <a:pt x="6888" y="14668"/>
                  <a:pt x="6904" y="14676"/>
                  <a:pt x="6921" y="14684"/>
                </a:cubicBezTo>
              </a:path>
              <a:path w="2531" h="3771">
                <a:moveTo>
                  <a:pt x="7069" y="15280"/>
                </a:moveTo>
                <a:cubicBezTo>
                  <a:pt x="7069" y="15321"/>
                  <a:pt x="7069" y="15363"/>
                  <a:pt x="7069" y="15404"/>
                </a:cubicBezTo>
                <a:cubicBezTo>
                  <a:pt x="7069" y="15347"/>
                  <a:pt x="7085" y="15307"/>
                  <a:pt x="7094" y="15255"/>
                </a:cubicBezTo>
                <a:cubicBezTo>
                  <a:pt x="7107" y="15180"/>
                  <a:pt x="7086" y="15128"/>
                  <a:pt x="7119" y="15056"/>
                </a:cubicBezTo>
                <a:cubicBezTo>
                  <a:pt x="7138" y="15014"/>
                  <a:pt x="7148" y="14933"/>
                  <a:pt x="7193" y="14908"/>
                </a:cubicBezTo>
                <a:cubicBezTo>
                  <a:pt x="7233" y="14886"/>
                  <a:pt x="7302" y="14923"/>
                  <a:pt x="7317" y="14957"/>
                </a:cubicBezTo>
                <a:cubicBezTo>
                  <a:pt x="7346" y="15023"/>
                  <a:pt x="7379" y="15177"/>
                  <a:pt x="7392" y="15255"/>
                </a:cubicBezTo>
                <a:cubicBezTo>
                  <a:pt x="7407" y="15344"/>
                  <a:pt x="7417" y="15433"/>
                  <a:pt x="7491" y="15503"/>
                </a:cubicBezTo>
                <a:cubicBezTo>
                  <a:pt x="7553" y="15561"/>
                  <a:pt x="7589" y="15554"/>
                  <a:pt x="7640" y="15503"/>
                </a:cubicBezTo>
                <a:cubicBezTo>
                  <a:pt x="7648" y="15495"/>
                  <a:pt x="7657" y="15486"/>
                  <a:pt x="7665" y="15478"/>
                </a:cubicBezTo>
              </a:path>
              <a:path w="2531" h="3771">
                <a:moveTo>
                  <a:pt x="7714" y="15056"/>
                </a:moveTo>
                <a:cubicBezTo>
                  <a:pt x="7755" y="15204"/>
                  <a:pt x="7805" y="15312"/>
                  <a:pt x="7913" y="15429"/>
                </a:cubicBezTo>
                <a:cubicBezTo>
                  <a:pt x="7990" y="15512"/>
                  <a:pt x="8062" y="15572"/>
                  <a:pt x="8161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16680" y="4795920"/>
            <a:ext cx="2224080" cy="820800"/>
          </a:xfrm>
          <a:custGeom>
            <a:avLst/>
            <a:gdLst/>
            <a:ahLst/>
            <a:rect l="l" t="t" r="r" b="b"/>
            <a:pathLst>
              <a:path w="6177" h="2283">
                <a:moveTo>
                  <a:pt x="14734" y="13469"/>
                </a:moveTo>
                <a:cubicBezTo>
                  <a:pt x="14734" y="13494"/>
                  <a:pt x="14734" y="13518"/>
                  <a:pt x="14734" y="13543"/>
                </a:cubicBezTo>
                <a:cubicBezTo>
                  <a:pt x="14773" y="13531"/>
                  <a:pt x="14756" y="13503"/>
                  <a:pt x="14734" y="13469"/>
                </a:cubicBezTo>
                <a:cubicBezTo>
                  <a:pt x="14697" y="13414"/>
                  <a:pt x="14658" y="13389"/>
                  <a:pt x="14610" y="13345"/>
                </a:cubicBezTo>
                <a:cubicBezTo>
                  <a:pt x="14549" y="13290"/>
                  <a:pt x="14473" y="13355"/>
                  <a:pt x="14412" y="13395"/>
                </a:cubicBezTo>
                <a:cubicBezTo>
                  <a:pt x="14344" y="13440"/>
                  <a:pt x="14333" y="13555"/>
                  <a:pt x="14312" y="13618"/>
                </a:cubicBezTo>
                <a:cubicBezTo>
                  <a:pt x="14287" y="13693"/>
                  <a:pt x="14276" y="13796"/>
                  <a:pt x="14337" y="13866"/>
                </a:cubicBezTo>
                <a:cubicBezTo>
                  <a:pt x="14391" y="13927"/>
                  <a:pt x="14450" y="13961"/>
                  <a:pt x="14536" y="13965"/>
                </a:cubicBezTo>
                <a:cubicBezTo>
                  <a:pt x="14602" y="13965"/>
                  <a:pt x="14619" y="13965"/>
                  <a:pt x="14660" y="13965"/>
                </a:cubicBezTo>
              </a:path>
              <a:path w="6177" h="2283">
                <a:moveTo>
                  <a:pt x="15007" y="13568"/>
                </a:moveTo>
                <a:cubicBezTo>
                  <a:pt x="14964" y="13654"/>
                  <a:pt x="14905" y="13739"/>
                  <a:pt x="14932" y="13841"/>
                </a:cubicBezTo>
                <a:cubicBezTo>
                  <a:pt x="14945" y="13892"/>
                  <a:pt x="15016" y="14013"/>
                  <a:pt x="15056" y="14039"/>
                </a:cubicBezTo>
                <a:cubicBezTo>
                  <a:pt x="15119" y="14080"/>
                  <a:pt x="15210" y="14064"/>
                  <a:pt x="15280" y="14064"/>
                </a:cubicBezTo>
                <a:cubicBezTo>
                  <a:pt x="15377" y="14064"/>
                  <a:pt x="15390" y="14019"/>
                  <a:pt x="15429" y="13940"/>
                </a:cubicBezTo>
                <a:cubicBezTo>
                  <a:pt x="15461" y="13876"/>
                  <a:pt x="15471" y="13763"/>
                  <a:pt x="15453" y="13692"/>
                </a:cubicBezTo>
                <a:cubicBezTo>
                  <a:pt x="15427" y="13591"/>
                  <a:pt x="15391" y="13563"/>
                  <a:pt x="15304" y="13519"/>
                </a:cubicBezTo>
                <a:cubicBezTo>
                  <a:pt x="15231" y="13483"/>
                  <a:pt x="15149" y="13489"/>
                  <a:pt x="15081" y="13543"/>
                </a:cubicBezTo>
                <a:cubicBezTo>
                  <a:pt x="15011" y="13598"/>
                  <a:pt x="14954" y="13637"/>
                  <a:pt x="15007" y="13717"/>
                </a:cubicBezTo>
                <a:cubicBezTo>
                  <a:pt x="15015" y="13725"/>
                  <a:pt x="15024" y="13734"/>
                  <a:pt x="15032" y="13742"/>
                </a:cubicBezTo>
              </a:path>
              <a:path w="6177" h="2283">
                <a:moveTo>
                  <a:pt x="15627" y="13469"/>
                </a:moveTo>
                <a:cubicBezTo>
                  <a:pt x="15572" y="13474"/>
                  <a:pt x="15463" y="13472"/>
                  <a:pt x="15453" y="13543"/>
                </a:cubicBezTo>
                <a:cubicBezTo>
                  <a:pt x="15441" y="13626"/>
                  <a:pt x="15574" y="13715"/>
                  <a:pt x="15627" y="13767"/>
                </a:cubicBezTo>
                <a:cubicBezTo>
                  <a:pt x="15671" y="13810"/>
                  <a:pt x="15782" y="13908"/>
                  <a:pt x="15801" y="13965"/>
                </a:cubicBezTo>
                <a:cubicBezTo>
                  <a:pt x="15801" y="14006"/>
                  <a:pt x="15801" y="14014"/>
                  <a:pt x="15801" y="14039"/>
                </a:cubicBezTo>
                <a:cubicBezTo>
                  <a:pt x="15743" y="14039"/>
                  <a:pt x="15706" y="14039"/>
                  <a:pt x="15652" y="14015"/>
                </a:cubicBezTo>
                <a:cubicBezTo>
                  <a:pt x="15587" y="13986"/>
                  <a:pt x="15562" y="13926"/>
                  <a:pt x="15528" y="13866"/>
                </a:cubicBezTo>
              </a:path>
              <a:path w="6177" h="2283">
                <a:moveTo>
                  <a:pt x="15949" y="13469"/>
                </a:moveTo>
                <a:cubicBezTo>
                  <a:pt x="15979" y="13552"/>
                  <a:pt x="16016" y="13649"/>
                  <a:pt x="16073" y="13717"/>
                </a:cubicBezTo>
                <a:cubicBezTo>
                  <a:pt x="16137" y="13793"/>
                  <a:pt x="16256" y="13895"/>
                  <a:pt x="16346" y="13940"/>
                </a:cubicBezTo>
                <a:cubicBezTo>
                  <a:pt x="16429" y="13981"/>
                  <a:pt x="16462" y="13963"/>
                  <a:pt x="16545" y="13940"/>
                </a:cubicBezTo>
              </a:path>
              <a:path w="6177" h="2283">
                <a:moveTo>
                  <a:pt x="16321" y="13444"/>
                </a:moveTo>
                <a:cubicBezTo>
                  <a:pt x="16178" y="13601"/>
                  <a:pt x="16110" y="13724"/>
                  <a:pt x="15999" y="13915"/>
                </a:cubicBezTo>
                <a:cubicBezTo>
                  <a:pt x="15953" y="13984"/>
                  <a:pt x="15941" y="14004"/>
                  <a:pt x="15900" y="14039"/>
                </a:cubicBezTo>
              </a:path>
              <a:path w="6177" h="2283">
                <a:moveTo>
                  <a:pt x="14213" y="14238"/>
                </a:moveTo>
                <a:cubicBezTo>
                  <a:pt x="14414" y="14261"/>
                  <a:pt x="14606" y="14263"/>
                  <a:pt x="14808" y="14263"/>
                </a:cubicBezTo>
                <a:cubicBezTo>
                  <a:pt x="15066" y="14263"/>
                  <a:pt x="15996" y="14419"/>
                  <a:pt x="16197" y="14238"/>
                </a:cubicBezTo>
                <a:cubicBezTo>
                  <a:pt x="16197" y="14230"/>
                  <a:pt x="16197" y="14221"/>
                  <a:pt x="16197" y="14213"/>
                </a:cubicBezTo>
                <a:cubicBezTo>
                  <a:pt x="16231" y="14144"/>
                  <a:pt x="16141" y="14139"/>
                  <a:pt x="16073" y="14114"/>
                </a:cubicBezTo>
              </a:path>
              <a:path w="6177" h="2283">
                <a:moveTo>
                  <a:pt x="14858" y="14461"/>
                </a:moveTo>
                <a:cubicBezTo>
                  <a:pt x="14781" y="14504"/>
                  <a:pt x="14715" y="14520"/>
                  <a:pt x="14635" y="14560"/>
                </a:cubicBezTo>
                <a:cubicBezTo>
                  <a:pt x="14588" y="14583"/>
                  <a:pt x="14542" y="14606"/>
                  <a:pt x="14536" y="14660"/>
                </a:cubicBezTo>
                <a:cubicBezTo>
                  <a:pt x="14531" y="14704"/>
                  <a:pt x="14753" y="14878"/>
                  <a:pt x="14759" y="14883"/>
                </a:cubicBezTo>
                <a:cubicBezTo>
                  <a:pt x="14831" y="14942"/>
                  <a:pt x="14921" y="14988"/>
                  <a:pt x="14957" y="15081"/>
                </a:cubicBezTo>
                <a:cubicBezTo>
                  <a:pt x="14974" y="15126"/>
                  <a:pt x="14920" y="15173"/>
                  <a:pt x="14883" y="15180"/>
                </a:cubicBezTo>
                <a:cubicBezTo>
                  <a:pt x="14812" y="15194"/>
                  <a:pt x="14698" y="15158"/>
                  <a:pt x="14635" y="15131"/>
                </a:cubicBezTo>
                <a:cubicBezTo>
                  <a:pt x="14581" y="15108"/>
                  <a:pt x="14524" y="15073"/>
                  <a:pt x="14536" y="15007"/>
                </a:cubicBezTo>
                <a:cubicBezTo>
                  <a:pt x="14544" y="14982"/>
                  <a:pt x="14552" y="14957"/>
                  <a:pt x="14560" y="14932"/>
                </a:cubicBezTo>
              </a:path>
              <a:path w="6177" h="2283">
                <a:moveTo>
                  <a:pt x="15205" y="14908"/>
                </a:moveTo>
                <a:cubicBezTo>
                  <a:pt x="15205" y="15024"/>
                  <a:pt x="15205" y="15321"/>
                  <a:pt x="15205" y="15205"/>
                </a:cubicBezTo>
                <a:cubicBezTo>
                  <a:pt x="15205" y="15189"/>
                  <a:pt x="15205" y="15172"/>
                  <a:pt x="15205" y="15156"/>
                </a:cubicBezTo>
              </a:path>
              <a:path w="6177" h="2283">
                <a:moveTo>
                  <a:pt x="15280" y="14486"/>
                </a:moveTo>
                <a:cubicBezTo>
                  <a:pt x="15323" y="14464"/>
                  <a:pt x="15335" y="14451"/>
                  <a:pt x="15354" y="14486"/>
                </a:cubicBezTo>
              </a:path>
              <a:path w="6177" h="2283">
                <a:moveTo>
                  <a:pt x="15453" y="15131"/>
                </a:moveTo>
                <a:cubicBezTo>
                  <a:pt x="15453" y="15147"/>
                  <a:pt x="15453" y="15164"/>
                  <a:pt x="15453" y="15180"/>
                </a:cubicBezTo>
                <a:cubicBezTo>
                  <a:pt x="15467" y="15113"/>
                  <a:pt x="15481" y="15048"/>
                  <a:pt x="15503" y="14982"/>
                </a:cubicBezTo>
                <a:cubicBezTo>
                  <a:pt x="15529" y="14904"/>
                  <a:pt x="15518" y="14780"/>
                  <a:pt x="15627" y="14759"/>
                </a:cubicBezTo>
                <a:cubicBezTo>
                  <a:pt x="15699" y="14745"/>
                  <a:pt x="15737" y="14916"/>
                  <a:pt x="15751" y="14957"/>
                </a:cubicBezTo>
                <a:cubicBezTo>
                  <a:pt x="15788" y="15067"/>
                  <a:pt x="15825" y="15163"/>
                  <a:pt x="15900" y="15255"/>
                </a:cubicBezTo>
                <a:cubicBezTo>
                  <a:pt x="15944" y="15309"/>
                  <a:pt x="15983" y="15329"/>
                  <a:pt x="16049" y="15329"/>
                </a:cubicBezTo>
              </a:path>
              <a:path w="6177" h="2283">
                <a:moveTo>
                  <a:pt x="16197" y="15007"/>
                </a:moveTo>
                <a:cubicBezTo>
                  <a:pt x="16269" y="15163"/>
                  <a:pt x="16341" y="15310"/>
                  <a:pt x="16470" y="15429"/>
                </a:cubicBezTo>
                <a:cubicBezTo>
                  <a:pt x="16528" y="15483"/>
                  <a:pt x="16637" y="15526"/>
                  <a:pt x="16718" y="15503"/>
                </a:cubicBezTo>
                <a:cubicBezTo>
                  <a:pt x="16735" y="15495"/>
                  <a:pt x="16751" y="15486"/>
                  <a:pt x="16768" y="15478"/>
                </a:cubicBezTo>
              </a:path>
              <a:path w="6177" h="2283">
                <a:moveTo>
                  <a:pt x="16594" y="14908"/>
                </a:moveTo>
                <a:cubicBezTo>
                  <a:pt x="16489" y="14990"/>
                  <a:pt x="16353" y="15070"/>
                  <a:pt x="16272" y="15180"/>
                </a:cubicBezTo>
                <a:cubicBezTo>
                  <a:pt x="16264" y="15191"/>
                  <a:pt x="16156" y="15321"/>
                  <a:pt x="16222" y="15255"/>
                </a:cubicBezTo>
                <a:cubicBezTo>
                  <a:pt x="16255" y="15222"/>
                  <a:pt x="16272" y="15205"/>
                  <a:pt x="16297" y="15180"/>
                </a:cubicBezTo>
              </a:path>
              <a:path w="6177" h="2283">
                <a:moveTo>
                  <a:pt x="17289" y="14461"/>
                </a:moveTo>
                <a:cubicBezTo>
                  <a:pt x="17266" y="14484"/>
                  <a:pt x="17262" y="14492"/>
                  <a:pt x="17239" y="14486"/>
                </a:cubicBezTo>
                <a:cubicBezTo>
                  <a:pt x="17265" y="14481"/>
                  <a:pt x="17350" y="14455"/>
                  <a:pt x="17363" y="14436"/>
                </a:cubicBezTo>
                <a:cubicBezTo>
                  <a:pt x="17363" y="14428"/>
                  <a:pt x="17363" y="14420"/>
                  <a:pt x="17363" y="14412"/>
                </a:cubicBezTo>
                <a:cubicBezTo>
                  <a:pt x="17350" y="14374"/>
                  <a:pt x="17334" y="14387"/>
                  <a:pt x="17289" y="14387"/>
                </a:cubicBezTo>
                <a:cubicBezTo>
                  <a:pt x="17250" y="14387"/>
                  <a:pt x="17264" y="14432"/>
                  <a:pt x="17264" y="14387"/>
                </a:cubicBezTo>
              </a:path>
              <a:path w="6177" h="2283">
                <a:moveTo>
                  <a:pt x="18380" y="13444"/>
                </a:moveTo>
                <a:cubicBezTo>
                  <a:pt x="18380" y="13547"/>
                  <a:pt x="18358" y="13640"/>
                  <a:pt x="18355" y="13742"/>
                </a:cubicBezTo>
                <a:cubicBezTo>
                  <a:pt x="18351" y="13869"/>
                  <a:pt x="18412" y="13967"/>
                  <a:pt x="18430" y="14089"/>
                </a:cubicBezTo>
                <a:cubicBezTo>
                  <a:pt x="18441" y="14164"/>
                  <a:pt x="18449" y="14236"/>
                  <a:pt x="18455" y="14312"/>
                </a:cubicBezTo>
              </a:path>
              <a:path w="6177" h="2283">
                <a:moveTo>
                  <a:pt x="17983" y="14387"/>
                </a:moveTo>
                <a:cubicBezTo>
                  <a:pt x="18166" y="14363"/>
                  <a:pt x="18344" y="14362"/>
                  <a:pt x="18529" y="14362"/>
                </a:cubicBezTo>
                <a:cubicBezTo>
                  <a:pt x="18687" y="14362"/>
                  <a:pt x="18821" y="14375"/>
                  <a:pt x="18976" y="14362"/>
                </a:cubicBezTo>
                <a:cubicBezTo>
                  <a:pt x="19071" y="14354"/>
                  <a:pt x="19136" y="14358"/>
                  <a:pt x="19224" y="14337"/>
                </a:cubicBezTo>
                <a:cubicBezTo>
                  <a:pt x="19232" y="14337"/>
                  <a:pt x="19240" y="14337"/>
                  <a:pt x="19248" y="14337"/>
                </a:cubicBezTo>
              </a:path>
              <a:path w="6177" h="2283">
                <a:moveTo>
                  <a:pt x="18728" y="14982"/>
                </a:moveTo>
                <a:cubicBezTo>
                  <a:pt x="18728" y="14990"/>
                  <a:pt x="18728" y="14999"/>
                  <a:pt x="18728" y="15007"/>
                </a:cubicBezTo>
                <a:cubicBezTo>
                  <a:pt x="18774" y="14991"/>
                  <a:pt x="18756" y="14928"/>
                  <a:pt x="18728" y="14883"/>
                </a:cubicBezTo>
                <a:cubicBezTo>
                  <a:pt x="18700" y="14837"/>
                  <a:pt x="18694" y="14777"/>
                  <a:pt x="18628" y="14759"/>
                </a:cubicBezTo>
                <a:cubicBezTo>
                  <a:pt x="18534" y="14734"/>
                  <a:pt x="18498" y="14788"/>
                  <a:pt x="18430" y="14833"/>
                </a:cubicBezTo>
                <a:cubicBezTo>
                  <a:pt x="18340" y="14893"/>
                  <a:pt x="18317" y="14929"/>
                  <a:pt x="18281" y="15032"/>
                </a:cubicBezTo>
                <a:cubicBezTo>
                  <a:pt x="18246" y="15131"/>
                  <a:pt x="18257" y="15209"/>
                  <a:pt x="18306" y="15304"/>
                </a:cubicBezTo>
                <a:cubicBezTo>
                  <a:pt x="18364" y="15417"/>
                  <a:pt x="18472" y="15533"/>
                  <a:pt x="18604" y="15553"/>
                </a:cubicBezTo>
                <a:cubicBezTo>
                  <a:pt x="18702" y="15568"/>
                  <a:pt x="18782" y="15508"/>
                  <a:pt x="18852" y="15453"/>
                </a:cubicBezTo>
              </a:path>
              <a:path w="6177" h="2283">
                <a:moveTo>
                  <a:pt x="19000" y="15007"/>
                </a:moveTo>
                <a:cubicBezTo>
                  <a:pt x="18940" y="15092"/>
                  <a:pt x="18863" y="15173"/>
                  <a:pt x="18926" y="15280"/>
                </a:cubicBezTo>
                <a:cubicBezTo>
                  <a:pt x="18966" y="15349"/>
                  <a:pt x="19024" y="15460"/>
                  <a:pt x="19100" y="15503"/>
                </a:cubicBezTo>
                <a:cubicBezTo>
                  <a:pt x="19144" y="15528"/>
                  <a:pt x="19244" y="15571"/>
                  <a:pt x="19298" y="15553"/>
                </a:cubicBezTo>
                <a:cubicBezTo>
                  <a:pt x="19381" y="15525"/>
                  <a:pt x="19418" y="15430"/>
                  <a:pt x="19422" y="15354"/>
                </a:cubicBezTo>
                <a:cubicBezTo>
                  <a:pt x="19429" y="15225"/>
                  <a:pt x="19409" y="15147"/>
                  <a:pt x="19323" y="15056"/>
                </a:cubicBezTo>
                <a:cubicBezTo>
                  <a:pt x="19257" y="14986"/>
                  <a:pt x="19193" y="14941"/>
                  <a:pt x="19100" y="14982"/>
                </a:cubicBezTo>
                <a:cubicBezTo>
                  <a:pt x="19043" y="15007"/>
                  <a:pt x="18990" y="15067"/>
                  <a:pt x="18976" y="15131"/>
                </a:cubicBezTo>
                <a:cubicBezTo>
                  <a:pt x="18959" y="15210"/>
                  <a:pt x="19029" y="15278"/>
                  <a:pt x="19075" y="15329"/>
                </a:cubicBezTo>
              </a:path>
              <a:path w="6177" h="2283">
                <a:moveTo>
                  <a:pt x="19621" y="14883"/>
                </a:moveTo>
                <a:cubicBezTo>
                  <a:pt x="19585" y="14864"/>
                  <a:pt x="19448" y="14757"/>
                  <a:pt x="19397" y="14833"/>
                </a:cubicBezTo>
                <a:cubicBezTo>
                  <a:pt x="19357" y="14893"/>
                  <a:pt x="19440" y="14973"/>
                  <a:pt x="19472" y="15007"/>
                </a:cubicBezTo>
                <a:cubicBezTo>
                  <a:pt x="19547" y="15087"/>
                  <a:pt x="19601" y="15171"/>
                  <a:pt x="19670" y="15255"/>
                </a:cubicBezTo>
                <a:cubicBezTo>
                  <a:pt x="19681" y="15268"/>
                  <a:pt x="19789" y="15369"/>
                  <a:pt x="19745" y="15404"/>
                </a:cubicBezTo>
                <a:cubicBezTo>
                  <a:pt x="19696" y="15443"/>
                  <a:pt x="19633" y="15426"/>
                  <a:pt x="19571" y="15404"/>
                </a:cubicBezTo>
                <a:cubicBezTo>
                  <a:pt x="19515" y="15384"/>
                  <a:pt x="19430" y="15353"/>
                  <a:pt x="19447" y="15280"/>
                </a:cubicBezTo>
                <a:cubicBezTo>
                  <a:pt x="19455" y="15263"/>
                  <a:pt x="19464" y="15247"/>
                  <a:pt x="19472" y="15230"/>
                </a:cubicBezTo>
              </a:path>
              <a:path w="6177" h="2283">
                <a:moveTo>
                  <a:pt x="19968" y="14932"/>
                </a:moveTo>
                <a:cubicBezTo>
                  <a:pt x="20048" y="15063"/>
                  <a:pt x="20126" y="15183"/>
                  <a:pt x="20216" y="15304"/>
                </a:cubicBezTo>
                <a:cubicBezTo>
                  <a:pt x="20283" y="15394"/>
                  <a:pt x="20294" y="15426"/>
                  <a:pt x="20389" y="15478"/>
                </a:cubicBezTo>
              </a:path>
              <a:path w="6177" h="2283">
                <a:moveTo>
                  <a:pt x="20265" y="15106"/>
                </a:moveTo>
                <a:cubicBezTo>
                  <a:pt x="20098" y="15214"/>
                  <a:pt x="19941" y="15320"/>
                  <a:pt x="19794" y="15453"/>
                </a:cubicBezTo>
                <a:cubicBezTo>
                  <a:pt x="19720" y="15528"/>
                  <a:pt x="19695" y="15553"/>
                  <a:pt x="19645" y="15602"/>
                </a:cubicBezTo>
              </a:path>
              <a:path w="6177" h="2283">
                <a:moveTo>
                  <a:pt x="14263" y="13419"/>
                </a:moveTo>
                <a:cubicBezTo>
                  <a:pt x="14419" y="13472"/>
                  <a:pt x="14577" y="13529"/>
                  <a:pt x="14734" y="13593"/>
                </a:cubicBezTo>
                <a:cubicBezTo>
                  <a:pt x="14945" y="13679"/>
                  <a:pt x="15170" y="13728"/>
                  <a:pt x="15379" y="13816"/>
                </a:cubicBezTo>
                <a:cubicBezTo>
                  <a:pt x="15553" y="13889"/>
                  <a:pt x="15725" y="13968"/>
                  <a:pt x="15900" y="14039"/>
                </a:cubicBezTo>
                <a:cubicBezTo>
                  <a:pt x="15964" y="14065"/>
                  <a:pt x="16062" y="14123"/>
                  <a:pt x="16123" y="14139"/>
                </a:cubicBezTo>
                <a:cubicBezTo>
                  <a:pt x="16187" y="14156"/>
                  <a:pt x="16265" y="14135"/>
                  <a:pt x="16321" y="14114"/>
                </a:cubicBezTo>
              </a:path>
              <a:path w="6177" h="2283">
                <a:moveTo>
                  <a:pt x="18107" y="14858"/>
                </a:moveTo>
                <a:cubicBezTo>
                  <a:pt x="18332" y="14935"/>
                  <a:pt x="18557" y="15013"/>
                  <a:pt x="18777" y="15106"/>
                </a:cubicBezTo>
                <a:cubicBezTo>
                  <a:pt x="18962" y="15185"/>
                  <a:pt x="19142" y="15269"/>
                  <a:pt x="19323" y="15354"/>
                </a:cubicBezTo>
                <a:cubicBezTo>
                  <a:pt x="19470" y="15423"/>
                  <a:pt x="19620" y="15466"/>
                  <a:pt x="19769" y="15528"/>
                </a:cubicBezTo>
                <a:cubicBezTo>
                  <a:pt x="19795" y="15539"/>
                  <a:pt x="19863" y="15594"/>
                  <a:pt x="19819" y="15528"/>
                </a:cubicBezTo>
                <a:cubicBezTo>
                  <a:pt x="19794" y="15503"/>
                  <a:pt x="19786" y="15495"/>
                  <a:pt x="19769" y="154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14720" y="5446800"/>
            <a:ext cx="741240" cy="706320"/>
          </a:xfrm>
          <a:custGeom>
            <a:avLst/>
            <a:gdLst/>
            <a:ahLst/>
            <a:rect l="l" t="t" r="r" b="b"/>
            <a:pathLst>
              <a:path w="2059" h="1960">
                <a:moveTo>
                  <a:pt x="8012" y="15131"/>
                </a:moveTo>
                <a:cubicBezTo>
                  <a:pt x="7872" y="15231"/>
                  <a:pt x="7764" y="15312"/>
                  <a:pt x="7665" y="15453"/>
                </a:cubicBezTo>
                <a:cubicBezTo>
                  <a:pt x="7607" y="15536"/>
                  <a:pt x="7544" y="15617"/>
                  <a:pt x="7491" y="15701"/>
                </a:cubicBezTo>
              </a:path>
              <a:path w="2059" h="1960">
                <a:moveTo>
                  <a:pt x="6598" y="16222"/>
                </a:moveTo>
                <a:cubicBezTo>
                  <a:pt x="6598" y="16280"/>
                  <a:pt x="6581" y="16305"/>
                  <a:pt x="6623" y="16297"/>
                </a:cubicBezTo>
                <a:cubicBezTo>
                  <a:pt x="6623" y="16240"/>
                  <a:pt x="6613" y="16219"/>
                  <a:pt x="6598" y="16173"/>
                </a:cubicBezTo>
                <a:cubicBezTo>
                  <a:pt x="6580" y="16119"/>
                  <a:pt x="6538" y="16105"/>
                  <a:pt x="6474" y="16123"/>
                </a:cubicBezTo>
                <a:cubicBezTo>
                  <a:pt x="6418" y="16139"/>
                  <a:pt x="6322" y="16186"/>
                  <a:pt x="6276" y="16222"/>
                </a:cubicBezTo>
                <a:cubicBezTo>
                  <a:pt x="6202" y="16280"/>
                  <a:pt x="6149" y="16403"/>
                  <a:pt x="6152" y="16495"/>
                </a:cubicBezTo>
                <a:cubicBezTo>
                  <a:pt x="6154" y="16578"/>
                  <a:pt x="6226" y="16687"/>
                  <a:pt x="6276" y="16743"/>
                </a:cubicBezTo>
                <a:cubicBezTo>
                  <a:pt x="6337" y="16812"/>
                  <a:pt x="6429" y="16859"/>
                  <a:pt x="6524" y="16842"/>
                </a:cubicBezTo>
                <a:cubicBezTo>
                  <a:pt x="6540" y="16834"/>
                  <a:pt x="6557" y="16826"/>
                  <a:pt x="6573" y="16818"/>
                </a:cubicBezTo>
              </a:path>
              <a:path w="2059" h="1960">
                <a:moveTo>
                  <a:pt x="7020" y="16272"/>
                </a:moveTo>
                <a:cubicBezTo>
                  <a:pt x="6991" y="16260"/>
                  <a:pt x="6902" y="16210"/>
                  <a:pt x="6871" y="16222"/>
                </a:cubicBezTo>
                <a:cubicBezTo>
                  <a:pt x="6838" y="16235"/>
                  <a:pt x="6806" y="16256"/>
                  <a:pt x="6821" y="16297"/>
                </a:cubicBezTo>
                <a:cubicBezTo>
                  <a:pt x="6849" y="16375"/>
                  <a:pt x="6933" y="16424"/>
                  <a:pt x="6970" y="16495"/>
                </a:cubicBezTo>
                <a:cubicBezTo>
                  <a:pt x="7022" y="16595"/>
                  <a:pt x="7040" y="16707"/>
                  <a:pt x="7045" y="16818"/>
                </a:cubicBezTo>
                <a:cubicBezTo>
                  <a:pt x="7047" y="16867"/>
                  <a:pt x="7058" y="16969"/>
                  <a:pt x="6995" y="16991"/>
                </a:cubicBezTo>
                <a:cubicBezTo>
                  <a:pt x="6943" y="17010"/>
                  <a:pt x="6884" y="16970"/>
                  <a:pt x="6846" y="16942"/>
                </a:cubicBezTo>
                <a:cubicBezTo>
                  <a:pt x="6791" y="16901"/>
                  <a:pt x="6781" y="16803"/>
                  <a:pt x="6772" y="16743"/>
                </a:cubicBezTo>
                <a:cubicBezTo>
                  <a:pt x="6772" y="16692"/>
                  <a:pt x="6773" y="16674"/>
                  <a:pt x="6796" y="16644"/>
                </a:cubicBezTo>
              </a:path>
              <a:path w="2059" h="1960">
                <a:moveTo>
                  <a:pt x="7441" y="16396"/>
                </a:moveTo>
                <a:cubicBezTo>
                  <a:pt x="7464" y="16419"/>
                  <a:pt x="7472" y="16423"/>
                  <a:pt x="7466" y="16446"/>
                </a:cubicBezTo>
                <a:cubicBezTo>
                  <a:pt x="7466" y="16419"/>
                  <a:pt x="7459" y="16358"/>
                  <a:pt x="7441" y="16346"/>
                </a:cubicBezTo>
                <a:cubicBezTo>
                  <a:pt x="7390" y="16311"/>
                  <a:pt x="7365" y="16336"/>
                  <a:pt x="7317" y="16346"/>
                </a:cubicBezTo>
                <a:cubicBezTo>
                  <a:pt x="7258" y="16358"/>
                  <a:pt x="7156" y="16408"/>
                  <a:pt x="7119" y="16470"/>
                </a:cubicBezTo>
                <a:cubicBezTo>
                  <a:pt x="7051" y="16585"/>
                  <a:pt x="7080" y="16678"/>
                  <a:pt x="7119" y="16793"/>
                </a:cubicBezTo>
                <a:cubicBezTo>
                  <a:pt x="7155" y="16899"/>
                  <a:pt x="7230" y="16986"/>
                  <a:pt x="7342" y="17016"/>
                </a:cubicBezTo>
                <a:cubicBezTo>
                  <a:pt x="7416" y="17036"/>
                  <a:pt x="7438" y="17006"/>
                  <a:pt x="7491" y="16966"/>
                </a:cubicBezTo>
              </a:path>
              <a:path w="2059" h="1960">
                <a:moveTo>
                  <a:pt x="7689" y="16396"/>
                </a:moveTo>
                <a:cubicBezTo>
                  <a:pt x="7716" y="16491"/>
                  <a:pt x="7771" y="16539"/>
                  <a:pt x="7813" y="16619"/>
                </a:cubicBezTo>
                <a:cubicBezTo>
                  <a:pt x="7871" y="16731"/>
                  <a:pt x="7938" y="16813"/>
                  <a:pt x="8012" y="16917"/>
                </a:cubicBezTo>
                <a:cubicBezTo>
                  <a:pt x="8071" y="17000"/>
                  <a:pt x="8135" y="17030"/>
                  <a:pt x="8210" y="17090"/>
                </a:cubicBezTo>
              </a:path>
              <a:path w="2059" h="1960">
                <a:moveTo>
                  <a:pt x="8111" y="16470"/>
                </a:moveTo>
                <a:cubicBezTo>
                  <a:pt x="7982" y="16549"/>
                  <a:pt x="7896" y="16624"/>
                  <a:pt x="7789" y="16718"/>
                </a:cubicBezTo>
                <a:cubicBezTo>
                  <a:pt x="7713" y="16785"/>
                  <a:pt x="7601" y="16864"/>
                  <a:pt x="7516" y="16917"/>
                </a:cubicBezTo>
                <a:cubicBezTo>
                  <a:pt x="7483" y="16933"/>
                  <a:pt x="7450" y="16950"/>
                  <a:pt x="7417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07000" y="5813280"/>
            <a:ext cx="1679760" cy="758880"/>
          </a:xfrm>
          <a:custGeom>
            <a:avLst/>
            <a:gdLst/>
            <a:ahLst/>
            <a:rect l="l" t="t" r="r" b="b"/>
            <a:pathLst>
              <a:path w="4665" h="2109">
                <a:moveTo>
                  <a:pt x="15974" y="16148"/>
                </a:moveTo>
                <a:cubicBezTo>
                  <a:pt x="15974" y="16235"/>
                  <a:pt x="15996" y="16309"/>
                  <a:pt x="15999" y="16396"/>
                </a:cubicBezTo>
                <a:cubicBezTo>
                  <a:pt x="16003" y="16501"/>
                  <a:pt x="15997" y="16617"/>
                  <a:pt x="16024" y="16718"/>
                </a:cubicBezTo>
                <a:cubicBezTo>
                  <a:pt x="16040" y="16779"/>
                  <a:pt x="16059" y="16836"/>
                  <a:pt x="16073" y="16892"/>
                </a:cubicBezTo>
              </a:path>
              <a:path w="4665" h="2109">
                <a:moveTo>
                  <a:pt x="15577" y="16966"/>
                </a:moveTo>
                <a:cubicBezTo>
                  <a:pt x="15727" y="17014"/>
                  <a:pt x="15864" y="17037"/>
                  <a:pt x="16024" y="17041"/>
                </a:cubicBezTo>
                <a:cubicBezTo>
                  <a:pt x="16178" y="17045"/>
                  <a:pt x="16318" y="17029"/>
                  <a:pt x="16470" y="17016"/>
                </a:cubicBezTo>
                <a:cubicBezTo>
                  <a:pt x="16533" y="17011"/>
                  <a:pt x="16578" y="17017"/>
                  <a:pt x="16594" y="16966"/>
                </a:cubicBezTo>
              </a:path>
              <a:path w="4665" h="2109">
                <a:moveTo>
                  <a:pt x="15999" y="17239"/>
                </a:moveTo>
                <a:cubicBezTo>
                  <a:pt x="15981" y="17276"/>
                  <a:pt x="15934" y="17203"/>
                  <a:pt x="15875" y="17190"/>
                </a:cubicBezTo>
                <a:cubicBezTo>
                  <a:pt x="15816" y="17177"/>
                  <a:pt x="15738" y="17190"/>
                  <a:pt x="15677" y="17190"/>
                </a:cubicBezTo>
                <a:cubicBezTo>
                  <a:pt x="15633" y="17246"/>
                  <a:pt x="15665" y="17301"/>
                  <a:pt x="15701" y="17363"/>
                </a:cubicBezTo>
                <a:cubicBezTo>
                  <a:pt x="15762" y="17467"/>
                  <a:pt x="15837" y="17559"/>
                  <a:pt x="15900" y="17661"/>
                </a:cubicBezTo>
                <a:cubicBezTo>
                  <a:pt x="15959" y="17756"/>
                  <a:pt x="16018" y="17820"/>
                  <a:pt x="16024" y="17934"/>
                </a:cubicBezTo>
                <a:cubicBezTo>
                  <a:pt x="16029" y="18030"/>
                  <a:pt x="16003" y="18080"/>
                  <a:pt x="15900" y="18107"/>
                </a:cubicBezTo>
                <a:cubicBezTo>
                  <a:pt x="15839" y="18123"/>
                  <a:pt x="15731" y="18110"/>
                  <a:pt x="15677" y="18083"/>
                </a:cubicBezTo>
                <a:cubicBezTo>
                  <a:pt x="15599" y="18044"/>
                  <a:pt x="15577" y="17937"/>
                  <a:pt x="15602" y="17859"/>
                </a:cubicBezTo>
                <a:cubicBezTo>
                  <a:pt x="15652" y="17760"/>
                  <a:pt x="15669" y="17727"/>
                  <a:pt x="15701" y="17661"/>
                </a:cubicBezTo>
              </a:path>
              <a:path w="4665" h="2109">
                <a:moveTo>
                  <a:pt x="16297" y="17438"/>
                </a:moveTo>
                <a:cubicBezTo>
                  <a:pt x="16332" y="17602"/>
                  <a:pt x="16346" y="17721"/>
                  <a:pt x="16346" y="17884"/>
                </a:cubicBezTo>
                <a:cubicBezTo>
                  <a:pt x="16346" y="17926"/>
                  <a:pt x="16346" y="17934"/>
                  <a:pt x="16346" y="17959"/>
                </a:cubicBezTo>
              </a:path>
              <a:path w="4665" h="2109">
                <a:moveTo>
                  <a:pt x="16321" y="17190"/>
                </a:moveTo>
                <a:cubicBezTo>
                  <a:pt x="16401" y="17190"/>
                  <a:pt x="16391" y="17196"/>
                  <a:pt x="16470" y="17239"/>
                </a:cubicBezTo>
              </a:path>
              <a:path w="4665" h="2109">
                <a:moveTo>
                  <a:pt x="16470" y="17909"/>
                </a:moveTo>
                <a:cubicBezTo>
                  <a:pt x="16470" y="17972"/>
                  <a:pt x="16512" y="17784"/>
                  <a:pt x="16520" y="17760"/>
                </a:cubicBezTo>
                <a:cubicBezTo>
                  <a:pt x="16551" y="17669"/>
                  <a:pt x="16571" y="17577"/>
                  <a:pt x="16594" y="17487"/>
                </a:cubicBezTo>
                <a:cubicBezTo>
                  <a:pt x="16609" y="17427"/>
                  <a:pt x="16639" y="17355"/>
                  <a:pt x="16718" y="17388"/>
                </a:cubicBezTo>
                <a:cubicBezTo>
                  <a:pt x="16778" y="17413"/>
                  <a:pt x="16801" y="17512"/>
                  <a:pt x="16818" y="17562"/>
                </a:cubicBezTo>
                <a:cubicBezTo>
                  <a:pt x="16864" y="17698"/>
                  <a:pt x="16915" y="17825"/>
                  <a:pt x="16966" y="17959"/>
                </a:cubicBezTo>
                <a:cubicBezTo>
                  <a:pt x="16983" y="18004"/>
                  <a:pt x="17059" y="18205"/>
                  <a:pt x="17140" y="18182"/>
                </a:cubicBezTo>
                <a:cubicBezTo>
                  <a:pt x="17157" y="18165"/>
                  <a:pt x="17173" y="18149"/>
                  <a:pt x="17190" y="18132"/>
                </a:cubicBezTo>
              </a:path>
              <a:path w="4665" h="2109">
                <a:moveTo>
                  <a:pt x="17165" y="17611"/>
                </a:moveTo>
                <a:cubicBezTo>
                  <a:pt x="17263" y="17773"/>
                  <a:pt x="17348" y="17912"/>
                  <a:pt x="17462" y="18058"/>
                </a:cubicBezTo>
                <a:cubicBezTo>
                  <a:pt x="17543" y="18162"/>
                  <a:pt x="17584" y="18184"/>
                  <a:pt x="17686" y="18107"/>
                </a:cubicBezTo>
              </a:path>
              <a:path w="4665" h="2109">
                <a:moveTo>
                  <a:pt x="17413" y="17512"/>
                </a:moveTo>
                <a:cubicBezTo>
                  <a:pt x="17269" y="17702"/>
                  <a:pt x="17127" y="17889"/>
                  <a:pt x="16991" y="18083"/>
                </a:cubicBezTo>
                <a:cubicBezTo>
                  <a:pt x="16944" y="18151"/>
                  <a:pt x="16899" y="18200"/>
                  <a:pt x="16842" y="18256"/>
                </a:cubicBezTo>
              </a:path>
              <a:path w="4665" h="2109">
                <a:moveTo>
                  <a:pt x="17562" y="16917"/>
                </a:moveTo>
                <a:cubicBezTo>
                  <a:pt x="17705" y="16894"/>
                  <a:pt x="17797" y="16902"/>
                  <a:pt x="17934" y="16917"/>
                </a:cubicBezTo>
                <a:cubicBezTo>
                  <a:pt x="17959" y="16917"/>
                  <a:pt x="17983" y="16917"/>
                  <a:pt x="18008" y="16917"/>
                </a:cubicBezTo>
              </a:path>
              <a:path w="4665" h="2109">
                <a:moveTo>
                  <a:pt x="17735" y="17264"/>
                </a:moveTo>
                <a:cubicBezTo>
                  <a:pt x="17926" y="17280"/>
                  <a:pt x="17911" y="17300"/>
                  <a:pt x="18058" y="17214"/>
                </a:cubicBezTo>
              </a:path>
              <a:path w="4665" h="2109">
                <a:moveTo>
                  <a:pt x="18529" y="16818"/>
                </a:moveTo>
                <a:cubicBezTo>
                  <a:pt x="18545" y="16862"/>
                  <a:pt x="18576" y="16952"/>
                  <a:pt x="18604" y="16966"/>
                </a:cubicBezTo>
                <a:cubicBezTo>
                  <a:pt x="18612" y="16966"/>
                  <a:pt x="18620" y="16966"/>
                  <a:pt x="18628" y="16966"/>
                </a:cubicBezTo>
                <a:cubicBezTo>
                  <a:pt x="18668" y="16914"/>
                  <a:pt x="18650" y="16897"/>
                  <a:pt x="18628" y="16842"/>
                </a:cubicBezTo>
                <a:cubicBezTo>
                  <a:pt x="18612" y="16801"/>
                  <a:pt x="18568" y="16722"/>
                  <a:pt x="18504" y="16768"/>
                </a:cubicBezTo>
                <a:cubicBezTo>
                  <a:pt x="18445" y="16811"/>
                  <a:pt x="18350" y="16919"/>
                  <a:pt x="18331" y="16991"/>
                </a:cubicBezTo>
                <a:cubicBezTo>
                  <a:pt x="18308" y="17078"/>
                  <a:pt x="18319" y="17255"/>
                  <a:pt x="18355" y="17338"/>
                </a:cubicBezTo>
                <a:cubicBezTo>
                  <a:pt x="18377" y="17388"/>
                  <a:pt x="18488" y="17537"/>
                  <a:pt x="18554" y="17537"/>
                </a:cubicBezTo>
                <a:cubicBezTo>
                  <a:pt x="18666" y="17514"/>
                  <a:pt x="18697" y="17513"/>
                  <a:pt x="18752" y="17462"/>
                </a:cubicBezTo>
              </a:path>
              <a:path w="4665" h="2109">
                <a:moveTo>
                  <a:pt x="19025" y="16818"/>
                </a:moveTo>
                <a:cubicBezTo>
                  <a:pt x="19003" y="16767"/>
                  <a:pt x="19011" y="16755"/>
                  <a:pt x="18976" y="16743"/>
                </a:cubicBezTo>
                <a:cubicBezTo>
                  <a:pt x="18961" y="16789"/>
                  <a:pt x="18930" y="16767"/>
                  <a:pt x="18926" y="16842"/>
                </a:cubicBezTo>
                <a:cubicBezTo>
                  <a:pt x="18921" y="16929"/>
                  <a:pt x="18968" y="16990"/>
                  <a:pt x="19000" y="17066"/>
                </a:cubicBezTo>
                <a:cubicBezTo>
                  <a:pt x="19041" y="17164"/>
                  <a:pt x="19105" y="17256"/>
                  <a:pt x="19124" y="17363"/>
                </a:cubicBezTo>
                <a:cubicBezTo>
                  <a:pt x="19135" y="17428"/>
                  <a:pt x="19119" y="17492"/>
                  <a:pt x="19050" y="17512"/>
                </a:cubicBezTo>
                <a:cubicBezTo>
                  <a:pt x="18994" y="17528"/>
                  <a:pt x="18911" y="17511"/>
                  <a:pt x="18876" y="17462"/>
                </a:cubicBezTo>
                <a:cubicBezTo>
                  <a:pt x="18835" y="17404"/>
                  <a:pt x="18788" y="17311"/>
                  <a:pt x="18802" y="17239"/>
                </a:cubicBezTo>
                <a:cubicBezTo>
                  <a:pt x="18810" y="17223"/>
                  <a:pt x="18819" y="17206"/>
                  <a:pt x="18827" y="17190"/>
                </a:cubicBezTo>
              </a:path>
              <a:path w="4665" h="2109">
                <a:moveTo>
                  <a:pt x="19472" y="17016"/>
                </a:moveTo>
                <a:cubicBezTo>
                  <a:pt x="19461" y="16964"/>
                  <a:pt x="19430" y="16911"/>
                  <a:pt x="19397" y="16867"/>
                </a:cubicBezTo>
                <a:cubicBezTo>
                  <a:pt x="19354" y="16810"/>
                  <a:pt x="19329" y="16812"/>
                  <a:pt x="19273" y="16842"/>
                </a:cubicBezTo>
                <a:cubicBezTo>
                  <a:pt x="19202" y="16880"/>
                  <a:pt x="19144" y="16903"/>
                  <a:pt x="19124" y="16991"/>
                </a:cubicBezTo>
                <a:cubicBezTo>
                  <a:pt x="19090" y="17135"/>
                  <a:pt x="19109" y="17246"/>
                  <a:pt x="19199" y="17363"/>
                </a:cubicBezTo>
                <a:cubicBezTo>
                  <a:pt x="19265" y="17449"/>
                  <a:pt x="19288" y="17502"/>
                  <a:pt x="19397" y="17512"/>
                </a:cubicBezTo>
                <a:cubicBezTo>
                  <a:pt x="19454" y="17512"/>
                  <a:pt x="19475" y="17507"/>
                  <a:pt x="19496" y="17462"/>
                </a:cubicBezTo>
              </a:path>
              <a:path w="4665" h="2109">
                <a:moveTo>
                  <a:pt x="19695" y="16942"/>
                </a:moveTo>
                <a:cubicBezTo>
                  <a:pt x="19744" y="17050"/>
                  <a:pt x="19784" y="17161"/>
                  <a:pt x="19844" y="17264"/>
                </a:cubicBezTo>
                <a:cubicBezTo>
                  <a:pt x="19911" y="17380"/>
                  <a:pt x="19974" y="17490"/>
                  <a:pt x="20067" y="17587"/>
                </a:cubicBezTo>
                <a:cubicBezTo>
                  <a:pt x="20128" y="17650"/>
                  <a:pt x="20159" y="17636"/>
                  <a:pt x="20241" y="17636"/>
                </a:cubicBezTo>
              </a:path>
              <a:path w="4665" h="2109">
                <a:moveTo>
                  <a:pt x="20117" y="16991"/>
                </a:moveTo>
                <a:cubicBezTo>
                  <a:pt x="19966" y="17169"/>
                  <a:pt x="19823" y="17342"/>
                  <a:pt x="19695" y="17537"/>
                </a:cubicBezTo>
                <a:cubicBezTo>
                  <a:pt x="19600" y="17681"/>
                  <a:pt x="19571" y="17725"/>
                  <a:pt x="19496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9880" y="938160"/>
            <a:ext cx="517320" cy="482760"/>
          </a:xfrm>
          <a:custGeom>
            <a:avLst/>
            <a:gdLst/>
            <a:ahLst/>
            <a:rect l="l" t="t" r="r" b="b"/>
            <a:pathLst>
              <a:path w="1439" h="1341">
                <a:moveTo>
                  <a:pt x="2456" y="3373"/>
                </a:moveTo>
                <a:cubicBezTo>
                  <a:pt x="2427" y="3430"/>
                  <a:pt x="2403" y="3491"/>
                  <a:pt x="2381" y="3547"/>
                </a:cubicBezTo>
                <a:cubicBezTo>
                  <a:pt x="2358" y="3604"/>
                  <a:pt x="2344" y="3609"/>
                  <a:pt x="2332" y="3646"/>
                </a:cubicBezTo>
                <a:cubicBezTo>
                  <a:pt x="2382" y="3659"/>
                  <a:pt x="2425" y="3657"/>
                  <a:pt x="2480" y="3671"/>
                </a:cubicBezTo>
                <a:cubicBezTo>
                  <a:pt x="2551" y="3689"/>
                  <a:pt x="2608" y="3705"/>
                  <a:pt x="2654" y="3770"/>
                </a:cubicBezTo>
                <a:cubicBezTo>
                  <a:pt x="2688" y="3817"/>
                  <a:pt x="2681" y="3854"/>
                  <a:pt x="2654" y="3894"/>
                </a:cubicBezTo>
                <a:cubicBezTo>
                  <a:pt x="2624" y="3939"/>
                  <a:pt x="2578" y="3944"/>
                  <a:pt x="2530" y="3944"/>
                </a:cubicBezTo>
                <a:cubicBezTo>
                  <a:pt x="2474" y="3944"/>
                  <a:pt x="2465" y="3891"/>
                  <a:pt x="2456" y="3845"/>
                </a:cubicBezTo>
              </a:path>
              <a:path w="1439" h="1341">
                <a:moveTo>
                  <a:pt x="2580" y="3274"/>
                </a:moveTo>
                <a:cubicBezTo>
                  <a:pt x="2660" y="3390"/>
                  <a:pt x="2723" y="3476"/>
                  <a:pt x="2803" y="3572"/>
                </a:cubicBezTo>
                <a:cubicBezTo>
                  <a:pt x="2833" y="3608"/>
                  <a:pt x="2817" y="3610"/>
                  <a:pt x="2853" y="3621"/>
                </a:cubicBezTo>
                <a:cubicBezTo>
                  <a:pt x="2819" y="3610"/>
                  <a:pt x="2830" y="3608"/>
                  <a:pt x="2803" y="3572"/>
                </a:cubicBezTo>
              </a:path>
              <a:path w="1439" h="1341">
                <a:moveTo>
                  <a:pt x="2555" y="3076"/>
                </a:moveTo>
                <a:cubicBezTo>
                  <a:pt x="2577" y="3032"/>
                  <a:pt x="2580" y="3021"/>
                  <a:pt x="2604" y="3001"/>
                </a:cubicBezTo>
              </a:path>
              <a:path w="1439" h="1341">
                <a:moveTo>
                  <a:pt x="2853" y="3225"/>
                </a:moveTo>
                <a:cubicBezTo>
                  <a:pt x="2855" y="3229"/>
                  <a:pt x="2959" y="3458"/>
                  <a:pt x="2977" y="3473"/>
                </a:cubicBezTo>
                <a:cubicBezTo>
                  <a:pt x="2985" y="3473"/>
                  <a:pt x="2993" y="3473"/>
                  <a:pt x="3001" y="3473"/>
                </a:cubicBezTo>
                <a:cubicBezTo>
                  <a:pt x="3001" y="3519"/>
                  <a:pt x="2971" y="3429"/>
                  <a:pt x="2952" y="3398"/>
                </a:cubicBezTo>
                <a:cubicBezTo>
                  <a:pt x="2926" y="3356"/>
                  <a:pt x="2862" y="3273"/>
                  <a:pt x="2853" y="3225"/>
                </a:cubicBezTo>
                <a:cubicBezTo>
                  <a:pt x="2843" y="3170"/>
                  <a:pt x="2854" y="3072"/>
                  <a:pt x="2877" y="3026"/>
                </a:cubicBezTo>
                <a:cubicBezTo>
                  <a:pt x="2904" y="2972"/>
                  <a:pt x="2964" y="2966"/>
                  <a:pt x="3001" y="3001"/>
                </a:cubicBezTo>
                <a:cubicBezTo>
                  <a:pt x="3068" y="3063"/>
                  <a:pt x="3120" y="3103"/>
                  <a:pt x="3175" y="3175"/>
                </a:cubicBezTo>
                <a:cubicBezTo>
                  <a:pt x="3187" y="3191"/>
                  <a:pt x="3256" y="3253"/>
                  <a:pt x="3274" y="3249"/>
                </a:cubicBezTo>
                <a:cubicBezTo>
                  <a:pt x="3299" y="3225"/>
                  <a:pt x="3308" y="3217"/>
                  <a:pt x="3324" y="3200"/>
                </a:cubicBezTo>
              </a:path>
              <a:path w="1439" h="1341">
                <a:moveTo>
                  <a:pt x="3249" y="2753"/>
                </a:moveTo>
                <a:cubicBezTo>
                  <a:pt x="3366" y="2834"/>
                  <a:pt x="3419" y="2882"/>
                  <a:pt x="3547" y="2902"/>
                </a:cubicBezTo>
                <a:cubicBezTo>
                  <a:pt x="3611" y="2912"/>
                  <a:pt x="3670" y="2904"/>
                  <a:pt x="3721" y="2877"/>
                </a:cubicBezTo>
                <a:cubicBezTo>
                  <a:pt x="3737" y="2869"/>
                  <a:pt x="3754" y="2861"/>
                  <a:pt x="3770" y="2853"/>
                </a:cubicBezTo>
              </a:path>
              <a:path w="1439" h="1341">
                <a:moveTo>
                  <a:pt x="3597" y="2604"/>
                </a:moveTo>
                <a:cubicBezTo>
                  <a:pt x="3527" y="2729"/>
                  <a:pt x="3420" y="2878"/>
                  <a:pt x="3398" y="3026"/>
                </a:cubicBezTo>
                <a:cubicBezTo>
                  <a:pt x="3384" y="3118"/>
                  <a:pt x="3363" y="3186"/>
                  <a:pt x="3324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9760" y="1482840"/>
            <a:ext cx="357120" cy="428400"/>
          </a:xfrm>
          <a:custGeom>
            <a:avLst/>
            <a:gdLst/>
            <a:ahLst/>
            <a:rect l="l" t="t" r="r" b="b"/>
            <a:pathLst>
              <a:path w="993" h="1191">
                <a:moveTo>
                  <a:pt x="1414" y="4539"/>
                </a:moveTo>
                <a:cubicBezTo>
                  <a:pt x="1414" y="4644"/>
                  <a:pt x="1427" y="4739"/>
                  <a:pt x="1439" y="4837"/>
                </a:cubicBezTo>
                <a:cubicBezTo>
                  <a:pt x="1454" y="4954"/>
                  <a:pt x="1445" y="5071"/>
                  <a:pt x="1463" y="5184"/>
                </a:cubicBezTo>
                <a:cubicBezTo>
                  <a:pt x="1463" y="5226"/>
                  <a:pt x="1463" y="5234"/>
                  <a:pt x="1463" y="5259"/>
                </a:cubicBezTo>
                <a:cubicBezTo>
                  <a:pt x="1490" y="5213"/>
                  <a:pt x="1488" y="5193"/>
                  <a:pt x="1488" y="5135"/>
                </a:cubicBezTo>
              </a:path>
              <a:path w="993" h="1191">
                <a:moveTo>
                  <a:pt x="1736" y="4663"/>
                </a:moveTo>
                <a:cubicBezTo>
                  <a:pt x="1729" y="4760"/>
                  <a:pt x="1712" y="4837"/>
                  <a:pt x="1712" y="4936"/>
                </a:cubicBezTo>
                <a:cubicBezTo>
                  <a:pt x="1712" y="5021"/>
                  <a:pt x="1694" y="5092"/>
                  <a:pt x="1761" y="5159"/>
                </a:cubicBezTo>
                <a:cubicBezTo>
                  <a:pt x="1810" y="5208"/>
                  <a:pt x="1916" y="5131"/>
                  <a:pt x="1935" y="5110"/>
                </a:cubicBezTo>
                <a:cubicBezTo>
                  <a:pt x="1981" y="5060"/>
                  <a:pt x="2046" y="5008"/>
                  <a:pt x="2059" y="4936"/>
                </a:cubicBezTo>
                <a:cubicBezTo>
                  <a:pt x="2075" y="4847"/>
                  <a:pt x="2089" y="4791"/>
                  <a:pt x="2034" y="4713"/>
                </a:cubicBezTo>
                <a:cubicBezTo>
                  <a:pt x="1984" y="4641"/>
                  <a:pt x="1975" y="4647"/>
                  <a:pt x="1910" y="4614"/>
                </a:cubicBezTo>
                <a:cubicBezTo>
                  <a:pt x="1865" y="4591"/>
                  <a:pt x="1840" y="4583"/>
                  <a:pt x="1786" y="4614"/>
                </a:cubicBezTo>
                <a:cubicBezTo>
                  <a:pt x="1740" y="4641"/>
                  <a:pt x="1758" y="4654"/>
                  <a:pt x="1786" y="4663"/>
                </a:cubicBezTo>
              </a:path>
              <a:path w="993" h="1191">
                <a:moveTo>
                  <a:pt x="1935" y="4118"/>
                </a:moveTo>
                <a:cubicBezTo>
                  <a:pt x="2060" y="4197"/>
                  <a:pt x="2137" y="4245"/>
                  <a:pt x="2232" y="4366"/>
                </a:cubicBezTo>
                <a:cubicBezTo>
                  <a:pt x="2313" y="4469"/>
                  <a:pt x="2341" y="4566"/>
                  <a:pt x="2381" y="4688"/>
                </a:cubicBezTo>
                <a:cubicBezTo>
                  <a:pt x="2415" y="4794"/>
                  <a:pt x="2413" y="4880"/>
                  <a:pt x="2381" y="4986"/>
                </a:cubicBezTo>
                <a:cubicBezTo>
                  <a:pt x="2350" y="5091"/>
                  <a:pt x="2310" y="5168"/>
                  <a:pt x="2232" y="5234"/>
                </a:cubicBezTo>
                <a:cubicBezTo>
                  <a:pt x="2226" y="5239"/>
                  <a:pt x="2125" y="5340"/>
                  <a:pt x="2158" y="5283"/>
                </a:cubicBezTo>
                <a:cubicBezTo>
                  <a:pt x="2181" y="5261"/>
                  <a:pt x="2189" y="5256"/>
                  <a:pt x="2183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70000" y="1320840"/>
            <a:ext cx="2911320" cy="509400"/>
          </a:xfrm>
          <a:custGeom>
            <a:avLst/>
            <a:gdLst/>
            <a:ahLst/>
            <a:rect l="l" t="t" r="r" b="b"/>
            <a:pathLst>
              <a:path w="8088" h="1415">
                <a:moveTo>
                  <a:pt x="3572" y="4465"/>
                </a:moveTo>
                <a:cubicBezTo>
                  <a:pt x="3572" y="4490"/>
                  <a:pt x="3572" y="4498"/>
                  <a:pt x="3572" y="4514"/>
                </a:cubicBezTo>
                <a:cubicBezTo>
                  <a:pt x="3563" y="4478"/>
                  <a:pt x="3534" y="4453"/>
                  <a:pt x="3497" y="4440"/>
                </a:cubicBezTo>
                <a:cubicBezTo>
                  <a:pt x="3451" y="4424"/>
                  <a:pt x="3427" y="4462"/>
                  <a:pt x="3398" y="4490"/>
                </a:cubicBezTo>
                <a:cubicBezTo>
                  <a:pt x="3354" y="4533"/>
                  <a:pt x="3323" y="4628"/>
                  <a:pt x="3299" y="4688"/>
                </a:cubicBezTo>
                <a:cubicBezTo>
                  <a:pt x="3265" y="4774"/>
                  <a:pt x="3249" y="4845"/>
                  <a:pt x="3249" y="4936"/>
                </a:cubicBezTo>
                <a:cubicBezTo>
                  <a:pt x="3249" y="5004"/>
                  <a:pt x="3275" y="5067"/>
                  <a:pt x="3349" y="5085"/>
                </a:cubicBezTo>
                <a:cubicBezTo>
                  <a:pt x="3431" y="5104"/>
                  <a:pt x="3500" y="5062"/>
                  <a:pt x="3572" y="5035"/>
                </a:cubicBezTo>
                <a:cubicBezTo>
                  <a:pt x="3704" y="4986"/>
                  <a:pt x="3722" y="4948"/>
                  <a:pt x="3820" y="4837"/>
                </a:cubicBezTo>
              </a:path>
              <a:path w="8088" h="1415">
                <a:moveTo>
                  <a:pt x="3894" y="4614"/>
                </a:moveTo>
                <a:cubicBezTo>
                  <a:pt x="3858" y="4740"/>
                  <a:pt x="3818" y="4817"/>
                  <a:pt x="3870" y="4936"/>
                </a:cubicBezTo>
                <a:cubicBezTo>
                  <a:pt x="3899" y="5003"/>
                  <a:pt x="3923" y="5032"/>
                  <a:pt x="3994" y="5035"/>
                </a:cubicBezTo>
                <a:cubicBezTo>
                  <a:pt x="4066" y="5038"/>
                  <a:pt x="4181" y="5002"/>
                  <a:pt x="4242" y="4961"/>
                </a:cubicBezTo>
                <a:cubicBezTo>
                  <a:pt x="4308" y="4916"/>
                  <a:pt x="4400" y="4791"/>
                  <a:pt x="4415" y="4713"/>
                </a:cubicBezTo>
                <a:cubicBezTo>
                  <a:pt x="4433" y="4618"/>
                  <a:pt x="4416" y="4518"/>
                  <a:pt x="4341" y="4465"/>
                </a:cubicBezTo>
                <a:cubicBezTo>
                  <a:pt x="4245" y="4397"/>
                  <a:pt x="4191" y="4431"/>
                  <a:pt x="4093" y="4465"/>
                </a:cubicBezTo>
                <a:cubicBezTo>
                  <a:pt x="3997" y="4499"/>
                  <a:pt x="3979" y="4514"/>
                  <a:pt x="3919" y="4589"/>
                </a:cubicBezTo>
                <a:cubicBezTo>
                  <a:pt x="3971" y="4641"/>
                  <a:pt x="3988" y="4633"/>
                  <a:pt x="4068" y="4614"/>
                </a:cubicBezTo>
                <a:cubicBezTo>
                  <a:pt x="4093" y="4606"/>
                  <a:pt x="4117" y="4597"/>
                  <a:pt x="4142" y="4589"/>
                </a:cubicBezTo>
              </a:path>
              <a:path w="8088" h="1415">
                <a:moveTo>
                  <a:pt x="4738" y="4093"/>
                </a:moveTo>
                <a:cubicBezTo>
                  <a:pt x="4738" y="4333"/>
                  <a:pt x="4727" y="4580"/>
                  <a:pt x="4762" y="4812"/>
                </a:cubicBezTo>
                <a:cubicBezTo>
                  <a:pt x="4764" y="4823"/>
                  <a:pt x="4777" y="4928"/>
                  <a:pt x="4787" y="4936"/>
                </a:cubicBezTo>
                <a:cubicBezTo>
                  <a:pt x="4812" y="4936"/>
                  <a:pt x="4820" y="4936"/>
                  <a:pt x="4787" y="4936"/>
                </a:cubicBezTo>
              </a:path>
              <a:path w="8088" h="1415">
                <a:moveTo>
                  <a:pt x="4490" y="4589"/>
                </a:moveTo>
                <a:cubicBezTo>
                  <a:pt x="4576" y="4581"/>
                  <a:pt x="4679" y="4562"/>
                  <a:pt x="4762" y="4539"/>
                </a:cubicBezTo>
                <a:cubicBezTo>
                  <a:pt x="4845" y="4516"/>
                  <a:pt x="4932" y="4475"/>
                  <a:pt x="5011" y="4440"/>
                </a:cubicBezTo>
              </a:path>
              <a:path w="8088" h="1415">
                <a:moveTo>
                  <a:pt x="5209" y="3919"/>
                </a:moveTo>
                <a:cubicBezTo>
                  <a:pt x="5208" y="3927"/>
                  <a:pt x="5173" y="4072"/>
                  <a:pt x="5184" y="4093"/>
                </a:cubicBezTo>
                <a:cubicBezTo>
                  <a:pt x="5206" y="4133"/>
                  <a:pt x="5270" y="4118"/>
                  <a:pt x="5308" y="4118"/>
                </a:cubicBezTo>
                <a:cubicBezTo>
                  <a:pt x="5372" y="4118"/>
                  <a:pt x="5426" y="4113"/>
                  <a:pt x="5482" y="4093"/>
                </a:cubicBezTo>
                <a:cubicBezTo>
                  <a:pt x="5536" y="4066"/>
                  <a:pt x="5556" y="4054"/>
                  <a:pt x="5581" y="4018"/>
                </a:cubicBezTo>
              </a:path>
              <a:path w="8088" h="1415">
                <a:moveTo>
                  <a:pt x="5631" y="3671"/>
                </a:moveTo>
                <a:cubicBezTo>
                  <a:pt x="5625" y="3822"/>
                  <a:pt x="5600" y="3947"/>
                  <a:pt x="5581" y="4093"/>
                </a:cubicBezTo>
                <a:cubicBezTo>
                  <a:pt x="5572" y="4161"/>
                  <a:pt x="5574" y="4251"/>
                  <a:pt x="5556" y="4316"/>
                </a:cubicBezTo>
                <a:cubicBezTo>
                  <a:pt x="5537" y="4383"/>
                  <a:pt x="5513" y="4407"/>
                  <a:pt x="5556" y="4465"/>
                </a:cubicBezTo>
              </a:path>
              <a:path w="8088" h="1415">
                <a:moveTo>
                  <a:pt x="5779" y="4514"/>
                </a:moveTo>
                <a:cubicBezTo>
                  <a:pt x="5841" y="4615"/>
                  <a:pt x="5897" y="4726"/>
                  <a:pt x="5978" y="4812"/>
                </a:cubicBezTo>
                <a:cubicBezTo>
                  <a:pt x="6027" y="4865"/>
                  <a:pt x="6084" y="4894"/>
                  <a:pt x="6152" y="4911"/>
                </a:cubicBezTo>
                <a:cubicBezTo>
                  <a:pt x="6203" y="4923"/>
                  <a:pt x="6235" y="4897"/>
                  <a:pt x="6276" y="4887"/>
                </a:cubicBezTo>
              </a:path>
              <a:path w="8088" h="1415">
                <a:moveTo>
                  <a:pt x="6176" y="4440"/>
                </a:moveTo>
                <a:cubicBezTo>
                  <a:pt x="6053" y="4559"/>
                  <a:pt x="5905" y="4673"/>
                  <a:pt x="5804" y="4812"/>
                </a:cubicBezTo>
                <a:cubicBezTo>
                  <a:pt x="5769" y="4861"/>
                  <a:pt x="5739" y="4932"/>
                  <a:pt x="5680" y="4961"/>
                </a:cubicBezTo>
                <a:cubicBezTo>
                  <a:pt x="5624" y="4989"/>
                  <a:pt x="5700" y="4940"/>
                  <a:pt x="5705" y="4936"/>
                </a:cubicBezTo>
              </a:path>
              <a:path w="8088" h="1415">
                <a:moveTo>
                  <a:pt x="6772" y="4192"/>
                </a:moveTo>
                <a:cubicBezTo>
                  <a:pt x="6741" y="4308"/>
                  <a:pt x="6712" y="4422"/>
                  <a:pt x="6697" y="4539"/>
                </a:cubicBezTo>
                <a:cubicBezTo>
                  <a:pt x="6687" y="4612"/>
                  <a:pt x="6703" y="4656"/>
                  <a:pt x="6722" y="4713"/>
                </a:cubicBezTo>
                <a:cubicBezTo>
                  <a:pt x="6734" y="4749"/>
                  <a:pt x="6735" y="4749"/>
                  <a:pt x="6747" y="4713"/>
                </a:cubicBezTo>
              </a:path>
              <a:path w="8088" h="1415">
                <a:moveTo>
                  <a:pt x="6623" y="4465"/>
                </a:moveTo>
                <a:cubicBezTo>
                  <a:pt x="6747" y="4465"/>
                  <a:pt x="6871" y="4465"/>
                  <a:pt x="6995" y="4465"/>
                </a:cubicBezTo>
                <a:cubicBezTo>
                  <a:pt x="6995" y="4440"/>
                  <a:pt x="6995" y="4432"/>
                  <a:pt x="6995" y="4415"/>
                </a:cubicBezTo>
              </a:path>
              <a:path w="8088" h="1415">
                <a:moveTo>
                  <a:pt x="7218" y="4043"/>
                </a:moveTo>
                <a:cubicBezTo>
                  <a:pt x="7303" y="4008"/>
                  <a:pt x="7399" y="3949"/>
                  <a:pt x="7491" y="3944"/>
                </a:cubicBezTo>
                <a:cubicBezTo>
                  <a:pt x="7538" y="3941"/>
                  <a:pt x="7637" y="3923"/>
                  <a:pt x="7665" y="3969"/>
                </a:cubicBezTo>
                <a:cubicBezTo>
                  <a:pt x="7704" y="4031"/>
                  <a:pt x="7685" y="4101"/>
                  <a:pt x="7665" y="4167"/>
                </a:cubicBezTo>
                <a:cubicBezTo>
                  <a:pt x="7638" y="4255"/>
                  <a:pt x="7609" y="4359"/>
                  <a:pt x="7565" y="4440"/>
                </a:cubicBezTo>
                <a:cubicBezTo>
                  <a:pt x="7514" y="4535"/>
                  <a:pt x="7434" y="4613"/>
                  <a:pt x="7392" y="4713"/>
                </a:cubicBezTo>
                <a:cubicBezTo>
                  <a:pt x="7375" y="4754"/>
                  <a:pt x="7346" y="4862"/>
                  <a:pt x="7367" y="4911"/>
                </a:cubicBezTo>
                <a:cubicBezTo>
                  <a:pt x="7392" y="4971"/>
                  <a:pt x="7481" y="4923"/>
                  <a:pt x="7516" y="4911"/>
                </a:cubicBezTo>
                <a:cubicBezTo>
                  <a:pt x="7609" y="4879"/>
                  <a:pt x="7691" y="4852"/>
                  <a:pt x="7764" y="4787"/>
                </a:cubicBezTo>
                <a:cubicBezTo>
                  <a:pt x="7780" y="4771"/>
                  <a:pt x="7797" y="4754"/>
                  <a:pt x="7813" y="4738"/>
                </a:cubicBezTo>
              </a:path>
              <a:path w="8088" h="1415">
                <a:moveTo>
                  <a:pt x="8235" y="4415"/>
                </a:moveTo>
                <a:cubicBezTo>
                  <a:pt x="8235" y="4440"/>
                  <a:pt x="8235" y="4465"/>
                  <a:pt x="8235" y="4490"/>
                </a:cubicBezTo>
                <a:cubicBezTo>
                  <a:pt x="8235" y="4463"/>
                  <a:pt x="8228" y="4402"/>
                  <a:pt x="8210" y="4390"/>
                </a:cubicBezTo>
                <a:cubicBezTo>
                  <a:pt x="8176" y="4366"/>
                  <a:pt x="8098" y="4351"/>
                  <a:pt x="8062" y="4390"/>
                </a:cubicBezTo>
                <a:cubicBezTo>
                  <a:pt x="8003" y="4454"/>
                  <a:pt x="7966" y="4532"/>
                  <a:pt x="7938" y="4614"/>
                </a:cubicBezTo>
                <a:cubicBezTo>
                  <a:pt x="7912" y="4691"/>
                  <a:pt x="7894" y="4764"/>
                  <a:pt x="7938" y="4837"/>
                </a:cubicBezTo>
                <a:cubicBezTo>
                  <a:pt x="7961" y="4875"/>
                  <a:pt x="8048" y="4873"/>
                  <a:pt x="8086" y="4862"/>
                </a:cubicBezTo>
                <a:cubicBezTo>
                  <a:pt x="8177" y="4836"/>
                  <a:pt x="8216" y="4823"/>
                  <a:pt x="8285" y="4762"/>
                </a:cubicBezTo>
                <a:cubicBezTo>
                  <a:pt x="8301" y="4746"/>
                  <a:pt x="8318" y="4729"/>
                  <a:pt x="8334" y="4713"/>
                </a:cubicBezTo>
              </a:path>
              <a:path w="8088" h="1415">
                <a:moveTo>
                  <a:pt x="8483" y="4440"/>
                </a:moveTo>
                <a:cubicBezTo>
                  <a:pt x="8477" y="4460"/>
                  <a:pt x="8376" y="4711"/>
                  <a:pt x="8384" y="4762"/>
                </a:cubicBezTo>
                <a:cubicBezTo>
                  <a:pt x="8391" y="4806"/>
                  <a:pt x="8451" y="4812"/>
                  <a:pt x="8483" y="4812"/>
                </a:cubicBezTo>
                <a:cubicBezTo>
                  <a:pt x="8548" y="4812"/>
                  <a:pt x="8632" y="4815"/>
                  <a:pt x="8682" y="4762"/>
                </a:cubicBezTo>
                <a:cubicBezTo>
                  <a:pt x="8759" y="4679"/>
                  <a:pt x="8824" y="4607"/>
                  <a:pt x="8830" y="4490"/>
                </a:cubicBezTo>
                <a:cubicBezTo>
                  <a:pt x="8834" y="4419"/>
                  <a:pt x="8841" y="4361"/>
                  <a:pt x="8756" y="4341"/>
                </a:cubicBezTo>
                <a:cubicBezTo>
                  <a:pt x="8740" y="4337"/>
                  <a:pt x="8530" y="4341"/>
                  <a:pt x="8607" y="4341"/>
                </a:cubicBezTo>
                <a:cubicBezTo>
                  <a:pt x="8642" y="4341"/>
                  <a:pt x="8660" y="4336"/>
                  <a:pt x="8682" y="4316"/>
                </a:cubicBezTo>
              </a:path>
              <a:path w="8088" h="1415">
                <a:moveTo>
                  <a:pt x="9054" y="4068"/>
                </a:moveTo>
                <a:cubicBezTo>
                  <a:pt x="9026" y="4192"/>
                  <a:pt x="8994" y="4314"/>
                  <a:pt x="8979" y="4440"/>
                </a:cubicBezTo>
                <a:cubicBezTo>
                  <a:pt x="8970" y="4513"/>
                  <a:pt x="9004" y="4587"/>
                  <a:pt x="9004" y="4663"/>
                </a:cubicBezTo>
                <a:cubicBezTo>
                  <a:pt x="9004" y="4734"/>
                  <a:pt x="9020" y="4773"/>
                  <a:pt x="9029" y="4837"/>
                </a:cubicBezTo>
              </a:path>
              <a:path w="8088" h="1415">
                <a:moveTo>
                  <a:pt x="8806" y="4490"/>
                </a:moveTo>
                <a:cubicBezTo>
                  <a:pt x="8909" y="4484"/>
                  <a:pt x="8987" y="4482"/>
                  <a:pt x="9079" y="4440"/>
                </a:cubicBezTo>
                <a:cubicBezTo>
                  <a:pt x="9151" y="4407"/>
                  <a:pt x="9213" y="4418"/>
                  <a:pt x="9277" y="4366"/>
                </a:cubicBezTo>
                <a:cubicBezTo>
                  <a:pt x="9294" y="4349"/>
                  <a:pt x="9310" y="4333"/>
                  <a:pt x="9327" y="4316"/>
                </a:cubicBezTo>
              </a:path>
              <a:path w="8088" h="1415">
                <a:moveTo>
                  <a:pt x="9426" y="3795"/>
                </a:moveTo>
                <a:cubicBezTo>
                  <a:pt x="9499" y="3767"/>
                  <a:pt x="9560" y="3762"/>
                  <a:pt x="9624" y="3770"/>
                </a:cubicBezTo>
                <a:cubicBezTo>
                  <a:pt x="9685" y="3777"/>
                  <a:pt x="9722" y="3793"/>
                  <a:pt x="9699" y="3870"/>
                </a:cubicBezTo>
                <a:cubicBezTo>
                  <a:pt x="9680" y="3935"/>
                  <a:pt x="9629" y="4027"/>
                  <a:pt x="9575" y="4068"/>
                </a:cubicBezTo>
                <a:cubicBezTo>
                  <a:pt x="9507" y="4120"/>
                  <a:pt x="9458" y="4128"/>
                  <a:pt x="9451" y="4217"/>
                </a:cubicBezTo>
                <a:cubicBezTo>
                  <a:pt x="9446" y="4274"/>
                  <a:pt x="9467" y="4297"/>
                  <a:pt x="9525" y="4316"/>
                </a:cubicBezTo>
                <a:cubicBezTo>
                  <a:pt x="9558" y="4324"/>
                  <a:pt x="9591" y="4333"/>
                  <a:pt x="9624" y="4341"/>
                </a:cubicBezTo>
              </a:path>
              <a:path w="8088" h="1415">
                <a:moveTo>
                  <a:pt x="9947" y="4440"/>
                </a:moveTo>
                <a:cubicBezTo>
                  <a:pt x="9970" y="4539"/>
                  <a:pt x="9978" y="4613"/>
                  <a:pt x="10046" y="4688"/>
                </a:cubicBezTo>
                <a:cubicBezTo>
                  <a:pt x="10114" y="4763"/>
                  <a:pt x="10108" y="4782"/>
                  <a:pt x="10220" y="4787"/>
                </a:cubicBezTo>
                <a:cubicBezTo>
                  <a:pt x="10277" y="4790"/>
                  <a:pt x="10278" y="4792"/>
                  <a:pt x="10319" y="4762"/>
                </a:cubicBezTo>
              </a:path>
              <a:path w="8088" h="1415">
                <a:moveTo>
                  <a:pt x="10220" y="4316"/>
                </a:moveTo>
                <a:cubicBezTo>
                  <a:pt x="10100" y="4422"/>
                  <a:pt x="10039" y="4510"/>
                  <a:pt x="9947" y="4638"/>
                </a:cubicBezTo>
                <a:cubicBezTo>
                  <a:pt x="9913" y="4685"/>
                  <a:pt x="9837" y="4754"/>
                  <a:pt x="9823" y="4812"/>
                </a:cubicBezTo>
              </a:path>
              <a:path w="8088" h="1415">
                <a:moveTo>
                  <a:pt x="10716" y="4093"/>
                </a:moveTo>
                <a:cubicBezTo>
                  <a:pt x="10743" y="4203"/>
                  <a:pt x="10720" y="4259"/>
                  <a:pt x="10716" y="4366"/>
                </a:cubicBezTo>
                <a:cubicBezTo>
                  <a:pt x="10713" y="4451"/>
                  <a:pt x="10717" y="4518"/>
                  <a:pt x="10740" y="4589"/>
                </a:cubicBezTo>
                <a:cubicBezTo>
                  <a:pt x="10740" y="4597"/>
                  <a:pt x="10740" y="4606"/>
                  <a:pt x="10740" y="4614"/>
                </a:cubicBezTo>
              </a:path>
              <a:path w="8088" h="1415">
                <a:moveTo>
                  <a:pt x="10517" y="4316"/>
                </a:moveTo>
                <a:cubicBezTo>
                  <a:pt x="10537" y="4346"/>
                  <a:pt x="10588" y="4363"/>
                  <a:pt x="10641" y="4366"/>
                </a:cubicBezTo>
                <a:cubicBezTo>
                  <a:pt x="10730" y="4371"/>
                  <a:pt x="10808" y="4368"/>
                  <a:pt x="10889" y="4341"/>
                </a:cubicBezTo>
              </a:path>
              <a:path w="8088" h="1415">
                <a:moveTo>
                  <a:pt x="11311" y="3969"/>
                </a:moveTo>
                <a:cubicBezTo>
                  <a:pt x="11296" y="4114"/>
                  <a:pt x="11267" y="4270"/>
                  <a:pt x="11261" y="4415"/>
                </a:cubicBezTo>
                <a:cubicBezTo>
                  <a:pt x="11258" y="4486"/>
                  <a:pt x="11260" y="4551"/>
                  <a:pt x="11286" y="4614"/>
                </a:cubicBezTo>
                <a:cubicBezTo>
                  <a:pt x="11305" y="4660"/>
                  <a:pt x="11325" y="4694"/>
                  <a:pt x="11336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9800" y="1652760"/>
            <a:ext cx="3295440" cy="455400"/>
          </a:xfrm>
          <a:custGeom>
            <a:avLst/>
            <a:gdLst/>
            <a:ahLst/>
            <a:rect l="l" t="t" r="r" b="b"/>
            <a:pathLst>
              <a:path w="9154" h="1266">
                <a:moveTo>
                  <a:pt x="2803" y="5234"/>
                </a:moveTo>
                <a:cubicBezTo>
                  <a:pt x="2826" y="5326"/>
                  <a:pt x="2839" y="5413"/>
                  <a:pt x="2853" y="5507"/>
                </a:cubicBezTo>
                <a:cubicBezTo>
                  <a:pt x="2864" y="5580"/>
                  <a:pt x="2871" y="5686"/>
                  <a:pt x="2902" y="5755"/>
                </a:cubicBezTo>
                <a:cubicBezTo>
                  <a:pt x="2924" y="5805"/>
                  <a:pt x="2951" y="5854"/>
                  <a:pt x="3026" y="5854"/>
                </a:cubicBezTo>
                <a:cubicBezTo>
                  <a:pt x="3098" y="5854"/>
                  <a:pt x="3199" y="5812"/>
                  <a:pt x="3274" y="5804"/>
                </a:cubicBezTo>
                <a:cubicBezTo>
                  <a:pt x="3405" y="5789"/>
                  <a:pt x="3539" y="5765"/>
                  <a:pt x="3671" y="5755"/>
                </a:cubicBezTo>
                <a:cubicBezTo>
                  <a:pt x="3847" y="5742"/>
                  <a:pt x="4017" y="5710"/>
                  <a:pt x="4192" y="5680"/>
                </a:cubicBezTo>
                <a:cubicBezTo>
                  <a:pt x="4398" y="5645"/>
                  <a:pt x="4605" y="5640"/>
                  <a:pt x="4812" y="5606"/>
                </a:cubicBezTo>
                <a:cubicBezTo>
                  <a:pt x="4995" y="5576"/>
                  <a:pt x="5177" y="5563"/>
                  <a:pt x="5358" y="5531"/>
                </a:cubicBezTo>
                <a:cubicBezTo>
                  <a:pt x="5489" y="5508"/>
                  <a:pt x="5625" y="5467"/>
                  <a:pt x="5755" y="5457"/>
                </a:cubicBezTo>
                <a:cubicBezTo>
                  <a:pt x="5833" y="5451"/>
                  <a:pt x="5882" y="5458"/>
                  <a:pt x="5953" y="5432"/>
                </a:cubicBezTo>
                <a:cubicBezTo>
                  <a:pt x="6016" y="5409"/>
                  <a:pt x="5978" y="5444"/>
                  <a:pt x="6003" y="5383"/>
                </a:cubicBezTo>
                <a:cubicBezTo>
                  <a:pt x="6028" y="5321"/>
                  <a:pt x="6045" y="5232"/>
                  <a:pt x="6052" y="5159"/>
                </a:cubicBezTo>
                <a:cubicBezTo>
                  <a:pt x="6060" y="5079"/>
                  <a:pt x="6061" y="4991"/>
                  <a:pt x="6077" y="4911"/>
                </a:cubicBezTo>
                <a:cubicBezTo>
                  <a:pt x="6091" y="4844"/>
                  <a:pt x="6090" y="4892"/>
                  <a:pt x="6127" y="4837"/>
                </a:cubicBezTo>
              </a:path>
              <a:path w="9154" h="1266">
                <a:moveTo>
                  <a:pt x="7293" y="4986"/>
                </a:moveTo>
                <a:cubicBezTo>
                  <a:pt x="7246" y="5071"/>
                  <a:pt x="7241" y="5120"/>
                  <a:pt x="7218" y="5209"/>
                </a:cubicBezTo>
                <a:cubicBezTo>
                  <a:pt x="7202" y="5268"/>
                  <a:pt x="7156" y="5371"/>
                  <a:pt x="7169" y="5432"/>
                </a:cubicBezTo>
                <a:cubicBezTo>
                  <a:pt x="7177" y="5471"/>
                  <a:pt x="7209" y="5497"/>
                  <a:pt x="7243" y="5507"/>
                </a:cubicBezTo>
                <a:cubicBezTo>
                  <a:pt x="7375" y="5546"/>
                  <a:pt x="7562" y="5481"/>
                  <a:pt x="7689" y="5457"/>
                </a:cubicBezTo>
                <a:cubicBezTo>
                  <a:pt x="7809" y="5434"/>
                  <a:pt x="7941" y="5392"/>
                  <a:pt x="8062" y="5383"/>
                </a:cubicBezTo>
                <a:cubicBezTo>
                  <a:pt x="8214" y="5371"/>
                  <a:pt x="8382" y="5383"/>
                  <a:pt x="8533" y="5358"/>
                </a:cubicBezTo>
                <a:cubicBezTo>
                  <a:pt x="8650" y="5339"/>
                  <a:pt x="8759" y="5333"/>
                  <a:pt x="8880" y="5333"/>
                </a:cubicBezTo>
                <a:cubicBezTo>
                  <a:pt x="9055" y="5333"/>
                  <a:pt x="9269" y="5361"/>
                  <a:pt x="9426" y="5308"/>
                </a:cubicBezTo>
                <a:cubicBezTo>
                  <a:pt x="9421" y="5268"/>
                  <a:pt x="9417" y="5244"/>
                  <a:pt x="9401" y="5209"/>
                </a:cubicBezTo>
                <a:cubicBezTo>
                  <a:pt x="9380" y="5162"/>
                  <a:pt x="9362" y="5122"/>
                  <a:pt x="9376" y="5060"/>
                </a:cubicBezTo>
                <a:cubicBezTo>
                  <a:pt x="9386" y="5015"/>
                  <a:pt x="9410" y="4936"/>
                  <a:pt x="9426" y="4887"/>
                </a:cubicBezTo>
                <a:cubicBezTo>
                  <a:pt x="9434" y="4863"/>
                  <a:pt x="9478" y="4756"/>
                  <a:pt x="9475" y="4738"/>
                </a:cubicBezTo>
                <a:cubicBezTo>
                  <a:pt x="9467" y="4730"/>
                  <a:pt x="9459" y="4721"/>
                  <a:pt x="9451" y="4713"/>
                </a:cubicBezTo>
              </a:path>
              <a:path w="9154" h="1266">
                <a:moveTo>
                  <a:pt x="9054" y="5184"/>
                </a:moveTo>
                <a:cubicBezTo>
                  <a:pt x="9148" y="5231"/>
                  <a:pt x="9148" y="5234"/>
                  <a:pt x="9252" y="5234"/>
                </a:cubicBezTo>
                <a:cubicBezTo>
                  <a:pt x="9381" y="5234"/>
                  <a:pt x="9503" y="5225"/>
                  <a:pt x="9624" y="5209"/>
                </a:cubicBezTo>
                <a:cubicBezTo>
                  <a:pt x="9733" y="5195"/>
                  <a:pt x="9842" y="5202"/>
                  <a:pt x="9947" y="5184"/>
                </a:cubicBezTo>
                <a:cubicBezTo>
                  <a:pt x="10018" y="5172"/>
                  <a:pt x="10045" y="5137"/>
                  <a:pt x="10096" y="5085"/>
                </a:cubicBezTo>
                <a:cubicBezTo>
                  <a:pt x="10135" y="5045"/>
                  <a:pt x="10207" y="4942"/>
                  <a:pt x="10220" y="4887"/>
                </a:cubicBezTo>
                <a:cubicBezTo>
                  <a:pt x="10231" y="4841"/>
                  <a:pt x="10263" y="4765"/>
                  <a:pt x="10244" y="4713"/>
                </a:cubicBezTo>
                <a:cubicBezTo>
                  <a:pt x="10229" y="4672"/>
                  <a:pt x="10224" y="4662"/>
                  <a:pt x="10220" y="4614"/>
                </a:cubicBezTo>
                <a:cubicBezTo>
                  <a:pt x="10220" y="4606"/>
                  <a:pt x="10220" y="4597"/>
                  <a:pt x="10220" y="4589"/>
                </a:cubicBezTo>
                <a:cubicBezTo>
                  <a:pt x="10244" y="4631"/>
                  <a:pt x="10241" y="4638"/>
                  <a:pt x="10244" y="4688"/>
                </a:cubicBezTo>
                <a:cubicBezTo>
                  <a:pt x="10248" y="4759"/>
                  <a:pt x="10269" y="4813"/>
                  <a:pt x="10269" y="4887"/>
                </a:cubicBezTo>
                <a:cubicBezTo>
                  <a:pt x="10269" y="4945"/>
                  <a:pt x="10269" y="4953"/>
                  <a:pt x="10269" y="4986"/>
                </a:cubicBezTo>
              </a:path>
              <a:path w="9154" h="1266">
                <a:moveTo>
                  <a:pt x="11088" y="4762"/>
                </a:moveTo>
                <a:cubicBezTo>
                  <a:pt x="11047" y="4830"/>
                  <a:pt x="11019" y="4863"/>
                  <a:pt x="11013" y="4936"/>
                </a:cubicBezTo>
                <a:cubicBezTo>
                  <a:pt x="11009" y="4984"/>
                  <a:pt x="10981" y="5007"/>
                  <a:pt x="11013" y="5060"/>
                </a:cubicBezTo>
                <a:cubicBezTo>
                  <a:pt x="11045" y="5114"/>
                  <a:pt x="11081" y="5110"/>
                  <a:pt x="11137" y="5110"/>
                </a:cubicBezTo>
                <a:cubicBezTo>
                  <a:pt x="11214" y="5110"/>
                  <a:pt x="11239" y="5113"/>
                  <a:pt x="11311" y="5110"/>
                </a:cubicBezTo>
                <a:cubicBezTo>
                  <a:pt x="11395" y="5106"/>
                  <a:pt x="11455" y="5073"/>
                  <a:pt x="11534" y="5060"/>
                </a:cubicBezTo>
                <a:cubicBezTo>
                  <a:pt x="11609" y="5047"/>
                  <a:pt x="11663" y="5021"/>
                  <a:pt x="11733" y="4986"/>
                </a:cubicBezTo>
                <a:cubicBezTo>
                  <a:pt x="11780" y="4962"/>
                  <a:pt x="11871" y="4928"/>
                  <a:pt x="11906" y="4887"/>
                </a:cubicBezTo>
                <a:cubicBezTo>
                  <a:pt x="11947" y="4839"/>
                  <a:pt x="11939" y="4796"/>
                  <a:pt x="11931" y="4762"/>
                </a:cubicBezTo>
                <a:cubicBezTo>
                  <a:pt x="11917" y="4701"/>
                  <a:pt x="11936" y="4713"/>
                  <a:pt x="11857" y="4713"/>
                </a:cubicBezTo>
                <a:cubicBezTo>
                  <a:pt x="11849" y="4713"/>
                  <a:pt x="11840" y="4713"/>
                  <a:pt x="11832" y="47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2455920"/>
            <a:ext cx="992160" cy="696960"/>
          </a:xfrm>
          <a:custGeom>
            <a:avLst/>
            <a:gdLst/>
            <a:ahLst/>
            <a:rect l="l" t="t" r="r" b="b"/>
            <a:pathLst>
              <a:path w="2754" h="1936">
                <a:moveTo>
                  <a:pt x="2332" y="6821"/>
                </a:moveTo>
                <a:cubicBezTo>
                  <a:pt x="2231" y="6884"/>
                  <a:pt x="2137" y="6978"/>
                  <a:pt x="2059" y="7069"/>
                </a:cubicBezTo>
                <a:cubicBezTo>
                  <a:pt x="1930" y="7219"/>
                  <a:pt x="1819" y="7412"/>
                  <a:pt x="1736" y="7590"/>
                </a:cubicBezTo>
                <a:cubicBezTo>
                  <a:pt x="1644" y="7786"/>
                  <a:pt x="1637" y="7948"/>
                  <a:pt x="1637" y="8161"/>
                </a:cubicBezTo>
                <a:cubicBezTo>
                  <a:pt x="1637" y="8320"/>
                  <a:pt x="1663" y="8475"/>
                  <a:pt x="1761" y="8607"/>
                </a:cubicBezTo>
                <a:cubicBezTo>
                  <a:pt x="1837" y="8710"/>
                  <a:pt x="1945" y="8722"/>
                  <a:pt x="2059" y="8756"/>
                </a:cubicBezTo>
              </a:path>
              <a:path w="2754" h="1936">
                <a:moveTo>
                  <a:pt x="2505" y="7938"/>
                </a:moveTo>
                <a:cubicBezTo>
                  <a:pt x="2495" y="7977"/>
                  <a:pt x="2495" y="7977"/>
                  <a:pt x="2456" y="7987"/>
                </a:cubicBezTo>
                <a:cubicBezTo>
                  <a:pt x="2456" y="7931"/>
                  <a:pt x="2436" y="7954"/>
                  <a:pt x="2431" y="7913"/>
                </a:cubicBezTo>
                <a:cubicBezTo>
                  <a:pt x="2427" y="7881"/>
                  <a:pt x="2390" y="7828"/>
                  <a:pt x="2356" y="7813"/>
                </a:cubicBezTo>
                <a:cubicBezTo>
                  <a:pt x="2333" y="7803"/>
                  <a:pt x="2266" y="7827"/>
                  <a:pt x="2257" y="7838"/>
                </a:cubicBezTo>
                <a:cubicBezTo>
                  <a:pt x="2220" y="7883"/>
                  <a:pt x="2150" y="7987"/>
                  <a:pt x="2133" y="8037"/>
                </a:cubicBezTo>
                <a:cubicBezTo>
                  <a:pt x="2103" y="8125"/>
                  <a:pt x="2059" y="8247"/>
                  <a:pt x="2108" y="8334"/>
                </a:cubicBezTo>
                <a:cubicBezTo>
                  <a:pt x="2132" y="8376"/>
                  <a:pt x="2182" y="8445"/>
                  <a:pt x="2232" y="8458"/>
                </a:cubicBezTo>
                <a:cubicBezTo>
                  <a:pt x="2304" y="8477"/>
                  <a:pt x="2412" y="8460"/>
                  <a:pt x="2480" y="8434"/>
                </a:cubicBezTo>
                <a:cubicBezTo>
                  <a:pt x="2497" y="8426"/>
                  <a:pt x="2513" y="8417"/>
                  <a:pt x="2530" y="8409"/>
                </a:cubicBezTo>
              </a:path>
              <a:path w="2754" h="1936">
                <a:moveTo>
                  <a:pt x="2828" y="7987"/>
                </a:moveTo>
                <a:cubicBezTo>
                  <a:pt x="2806" y="8068"/>
                  <a:pt x="2782" y="8151"/>
                  <a:pt x="2778" y="8235"/>
                </a:cubicBezTo>
                <a:cubicBezTo>
                  <a:pt x="2776" y="8281"/>
                  <a:pt x="2759" y="8396"/>
                  <a:pt x="2803" y="8434"/>
                </a:cubicBezTo>
                <a:cubicBezTo>
                  <a:pt x="2841" y="8467"/>
                  <a:pt x="2911" y="8461"/>
                  <a:pt x="2952" y="8434"/>
                </a:cubicBezTo>
                <a:cubicBezTo>
                  <a:pt x="3017" y="8391"/>
                  <a:pt x="3041" y="8355"/>
                  <a:pt x="3076" y="8285"/>
                </a:cubicBezTo>
                <a:cubicBezTo>
                  <a:pt x="3113" y="8212"/>
                  <a:pt x="3142" y="8147"/>
                  <a:pt x="3125" y="8062"/>
                </a:cubicBezTo>
                <a:cubicBezTo>
                  <a:pt x="3105" y="7960"/>
                  <a:pt x="3073" y="7943"/>
                  <a:pt x="3001" y="7888"/>
                </a:cubicBezTo>
                <a:cubicBezTo>
                  <a:pt x="2953" y="7852"/>
                  <a:pt x="2901" y="7849"/>
                  <a:pt x="2853" y="7888"/>
                </a:cubicBezTo>
                <a:cubicBezTo>
                  <a:pt x="2809" y="7923"/>
                  <a:pt x="2800" y="7896"/>
                  <a:pt x="2828" y="7938"/>
                </a:cubicBezTo>
              </a:path>
              <a:path w="2754" h="1936">
                <a:moveTo>
                  <a:pt x="3299" y="7441"/>
                </a:moveTo>
                <a:cubicBezTo>
                  <a:pt x="3299" y="7543"/>
                  <a:pt x="3278" y="7617"/>
                  <a:pt x="3274" y="7714"/>
                </a:cubicBezTo>
                <a:cubicBezTo>
                  <a:pt x="3270" y="7812"/>
                  <a:pt x="3289" y="7894"/>
                  <a:pt x="3299" y="7987"/>
                </a:cubicBezTo>
                <a:cubicBezTo>
                  <a:pt x="3309" y="8078"/>
                  <a:pt x="3318" y="8200"/>
                  <a:pt x="3349" y="8285"/>
                </a:cubicBezTo>
                <a:cubicBezTo>
                  <a:pt x="3361" y="8319"/>
                  <a:pt x="3408" y="8391"/>
                  <a:pt x="3373" y="8384"/>
                </a:cubicBezTo>
                <a:cubicBezTo>
                  <a:pt x="3365" y="8376"/>
                  <a:pt x="3357" y="8367"/>
                  <a:pt x="3349" y="8359"/>
                </a:cubicBezTo>
              </a:path>
              <a:path w="2754" h="1936">
                <a:moveTo>
                  <a:pt x="3125" y="8012"/>
                </a:moveTo>
                <a:cubicBezTo>
                  <a:pt x="3235" y="7967"/>
                  <a:pt x="3334" y="7921"/>
                  <a:pt x="3448" y="7888"/>
                </a:cubicBezTo>
              </a:path>
              <a:path w="2754" h="1936">
                <a:moveTo>
                  <a:pt x="3473" y="7367"/>
                </a:moveTo>
                <a:cubicBezTo>
                  <a:pt x="3559" y="7317"/>
                  <a:pt x="3660" y="7233"/>
                  <a:pt x="3770" y="7268"/>
                </a:cubicBezTo>
                <a:cubicBezTo>
                  <a:pt x="3847" y="7292"/>
                  <a:pt x="3824" y="7391"/>
                  <a:pt x="3795" y="7441"/>
                </a:cubicBezTo>
                <a:cubicBezTo>
                  <a:pt x="3764" y="7495"/>
                  <a:pt x="3732" y="7563"/>
                  <a:pt x="3696" y="7615"/>
                </a:cubicBezTo>
                <a:cubicBezTo>
                  <a:pt x="3657" y="7672"/>
                  <a:pt x="3679" y="7681"/>
                  <a:pt x="3696" y="7739"/>
                </a:cubicBezTo>
                <a:cubicBezTo>
                  <a:pt x="3696" y="7764"/>
                  <a:pt x="3696" y="7772"/>
                  <a:pt x="3721" y="7764"/>
                </a:cubicBezTo>
              </a:path>
              <a:path w="2754" h="1936">
                <a:moveTo>
                  <a:pt x="3894" y="7913"/>
                </a:moveTo>
                <a:cubicBezTo>
                  <a:pt x="3943" y="8052"/>
                  <a:pt x="3971" y="8145"/>
                  <a:pt x="4093" y="8235"/>
                </a:cubicBezTo>
                <a:cubicBezTo>
                  <a:pt x="4151" y="8278"/>
                  <a:pt x="4293" y="8347"/>
                  <a:pt x="4366" y="8310"/>
                </a:cubicBezTo>
                <a:cubicBezTo>
                  <a:pt x="4374" y="8302"/>
                  <a:pt x="4382" y="8293"/>
                  <a:pt x="4390" y="8285"/>
                </a:cubicBezTo>
              </a:path>
              <a:path w="2754" h="1936">
                <a:moveTo>
                  <a:pt x="4316" y="7789"/>
                </a:moveTo>
                <a:cubicBezTo>
                  <a:pt x="4245" y="7886"/>
                  <a:pt x="4166" y="7969"/>
                  <a:pt x="4093" y="8062"/>
                </a:cubicBezTo>
                <a:cubicBezTo>
                  <a:pt x="4028" y="8144"/>
                  <a:pt x="3969" y="8189"/>
                  <a:pt x="3894" y="8260"/>
                </a:cubicBezTo>
                <a:cubicBezTo>
                  <a:pt x="3852" y="8300"/>
                  <a:pt x="3811" y="8343"/>
                  <a:pt x="3770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7800" y="2367000"/>
            <a:ext cx="2384280" cy="776160"/>
          </a:xfrm>
          <a:custGeom>
            <a:avLst/>
            <a:gdLst/>
            <a:ahLst/>
            <a:rect l="l" t="t" r="r" b="b"/>
            <a:pathLst>
              <a:path w="6624" h="2159">
                <a:moveTo>
                  <a:pt x="8161" y="6573"/>
                </a:moveTo>
                <a:cubicBezTo>
                  <a:pt x="8236" y="6687"/>
                  <a:pt x="8304" y="6777"/>
                  <a:pt x="8359" y="6896"/>
                </a:cubicBezTo>
                <a:cubicBezTo>
                  <a:pt x="8435" y="7060"/>
                  <a:pt x="8519" y="7187"/>
                  <a:pt x="8558" y="7367"/>
                </a:cubicBezTo>
                <a:cubicBezTo>
                  <a:pt x="8618" y="7642"/>
                  <a:pt x="8543" y="7899"/>
                  <a:pt x="8359" y="8111"/>
                </a:cubicBezTo>
                <a:cubicBezTo>
                  <a:pt x="8232" y="8257"/>
                  <a:pt x="8077" y="8343"/>
                  <a:pt x="7913" y="8434"/>
                </a:cubicBezTo>
                <a:cubicBezTo>
                  <a:pt x="7773" y="8512"/>
                  <a:pt x="7631" y="8581"/>
                  <a:pt x="7491" y="8657"/>
                </a:cubicBezTo>
                <a:cubicBezTo>
                  <a:pt x="7443" y="8681"/>
                  <a:pt x="7429" y="8689"/>
                  <a:pt x="7392" y="8682"/>
                </a:cubicBezTo>
              </a:path>
              <a:path w="6624" h="2159">
                <a:moveTo>
                  <a:pt x="8954" y="6796"/>
                </a:moveTo>
                <a:cubicBezTo>
                  <a:pt x="8874" y="6957"/>
                  <a:pt x="8808" y="7098"/>
                  <a:pt x="8756" y="7268"/>
                </a:cubicBezTo>
                <a:cubicBezTo>
                  <a:pt x="8698" y="7458"/>
                  <a:pt x="8647" y="7663"/>
                  <a:pt x="8632" y="7863"/>
                </a:cubicBezTo>
                <a:cubicBezTo>
                  <a:pt x="8618" y="8049"/>
                  <a:pt x="8680" y="8235"/>
                  <a:pt x="8781" y="8384"/>
                </a:cubicBezTo>
                <a:cubicBezTo>
                  <a:pt x="8928" y="8602"/>
                  <a:pt x="9127" y="8647"/>
                  <a:pt x="9376" y="8706"/>
                </a:cubicBezTo>
                <a:cubicBezTo>
                  <a:pt x="9533" y="8732"/>
                  <a:pt x="9590" y="8741"/>
                  <a:pt x="9699" y="8731"/>
                </a:cubicBezTo>
              </a:path>
              <a:path w="6624" h="2159">
                <a:moveTo>
                  <a:pt x="9401" y="7764"/>
                </a:moveTo>
                <a:cubicBezTo>
                  <a:pt x="9393" y="7794"/>
                  <a:pt x="9384" y="7808"/>
                  <a:pt x="9376" y="7838"/>
                </a:cubicBezTo>
                <a:cubicBezTo>
                  <a:pt x="9402" y="7829"/>
                  <a:pt x="9422" y="7820"/>
                  <a:pt x="9426" y="7789"/>
                </a:cubicBezTo>
                <a:cubicBezTo>
                  <a:pt x="9431" y="7751"/>
                  <a:pt x="9386" y="7719"/>
                  <a:pt x="9351" y="7739"/>
                </a:cubicBezTo>
                <a:cubicBezTo>
                  <a:pt x="9302" y="7767"/>
                  <a:pt x="9205" y="7865"/>
                  <a:pt x="9178" y="7913"/>
                </a:cubicBezTo>
                <a:cubicBezTo>
                  <a:pt x="9136" y="7987"/>
                  <a:pt x="9068" y="8098"/>
                  <a:pt x="9054" y="8186"/>
                </a:cubicBezTo>
                <a:cubicBezTo>
                  <a:pt x="9044" y="8252"/>
                  <a:pt x="9072" y="8299"/>
                  <a:pt x="9128" y="8334"/>
                </a:cubicBezTo>
                <a:cubicBezTo>
                  <a:pt x="9195" y="8376"/>
                  <a:pt x="9258" y="8363"/>
                  <a:pt x="9327" y="8334"/>
                </a:cubicBezTo>
                <a:cubicBezTo>
                  <a:pt x="9370" y="8313"/>
                  <a:pt x="9382" y="8309"/>
                  <a:pt x="9401" y="8285"/>
                </a:cubicBezTo>
              </a:path>
              <a:path w="6624" h="2159">
                <a:moveTo>
                  <a:pt x="9550" y="8037"/>
                </a:moveTo>
                <a:cubicBezTo>
                  <a:pt x="9545" y="8109"/>
                  <a:pt x="9505" y="8204"/>
                  <a:pt x="9550" y="8260"/>
                </a:cubicBezTo>
                <a:cubicBezTo>
                  <a:pt x="9583" y="8301"/>
                  <a:pt x="9618" y="8327"/>
                  <a:pt x="9674" y="8310"/>
                </a:cubicBezTo>
                <a:cubicBezTo>
                  <a:pt x="9748" y="8288"/>
                  <a:pt x="9798" y="8279"/>
                  <a:pt x="9847" y="8210"/>
                </a:cubicBezTo>
                <a:cubicBezTo>
                  <a:pt x="9890" y="8149"/>
                  <a:pt x="9917" y="8062"/>
                  <a:pt x="9897" y="7987"/>
                </a:cubicBezTo>
                <a:cubicBezTo>
                  <a:pt x="9881" y="7925"/>
                  <a:pt x="9807" y="7876"/>
                  <a:pt x="9748" y="7863"/>
                </a:cubicBezTo>
                <a:cubicBezTo>
                  <a:pt x="9693" y="7851"/>
                  <a:pt x="9639" y="7858"/>
                  <a:pt x="9599" y="7888"/>
                </a:cubicBezTo>
                <a:cubicBezTo>
                  <a:pt x="9658" y="7876"/>
                  <a:pt x="9717" y="7863"/>
                  <a:pt x="9773" y="7838"/>
                </a:cubicBezTo>
                <a:cubicBezTo>
                  <a:pt x="9790" y="7830"/>
                  <a:pt x="9806" y="7821"/>
                  <a:pt x="9823" y="7813"/>
                </a:cubicBezTo>
              </a:path>
              <a:path w="6624" h="2159">
                <a:moveTo>
                  <a:pt x="10046" y="7590"/>
                </a:moveTo>
                <a:cubicBezTo>
                  <a:pt x="10046" y="7698"/>
                  <a:pt x="10033" y="7785"/>
                  <a:pt x="10021" y="7888"/>
                </a:cubicBezTo>
                <a:cubicBezTo>
                  <a:pt x="10008" y="7998"/>
                  <a:pt x="10054" y="8128"/>
                  <a:pt x="10071" y="8235"/>
                </a:cubicBezTo>
                <a:cubicBezTo>
                  <a:pt x="10076" y="8265"/>
                  <a:pt x="10082" y="8333"/>
                  <a:pt x="10096" y="8359"/>
                </a:cubicBezTo>
                <a:cubicBezTo>
                  <a:pt x="10104" y="8367"/>
                  <a:pt x="10112" y="8376"/>
                  <a:pt x="10120" y="8384"/>
                </a:cubicBezTo>
              </a:path>
              <a:path w="6624" h="2159">
                <a:moveTo>
                  <a:pt x="9947" y="8136"/>
                </a:moveTo>
                <a:cubicBezTo>
                  <a:pt x="10035" y="8087"/>
                  <a:pt x="10142" y="8049"/>
                  <a:pt x="10220" y="7987"/>
                </a:cubicBezTo>
              </a:path>
              <a:path w="6624" h="2159">
                <a:moveTo>
                  <a:pt x="10319" y="7392"/>
                </a:moveTo>
                <a:cubicBezTo>
                  <a:pt x="10408" y="7354"/>
                  <a:pt x="10513" y="7312"/>
                  <a:pt x="10616" y="7342"/>
                </a:cubicBezTo>
                <a:cubicBezTo>
                  <a:pt x="10673" y="7359"/>
                  <a:pt x="10676" y="7446"/>
                  <a:pt x="10666" y="7491"/>
                </a:cubicBezTo>
                <a:cubicBezTo>
                  <a:pt x="10644" y="7593"/>
                  <a:pt x="10587" y="7643"/>
                  <a:pt x="10517" y="7714"/>
                </a:cubicBezTo>
                <a:cubicBezTo>
                  <a:pt x="10469" y="7762"/>
                  <a:pt x="10366" y="7800"/>
                  <a:pt x="10393" y="7888"/>
                </a:cubicBezTo>
                <a:cubicBezTo>
                  <a:pt x="10406" y="7932"/>
                  <a:pt x="10469" y="8001"/>
                  <a:pt x="10517" y="8012"/>
                </a:cubicBezTo>
                <a:cubicBezTo>
                  <a:pt x="10534" y="8012"/>
                  <a:pt x="10550" y="8012"/>
                  <a:pt x="10567" y="8012"/>
                </a:cubicBezTo>
              </a:path>
              <a:path w="6624" h="2159">
                <a:moveTo>
                  <a:pt x="10790" y="7938"/>
                </a:moveTo>
                <a:cubicBezTo>
                  <a:pt x="10861" y="8100"/>
                  <a:pt x="10860" y="8070"/>
                  <a:pt x="10988" y="8161"/>
                </a:cubicBezTo>
                <a:cubicBezTo>
                  <a:pt x="11080" y="8226"/>
                  <a:pt x="11145" y="8255"/>
                  <a:pt x="11261" y="8260"/>
                </a:cubicBezTo>
                <a:cubicBezTo>
                  <a:pt x="11303" y="8260"/>
                  <a:pt x="11311" y="8260"/>
                  <a:pt x="11336" y="8260"/>
                </a:cubicBezTo>
              </a:path>
              <a:path w="6624" h="2159">
                <a:moveTo>
                  <a:pt x="11038" y="8037"/>
                </a:moveTo>
                <a:cubicBezTo>
                  <a:pt x="10900" y="8150"/>
                  <a:pt x="10760" y="8254"/>
                  <a:pt x="10616" y="8359"/>
                </a:cubicBezTo>
              </a:path>
              <a:path w="6624" h="2159">
                <a:moveTo>
                  <a:pt x="6821" y="7045"/>
                </a:moveTo>
                <a:cubicBezTo>
                  <a:pt x="6821" y="7198"/>
                  <a:pt x="6811" y="7341"/>
                  <a:pt x="6796" y="7491"/>
                </a:cubicBezTo>
                <a:cubicBezTo>
                  <a:pt x="6786" y="7592"/>
                  <a:pt x="6785" y="7690"/>
                  <a:pt x="6772" y="7789"/>
                </a:cubicBezTo>
                <a:cubicBezTo>
                  <a:pt x="6758" y="7892"/>
                  <a:pt x="6782" y="8013"/>
                  <a:pt x="6747" y="8111"/>
                </a:cubicBezTo>
                <a:cubicBezTo>
                  <a:pt x="6739" y="8119"/>
                  <a:pt x="6730" y="8128"/>
                  <a:pt x="6722" y="8136"/>
                </a:cubicBezTo>
              </a:path>
              <a:path w="6624" h="2159">
                <a:moveTo>
                  <a:pt x="5953" y="7342"/>
                </a:moveTo>
                <a:cubicBezTo>
                  <a:pt x="5929" y="7469"/>
                  <a:pt x="5928" y="7585"/>
                  <a:pt x="5928" y="7714"/>
                </a:cubicBezTo>
                <a:cubicBezTo>
                  <a:pt x="5928" y="7801"/>
                  <a:pt x="5953" y="7875"/>
                  <a:pt x="5953" y="7962"/>
                </a:cubicBezTo>
                <a:cubicBezTo>
                  <a:pt x="5953" y="8004"/>
                  <a:pt x="5953" y="8012"/>
                  <a:pt x="5953" y="8037"/>
                </a:cubicBezTo>
              </a:path>
              <a:path w="6624" h="2159">
                <a:moveTo>
                  <a:pt x="5606" y="7739"/>
                </a:moveTo>
                <a:cubicBezTo>
                  <a:pt x="5724" y="7731"/>
                  <a:pt x="5837" y="7700"/>
                  <a:pt x="5953" y="7689"/>
                </a:cubicBezTo>
                <a:cubicBezTo>
                  <a:pt x="6082" y="7677"/>
                  <a:pt x="6197" y="7647"/>
                  <a:pt x="6325" y="7615"/>
                </a:cubicBezTo>
              </a:path>
              <a:path w="6624" h="2159">
                <a:moveTo>
                  <a:pt x="12030" y="7491"/>
                </a:moveTo>
                <a:cubicBezTo>
                  <a:pt x="12030" y="7611"/>
                  <a:pt x="12016" y="7721"/>
                  <a:pt x="12005" y="7838"/>
                </a:cubicBezTo>
                <a:cubicBezTo>
                  <a:pt x="11996" y="7928"/>
                  <a:pt x="12017" y="7990"/>
                  <a:pt x="12005" y="8062"/>
                </a:cubicBezTo>
                <a:cubicBezTo>
                  <a:pt x="11995" y="8118"/>
                  <a:pt x="11986" y="8057"/>
                  <a:pt x="11981" y="8037"/>
                </a:cubicBezTo>
              </a:path>
              <a:path w="6624" h="2159">
                <a:moveTo>
                  <a:pt x="11757" y="7714"/>
                </a:moveTo>
                <a:cubicBezTo>
                  <a:pt x="11907" y="7743"/>
                  <a:pt x="11978" y="7765"/>
                  <a:pt x="12105" y="7838"/>
                </a:cubicBezTo>
                <a:cubicBezTo>
                  <a:pt x="12160" y="7866"/>
                  <a:pt x="12183" y="7874"/>
                  <a:pt x="12229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3920" y="2589120"/>
            <a:ext cx="73080" cy="339840"/>
          </a:xfrm>
          <a:custGeom>
            <a:avLst/>
            <a:gdLst/>
            <a:ahLst/>
            <a:rect l="l" t="t" r="r" b="b"/>
            <a:pathLst>
              <a:path w="199" h="944">
                <a:moveTo>
                  <a:pt x="13047" y="7193"/>
                </a:moveTo>
                <a:cubicBezTo>
                  <a:pt x="13062" y="7309"/>
                  <a:pt x="13067" y="7426"/>
                  <a:pt x="13022" y="7541"/>
                </a:cubicBezTo>
                <a:cubicBezTo>
                  <a:pt x="12977" y="7657"/>
                  <a:pt x="12948" y="7714"/>
                  <a:pt x="12948" y="7838"/>
                </a:cubicBezTo>
                <a:cubicBezTo>
                  <a:pt x="12948" y="7924"/>
                  <a:pt x="12985" y="8006"/>
                  <a:pt x="12948" y="8086"/>
                </a:cubicBezTo>
                <a:cubicBezTo>
                  <a:pt x="12924" y="8137"/>
                  <a:pt x="12906" y="8127"/>
                  <a:pt x="12874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33960" y="2455920"/>
            <a:ext cx="135000" cy="785880"/>
          </a:xfrm>
          <a:custGeom>
            <a:avLst/>
            <a:gdLst/>
            <a:ahLst/>
            <a:rect l="l" t="t" r="r" b="b"/>
            <a:pathLst>
              <a:path w="373" h="2184">
                <a:moveTo>
                  <a:pt x="14263" y="6821"/>
                </a:moveTo>
                <a:cubicBezTo>
                  <a:pt x="14317" y="7040"/>
                  <a:pt x="14396" y="7250"/>
                  <a:pt x="14461" y="7466"/>
                </a:cubicBezTo>
                <a:cubicBezTo>
                  <a:pt x="14522" y="7670"/>
                  <a:pt x="14567" y="7878"/>
                  <a:pt x="14610" y="8086"/>
                </a:cubicBezTo>
                <a:cubicBezTo>
                  <a:pt x="14645" y="8255"/>
                  <a:pt x="14644" y="8413"/>
                  <a:pt x="14610" y="8582"/>
                </a:cubicBezTo>
                <a:cubicBezTo>
                  <a:pt x="14574" y="8762"/>
                  <a:pt x="14521" y="8858"/>
                  <a:pt x="1441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60640" y="3125880"/>
            <a:ext cx="2277720" cy="714240"/>
          </a:xfrm>
          <a:custGeom>
            <a:avLst/>
            <a:gdLst/>
            <a:ahLst/>
            <a:rect l="l" t="t" r="r" b="b"/>
            <a:pathLst>
              <a:path w="6326" h="1985">
                <a:moveTo>
                  <a:pt x="6548" y="8682"/>
                </a:moveTo>
                <a:cubicBezTo>
                  <a:pt x="6561" y="8707"/>
                  <a:pt x="6583" y="8762"/>
                  <a:pt x="6598" y="8781"/>
                </a:cubicBezTo>
                <a:cubicBezTo>
                  <a:pt x="6631" y="8823"/>
                  <a:pt x="6669" y="8859"/>
                  <a:pt x="6697" y="8905"/>
                </a:cubicBezTo>
                <a:cubicBezTo>
                  <a:pt x="6751" y="8993"/>
                  <a:pt x="6835" y="9046"/>
                  <a:pt x="6921" y="9103"/>
                </a:cubicBezTo>
                <a:cubicBezTo>
                  <a:pt x="7021" y="9170"/>
                  <a:pt x="7148" y="9215"/>
                  <a:pt x="7268" y="9227"/>
                </a:cubicBezTo>
                <a:cubicBezTo>
                  <a:pt x="7437" y="9244"/>
                  <a:pt x="7618" y="9268"/>
                  <a:pt x="7789" y="9252"/>
                </a:cubicBezTo>
                <a:cubicBezTo>
                  <a:pt x="8011" y="9231"/>
                  <a:pt x="8236" y="9224"/>
                  <a:pt x="8458" y="9203"/>
                </a:cubicBezTo>
                <a:cubicBezTo>
                  <a:pt x="8655" y="9184"/>
                  <a:pt x="8890" y="9181"/>
                  <a:pt x="9079" y="9128"/>
                </a:cubicBezTo>
                <a:cubicBezTo>
                  <a:pt x="9198" y="9095"/>
                  <a:pt x="9360" y="9059"/>
                  <a:pt x="9451" y="8979"/>
                </a:cubicBezTo>
                <a:cubicBezTo>
                  <a:pt x="9498" y="8938"/>
                  <a:pt x="9539" y="8885"/>
                  <a:pt x="9550" y="8830"/>
                </a:cubicBezTo>
                <a:cubicBezTo>
                  <a:pt x="9559" y="8782"/>
                  <a:pt x="9550" y="8773"/>
                  <a:pt x="9525" y="8756"/>
                </a:cubicBezTo>
                <a:cubicBezTo>
                  <a:pt x="9489" y="8732"/>
                  <a:pt x="9462" y="8745"/>
                  <a:pt x="9426" y="8781"/>
                </a:cubicBezTo>
                <a:cubicBezTo>
                  <a:pt x="9402" y="8805"/>
                  <a:pt x="9394" y="8826"/>
                  <a:pt x="9376" y="8855"/>
                </a:cubicBezTo>
              </a:path>
              <a:path w="6326" h="1985">
                <a:moveTo>
                  <a:pt x="3597" y="9773"/>
                </a:moveTo>
                <a:cubicBezTo>
                  <a:pt x="3671" y="9824"/>
                  <a:pt x="3635" y="9825"/>
                  <a:pt x="3671" y="9897"/>
                </a:cubicBezTo>
                <a:cubicBezTo>
                  <a:pt x="3690" y="9935"/>
                  <a:pt x="3711" y="9955"/>
                  <a:pt x="3721" y="9996"/>
                </a:cubicBezTo>
                <a:cubicBezTo>
                  <a:pt x="3691" y="9956"/>
                  <a:pt x="3716" y="9934"/>
                  <a:pt x="3696" y="9897"/>
                </a:cubicBezTo>
                <a:cubicBezTo>
                  <a:pt x="3682" y="9871"/>
                  <a:pt x="3623" y="9850"/>
                  <a:pt x="3597" y="9847"/>
                </a:cubicBezTo>
                <a:cubicBezTo>
                  <a:pt x="3546" y="9841"/>
                  <a:pt x="3485" y="9891"/>
                  <a:pt x="3448" y="9922"/>
                </a:cubicBezTo>
                <a:cubicBezTo>
                  <a:pt x="3374" y="9985"/>
                  <a:pt x="3348" y="10044"/>
                  <a:pt x="3299" y="10120"/>
                </a:cubicBezTo>
                <a:cubicBezTo>
                  <a:pt x="3225" y="10236"/>
                  <a:pt x="3225" y="10264"/>
                  <a:pt x="3225" y="10393"/>
                </a:cubicBezTo>
                <a:cubicBezTo>
                  <a:pt x="3225" y="10476"/>
                  <a:pt x="3256" y="10526"/>
                  <a:pt x="3324" y="10567"/>
                </a:cubicBezTo>
                <a:cubicBezTo>
                  <a:pt x="3398" y="10611"/>
                  <a:pt x="3433" y="10616"/>
                  <a:pt x="3522" y="10616"/>
                </a:cubicBezTo>
                <a:cubicBezTo>
                  <a:pt x="3630" y="10616"/>
                  <a:pt x="3703" y="10571"/>
                  <a:pt x="3795" y="10517"/>
                </a:cubicBezTo>
              </a:path>
              <a:path w="6326" h="1985">
                <a:moveTo>
                  <a:pt x="4291" y="9947"/>
                </a:moveTo>
                <a:cubicBezTo>
                  <a:pt x="4193" y="9965"/>
                  <a:pt x="4108" y="10000"/>
                  <a:pt x="4018" y="10046"/>
                </a:cubicBezTo>
                <a:cubicBezTo>
                  <a:pt x="3971" y="10070"/>
                  <a:pt x="3957" y="10068"/>
                  <a:pt x="3919" y="10096"/>
                </a:cubicBezTo>
                <a:cubicBezTo>
                  <a:pt x="3919" y="10142"/>
                  <a:pt x="3927" y="10167"/>
                  <a:pt x="3969" y="10195"/>
                </a:cubicBezTo>
                <a:cubicBezTo>
                  <a:pt x="4041" y="10242"/>
                  <a:pt x="4117" y="10255"/>
                  <a:pt x="4192" y="10294"/>
                </a:cubicBezTo>
                <a:cubicBezTo>
                  <a:pt x="4272" y="10336"/>
                  <a:pt x="4339" y="10404"/>
                  <a:pt x="4366" y="10492"/>
                </a:cubicBezTo>
                <a:cubicBezTo>
                  <a:pt x="4379" y="10534"/>
                  <a:pt x="4297" y="10585"/>
                  <a:pt x="4266" y="10592"/>
                </a:cubicBezTo>
                <a:cubicBezTo>
                  <a:pt x="4205" y="10607"/>
                  <a:pt x="4028" y="10607"/>
                  <a:pt x="3994" y="10567"/>
                </a:cubicBezTo>
                <a:cubicBezTo>
                  <a:pt x="3994" y="10539"/>
                  <a:pt x="3996" y="10528"/>
                  <a:pt x="4018" y="10517"/>
                </a:cubicBezTo>
              </a:path>
              <a:path w="6326" h="1985">
                <a:moveTo>
                  <a:pt x="5035" y="10071"/>
                </a:moveTo>
                <a:cubicBezTo>
                  <a:pt x="5043" y="10079"/>
                  <a:pt x="5052" y="10088"/>
                  <a:pt x="5060" y="10096"/>
                </a:cubicBezTo>
                <a:cubicBezTo>
                  <a:pt x="5016" y="10085"/>
                  <a:pt x="4973" y="10054"/>
                  <a:pt x="4936" y="10021"/>
                </a:cubicBezTo>
                <a:cubicBezTo>
                  <a:pt x="4911" y="9998"/>
                  <a:pt x="4874" y="9983"/>
                  <a:pt x="4837" y="9996"/>
                </a:cubicBezTo>
                <a:cubicBezTo>
                  <a:pt x="4763" y="10023"/>
                  <a:pt x="4694" y="10067"/>
                  <a:pt x="4638" y="10120"/>
                </a:cubicBezTo>
                <a:cubicBezTo>
                  <a:pt x="4562" y="10192"/>
                  <a:pt x="4520" y="10237"/>
                  <a:pt x="4514" y="10344"/>
                </a:cubicBezTo>
                <a:cubicBezTo>
                  <a:pt x="4509" y="10439"/>
                  <a:pt x="4524" y="10472"/>
                  <a:pt x="4589" y="10542"/>
                </a:cubicBezTo>
                <a:cubicBezTo>
                  <a:pt x="4653" y="10610"/>
                  <a:pt x="4719" y="10637"/>
                  <a:pt x="4812" y="10641"/>
                </a:cubicBezTo>
                <a:cubicBezTo>
                  <a:pt x="4904" y="10645"/>
                  <a:pt x="5006" y="10650"/>
                  <a:pt x="5085" y="10592"/>
                </a:cubicBezTo>
                <a:cubicBezTo>
                  <a:pt x="5137" y="10540"/>
                  <a:pt x="5154" y="10521"/>
                  <a:pt x="5159" y="10468"/>
                </a:cubicBezTo>
              </a:path>
              <a:path w="6326" h="1985">
                <a:moveTo>
                  <a:pt x="5209" y="9525"/>
                </a:moveTo>
                <a:cubicBezTo>
                  <a:pt x="5334" y="9481"/>
                  <a:pt x="5394" y="9437"/>
                  <a:pt x="5482" y="9525"/>
                </a:cubicBezTo>
                <a:cubicBezTo>
                  <a:pt x="5539" y="9582"/>
                  <a:pt x="5501" y="9608"/>
                  <a:pt x="5457" y="9649"/>
                </a:cubicBezTo>
                <a:cubicBezTo>
                  <a:pt x="5394" y="9708"/>
                  <a:pt x="5367" y="9766"/>
                  <a:pt x="5333" y="9823"/>
                </a:cubicBezTo>
                <a:cubicBezTo>
                  <a:pt x="5307" y="9866"/>
                  <a:pt x="5306" y="9903"/>
                  <a:pt x="5358" y="9947"/>
                </a:cubicBezTo>
                <a:cubicBezTo>
                  <a:pt x="5436" y="10014"/>
                  <a:pt x="5560" y="10017"/>
                  <a:pt x="5655" y="10021"/>
                </a:cubicBezTo>
                <a:cubicBezTo>
                  <a:pt x="5672" y="10021"/>
                  <a:pt x="5688" y="10021"/>
                  <a:pt x="5705" y="10021"/>
                </a:cubicBezTo>
              </a:path>
              <a:path w="6326" h="1985">
                <a:moveTo>
                  <a:pt x="5854" y="10021"/>
                </a:moveTo>
                <a:cubicBezTo>
                  <a:pt x="5854" y="10122"/>
                  <a:pt x="5855" y="10203"/>
                  <a:pt x="5904" y="10294"/>
                </a:cubicBezTo>
                <a:cubicBezTo>
                  <a:pt x="5982" y="10438"/>
                  <a:pt x="6131" y="10527"/>
                  <a:pt x="6276" y="10592"/>
                </a:cubicBezTo>
                <a:cubicBezTo>
                  <a:pt x="6357" y="10629"/>
                  <a:pt x="6430" y="10650"/>
                  <a:pt x="6499" y="10641"/>
                </a:cubicBezTo>
                <a:cubicBezTo>
                  <a:pt x="6515" y="10641"/>
                  <a:pt x="6532" y="10641"/>
                  <a:pt x="6548" y="10641"/>
                </a:cubicBezTo>
              </a:path>
              <a:path w="6326" h="1985">
                <a:moveTo>
                  <a:pt x="6300" y="10046"/>
                </a:moveTo>
                <a:cubicBezTo>
                  <a:pt x="6155" y="10154"/>
                  <a:pt x="6021" y="10239"/>
                  <a:pt x="5904" y="10368"/>
                </a:cubicBezTo>
                <a:cubicBezTo>
                  <a:pt x="5840" y="10439"/>
                  <a:pt x="5751" y="10481"/>
                  <a:pt x="5705" y="10567"/>
                </a:cubicBezTo>
                <a:cubicBezTo>
                  <a:pt x="5705" y="10575"/>
                  <a:pt x="5705" y="10584"/>
                  <a:pt x="5705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3040" y="363384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7813" y="10195"/>
                </a:moveTo>
                <a:cubicBezTo>
                  <a:pt x="7813" y="10224"/>
                  <a:pt x="7806" y="10212"/>
                  <a:pt x="7813" y="10195"/>
                </a:cubicBezTo>
                <a:cubicBezTo>
                  <a:pt x="7840" y="10141"/>
                  <a:pt x="7852" y="10121"/>
                  <a:pt x="7888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52880" y="3490920"/>
            <a:ext cx="1125360" cy="527040"/>
          </a:xfrm>
          <a:custGeom>
            <a:avLst/>
            <a:gdLst/>
            <a:ahLst/>
            <a:rect l="l" t="t" r="r" b="b"/>
            <a:pathLst>
              <a:path w="3126" h="1464">
                <a:moveTo>
                  <a:pt x="9227" y="10145"/>
                </a:moveTo>
                <a:cubicBezTo>
                  <a:pt x="9265" y="10132"/>
                  <a:pt x="9252" y="10116"/>
                  <a:pt x="9252" y="10071"/>
                </a:cubicBezTo>
                <a:cubicBezTo>
                  <a:pt x="9252" y="10031"/>
                  <a:pt x="9189" y="9981"/>
                  <a:pt x="9153" y="9971"/>
                </a:cubicBezTo>
                <a:cubicBezTo>
                  <a:pt x="9088" y="9954"/>
                  <a:pt x="9025" y="9977"/>
                  <a:pt x="8979" y="10021"/>
                </a:cubicBezTo>
                <a:cubicBezTo>
                  <a:pt x="8909" y="10088"/>
                  <a:pt x="8800" y="10193"/>
                  <a:pt x="8781" y="10294"/>
                </a:cubicBezTo>
                <a:cubicBezTo>
                  <a:pt x="8758" y="10411"/>
                  <a:pt x="8769" y="10479"/>
                  <a:pt x="8806" y="10592"/>
                </a:cubicBezTo>
                <a:cubicBezTo>
                  <a:pt x="8842" y="10700"/>
                  <a:pt x="8900" y="10750"/>
                  <a:pt x="9004" y="10790"/>
                </a:cubicBezTo>
                <a:cubicBezTo>
                  <a:pt x="9108" y="10830"/>
                  <a:pt x="9239" y="10864"/>
                  <a:pt x="9351" y="10840"/>
                </a:cubicBezTo>
                <a:cubicBezTo>
                  <a:pt x="9405" y="10813"/>
                  <a:pt x="9426" y="10801"/>
                  <a:pt x="9451" y="10765"/>
                </a:cubicBezTo>
              </a:path>
              <a:path w="3126" h="1464">
                <a:moveTo>
                  <a:pt x="9773" y="10120"/>
                </a:moveTo>
                <a:cubicBezTo>
                  <a:pt x="9671" y="10100"/>
                  <a:pt x="9607" y="10071"/>
                  <a:pt x="9525" y="10145"/>
                </a:cubicBezTo>
                <a:cubicBezTo>
                  <a:pt x="9468" y="10196"/>
                  <a:pt x="9528" y="10255"/>
                  <a:pt x="9575" y="10294"/>
                </a:cubicBezTo>
                <a:cubicBezTo>
                  <a:pt x="9707" y="10403"/>
                  <a:pt x="9802" y="10493"/>
                  <a:pt x="9897" y="10641"/>
                </a:cubicBezTo>
                <a:cubicBezTo>
                  <a:pt x="9939" y="10706"/>
                  <a:pt x="9973" y="10786"/>
                  <a:pt x="9897" y="10840"/>
                </a:cubicBezTo>
                <a:cubicBezTo>
                  <a:pt x="9834" y="10884"/>
                  <a:pt x="9750" y="10905"/>
                  <a:pt x="9674" y="10889"/>
                </a:cubicBezTo>
                <a:cubicBezTo>
                  <a:pt x="9625" y="10879"/>
                  <a:pt x="9525" y="10871"/>
                  <a:pt x="9500" y="10815"/>
                </a:cubicBezTo>
                <a:cubicBezTo>
                  <a:pt x="9486" y="10783"/>
                  <a:pt x="9514" y="10740"/>
                  <a:pt x="9525" y="10716"/>
                </a:cubicBezTo>
              </a:path>
              <a:path w="3126" h="1464">
                <a:moveTo>
                  <a:pt x="10368" y="10170"/>
                </a:moveTo>
                <a:cubicBezTo>
                  <a:pt x="10388" y="10211"/>
                  <a:pt x="10386" y="10227"/>
                  <a:pt x="10418" y="10220"/>
                </a:cubicBezTo>
                <a:cubicBezTo>
                  <a:pt x="10418" y="10271"/>
                  <a:pt x="10408" y="10182"/>
                  <a:pt x="10368" y="10170"/>
                </a:cubicBezTo>
                <a:cubicBezTo>
                  <a:pt x="10295" y="10149"/>
                  <a:pt x="10232" y="10190"/>
                  <a:pt x="10170" y="10220"/>
                </a:cubicBezTo>
                <a:cubicBezTo>
                  <a:pt x="10080" y="10264"/>
                  <a:pt x="10034" y="10342"/>
                  <a:pt x="10021" y="10443"/>
                </a:cubicBezTo>
                <a:cubicBezTo>
                  <a:pt x="10001" y="10603"/>
                  <a:pt x="10111" y="10693"/>
                  <a:pt x="10220" y="10790"/>
                </a:cubicBezTo>
                <a:cubicBezTo>
                  <a:pt x="10292" y="10854"/>
                  <a:pt x="10398" y="10884"/>
                  <a:pt x="10492" y="10889"/>
                </a:cubicBezTo>
                <a:cubicBezTo>
                  <a:pt x="10542" y="10889"/>
                  <a:pt x="10558" y="10889"/>
                  <a:pt x="10542" y="10840"/>
                </a:cubicBezTo>
              </a:path>
              <a:path w="3126" h="1464">
                <a:moveTo>
                  <a:pt x="10740" y="9699"/>
                </a:moveTo>
                <a:cubicBezTo>
                  <a:pt x="10884" y="9716"/>
                  <a:pt x="10912" y="9685"/>
                  <a:pt x="10964" y="9748"/>
                </a:cubicBezTo>
                <a:cubicBezTo>
                  <a:pt x="10916" y="9844"/>
                  <a:pt x="10867" y="9876"/>
                  <a:pt x="10765" y="9922"/>
                </a:cubicBezTo>
                <a:cubicBezTo>
                  <a:pt x="10705" y="9949"/>
                  <a:pt x="10666" y="9956"/>
                  <a:pt x="10616" y="9996"/>
                </a:cubicBezTo>
                <a:cubicBezTo>
                  <a:pt x="10632" y="10059"/>
                  <a:pt x="10669" y="10079"/>
                  <a:pt x="10716" y="10120"/>
                </a:cubicBezTo>
                <a:cubicBezTo>
                  <a:pt x="10777" y="10174"/>
                  <a:pt x="10881" y="10247"/>
                  <a:pt x="10964" y="10269"/>
                </a:cubicBezTo>
                <a:cubicBezTo>
                  <a:pt x="11023" y="10269"/>
                  <a:pt x="11049" y="10266"/>
                  <a:pt x="11088" y="10244"/>
                </a:cubicBezTo>
              </a:path>
              <a:path w="3126" h="1464">
                <a:moveTo>
                  <a:pt x="11162" y="10368"/>
                </a:moveTo>
                <a:cubicBezTo>
                  <a:pt x="11312" y="10581"/>
                  <a:pt x="11422" y="10720"/>
                  <a:pt x="11609" y="10889"/>
                </a:cubicBezTo>
                <a:cubicBezTo>
                  <a:pt x="11637" y="10915"/>
                  <a:pt x="11773" y="11074"/>
                  <a:pt x="11832" y="11038"/>
                </a:cubicBezTo>
                <a:cubicBezTo>
                  <a:pt x="11848" y="11021"/>
                  <a:pt x="11865" y="11005"/>
                  <a:pt x="11881" y="10988"/>
                </a:cubicBezTo>
              </a:path>
              <a:path w="3126" h="1464">
                <a:moveTo>
                  <a:pt x="11633" y="10393"/>
                </a:moveTo>
                <a:cubicBezTo>
                  <a:pt x="11509" y="10497"/>
                  <a:pt x="11402" y="10623"/>
                  <a:pt x="11286" y="10740"/>
                </a:cubicBezTo>
                <a:cubicBezTo>
                  <a:pt x="11165" y="10862"/>
                  <a:pt x="11038" y="10971"/>
                  <a:pt x="10914" y="11088"/>
                </a:cubicBezTo>
                <a:cubicBezTo>
                  <a:pt x="10880" y="11120"/>
                  <a:pt x="10864" y="11137"/>
                  <a:pt x="1084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4081320"/>
            <a:ext cx="1116000" cy="561960"/>
          </a:xfrm>
          <a:custGeom>
            <a:avLst/>
            <a:gdLst/>
            <a:ahLst/>
            <a:rect l="l" t="t" r="r" b="b"/>
            <a:pathLst>
              <a:path w="3102" h="1563">
                <a:moveTo>
                  <a:pt x="6300" y="11906"/>
                </a:moveTo>
                <a:cubicBezTo>
                  <a:pt x="6300" y="11976"/>
                  <a:pt x="6284" y="12051"/>
                  <a:pt x="6325" y="12105"/>
                </a:cubicBezTo>
                <a:cubicBezTo>
                  <a:pt x="6358" y="12061"/>
                  <a:pt x="6358" y="12074"/>
                  <a:pt x="6325" y="12030"/>
                </a:cubicBezTo>
              </a:path>
              <a:path w="3102" h="1563">
                <a:moveTo>
                  <a:pt x="6201" y="11881"/>
                </a:moveTo>
                <a:cubicBezTo>
                  <a:pt x="6061" y="11906"/>
                  <a:pt x="5948" y="11910"/>
                  <a:pt x="5854" y="12030"/>
                </a:cubicBezTo>
                <a:cubicBezTo>
                  <a:pt x="5803" y="12096"/>
                  <a:pt x="5782" y="12199"/>
                  <a:pt x="5779" y="12278"/>
                </a:cubicBezTo>
                <a:cubicBezTo>
                  <a:pt x="5776" y="12365"/>
                  <a:pt x="5807" y="12447"/>
                  <a:pt x="5879" y="12502"/>
                </a:cubicBezTo>
                <a:cubicBezTo>
                  <a:pt x="5940" y="12548"/>
                  <a:pt x="6077" y="12590"/>
                  <a:pt x="6152" y="12601"/>
                </a:cubicBezTo>
                <a:cubicBezTo>
                  <a:pt x="6267" y="12618"/>
                  <a:pt x="6277" y="12590"/>
                  <a:pt x="6375" y="12526"/>
                </a:cubicBezTo>
              </a:path>
              <a:path w="3102" h="1563">
                <a:moveTo>
                  <a:pt x="6821" y="11931"/>
                </a:moveTo>
                <a:cubicBezTo>
                  <a:pt x="6752" y="11940"/>
                  <a:pt x="6702" y="11957"/>
                  <a:pt x="6648" y="12005"/>
                </a:cubicBezTo>
                <a:cubicBezTo>
                  <a:pt x="6613" y="12036"/>
                  <a:pt x="6579" y="12027"/>
                  <a:pt x="6573" y="12080"/>
                </a:cubicBezTo>
                <a:cubicBezTo>
                  <a:pt x="6569" y="12120"/>
                  <a:pt x="6647" y="12199"/>
                  <a:pt x="6672" y="12229"/>
                </a:cubicBezTo>
                <a:cubicBezTo>
                  <a:pt x="6750" y="12322"/>
                  <a:pt x="6791" y="12340"/>
                  <a:pt x="6821" y="12452"/>
                </a:cubicBezTo>
                <a:cubicBezTo>
                  <a:pt x="6841" y="12525"/>
                  <a:pt x="6841" y="12579"/>
                  <a:pt x="6747" y="12601"/>
                </a:cubicBezTo>
                <a:cubicBezTo>
                  <a:pt x="6692" y="12614"/>
                  <a:pt x="6621" y="12595"/>
                  <a:pt x="6573" y="12576"/>
                </a:cubicBezTo>
                <a:cubicBezTo>
                  <a:pt x="6512" y="12551"/>
                  <a:pt x="6499" y="12562"/>
                  <a:pt x="6499" y="12502"/>
                </a:cubicBezTo>
              </a:path>
              <a:path w="3102" h="1563">
                <a:moveTo>
                  <a:pt x="7367" y="12154"/>
                </a:moveTo>
                <a:cubicBezTo>
                  <a:pt x="7367" y="12205"/>
                  <a:pt x="7359" y="12106"/>
                  <a:pt x="7342" y="12080"/>
                </a:cubicBezTo>
                <a:cubicBezTo>
                  <a:pt x="7320" y="12047"/>
                  <a:pt x="7281" y="12008"/>
                  <a:pt x="7243" y="12005"/>
                </a:cubicBezTo>
                <a:cubicBezTo>
                  <a:pt x="7205" y="12002"/>
                  <a:pt x="7098" y="12023"/>
                  <a:pt x="7069" y="12055"/>
                </a:cubicBezTo>
                <a:cubicBezTo>
                  <a:pt x="7026" y="12103"/>
                  <a:pt x="6998" y="12194"/>
                  <a:pt x="6995" y="12254"/>
                </a:cubicBezTo>
                <a:cubicBezTo>
                  <a:pt x="6986" y="12406"/>
                  <a:pt x="7059" y="12475"/>
                  <a:pt x="7169" y="12551"/>
                </a:cubicBezTo>
                <a:cubicBezTo>
                  <a:pt x="7259" y="12614"/>
                  <a:pt x="7357" y="12656"/>
                  <a:pt x="7466" y="12675"/>
                </a:cubicBezTo>
                <a:cubicBezTo>
                  <a:pt x="7537" y="12687"/>
                  <a:pt x="7581" y="12626"/>
                  <a:pt x="7615" y="12576"/>
                </a:cubicBezTo>
                <a:cubicBezTo>
                  <a:pt x="7632" y="12551"/>
                  <a:pt x="7648" y="12527"/>
                  <a:pt x="7665" y="12502"/>
                </a:cubicBezTo>
              </a:path>
              <a:path w="3102" h="1563">
                <a:moveTo>
                  <a:pt x="7813" y="11609"/>
                </a:moveTo>
                <a:cubicBezTo>
                  <a:pt x="7776" y="11672"/>
                  <a:pt x="7717" y="11744"/>
                  <a:pt x="7689" y="11807"/>
                </a:cubicBezTo>
                <a:cubicBezTo>
                  <a:pt x="7689" y="11815"/>
                  <a:pt x="7689" y="11824"/>
                  <a:pt x="7689" y="11832"/>
                </a:cubicBezTo>
                <a:cubicBezTo>
                  <a:pt x="7790" y="11832"/>
                  <a:pt x="7895" y="11847"/>
                  <a:pt x="7987" y="11807"/>
                </a:cubicBezTo>
              </a:path>
              <a:path w="3102" h="1563">
                <a:moveTo>
                  <a:pt x="8012" y="11336"/>
                </a:moveTo>
                <a:cubicBezTo>
                  <a:pt x="7975" y="11514"/>
                  <a:pt x="7928" y="11701"/>
                  <a:pt x="7913" y="11881"/>
                </a:cubicBezTo>
                <a:cubicBezTo>
                  <a:pt x="7905" y="11979"/>
                  <a:pt x="7913" y="12081"/>
                  <a:pt x="7913" y="12179"/>
                </a:cubicBezTo>
              </a:path>
              <a:path w="3102" h="1563">
                <a:moveTo>
                  <a:pt x="8310" y="12154"/>
                </a:moveTo>
                <a:cubicBezTo>
                  <a:pt x="8364" y="12324"/>
                  <a:pt x="8413" y="12464"/>
                  <a:pt x="8533" y="12601"/>
                </a:cubicBezTo>
                <a:cubicBezTo>
                  <a:pt x="8632" y="12714"/>
                  <a:pt x="8761" y="12809"/>
                  <a:pt x="8880" y="12898"/>
                </a:cubicBezTo>
              </a:path>
              <a:path w="3102" h="1563">
                <a:moveTo>
                  <a:pt x="8855" y="12204"/>
                </a:moveTo>
                <a:cubicBezTo>
                  <a:pt x="8678" y="12433"/>
                  <a:pt x="8508" y="12641"/>
                  <a:pt x="8310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4687920"/>
            <a:ext cx="919080" cy="366840"/>
          </a:xfrm>
          <a:custGeom>
            <a:avLst/>
            <a:gdLst/>
            <a:ahLst/>
            <a:rect l="l" t="t" r="r" b="b"/>
            <a:pathLst>
              <a:path w="2555" h="1018">
                <a:moveTo>
                  <a:pt x="992" y="13667"/>
                </a:moveTo>
                <a:cubicBezTo>
                  <a:pt x="974" y="13773"/>
                  <a:pt x="943" y="13883"/>
                  <a:pt x="943" y="13990"/>
                </a:cubicBezTo>
                <a:cubicBezTo>
                  <a:pt x="943" y="14015"/>
                  <a:pt x="943" y="14023"/>
                  <a:pt x="943" y="14039"/>
                </a:cubicBezTo>
                <a:cubicBezTo>
                  <a:pt x="977" y="13993"/>
                  <a:pt x="967" y="13951"/>
                  <a:pt x="967" y="13891"/>
                </a:cubicBezTo>
                <a:cubicBezTo>
                  <a:pt x="967" y="13690"/>
                  <a:pt x="968" y="13488"/>
                  <a:pt x="992" y="13295"/>
                </a:cubicBezTo>
                <a:cubicBezTo>
                  <a:pt x="1005" y="13196"/>
                  <a:pt x="1030" y="13153"/>
                  <a:pt x="1091" y="13072"/>
                </a:cubicBezTo>
                <a:cubicBezTo>
                  <a:pt x="1127" y="13025"/>
                  <a:pt x="1197" y="12996"/>
                  <a:pt x="1240" y="13047"/>
                </a:cubicBezTo>
                <a:cubicBezTo>
                  <a:pt x="1291" y="13108"/>
                  <a:pt x="1308" y="13201"/>
                  <a:pt x="1265" y="13271"/>
                </a:cubicBezTo>
                <a:cubicBezTo>
                  <a:pt x="1216" y="13350"/>
                  <a:pt x="1134" y="13385"/>
                  <a:pt x="1067" y="13419"/>
                </a:cubicBezTo>
                <a:cubicBezTo>
                  <a:pt x="1044" y="13442"/>
                  <a:pt x="1040" y="13450"/>
                  <a:pt x="1017" y="13444"/>
                </a:cubicBezTo>
                <a:cubicBezTo>
                  <a:pt x="996" y="13507"/>
                  <a:pt x="998" y="13431"/>
                  <a:pt x="1042" y="13494"/>
                </a:cubicBezTo>
                <a:cubicBezTo>
                  <a:pt x="1090" y="13562"/>
                  <a:pt x="1143" y="13624"/>
                  <a:pt x="1191" y="13692"/>
                </a:cubicBezTo>
                <a:cubicBezTo>
                  <a:pt x="1232" y="13749"/>
                  <a:pt x="1240" y="13800"/>
                  <a:pt x="1240" y="13866"/>
                </a:cubicBezTo>
                <a:cubicBezTo>
                  <a:pt x="1240" y="13910"/>
                  <a:pt x="1208" y="13956"/>
                  <a:pt x="1166" y="13965"/>
                </a:cubicBezTo>
                <a:cubicBezTo>
                  <a:pt x="1108" y="13977"/>
                  <a:pt x="1035" y="13973"/>
                  <a:pt x="992" y="13940"/>
                </a:cubicBezTo>
              </a:path>
              <a:path w="2555" h="1018">
                <a:moveTo>
                  <a:pt x="1463" y="13618"/>
                </a:moveTo>
                <a:cubicBezTo>
                  <a:pt x="1432" y="13755"/>
                  <a:pt x="1370" y="13836"/>
                  <a:pt x="1463" y="13940"/>
                </a:cubicBezTo>
                <a:cubicBezTo>
                  <a:pt x="1505" y="13987"/>
                  <a:pt x="1588" y="13971"/>
                  <a:pt x="1637" y="13940"/>
                </a:cubicBezTo>
                <a:cubicBezTo>
                  <a:pt x="1682" y="13912"/>
                  <a:pt x="1725" y="13841"/>
                  <a:pt x="1736" y="13791"/>
                </a:cubicBezTo>
                <a:cubicBezTo>
                  <a:pt x="1751" y="13723"/>
                  <a:pt x="1692" y="13646"/>
                  <a:pt x="1662" y="13593"/>
                </a:cubicBezTo>
                <a:cubicBezTo>
                  <a:pt x="1628" y="13533"/>
                  <a:pt x="1581" y="13524"/>
                  <a:pt x="1513" y="13519"/>
                </a:cubicBezTo>
                <a:cubicBezTo>
                  <a:pt x="1505" y="13519"/>
                  <a:pt x="1496" y="13519"/>
                  <a:pt x="1488" y="13519"/>
                </a:cubicBezTo>
              </a:path>
              <a:path w="2555" h="1018">
                <a:moveTo>
                  <a:pt x="1910" y="13618"/>
                </a:moveTo>
                <a:cubicBezTo>
                  <a:pt x="1932" y="13764"/>
                  <a:pt x="1920" y="13790"/>
                  <a:pt x="1910" y="13915"/>
                </a:cubicBezTo>
                <a:cubicBezTo>
                  <a:pt x="1910" y="13940"/>
                  <a:pt x="1910" y="13948"/>
                  <a:pt x="1885" y="13940"/>
                </a:cubicBezTo>
                <a:cubicBezTo>
                  <a:pt x="1872" y="13887"/>
                  <a:pt x="1860" y="13855"/>
                  <a:pt x="1860" y="13791"/>
                </a:cubicBezTo>
                <a:cubicBezTo>
                  <a:pt x="1860" y="13719"/>
                  <a:pt x="1882" y="13633"/>
                  <a:pt x="1910" y="13568"/>
                </a:cubicBezTo>
                <a:cubicBezTo>
                  <a:pt x="1937" y="13506"/>
                  <a:pt x="1982" y="13443"/>
                  <a:pt x="2059" y="13469"/>
                </a:cubicBezTo>
                <a:cubicBezTo>
                  <a:pt x="2146" y="13498"/>
                  <a:pt x="2195" y="13656"/>
                  <a:pt x="2208" y="13742"/>
                </a:cubicBezTo>
                <a:cubicBezTo>
                  <a:pt x="2217" y="13805"/>
                  <a:pt x="2180" y="13913"/>
                  <a:pt x="2232" y="13965"/>
                </a:cubicBezTo>
                <a:cubicBezTo>
                  <a:pt x="2255" y="13988"/>
                  <a:pt x="2257" y="13924"/>
                  <a:pt x="2257" y="13891"/>
                </a:cubicBezTo>
              </a:path>
              <a:path w="2555" h="1018">
                <a:moveTo>
                  <a:pt x="2381" y="13519"/>
                </a:moveTo>
                <a:cubicBezTo>
                  <a:pt x="2381" y="13603"/>
                  <a:pt x="2345" y="13818"/>
                  <a:pt x="2406" y="13891"/>
                </a:cubicBezTo>
                <a:cubicBezTo>
                  <a:pt x="2436" y="13927"/>
                  <a:pt x="2533" y="13976"/>
                  <a:pt x="2580" y="13965"/>
                </a:cubicBezTo>
                <a:cubicBezTo>
                  <a:pt x="2670" y="13945"/>
                  <a:pt x="2720" y="13911"/>
                  <a:pt x="2753" y="13816"/>
                </a:cubicBezTo>
                <a:cubicBezTo>
                  <a:pt x="2776" y="13749"/>
                  <a:pt x="2793" y="13640"/>
                  <a:pt x="2803" y="13568"/>
                </a:cubicBezTo>
                <a:cubicBezTo>
                  <a:pt x="2803" y="13524"/>
                  <a:pt x="2806" y="13510"/>
                  <a:pt x="2778" y="13494"/>
                </a:cubicBezTo>
                <a:cubicBezTo>
                  <a:pt x="2768" y="13569"/>
                  <a:pt x="2738" y="13643"/>
                  <a:pt x="2729" y="13717"/>
                </a:cubicBezTo>
                <a:cubicBezTo>
                  <a:pt x="2721" y="13782"/>
                  <a:pt x="2717" y="13872"/>
                  <a:pt x="2778" y="13915"/>
                </a:cubicBezTo>
                <a:cubicBezTo>
                  <a:pt x="2843" y="13961"/>
                  <a:pt x="2860" y="13957"/>
                  <a:pt x="2927" y="13940"/>
                </a:cubicBezTo>
              </a:path>
              <a:path w="2555" h="1018">
                <a:moveTo>
                  <a:pt x="3150" y="13494"/>
                </a:moveTo>
                <a:cubicBezTo>
                  <a:pt x="3053" y="13534"/>
                  <a:pt x="2943" y="13540"/>
                  <a:pt x="2977" y="13667"/>
                </a:cubicBezTo>
                <a:cubicBezTo>
                  <a:pt x="3007" y="13777"/>
                  <a:pt x="3130" y="13875"/>
                  <a:pt x="3200" y="13965"/>
                </a:cubicBezTo>
                <a:cubicBezTo>
                  <a:pt x="3208" y="13973"/>
                  <a:pt x="3217" y="13982"/>
                  <a:pt x="3225" y="13990"/>
                </a:cubicBezTo>
                <a:cubicBezTo>
                  <a:pt x="3187" y="14028"/>
                  <a:pt x="3161" y="14056"/>
                  <a:pt x="3101" y="14039"/>
                </a:cubicBezTo>
                <a:cubicBezTo>
                  <a:pt x="3030" y="14019"/>
                  <a:pt x="2925" y="13971"/>
                  <a:pt x="2877" y="13915"/>
                </a:cubicBezTo>
                <a:cubicBezTo>
                  <a:pt x="2854" y="13867"/>
                  <a:pt x="2846" y="13853"/>
                  <a:pt x="2853" y="13816"/>
                </a:cubicBezTo>
              </a:path>
              <a:path w="2555" h="1018">
                <a:moveTo>
                  <a:pt x="3473" y="13419"/>
                </a:moveTo>
                <a:cubicBezTo>
                  <a:pt x="3497" y="13419"/>
                  <a:pt x="3505" y="13419"/>
                  <a:pt x="3473" y="13419"/>
                </a:cubicBezTo>
              </a:path>
              <a:path w="2555" h="1018">
                <a:moveTo>
                  <a:pt x="3448" y="13767"/>
                </a:moveTo>
                <a:cubicBezTo>
                  <a:pt x="3448" y="13783"/>
                  <a:pt x="3448" y="13800"/>
                  <a:pt x="3448" y="13816"/>
                </a:cubicBezTo>
                <a:cubicBezTo>
                  <a:pt x="3435" y="13778"/>
                  <a:pt x="3423" y="13796"/>
                  <a:pt x="342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90760" y="4670280"/>
            <a:ext cx="4921200" cy="1241640"/>
          </a:xfrm>
          <a:custGeom>
            <a:avLst/>
            <a:gdLst/>
            <a:ahLst/>
            <a:rect l="l" t="t" r="r" b="b"/>
            <a:pathLst>
              <a:path w="13669" h="3449">
                <a:moveTo>
                  <a:pt x="4539" y="13196"/>
                </a:moveTo>
                <a:cubicBezTo>
                  <a:pt x="4564" y="13221"/>
                  <a:pt x="4572" y="13229"/>
                  <a:pt x="4589" y="13196"/>
                </a:cubicBezTo>
                <a:cubicBezTo>
                  <a:pt x="4580" y="13170"/>
                  <a:pt x="4533" y="13132"/>
                  <a:pt x="4490" y="13122"/>
                </a:cubicBezTo>
                <a:cubicBezTo>
                  <a:pt x="4415" y="13105"/>
                  <a:pt x="4355" y="13139"/>
                  <a:pt x="4291" y="13171"/>
                </a:cubicBezTo>
                <a:cubicBezTo>
                  <a:pt x="4227" y="13203"/>
                  <a:pt x="4167" y="13221"/>
                  <a:pt x="4142" y="13295"/>
                </a:cubicBezTo>
                <a:cubicBezTo>
                  <a:pt x="4128" y="13337"/>
                  <a:pt x="4219" y="13419"/>
                  <a:pt x="4242" y="13444"/>
                </a:cubicBezTo>
                <a:cubicBezTo>
                  <a:pt x="4318" y="13525"/>
                  <a:pt x="4399" y="13603"/>
                  <a:pt x="4465" y="13692"/>
                </a:cubicBezTo>
                <a:cubicBezTo>
                  <a:pt x="4503" y="13743"/>
                  <a:pt x="4563" y="13821"/>
                  <a:pt x="4539" y="13891"/>
                </a:cubicBezTo>
                <a:cubicBezTo>
                  <a:pt x="4512" y="13970"/>
                  <a:pt x="4423" y="13952"/>
                  <a:pt x="4366" y="13915"/>
                </a:cubicBezTo>
                <a:cubicBezTo>
                  <a:pt x="4328" y="13890"/>
                  <a:pt x="4313" y="13854"/>
                  <a:pt x="4291" y="13816"/>
                </a:cubicBezTo>
              </a:path>
              <a:path w="13669" h="3449">
                <a:moveTo>
                  <a:pt x="4762" y="13593"/>
                </a:moveTo>
                <a:cubicBezTo>
                  <a:pt x="4859" y="13553"/>
                  <a:pt x="4958" y="13535"/>
                  <a:pt x="5011" y="13444"/>
                </a:cubicBezTo>
                <a:cubicBezTo>
                  <a:pt x="5053" y="13372"/>
                  <a:pt x="5052" y="13337"/>
                  <a:pt x="5035" y="13271"/>
                </a:cubicBezTo>
                <a:cubicBezTo>
                  <a:pt x="4987" y="13271"/>
                  <a:pt x="4922" y="13283"/>
                  <a:pt x="4887" y="13320"/>
                </a:cubicBezTo>
                <a:cubicBezTo>
                  <a:pt x="4808" y="13403"/>
                  <a:pt x="4774" y="13486"/>
                  <a:pt x="4738" y="13593"/>
                </a:cubicBezTo>
                <a:cubicBezTo>
                  <a:pt x="4703" y="13700"/>
                  <a:pt x="4714" y="13744"/>
                  <a:pt x="4762" y="13841"/>
                </a:cubicBezTo>
                <a:cubicBezTo>
                  <a:pt x="4794" y="13905"/>
                  <a:pt x="4890" y="13911"/>
                  <a:pt x="4961" y="13891"/>
                </a:cubicBezTo>
                <a:cubicBezTo>
                  <a:pt x="4978" y="13883"/>
                  <a:pt x="4994" y="13874"/>
                  <a:pt x="5011" y="13866"/>
                </a:cubicBezTo>
              </a:path>
              <a:path w="13669" h="3449">
                <a:moveTo>
                  <a:pt x="5457" y="13469"/>
                </a:moveTo>
                <a:cubicBezTo>
                  <a:pt x="5474" y="13461"/>
                  <a:pt x="5490" y="13452"/>
                  <a:pt x="5507" y="13444"/>
                </a:cubicBezTo>
                <a:cubicBezTo>
                  <a:pt x="5475" y="13420"/>
                  <a:pt x="5400" y="13395"/>
                  <a:pt x="5358" y="13419"/>
                </a:cubicBezTo>
                <a:cubicBezTo>
                  <a:pt x="5268" y="13469"/>
                  <a:pt x="5195" y="13549"/>
                  <a:pt x="5159" y="13643"/>
                </a:cubicBezTo>
                <a:cubicBezTo>
                  <a:pt x="5118" y="13752"/>
                  <a:pt x="5108" y="13784"/>
                  <a:pt x="5159" y="13891"/>
                </a:cubicBezTo>
                <a:cubicBezTo>
                  <a:pt x="5199" y="13976"/>
                  <a:pt x="5265" y="14022"/>
                  <a:pt x="5358" y="14039"/>
                </a:cubicBezTo>
                <a:cubicBezTo>
                  <a:pt x="5439" y="14039"/>
                  <a:pt x="5482" y="14023"/>
                  <a:pt x="5531" y="13965"/>
                </a:cubicBezTo>
              </a:path>
              <a:path w="13669" h="3449">
                <a:moveTo>
                  <a:pt x="6350" y="13072"/>
                </a:moveTo>
                <a:cubicBezTo>
                  <a:pt x="6285" y="13026"/>
                  <a:pt x="6283" y="13033"/>
                  <a:pt x="6201" y="12998"/>
                </a:cubicBezTo>
                <a:cubicBezTo>
                  <a:pt x="6120" y="12963"/>
                  <a:pt x="6041" y="12973"/>
                  <a:pt x="5953" y="12973"/>
                </a:cubicBezTo>
                <a:cubicBezTo>
                  <a:pt x="5900" y="12973"/>
                  <a:pt x="5859" y="12969"/>
                  <a:pt x="5829" y="13022"/>
                </a:cubicBezTo>
                <a:cubicBezTo>
                  <a:pt x="5741" y="13179"/>
                  <a:pt x="5818" y="13677"/>
                  <a:pt x="5804" y="13866"/>
                </a:cubicBezTo>
                <a:cubicBezTo>
                  <a:pt x="5791" y="14042"/>
                  <a:pt x="5763" y="14213"/>
                  <a:pt x="5730" y="14387"/>
                </a:cubicBezTo>
                <a:cubicBezTo>
                  <a:pt x="5700" y="14549"/>
                  <a:pt x="5715" y="14673"/>
                  <a:pt x="5730" y="14833"/>
                </a:cubicBezTo>
                <a:cubicBezTo>
                  <a:pt x="5739" y="14931"/>
                  <a:pt x="5784" y="14983"/>
                  <a:pt x="5854" y="15056"/>
                </a:cubicBezTo>
                <a:cubicBezTo>
                  <a:pt x="5927" y="15133"/>
                  <a:pt x="5992" y="15189"/>
                  <a:pt x="6102" y="15205"/>
                </a:cubicBezTo>
                <a:cubicBezTo>
                  <a:pt x="6206" y="15220"/>
                  <a:pt x="6256" y="15193"/>
                  <a:pt x="6350" y="15156"/>
                </a:cubicBezTo>
              </a:path>
              <a:path w="13669" h="3449">
                <a:moveTo>
                  <a:pt x="6375" y="13271"/>
                </a:moveTo>
                <a:cubicBezTo>
                  <a:pt x="6515" y="13215"/>
                  <a:pt x="6554" y="13241"/>
                  <a:pt x="6697" y="13246"/>
                </a:cubicBezTo>
                <a:cubicBezTo>
                  <a:pt x="6763" y="13246"/>
                  <a:pt x="6780" y="13246"/>
                  <a:pt x="6821" y="13246"/>
                </a:cubicBezTo>
              </a:path>
              <a:path w="13669" h="3449">
                <a:moveTo>
                  <a:pt x="6400" y="13345"/>
                </a:moveTo>
                <a:cubicBezTo>
                  <a:pt x="6378" y="13421"/>
                  <a:pt x="6288" y="13590"/>
                  <a:pt x="6350" y="13667"/>
                </a:cubicBezTo>
                <a:cubicBezTo>
                  <a:pt x="6393" y="13720"/>
                  <a:pt x="6398" y="13678"/>
                  <a:pt x="6424" y="13643"/>
                </a:cubicBezTo>
              </a:path>
              <a:path w="13669" h="3449">
                <a:moveTo>
                  <a:pt x="6648" y="13246"/>
                </a:moveTo>
                <a:cubicBezTo>
                  <a:pt x="6664" y="13361"/>
                  <a:pt x="6684" y="13480"/>
                  <a:pt x="6697" y="13593"/>
                </a:cubicBezTo>
                <a:cubicBezTo>
                  <a:pt x="6704" y="13657"/>
                  <a:pt x="6714" y="13705"/>
                  <a:pt x="6722" y="13767"/>
                </a:cubicBezTo>
              </a:path>
              <a:path w="13669" h="3449">
                <a:moveTo>
                  <a:pt x="6251" y="13816"/>
                </a:moveTo>
                <a:cubicBezTo>
                  <a:pt x="6370" y="13816"/>
                  <a:pt x="6480" y="13838"/>
                  <a:pt x="6598" y="13841"/>
                </a:cubicBezTo>
                <a:cubicBezTo>
                  <a:pt x="6690" y="13841"/>
                  <a:pt x="6717" y="13843"/>
                  <a:pt x="6772" y="13816"/>
                </a:cubicBezTo>
              </a:path>
              <a:path w="13669" h="3449">
                <a:moveTo>
                  <a:pt x="6325" y="14139"/>
                </a:moveTo>
                <a:cubicBezTo>
                  <a:pt x="6433" y="14139"/>
                  <a:pt x="6540" y="14139"/>
                  <a:pt x="6648" y="14139"/>
                </a:cubicBezTo>
              </a:path>
              <a:path w="13669" h="3449">
                <a:moveTo>
                  <a:pt x="6524" y="14312"/>
                </a:moveTo>
                <a:cubicBezTo>
                  <a:pt x="6407" y="14437"/>
                  <a:pt x="6375" y="14435"/>
                  <a:pt x="6375" y="14585"/>
                </a:cubicBezTo>
                <a:cubicBezTo>
                  <a:pt x="6375" y="14653"/>
                  <a:pt x="6470" y="14688"/>
                  <a:pt x="6524" y="14709"/>
                </a:cubicBezTo>
                <a:cubicBezTo>
                  <a:pt x="6631" y="14751"/>
                  <a:pt x="6726" y="14707"/>
                  <a:pt x="6821" y="14660"/>
                </a:cubicBezTo>
                <a:cubicBezTo>
                  <a:pt x="6838" y="14652"/>
                  <a:pt x="6854" y="14643"/>
                  <a:pt x="6871" y="14635"/>
                </a:cubicBezTo>
              </a:path>
              <a:path w="13669" h="3449">
                <a:moveTo>
                  <a:pt x="7094" y="13990"/>
                </a:moveTo>
                <a:cubicBezTo>
                  <a:pt x="7217" y="14017"/>
                  <a:pt x="7252" y="14014"/>
                  <a:pt x="7367" y="13965"/>
                </a:cubicBezTo>
                <a:cubicBezTo>
                  <a:pt x="7417" y="13940"/>
                  <a:pt x="7433" y="13932"/>
                  <a:pt x="7441" y="13891"/>
                </a:cubicBezTo>
              </a:path>
              <a:path w="13669" h="3449">
                <a:moveTo>
                  <a:pt x="7491" y="13767"/>
                </a:moveTo>
                <a:cubicBezTo>
                  <a:pt x="7535" y="13898"/>
                  <a:pt x="7561" y="14035"/>
                  <a:pt x="7689" y="14114"/>
                </a:cubicBezTo>
                <a:cubicBezTo>
                  <a:pt x="7776" y="14168"/>
                  <a:pt x="7863" y="14212"/>
                  <a:pt x="7962" y="14163"/>
                </a:cubicBezTo>
                <a:cubicBezTo>
                  <a:pt x="7970" y="14155"/>
                  <a:pt x="7979" y="14147"/>
                  <a:pt x="7987" y="14139"/>
                </a:cubicBezTo>
              </a:path>
              <a:path w="13669" h="3449">
                <a:moveTo>
                  <a:pt x="7764" y="13767"/>
                </a:moveTo>
                <a:cubicBezTo>
                  <a:pt x="7634" y="13918"/>
                  <a:pt x="7521" y="14035"/>
                  <a:pt x="7441" y="14213"/>
                </a:cubicBezTo>
                <a:cubicBezTo>
                  <a:pt x="7420" y="14261"/>
                  <a:pt x="7364" y="14322"/>
                  <a:pt x="7441" y="14263"/>
                </a:cubicBezTo>
              </a:path>
              <a:path w="13669" h="3449">
                <a:moveTo>
                  <a:pt x="7863" y="13221"/>
                </a:moveTo>
                <a:cubicBezTo>
                  <a:pt x="8013" y="13177"/>
                  <a:pt x="8151" y="13124"/>
                  <a:pt x="8310" y="13146"/>
                </a:cubicBezTo>
                <a:cubicBezTo>
                  <a:pt x="8373" y="13155"/>
                  <a:pt x="8407" y="13170"/>
                  <a:pt x="8458" y="13196"/>
                </a:cubicBezTo>
                <a:cubicBezTo>
                  <a:pt x="8437" y="13255"/>
                  <a:pt x="8416" y="13307"/>
                  <a:pt x="8384" y="13370"/>
                </a:cubicBezTo>
                <a:cubicBezTo>
                  <a:pt x="8318" y="13501"/>
                  <a:pt x="8313" y="13593"/>
                  <a:pt x="8310" y="13742"/>
                </a:cubicBezTo>
                <a:cubicBezTo>
                  <a:pt x="8307" y="13902"/>
                  <a:pt x="8309" y="14055"/>
                  <a:pt x="8334" y="14213"/>
                </a:cubicBezTo>
                <a:cubicBezTo>
                  <a:pt x="8362" y="14387"/>
                  <a:pt x="8413" y="14541"/>
                  <a:pt x="8458" y="14709"/>
                </a:cubicBezTo>
                <a:cubicBezTo>
                  <a:pt x="8490" y="14826"/>
                  <a:pt x="8515" y="14961"/>
                  <a:pt x="8533" y="15081"/>
                </a:cubicBezTo>
                <a:cubicBezTo>
                  <a:pt x="8545" y="15159"/>
                  <a:pt x="8552" y="15225"/>
                  <a:pt x="8558" y="15304"/>
                </a:cubicBezTo>
                <a:cubicBezTo>
                  <a:pt x="8510" y="15283"/>
                  <a:pt x="8487" y="15270"/>
                  <a:pt x="8434" y="15255"/>
                </a:cubicBezTo>
                <a:cubicBezTo>
                  <a:pt x="8282" y="15211"/>
                  <a:pt x="8195" y="15204"/>
                  <a:pt x="8037" y="15230"/>
                </a:cubicBezTo>
                <a:cubicBezTo>
                  <a:pt x="7842" y="15262"/>
                  <a:pt x="7652" y="15316"/>
                  <a:pt x="7466" y="15379"/>
                </a:cubicBezTo>
                <a:cubicBezTo>
                  <a:pt x="7372" y="15411"/>
                  <a:pt x="7309" y="15462"/>
                  <a:pt x="7392" y="15354"/>
                </a:cubicBezTo>
                <a:cubicBezTo>
                  <a:pt x="7408" y="15337"/>
                  <a:pt x="7425" y="15321"/>
                  <a:pt x="7441" y="15304"/>
                </a:cubicBezTo>
              </a:path>
              <a:path w="13669" h="3449">
                <a:moveTo>
                  <a:pt x="8706" y="14263"/>
                </a:moveTo>
                <a:cubicBezTo>
                  <a:pt x="8742" y="14275"/>
                  <a:pt x="8747" y="14288"/>
                  <a:pt x="8806" y="14288"/>
                </a:cubicBezTo>
                <a:cubicBezTo>
                  <a:pt x="8903" y="14288"/>
                  <a:pt x="8981" y="14301"/>
                  <a:pt x="9079" y="14312"/>
                </a:cubicBezTo>
                <a:cubicBezTo>
                  <a:pt x="9132" y="14318"/>
                  <a:pt x="9180" y="14361"/>
                  <a:pt x="9227" y="14337"/>
                </a:cubicBezTo>
                <a:cubicBezTo>
                  <a:pt x="9227" y="14329"/>
                  <a:pt x="9227" y="14320"/>
                  <a:pt x="9227" y="14312"/>
                </a:cubicBezTo>
              </a:path>
              <a:path w="13669" h="3449">
                <a:moveTo>
                  <a:pt x="9847" y="13816"/>
                </a:moveTo>
                <a:cubicBezTo>
                  <a:pt x="9813" y="14043"/>
                  <a:pt x="9787" y="14157"/>
                  <a:pt x="9823" y="14362"/>
                </a:cubicBezTo>
                <a:cubicBezTo>
                  <a:pt x="9823" y="14397"/>
                  <a:pt x="9827" y="14414"/>
                  <a:pt x="9847" y="14436"/>
                </a:cubicBezTo>
              </a:path>
              <a:path w="13669" h="3449">
                <a:moveTo>
                  <a:pt x="9500" y="14039"/>
                </a:moveTo>
                <a:cubicBezTo>
                  <a:pt x="9649" y="14019"/>
                  <a:pt x="9800" y="14035"/>
                  <a:pt x="9947" y="14015"/>
                </a:cubicBezTo>
                <a:cubicBezTo>
                  <a:pt x="10041" y="14002"/>
                  <a:pt x="10132" y="13986"/>
                  <a:pt x="10220" y="13965"/>
                </a:cubicBezTo>
                <a:cubicBezTo>
                  <a:pt x="10244" y="13965"/>
                  <a:pt x="10253" y="13965"/>
                  <a:pt x="10269" y="13965"/>
                </a:cubicBezTo>
                <a:cubicBezTo>
                  <a:pt x="10253" y="14030"/>
                  <a:pt x="10185" y="14059"/>
                  <a:pt x="10145" y="14114"/>
                </a:cubicBezTo>
                <a:cubicBezTo>
                  <a:pt x="10106" y="14167"/>
                  <a:pt x="10079" y="14229"/>
                  <a:pt x="10071" y="14288"/>
                </a:cubicBezTo>
                <a:cubicBezTo>
                  <a:pt x="10101" y="14310"/>
                  <a:pt x="10152" y="14329"/>
                  <a:pt x="10195" y="14312"/>
                </a:cubicBezTo>
                <a:cubicBezTo>
                  <a:pt x="10262" y="14285"/>
                  <a:pt x="10248" y="14209"/>
                  <a:pt x="10269" y="14163"/>
                </a:cubicBezTo>
                <a:cubicBezTo>
                  <a:pt x="10286" y="14127"/>
                  <a:pt x="10298" y="14099"/>
                  <a:pt x="10319" y="14064"/>
                </a:cubicBezTo>
                <a:cubicBezTo>
                  <a:pt x="10294" y="14098"/>
                  <a:pt x="10278" y="14141"/>
                  <a:pt x="10294" y="14188"/>
                </a:cubicBezTo>
                <a:cubicBezTo>
                  <a:pt x="10310" y="14236"/>
                  <a:pt x="10358" y="14308"/>
                  <a:pt x="10418" y="14288"/>
                </a:cubicBezTo>
                <a:cubicBezTo>
                  <a:pt x="10465" y="14272"/>
                  <a:pt x="10491" y="14224"/>
                  <a:pt x="10517" y="14188"/>
                </a:cubicBezTo>
              </a:path>
              <a:path w="13669" h="3449">
                <a:moveTo>
                  <a:pt x="10567" y="14015"/>
                </a:moveTo>
                <a:cubicBezTo>
                  <a:pt x="10567" y="14119"/>
                  <a:pt x="10565" y="14222"/>
                  <a:pt x="10592" y="14312"/>
                </a:cubicBezTo>
                <a:cubicBezTo>
                  <a:pt x="10601" y="14342"/>
                  <a:pt x="10642" y="14358"/>
                  <a:pt x="10666" y="14312"/>
                </a:cubicBezTo>
                <a:cubicBezTo>
                  <a:pt x="10698" y="14249"/>
                  <a:pt x="10674" y="14179"/>
                  <a:pt x="10691" y="14114"/>
                </a:cubicBezTo>
                <a:cubicBezTo>
                  <a:pt x="10704" y="14066"/>
                  <a:pt x="10743" y="14020"/>
                  <a:pt x="10790" y="14015"/>
                </a:cubicBezTo>
                <a:cubicBezTo>
                  <a:pt x="10851" y="14008"/>
                  <a:pt x="10874" y="14169"/>
                  <a:pt x="10889" y="14213"/>
                </a:cubicBezTo>
                <a:cubicBezTo>
                  <a:pt x="10917" y="14296"/>
                  <a:pt x="10934" y="14408"/>
                  <a:pt x="11013" y="14461"/>
                </a:cubicBezTo>
                <a:cubicBezTo>
                  <a:pt x="11041" y="14480"/>
                  <a:pt x="11071" y="14449"/>
                  <a:pt x="11088" y="14436"/>
                </a:cubicBezTo>
              </a:path>
              <a:path w="13669" h="3449">
                <a:moveTo>
                  <a:pt x="11137" y="13494"/>
                </a:moveTo>
                <a:cubicBezTo>
                  <a:pt x="11285" y="13494"/>
                  <a:pt x="11489" y="13528"/>
                  <a:pt x="11633" y="13519"/>
                </a:cubicBezTo>
                <a:cubicBezTo>
                  <a:pt x="11716" y="13498"/>
                  <a:pt x="11731" y="13490"/>
                  <a:pt x="11782" y="13494"/>
                </a:cubicBezTo>
              </a:path>
              <a:path w="13669" h="3449">
                <a:moveTo>
                  <a:pt x="11162" y="13568"/>
                </a:moveTo>
                <a:cubicBezTo>
                  <a:pt x="11118" y="13726"/>
                  <a:pt x="11055" y="13899"/>
                  <a:pt x="11038" y="14064"/>
                </a:cubicBezTo>
                <a:cubicBezTo>
                  <a:pt x="11022" y="14221"/>
                  <a:pt x="11013" y="14377"/>
                  <a:pt x="11013" y="14536"/>
                </a:cubicBezTo>
                <a:cubicBezTo>
                  <a:pt x="11013" y="14704"/>
                  <a:pt x="10975" y="14866"/>
                  <a:pt x="10964" y="15032"/>
                </a:cubicBezTo>
                <a:cubicBezTo>
                  <a:pt x="10955" y="15174"/>
                  <a:pt x="10939" y="15309"/>
                  <a:pt x="10939" y="15453"/>
                </a:cubicBezTo>
                <a:cubicBezTo>
                  <a:pt x="10939" y="15569"/>
                  <a:pt x="10939" y="15685"/>
                  <a:pt x="10939" y="15801"/>
                </a:cubicBezTo>
                <a:cubicBezTo>
                  <a:pt x="11001" y="15806"/>
                  <a:pt x="11051" y="15822"/>
                  <a:pt x="11112" y="15825"/>
                </a:cubicBezTo>
                <a:cubicBezTo>
                  <a:pt x="11275" y="15832"/>
                  <a:pt x="11436" y="15842"/>
                  <a:pt x="11584" y="15776"/>
                </a:cubicBezTo>
                <a:cubicBezTo>
                  <a:pt x="11778" y="15678"/>
                  <a:pt x="11859" y="15614"/>
                  <a:pt x="11931" y="15453"/>
                </a:cubicBezTo>
              </a:path>
              <a:path w="13669" h="3449">
                <a:moveTo>
                  <a:pt x="11509" y="13816"/>
                </a:moveTo>
                <a:cubicBezTo>
                  <a:pt x="11590" y="13800"/>
                  <a:pt x="11669" y="13778"/>
                  <a:pt x="11757" y="13791"/>
                </a:cubicBezTo>
                <a:cubicBezTo>
                  <a:pt x="11862" y="13807"/>
                  <a:pt x="11885" y="13823"/>
                  <a:pt x="11981" y="13791"/>
                </a:cubicBezTo>
              </a:path>
              <a:path w="13669" h="3449">
                <a:moveTo>
                  <a:pt x="11683" y="13816"/>
                </a:moveTo>
                <a:cubicBezTo>
                  <a:pt x="11638" y="13898"/>
                  <a:pt x="11520" y="14033"/>
                  <a:pt x="11559" y="14139"/>
                </a:cubicBezTo>
                <a:cubicBezTo>
                  <a:pt x="11567" y="14161"/>
                  <a:pt x="11616" y="14196"/>
                  <a:pt x="11633" y="14213"/>
                </a:cubicBezTo>
              </a:path>
              <a:path w="13669" h="3449">
                <a:moveTo>
                  <a:pt x="11906" y="13841"/>
                </a:moveTo>
                <a:cubicBezTo>
                  <a:pt x="11911" y="13959"/>
                  <a:pt x="11904" y="14120"/>
                  <a:pt x="11931" y="14238"/>
                </a:cubicBezTo>
                <a:cubicBezTo>
                  <a:pt x="11953" y="14282"/>
                  <a:pt x="11966" y="14293"/>
                  <a:pt x="11931" y="14312"/>
                </a:cubicBezTo>
              </a:path>
              <a:path w="13669" h="3449">
                <a:moveTo>
                  <a:pt x="11509" y="14412"/>
                </a:moveTo>
                <a:cubicBezTo>
                  <a:pt x="11642" y="14445"/>
                  <a:pt x="11815" y="14504"/>
                  <a:pt x="11956" y="14486"/>
                </a:cubicBezTo>
                <a:cubicBezTo>
                  <a:pt x="11981" y="14478"/>
                  <a:pt x="12005" y="14469"/>
                  <a:pt x="12030" y="14461"/>
                </a:cubicBezTo>
              </a:path>
              <a:path w="13669" h="3449">
                <a:moveTo>
                  <a:pt x="11609" y="14808"/>
                </a:moveTo>
                <a:cubicBezTo>
                  <a:pt x="11692" y="14815"/>
                  <a:pt x="11800" y="14814"/>
                  <a:pt x="11881" y="14833"/>
                </a:cubicBezTo>
                <a:cubicBezTo>
                  <a:pt x="11898" y="14841"/>
                  <a:pt x="11914" y="14850"/>
                  <a:pt x="11931" y="14858"/>
                </a:cubicBezTo>
                <a:cubicBezTo>
                  <a:pt x="11931" y="14930"/>
                  <a:pt x="11883" y="14957"/>
                  <a:pt x="11832" y="15007"/>
                </a:cubicBezTo>
                <a:cubicBezTo>
                  <a:pt x="11765" y="15073"/>
                  <a:pt x="11661" y="15129"/>
                  <a:pt x="11609" y="15205"/>
                </a:cubicBezTo>
                <a:cubicBezTo>
                  <a:pt x="11575" y="15254"/>
                  <a:pt x="11586" y="15294"/>
                  <a:pt x="11633" y="15329"/>
                </a:cubicBezTo>
                <a:cubicBezTo>
                  <a:pt x="11745" y="15412"/>
                  <a:pt x="11840" y="15430"/>
                  <a:pt x="11981" y="15379"/>
                </a:cubicBezTo>
                <a:cubicBezTo>
                  <a:pt x="12006" y="15362"/>
                  <a:pt x="12030" y="15346"/>
                  <a:pt x="12055" y="15329"/>
                </a:cubicBezTo>
              </a:path>
              <a:path w="13669" h="3449">
                <a:moveTo>
                  <a:pt x="12303" y="14684"/>
                </a:moveTo>
                <a:cubicBezTo>
                  <a:pt x="12411" y="14700"/>
                  <a:pt x="12451" y="14697"/>
                  <a:pt x="12551" y="14660"/>
                </a:cubicBezTo>
              </a:path>
              <a:path w="13669" h="3449">
                <a:moveTo>
                  <a:pt x="12650" y="14362"/>
                </a:moveTo>
                <a:cubicBezTo>
                  <a:pt x="12737" y="14495"/>
                  <a:pt x="12815" y="14645"/>
                  <a:pt x="12948" y="14734"/>
                </a:cubicBezTo>
                <a:cubicBezTo>
                  <a:pt x="12965" y="14742"/>
                  <a:pt x="12981" y="14751"/>
                  <a:pt x="12998" y="14759"/>
                </a:cubicBezTo>
              </a:path>
              <a:path w="13669" h="3449">
                <a:moveTo>
                  <a:pt x="12898" y="14412"/>
                </a:moveTo>
                <a:cubicBezTo>
                  <a:pt x="12740" y="14537"/>
                  <a:pt x="12599" y="14615"/>
                  <a:pt x="12526" y="14808"/>
                </a:cubicBezTo>
                <a:cubicBezTo>
                  <a:pt x="12526" y="14833"/>
                  <a:pt x="12526" y="14841"/>
                  <a:pt x="12551" y="14833"/>
                </a:cubicBezTo>
              </a:path>
              <a:path w="13669" h="3449">
                <a:moveTo>
                  <a:pt x="12998" y="13593"/>
                </a:moveTo>
                <a:cubicBezTo>
                  <a:pt x="13168" y="13544"/>
                  <a:pt x="13228" y="13550"/>
                  <a:pt x="13395" y="13568"/>
                </a:cubicBezTo>
                <a:cubicBezTo>
                  <a:pt x="13484" y="13578"/>
                  <a:pt x="13578" y="13568"/>
                  <a:pt x="13667" y="13568"/>
                </a:cubicBezTo>
                <a:cubicBezTo>
                  <a:pt x="13662" y="13629"/>
                  <a:pt x="13656" y="13683"/>
                  <a:pt x="13643" y="13742"/>
                </a:cubicBezTo>
                <a:cubicBezTo>
                  <a:pt x="13601" y="13925"/>
                  <a:pt x="13575" y="14096"/>
                  <a:pt x="13593" y="14288"/>
                </a:cubicBezTo>
                <a:cubicBezTo>
                  <a:pt x="13615" y="14529"/>
                  <a:pt x="13672" y="14765"/>
                  <a:pt x="13692" y="15007"/>
                </a:cubicBezTo>
                <a:cubicBezTo>
                  <a:pt x="13711" y="15244"/>
                  <a:pt x="13713" y="15491"/>
                  <a:pt x="13742" y="15726"/>
                </a:cubicBezTo>
                <a:cubicBezTo>
                  <a:pt x="13754" y="15825"/>
                  <a:pt x="13780" y="15929"/>
                  <a:pt x="13791" y="16024"/>
                </a:cubicBezTo>
                <a:cubicBezTo>
                  <a:pt x="13795" y="16057"/>
                  <a:pt x="13788" y="16090"/>
                  <a:pt x="13791" y="16123"/>
                </a:cubicBezTo>
                <a:cubicBezTo>
                  <a:pt x="13771" y="16105"/>
                  <a:pt x="13745" y="16058"/>
                  <a:pt x="13692" y="16049"/>
                </a:cubicBezTo>
                <a:cubicBezTo>
                  <a:pt x="13576" y="16029"/>
                  <a:pt x="13458" y="16065"/>
                  <a:pt x="13345" y="16073"/>
                </a:cubicBezTo>
                <a:cubicBezTo>
                  <a:pt x="13218" y="16082"/>
                  <a:pt x="13096" y="16100"/>
                  <a:pt x="12973" y="16123"/>
                </a:cubicBezTo>
                <a:cubicBezTo>
                  <a:pt x="12912" y="16135"/>
                  <a:pt x="12844" y="16207"/>
                  <a:pt x="12824" y="16148"/>
                </a:cubicBezTo>
                <a:cubicBezTo>
                  <a:pt x="12824" y="16120"/>
                  <a:pt x="12826" y="16109"/>
                  <a:pt x="12849" y="16098"/>
                </a:cubicBezTo>
              </a:path>
              <a:path w="13669" h="3449">
                <a:moveTo>
                  <a:pt x="14015" y="14039"/>
                </a:moveTo>
                <a:cubicBezTo>
                  <a:pt x="13967" y="14063"/>
                  <a:pt x="13869" y="14090"/>
                  <a:pt x="13841" y="14139"/>
                </a:cubicBezTo>
                <a:cubicBezTo>
                  <a:pt x="13806" y="14201"/>
                  <a:pt x="13911" y="14298"/>
                  <a:pt x="13940" y="14337"/>
                </a:cubicBezTo>
                <a:cubicBezTo>
                  <a:pt x="13981" y="14392"/>
                  <a:pt x="14071" y="14495"/>
                  <a:pt x="14089" y="14560"/>
                </a:cubicBezTo>
                <a:cubicBezTo>
                  <a:pt x="14102" y="14609"/>
                  <a:pt x="14089" y="14627"/>
                  <a:pt x="14064" y="14660"/>
                </a:cubicBezTo>
                <a:cubicBezTo>
                  <a:pt x="13969" y="14616"/>
                  <a:pt x="13840" y="14548"/>
                  <a:pt x="13866" y="14412"/>
                </a:cubicBezTo>
                <a:cubicBezTo>
                  <a:pt x="13891" y="14362"/>
                  <a:pt x="13899" y="14346"/>
                  <a:pt x="13915" y="14312"/>
                </a:cubicBezTo>
              </a:path>
              <a:path w="13669" h="3449">
                <a:moveTo>
                  <a:pt x="14362" y="14288"/>
                </a:moveTo>
                <a:cubicBezTo>
                  <a:pt x="14340" y="14378"/>
                  <a:pt x="14312" y="14554"/>
                  <a:pt x="14312" y="14461"/>
                </a:cubicBezTo>
              </a:path>
              <a:path w="13669" h="3449">
                <a:moveTo>
                  <a:pt x="14362" y="13940"/>
                </a:moveTo>
                <a:cubicBezTo>
                  <a:pt x="14437" y="13856"/>
                  <a:pt x="14442" y="13842"/>
                  <a:pt x="14536" y="13915"/>
                </a:cubicBezTo>
              </a:path>
              <a:path w="13669" h="3449">
                <a:moveTo>
                  <a:pt x="14585" y="14486"/>
                </a:moveTo>
                <a:cubicBezTo>
                  <a:pt x="14585" y="14503"/>
                  <a:pt x="14585" y="14519"/>
                  <a:pt x="14585" y="14536"/>
                </a:cubicBezTo>
                <a:cubicBezTo>
                  <a:pt x="14621" y="14489"/>
                  <a:pt x="14616" y="14442"/>
                  <a:pt x="14635" y="14387"/>
                </a:cubicBezTo>
                <a:cubicBezTo>
                  <a:pt x="14663" y="14305"/>
                  <a:pt x="14702" y="14245"/>
                  <a:pt x="14784" y="14238"/>
                </a:cubicBezTo>
                <a:cubicBezTo>
                  <a:pt x="14858" y="14232"/>
                  <a:pt x="14886" y="14305"/>
                  <a:pt x="14908" y="14362"/>
                </a:cubicBezTo>
                <a:cubicBezTo>
                  <a:pt x="14939" y="14443"/>
                  <a:pt x="14984" y="14514"/>
                  <a:pt x="15032" y="14585"/>
                </a:cubicBezTo>
                <a:cubicBezTo>
                  <a:pt x="15096" y="14539"/>
                  <a:pt x="15096" y="14540"/>
                  <a:pt x="15106" y="14461"/>
                </a:cubicBezTo>
              </a:path>
              <a:path w="13669" h="3449">
                <a:moveTo>
                  <a:pt x="15180" y="13667"/>
                </a:moveTo>
                <a:cubicBezTo>
                  <a:pt x="15311" y="13667"/>
                  <a:pt x="15425" y="13688"/>
                  <a:pt x="15553" y="13692"/>
                </a:cubicBezTo>
                <a:cubicBezTo>
                  <a:pt x="15611" y="13692"/>
                  <a:pt x="15619" y="13692"/>
                  <a:pt x="15652" y="13692"/>
                </a:cubicBezTo>
              </a:path>
              <a:path w="13669" h="3449">
                <a:moveTo>
                  <a:pt x="15205" y="13767"/>
                </a:moveTo>
                <a:cubicBezTo>
                  <a:pt x="15148" y="13979"/>
                  <a:pt x="15110" y="14152"/>
                  <a:pt x="15081" y="14362"/>
                </a:cubicBezTo>
                <a:cubicBezTo>
                  <a:pt x="15052" y="14574"/>
                  <a:pt x="15036" y="14792"/>
                  <a:pt x="15032" y="15007"/>
                </a:cubicBezTo>
                <a:cubicBezTo>
                  <a:pt x="15029" y="15174"/>
                  <a:pt x="15007" y="15334"/>
                  <a:pt x="15007" y="15503"/>
                </a:cubicBezTo>
                <a:cubicBezTo>
                  <a:pt x="15007" y="15621"/>
                  <a:pt x="14982" y="15731"/>
                  <a:pt x="14982" y="15850"/>
                </a:cubicBezTo>
                <a:cubicBezTo>
                  <a:pt x="14982" y="15903"/>
                  <a:pt x="14990" y="15996"/>
                  <a:pt x="15007" y="16049"/>
                </a:cubicBezTo>
                <a:cubicBezTo>
                  <a:pt x="15029" y="16117"/>
                  <a:pt x="15076" y="16104"/>
                  <a:pt x="15156" y="16123"/>
                </a:cubicBezTo>
                <a:cubicBezTo>
                  <a:pt x="15262" y="16148"/>
                  <a:pt x="15368" y="16148"/>
                  <a:pt x="15478" y="16148"/>
                </a:cubicBezTo>
                <a:cubicBezTo>
                  <a:pt x="15679" y="16148"/>
                  <a:pt x="15745" y="16131"/>
                  <a:pt x="15900" y="15999"/>
                </a:cubicBezTo>
              </a:path>
              <a:path w="13669" h="3449">
                <a:moveTo>
                  <a:pt x="15726" y="14238"/>
                </a:moveTo>
                <a:cubicBezTo>
                  <a:pt x="15833" y="14149"/>
                  <a:pt x="15863" y="14139"/>
                  <a:pt x="15999" y="14139"/>
                </a:cubicBezTo>
                <a:cubicBezTo>
                  <a:pt x="16086" y="14139"/>
                  <a:pt x="16127" y="14104"/>
                  <a:pt x="16173" y="14039"/>
                </a:cubicBezTo>
              </a:path>
              <a:path w="13669" h="3449">
                <a:moveTo>
                  <a:pt x="15701" y="14337"/>
                </a:moveTo>
                <a:cubicBezTo>
                  <a:pt x="15723" y="14487"/>
                  <a:pt x="15667" y="14558"/>
                  <a:pt x="15776" y="14585"/>
                </a:cubicBezTo>
              </a:path>
              <a:path w="13669" h="3449">
                <a:moveTo>
                  <a:pt x="16024" y="14288"/>
                </a:moveTo>
                <a:cubicBezTo>
                  <a:pt x="16040" y="14432"/>
                  <a:pt x="16049" y="14570"/>
                  <a:pt x="16073" y="14709"/>
                </a:cubicBezTo>
                <a:cubicBezTo>
                  <a:pt x="16073" y="14737"/>
                  <a:pt x="16071" y="14748"/>
                  <a:pt x="16049" y="14759"/>
                </a:cubicBezTo>
              </a:path>
              <a:path w="13669" h="3449">
                <a:moveTo>
                  <a:pt x="15726" y="14684"/>
                </a:moveTo>
                <a:cubicBezTo>
                  <a:pt x="15883" y="14692"/>
                  <a:pt x="16014" y="14696"/>
                  <a:pt x="16173" y="14684"/>
                </a:cubicBezTo>
              </a:path>
              <a:path w="13669" h="3449">
                <a:moveTo>
                  <a:pt x="15677" y="15056"/>
                </a:moveTo>
                <a:cubicBezTo>
                  <a:pt x="15759" y="15065"/>
                  <a:pt x="15839" y="15095"/>
                  <a:pt x="15925" y="15081"/>
                </a:cubicBezTo>
                <a:cubicBezTo>
                  <a:pt x="16002" y="15061"/>
                  <a:pt x="16020" y="15037"/>
                  <a:pt x="16049" y="15081"/>
                </a:cubicBezTo>
                <a:cubicBezTo>
                  <a:pt x="15995" y="15135"/>
                  <a:pt x="15920" y="15170"/>
                  <a:pt x="15875" y="15230"/>
                </a:cubicBezTo>
                <a:cubicBezTo>
                  <a:pt x="15827" y="15293"/>
                  <a:pt x="15798" y="15360"/>
                  <a:pt x="15825" y="15429"/>
                </a:cubicBezTo>
                <a:cubicBezTo>
                  <a:pt x="15856" y="15508"/>
                  <a:pt x="15941" y="15566"/>
                  <a:pt x="16024" y="15577"/>
                </a:cubicBezTo>
                <a:cubicBezTo>
                  <a:pt x="16173" y="15597"/>
                  <a:pt x="16243" y="15487"/>
                  <a:pt x="16321" y="15379"/>
                </a:cubicBezTo>
                <a:cubicBezTo>
                  <a:pt x="16338" y="15354"/>
                  <a:pt x="16354" y="15329"/>
                  <a:pt x="16371" y="15304"/>
                </a:cubicBezTo>
              </a:path>
              <a:path w="13669" h="3449">
                <a:moveTo>
                  <a:pt x="16346" y="14808"/>
                </a:moveTo>
                <a:cubicBezTo>
                  <a:pt x="16433" y="14785"/>
                  <a:pt x="16503" y="14784"/>
                  <a:pt x="16594" y="14784"/>
                </a:cubicBezTo>
                <a:cubicBezTo>
                  <a:pt x="16662" y="14784"/>
                  <a:pt x="16681" y="14787"/>
                  <a:pt x="16718" y="14759"/>
                </a:cubicBezTo>
              </a:path>
              <a:path w="13669" h="3449">
                <a:moveTo>
                  <a:pt x="16768" y="14461"/>
                </a:moveTo>
                <a:cubicBezTo>
                  <a:pt x="16845" y="14576"/>
                  <a:pt x="16968" y="14797"/>
                  <a:pt x="17090" y="14883"/>
                </a:cubicBezTo>
                <a:cubicBezTo>
                  <a:pt x="17115" y="14891"/>
                  <a:pt x="17140" y="14900"/>
                  <a:pt x="17165" y="14908"/>
                </a:cubicBezTo>
              </a:path>
              <a:path w="13669" h="3449">
                <a:moveTo>
                  <a:pt x="17115" y="14461"/>
                </a:moveTo>
                <a:cubicBezTo>
                  <a:pt x="16976" y="14581"/>
                  <a:pt x="16861" y="14696"/>
                  <a:pt x="16743" y="14833"/>
                </a:cubicBezTo>
                <a:cubicBezTo>
                  <a:pt x="16692" y="14893"/>
                  <a:pt x="16694" y="14884"/>
                  <a:pt x="16694" y="14957"/>
                </a:cubicBezTo>
              </a:path>
              <a:path w="13669" h="3449">
                <a:moveTo>
                  <a:pt x="17090" y="13791"/>
                </a:moveTo>
                <a:cubicBezTo>
                  <a:pt x="17251" y="13779"/>
                  <a:pt x="17363" y="13799"/>
                  <a:pt x="17512" y="13816"/>
                </a:cubicBezTo>
                <a:cubicBezTo>
                  <a:pt x="17600" y="13826"/>
                  <a:pt x="17596" y="13804"/>
                  <a:pt x="17636" y="13841"/>
                </a:cubicBezTo>
                <a:cubicBezTo>
                  <a:pt x="17674" y="13877"/>
                  <a:pt x="17659" y="13914"/>
                  <a:pt x="17661" y="13965"/>
                </a:cubicBezTo>
                <a:cubicBezTo>
                  <a:pt x="17666" y="14133"/>
                  <a:pt x="17673" y="14295"/>
                  <a:pt x="17686" y="14461"/>
                </a:cubicBezTo>
                <a:cubicBezTo>
                  <a:pt x="17700" y="14644"/>
                  <a:pt x="17748" y="14824"/>
                  <a:pt x="17760" y="15007"/>
                </a:cubicBezTo>
                <a:cubicBezTo>
                  <a:pt x="17776" y="15255"/>
                  <a:pt x="17808" y="15502"/>
                  <a:pt x="17810" y="15751"/>
                </a:cubicBezTo>
                <a:cubicBezTo>
                  <a:pt x="17812" y="15983"/>
                  <a:pt x="17786" y="16159"/>
                  <a:pt x="17760" y="16371"/>
                </a:cubicBezTo>
                <a:cubicBezTo>
                  <a:pt x="17760" y="16388"/>
                  <a:pt x="17760" y="16404"/>
                  <a:pt x="17760" y="16421"/>
                </a:cubicBezTo>
                <a:cubicBezTo>
                  <a:pt x="17710" y="16345"/>
                  <a:pt x="17663" y="16254"/>
                  <a:pt x="17587" y="16197"/>
                </a:cubicBezTo>
                <a:cubicBezTo>
                  <a:pt x="17395" y="16054"/>
                  <a:pt x="17169" y="15925"/>
                  <a:pt x="16942" y="15850"/>
                </a:cubicBezTo>
                <a:cubicBezTo>
                  <a:pt x="16801" y="15809"/>
                  <a:pt x="16661" y="15767"/>
                  <a:pt x="16520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41320" y="5732640"/>
            <a:ext cx="982800" cy="312480"/>
          </a:xfrm>
          <a:custGeom>
            <a:avLst/>
            <a:gdLst/>
            <a:ahLst/>
            <a:rect l="l" t="t" r="r" b="b"/>
            <a:pathLst>
              <a:path w="2729" h="869">
                <a:moveTo>
                  <a:pt x="5209" y="15949"/>
                </a:moveTo>
                <a:cubicBezTo>
                  <a:pt x="5229" y="15997"/>
                  <a:pt x="5254" y="16047"/>
                  <a:pt x="5259" y="16098"/>
                </a:cubicBezTo>
                <a:cubicBezTo>
                  <a:pt x="5259" y="16106"/>
                  <a:pt x="5259" y="16115"/>
                  <a:pt x="5259" y="16123"/>
                </a:cubicBezTo>
                <a:cubicBezTo>
                  <a:pt x="5259" y="16186"/>
                  <a:pt x="5236" y="16046"/>
                  <a:pt x="5234" y="16024"/>
                </a:cubicBezTo>
                <a:cubicBezTo>
                  <a:pt x="5231" y="15991"/>
                  <a:pt x="5192" y="15940"/>
                  <a:pt x="5159" y="15925"/>
                </a:cubicBezTo>
                <a:cubicBezTo>
                  <a:pt x="5125" y="15910"/>
                  <a:pt x="5083" y="15929"/>
                  <a:pt x="5060" y="15949"/>
                </a:cubicBezTo>
                <a:cubicBezTo>
                  <a:pt x="5015" y="15989"/>
                  <a:pt x="4962" y="16015"/>
                  <a:pt x="4936" y="16073"/>
                </a:cubicBezTo>
                <a:cubicBezTo>
                  <a:pt x="4907" y="16138"/>
                  <a:pt x="4849" y="16227"/>
                  <a:pt x="4837" y="16297"/>
                </a:cubicBezTo>
                <a:cubicBezTo>
                  <a:pt x="4825" y="16370"/>
                  <a:pt x="4833" y="16454"/>
                  <a:pt x="4862" y="16520"/>
                </a:cubicBezTo>
                <a:cubicBezTo>
                  <a:pt x="4907" y="16620"/>
                  <a:pt x="4990" y="16621"/>
                  <a:pt x="5085" y="16594"/>
                </a:cubicBezTo>
                <a:cubicBezTo>
                  <a:pt x="5146" y="16577"/>
                  <a:pt x="5207" y="16528"/>
                  <a:pt x="5259" y="16495"/>
                </a:cubicBezTo>
              </a:path>
              <a:path w="2729" h="869">
                <a:moveTo>
                  <a:pt x="5680" y="16098"/>
                </a:moveTo>
                <a:cubicBezTo>
                  <a:pt x="5688" y="16106"/>
                  <a:pt x="5697" y="16115"/>
                  <a:pt x="5705" y="16123"/>
                </a:cubicBezTo>
                <a:cubicBezTo>
                  <a:pt x="5699" y="16106"/>
                  <a:pt x="5682" y="16063"/>
                  <a:pt x="5655" y="16049"/>
                </a:cubicBezTo>
                <a:cubicBezTo>
                  <a:pt x="5622" y="16033"/>
                  <a:pt x="5578" y="16054"/>
                  <a:pt x="5556" y="16073"/>
                </a:cubicBezTo>
                <a:cubicBezTo>
                  <a:pt x="5503" y="16119"/>
                  <a:pt x="5463" y="16154"/>
                  <a:pt x="5457" y="16222"/>
                </a:cubicBezTo>
                <a:cubicBezTo>
                  <a:pt x="5454" y="16261"/>
                  <a:pt x="5504" y="16318"/>
                  <a:pt x="5531" y="16346"/>
                </a:cubicBezTo>
                <a:cubicBezTo>
                  <a:pt x="5585" y="16403"/>
                  <a:pt x="5675" y="16470"/>
                  <a:pt x="5705" y="16545"/>
                </a:cubicBezTo>
                <a:cubicBezTo>
                  <a:pt x="5722" y="16588"/>
                  <a:pt x="5698" y="16649"/>
                  <a:pt x="5655" y="16669"/>
                </a:cubicBezTo>
                <a:cubicBezTo>
                  <a:pt x="5609" y="16690"/>
                  <a:pt x="5516" y="16675"/>
                  <a:pt x="5482" y="16644"/>
                </a:cubicBezTo>
                <a:cubicBezTo>
                  <a:pt x="5451" y="16616"/>
                  <a:pt x="5457" y="16608"/>
                  <a:pt x="5457" y="16570"/>
                </a:cubicBezTo>
              </a:path>
              <a:path w="2729" h="869">
                <a:moveTo>
                  <a:pt x="6152" y="16173"/>
                </a:moveTo>
                <a:cubicBezTo>
                  <a:pt x="6152" y="16197"/>
                  <a:pt x="6152" y="16205"/>
                  <a:pt x="6176" y="16197"/>
                </a:cubicBezTo>
                <a:cubicBezTo>
                  <a:pt x="6170" y="16171"/>
                  <a:pt x="6155" y="16112"/>
                  <a:pt x="6127" y="16098"/>
                </a:cubicBezTo>
                <a:cubicBezTo>
                  <a:pt x="6084" y="16077"/>
                  <a:pt x="6053" y="16123"/>
                  <a:pt x="6028" y="16148"/>
                </a:cubicBezTo>
                <a:cubicBezTo>
                  <a:pt x="5972" y="16205"/>
                  <a:pt x="5939" y="16250"/>
                  <a:pt x="5904" y="16321"/>
                </a:cubicBezTo>
                <a:cubicBezTo>
                  <a:pt x="5859" y="16412"/>
                  <a:pt x="5890" y="16481"/>
                  <a:pt x="5928" y="16570"/>
                </a:cubicBezTo>
                <a:cubicBezTo>
                  <a:pt x="5957" y="16638"/>
                  <a:pt x="6034" y="16686"/>
                  <a:pt x="6102" y="16694"/>
                </a:cubicBezTo>
                <a:cubicBezTo>
                  <a:pt x="6161" y="16701"/>
                  <a:pt x="6200" y="16670"/>
                  <a:pt x="6251" y="16644"/>
                </a:cubicBezTo>
              </a:path>
              <a:path w="2729" h="869">
                <a:moveTo>
                  <a:pt x="6424" y="16247"/>
                </a:moveTo>
                <a:cubicBezTo>
                  <a:pt x="6466" y="16373"/>
                  <a:pt x="6507" y="16539"/>
                  <a:pt x="6598" y="16644"/>
                </a:cubicBezTo>
                <a:cubicBezTo>
                  <a:pt x="6700" y="16762"/>
                  <a:pt x="6738" y="16818"/>
                  <a:pt x="6871" y="16768"/>
                </a:cubicBezTo>
              </a:path>
              <a:path w="2729" h="869">
                <a:moveTo>
                  <a:pt x="6821" y="16123"/>
                </a:moveTo>
                <a:cubicBezTo>
                  <a:pt x="6724" y="16227"/>
                  <a:pt x="6651" y="16328"/>
                  <a:pt x="6573" y="16446"/>
                </a:cubicBezTo>
                <a:cubicBezTo>
                  <a:pt x="6509" y="16543"/>
                  <a:pt x="6440" y="16633"/>
                  <a:pt x="6375" y="16718"/>
                </a:cubicBezTo>
                <a:cubicBezTo>
                  <a:pt x="6342" y="16762"/>
                  <a:pt x="6332" y="16782"/>
                  <a:pt x="6300" y="16793"/>
                </a:cubicBezTo>
              </a:path>
              <a:path w="2729" h="869">
                <a:moveTo>
                  <a:pt x="7069" y="16446"/>
                </a:moveTo>
                <a:cubicBezTo>
                  <a:pt x="7175" y="16459"/>
                  <a:pt x="7299" y="16476"/>
                  <a:pt x="7392" y="16495"/>
                </a:cubicBezTo>
                <a:cubicBezTo>
                  <a:pt x="7447" y="16506"/>
                  <a:pt x="7491" y="16533"/>
                  <a:pt x="7516" y="16545"/>
                </a:cubicBezTo>
                <a:cubicBezTo>
                  <a:pt x="7542" y="16558"/>
                  <a:pt x="7550" y="16490"/>
                  <a:pt x="7565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8320" y="5759280"/>
            <a:ext cx="1652760" cy="376560"/>
          </a:xfrm>
          <a:custGeom>
            <a:avLst/>
            <a:gdLst/>
            <a:ahLst/>
            <a:rect l="l" t="t" r="r" b="b"/>
            <a:pathLst>
              <a:path w="4590" h="1043">
                <a:moveTo>
                  <a:pt x="8483" y="16049"/>
                </a:moveTo>
                <a:cubicBezTo>
                  <a:pt x="8508" y="16049"/>
                  <a:pt x="8516" y="16049"/>
                  <a:pt x="8508" y="16024"/>
                </a:cubicBezTo>
                <a:cubicBezTo>
                  <a:pt x="8499" y="15996"/>
                  <a:pt x="8452" y="15981"/>
                  <a:pt x="8409" y="15999"/>
                </a:cubicBezTo>
                <a:cubicBezTo>
                  <a:pt x="8363" y="16018"/>
                  <a:pt x="8289" y="16081"/>
                  <a:pt x="8260" y="16123"/>
                </a:cubicBezTo>
                <a:cubicBezTo>
                  <a:pt x="8209" y="16195"/>
                  <a:pt x="8172" y="16259"/>
                  <a:pt x="8161" y="16346"/>
                </a:cubicBezTo>
                <a:cubicBezTo>
                  <a:pt x="8153" y="16410"/>
                  <a:pt x="8188" y="16547"/>
                  <a:pt x="8235" y="16594"/>
                </a:cubicBezTo>
                <a:cubicBezTo>
                  <a:pt x="8326" y="16684"/>
                  <a:pt x="8388" y="16685"/>
                  <a:pt x="8508" y="16669"/>
                </a:cubicBezTo>
              </a:path>
              <a:path w="4590" h="1043">
                <a:moveTo>
                  <a:pt x="8706" y="16371"/>
                </a:moveTo>
                <a:cubicBezTo>
                  <a:pt x="8681" y="16571"/>
                  <a:pt x="8668" y="16564"/>
                  <a:pt x="8756" y="16718"/>
                </a:cubicBezTo>
                <a:cubicBezTo>
                  <a:pt x="8800" y="16795"/>
                  <a:pt x="8856" y="16813"/>
                  <a:pt x="8930" y="16842"/>
                </a:cubicBezTo>
                <a:cubicBezTo>
                  <a:pt x="8995" y="16867"/>
                  <a:pt x="9049" y="16878"/>
                  <a:pt x="9103" y="16818"/>
                </a:cubicBezTo>
                <a:cubicBezTo>
                  <a:pt x="9148" y="16768"/>
                  <a:pt x="9193" y="16640"/>
                  <a:pt x="9178" y="16570"/>
                </a:cubicBezTo>
                <a:cubicBezTo>
                  <a:pt x="9165" y="16507"/>
                  <a:pt x="9104" y="16409"/>
                  <a:pt x="9054" y="16371"/>
                </a:cubicBezTo>
                <a:cubicBezTo>
                  <a:pt x="9003" y="16332"/>
                  <a:pt x="8879" y="16325"/>
                  <a:pt x="8830" y="16371"/>
                </a:cubicBezTo>
                <a:cubicBezTo>
                  <a:pt x="8782" y="16417"/>
                  <a:pt x="8750" y="16488"/>
                  <a:pt x="8781" y="16545"/>
                </a:cubicBezTo>
                <a:cubicBezTo>
                  <a:pt x="8806" y="16570"/>
                  <a:pt x="8814" y="16578"/>
                  <a:pt x="8830" y="16594"/>
                </a:cubicBezTo>
              </a:path>
              <a:path w="4590" h="1043">
                <a:moveTo>
                  <a:pt x="9376" y="16049"/>
                </a:moveTo>
                <a:cubicBezTo>
                  <a:pt x="9334" y="16219"/>
                  <a:pt x="9267" y="16415"/>
                  <a:pt x="9302" y="16594"/>
                </a:cubicBezTo>
                <a:cubicBezTo>
                  <a:pt x="9314" y="16654"/>
                  <a:pt x="9338" y="16713"/>
                  <a:pt x="9351" y="16768"/>
                </a:cubicBezTo>
              </a:path>
              <a:path w="4590" h="1043">
                <a:moveTo>
                  <a:pt x="9153" y="16346"/>
                </a:moveTo>
                <a:cubicBezTo>
                  <a:pt x="9242" y="16346"/>
                  <a:pt x="9291" y="16367"/>
                  <a:pt x="9376" y="16396"/>
                </a:cubicBezTo>
                <a:cubicBezTo>
                  <a:pt x="9491" y="16436"/>
                  <a:pt x="9549" y="16414"/>
                  <a:pt x="9674" y="16396"/>
                </a:cubicBezTo>
              </a:path>
              <a:path w="4590" h="1043">
                <a:moveTo>
                  <a:pt x="9798" y="16346"/>
                </a:moveTo>
                <a:cubicBezTo>
                  <a:pt x="9845" y="16488"/>
                  <a:pt x="9899" y="16625"/>
                  <a:pt x="9996" y="16743"/>
                </a:cubicBezTo>
                <a:cubicBezTo>
                  <a:pt x="10044" y="16801"/>
                  <a:pt x="10106" y="16832"/>
                  <a:pt x="10170" y="16867"/>
                </a:cubicBezTo>
              </a:path>
              <a:path w="4590" h="1043">
                <a:moveTo>
                  <a:pt x="10145" y="16148"/>
                </a:moveTo>
                <a:cubicBezTo>
                  <a:pt x="10032" y="16238"/>
                  <a:pt x="9943" y="16318"/>
                  <a:pt x="9872" y="16446"/>
                </a:cubicBezTo>
                <a:cubicBezTo>
                  <a:pt x="9812" y="16553"/>
                  <a:pt x="9741" y="16654"/>
                  <a:pt x="9699" y="16768"/>
                </a:cubicBezTo>
                <a:cubicBezTo>
                  <a:pt x="9667" y="16854"/>
                  <a:pt x="9637" y="16880"/>
                  <a:pt x="9699" y="16892"/>
                </a:cubicBezTo>
              </a:path>
              <a:path w="4590" h="1043">
                <a:moveTo>
                  <a:pt x="10393" y="16917"/>
                </a:moveTo>
                <a:cubicBezTo>
                  <a:pt x="10421" y="16917"/>
                  <a:pt x="10432" y="16915"/>
                  <a:pt x="10443" y="16892"/>
                </a:cubicBezTo>
              </a:path>
              <a:path w="4590" h="1043">
                <a:moveTo>
                  <a:pt x="10914" y="16321"/>
                </a:moveTo>
                <a:cubicBezTo>
                  <a:pt x="10929" y="16355"/>
                  <a:pt x="10958" y="16447"/>
                  <a:pt x="10939" y="16371"/>
                </a:cubicBezTo>
                <a:cubicBezTo>
                  <a:pt x="10932" y="16341"/>
                  <a:pt x="10903" y="16325"/>
                  <a:pt x="10864" y="16321"/>
                </a:cubicBezTo>
                <a:cubicBezTo>
                  <a:pt x="10820" y="16316"/>
                  <a:pt x="10712" y="16388"/>
                  <a:pt x="10691" y="16421"/>
                </a:cubicBezTo>
                <a:cubicBezTo>
                  <a:pt x="10637" y="16503"/>
                  <a:pt x="10626" y="16659"/>
                  <a:pt x="10666" y="16743"/>
                </a:cubicBezTo>
                <a:cubicBezTo>
                  <a:pt x="10759" y="16936"/>
                  <a:pt x="10807" y="16974"/>
                  <a:pt x="10988" y="16991"/>
                </a:cubicBezTo>
              </a:path>
              <a:path w="4590" h="1043">
                <a:moveTo>
                  <a:pt x="11311" y="16570"/>
                </a:moveTo>
                <a:cubicBezTo>
                  <a:pt x="11303" y="16553"/>
                  <a:pt x="11294" y="16537"/>
                  <a:pt x="11286" y="16520"/>
                </a:cubicBezTo>
                <a:cubicBezTo>
                  <a:pt x="11233" y="16587"/>
                  <a:pt x="11216" y="16632"/>
                  <a:pt x="11212" y="16718"/>
                </a:cubicBezTo>
                <a:cubicBezTo>
                  <a:pt x="11207" y="16813"/>
                  <a:pt x="11250" y="16877"/>
                  <a:pt x="11311" y="16942"/>
                </a:cubicBezTo>
                <a:cubicBezTo>
                  <a:pt x="11340" y="16973"/>
                  <a:pt x="11416" y="17020"/>
                  <a:pt x="11460" y="16991"/>
                </a:cubicBezTo>
                <a:cubicBezTo>
                  <a:pt x="11543" y="16936"/>
                  <a:pt x="11576" y="16807"/>
                  <a:pt x="11609" y="16718"/>
                </a:cubicBezTo>
                <a:cubicBezTo>
                  <a:pt x="11644" y="16623"/>
                  <a:pt x="11602" y="16580"/>
                  <a:pt x="11559" y="16495"/>
                </a:cubicBezTo>
                <a:cubicBezTo>
                  <a:pt x="11518" y="16413"/>
                  <a:pt x="11476" y="16376"/>
                  <a:pt x="11385" y="16371"/>
                </a:cubicBezTo>
                <a:cubicBezTo>
                  <a:pt x="11303" y="16366"/>
                  <a:pt x="11267" y="16395"/>
                  <a:pt x="11261" y="16470"/>
                </a:cubicBezTo>
                <a:cubicBezTo>
                  <a:pt x="11261" y="16505"/>
                  <a:pt x="11266" y="16523"/>
                  <a:pt x="11286" y="16545"/>
                </a:cubicBezTo>
              </a:path>
              <a:path w="4590" h="1043">
                <a:moveTo>
                  <a:pt x="11857" y="16321"/>
                </a:moveTo>
                <a:cubicBezTo>
                  <a:pt x="11771" y="16335"/>
                  <a:pt x="11806" y="16385"/>
                  <a:pt x="11832" y="16470"/>
                </a:cubicBezTo>
                <a:cubicBezTo>
                  <a:pt x="11867" y="16583"/>
                  <a:pt x="11937" y="16682"/>
                  <a:pt x="11981" y="16793"/>
                </a:cubicBezTo>
                <a:cubicBezTo>
                  <a:pt x="12013" y="16873"/>
                  <a:pt x="11992" y="16909"/>
                  <a:pt x="11981" y="16991"/>
                </a:cubicBezTo>
                <a:cubicBezTo>
                  <a:pt x="11932" y="16991"/>
                  <a:pt x="11865" y="17008"/>
                  <a:pt x="11832" y="16966"/>
                </a:cubicBezTo>
                <a:cubicBezTo>
                  <a:pt x="11769" y="16885"/>
                  <a:pt x="11783" y="16840"/>
                  <a:pt x="11807" y="16743"/>
                </a:cubicBezTo>
              </a:path>
              <a:path w="4590" h="1043">
                <a:moveTo>
                  <a:pt x="12229" y="16396"/>
                </a:moveTo>
                <a:cubicBezTo>
                  <a:pt x="12326" y="16584"/>
                  <a:pt x="12411" y="16758"/>
                  <a:pt x="12551" y="16917"/>
                </a:cubicBezTo>
                <a:cubicBezTo>
                  <a:pt x="12609" y="16983"/>
                  <a:pt x="12651" y="17004"/>
                  <a:pt x="12725" y="17041"/>
                </a:cubicBezTo>
              </a:path>
              <a:path w="4590" h="1043">
                <a:moveTo>
                  <a:pt x="12750" y="16421"/>
                </a:moveTo>
                <a:cubicBezTo>
                  <a:pt x="12632" y="16520"/>
                  <a:pt x="12528" y="16596"/>
                  <a:pt x="12427" y="16718"/>
                </a:cubicBezTo>
                <a:cubicBezTo>
                  <a:pt x="12349" y="16813"/>
                  <a:pt x="12278" y="16917"/>
                  <a:pt x="12204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85960" y="6116760"/>
            <a:ext cx="1768320" cy="733320"/>
          </a:xfrm>
          <a:custGeom>
            <a:avLst/>
            <a:gdLst/>
            <a:ahLst/>
            <a:rect l="l" t="t" r="r" b="b"/>
            <a:pathLst>
              <a:path w="4912" h="2035">
                <a:moveTo>
                  <a:pt x="5457" y="17165"/>
                </a:moveTo>
                <a:cubicBezTo>
                  <a:pt x="5430" y="17235"/>
                  <a:pt x="5432" y="17287"/>
                  <a:pt x="5432" y="17363"/>
                </a:cubicBezTo>
                <a:cubicBezTo>
                  <a:pt x="5432" y="17479"/>
                  <a:pt x="5432" y="17595"/>
                  <a:pt x="5432" y="17711"/>
                </a:cubicBezTo>
              </a:path>
              <a:path w="4912" h="2035">
                <a:moveTo>
                  <a:pt x="4961" y="17711"/>
                </a:moveTo>
                <a:cubicBezTo>
                  <a:pt x="5010" y="17740"/>
                  <a:pt x="5075" y="17762"/>
                  <a:pt x="5135" y="17785"/>
                </a:cubicBezTo>
                <a:cubicBezTo>
                  <a:pt x="5237" y="17825"/>
                  <a:pt x="5373" y="17872"/>
                  <a:pt x="5482" y="17884"/>
                </a:cubicBezTo>
                <a:cubicBezTo>
                  <a:pt x="5649" y="17903"/>
                  <a:pt x="5845" y="17896"/>
                  <a:pt x="6003" y="17859"/>
                </a:cubicBezTo>
                <a:cubicBezTo>
                  <a:pt x="6044" y="17850"/>
                  <a:pt x="6042" y="17850"/>
                  <a:pt x="6052" y="17810"/>
                </a:cubicBezTo>
              </a:path>
              <a:path w="4912" h="2035">
                <a:moveTo>
                  <a:pt x="5283" y="18132"/>
                </a:moveTo>
                <a:cubicBezTo>
                  <a:pt x="5232" y="18066"/>
                  <a:pt x="5221" y="18042"/>
                  <a:pt x="5135" y="18033"/>
                </a:cubicBezTo>
                <a:cubicBezTo>
                  <a:pt x="5102" y="18030"/>
                  <a:pt x="5068" y="18033"/>
                  <a:pt x="5035" y="18033"/>
                </a:cubicBezTo>
                <a:cubicBezTo>
                  <a:pt x="5035" y="18091"/>
                  <a:pt x="5057" y="18110"/>
                  <a:pt x="5085" y="18157"/>
                </a:cubicBezTo>
                <a:cubicBezTo>
                  <a:pt x="5126" y="18225"/>
                  <a:pt x="5190" y="18267"/>
                  <a:pt x="5234" y="18331"/>
                </a:cubicBezTo>
                <a:cubicBezTo>
                  <a:pt x="5253" y="18358"/>
                  <a:pt x="5312" y="18469"/>
                  <a:pt x="5308" y="18504"/>
                </a:cubicBezTo>
                <a:cubicBezTo>
                  <a:pt x="5302" y="18555"/>
                  <a:pt x="5230" y="18617"/>
                  <a:pt x="5184" y="18628"/>
                </a:cubicBezTo>
                <a:cubicBezTo>
                  <a:pt x="5138" y="18639"/>
                  <a:pt x="5069" y="18627"/>
                  <a:pt x="5035" y="18604"/>
                </a:cubicBezTo>
                <a:cubicBezTo>
                  <a:pt x="4985" y="18570"/>
                  <a:pt x="4986" y="18571"/>
                  <a:pt x="4986" y="18504"/>
                </a:cubicBezTo>
                <a:cubicBezTo>
                  <a:pt x="4986" y="18460"/>
                  <a:pt x="4983" y="18446"/>
                  <a:pt x="5011" y="18430"/>
                </a:cubicBezTo>
              </a:path>
              <a:path w="4912" h="2035">
                <a:moveTo>
                  <a:pt x="5556" y="18306"/>
                </a:moveTo>
                <a:cubicBezTo>
                  <a:pt x="5539" y="18422"/>
                  <a:pt x="5515" y="18538"/>
                  <a:pt x="5507" y="18653"/>
                </a:cubicBezTo>
                <a:cubicBezTo>
                  <a:pt x="5507" y="18678"/>
                  <a:pt x="5507" y="18686"/>
                  <a:pt x="5531" y="18678"/>
                </a:cubicBezTo>
              </a:path>
              <a:path w="4912" h="2035">
                <a:moveTo>
                  <a:pt x="5680" y="18008"/>
                </a:moveTo>
                <a:cubicBezTo>
                  <a:pt x="5688" y="18008"/>
                  <a:pt x="5697" y="18008"/>
                  <a:pt x="5705" y="18008"/>
                </a:cubicBezTo>
              </a:path>
              <a:path w="4912" h="2035">
                <a:moveTo>
                  <a:pt x="5680" y="18628"/>
                </a:moveTo>
                <a:cubicBezTo>
                  <a:pt x="5680" y="18645"/>
                  <a:pt x="5680" y="18661"/>
                  <a:pt x="5680" y="18678"/>
                </a:cubicBezTo>
                <a:cubicBezTo>
                  <a:pt x="5701" y="18650"/>
                  <a:pt x="5725" y="18590"/>
                  <a:pt x="5730" y="18554"/>
                </a:cubicBezTo>
                <a:cubicBezTo>
                  <a:pt x="5742" y="18468"/>
                  <a:pt x="5745" y="18387"/>
                  <a:pt x="5779" y="18306"/>
                </a:cubicBezTo>
                <a:cubicBezTo>
                  <a:pt x="5801" y="18253"/>
                  <a:pt x="5846" y="18189"/>
                  <a:pt x="5904" y="18182"/>
                </a:cubicBezTo>
                <a:cubicBezTo>
                  <a:pt x="5932" y="18179"/>
                  <a:pt x="5965" y="18251"/>
                  <a:pt x="5978" y="18281"/>
                </a:cubicBezTo>
                <a:cubicBezTo>
                  <a:pt x="6019" y="18381"/>
                  <a:pt x="6019" y="18479"/>
                  <a:pt x="6052" y="18579"/>
                </a:cubicBezTo>
                <a:cubicBezTo>
                  <a:pt x="6079" y="18660"/>
                  <a:pt x="6106" y="18672"/>
                  <a:pt x="6176" y="18703"/>
                </a:cubicBezTo>
              </a:path>
              <a:path w="4912" h="2035">
                <a:moveTo>
                  <a:pt x="6251" y="18281"/>
                </a:moveTo>
                <a:cubicBezTo>
                  <a:pt x="6318" y="18396"/>
                  <a:pt x="6359" y="18514"/>
                  <a:pt x="6424" y="18628"/>
                </a:cubicBezTo>
                <a:cubicBezTo>
                  <a:pt x="6474" y="18716"/>
                  <a:pt x="6513" y="18774"/>
                  <a:pt x="6598" y="18827"/>
                </a:cubicBezTo>
              </a:path>
              <a:path w="4912" h="2035">
                <a:moveTo>
                  <a:pt x="6623" y="18207"/>
                </a:moveTo>
                <a:cubicBezTo>
                  <a:pt x="6521" y="18287"/>
                  <a:pt x="6422" y="18371"/>
                  <a:pt x="6325" y="18455"/>
                </a:cubicBezTo>
                <a:cubicBezTo>
                  <a:pt x="6254" y="18516"/>
                  <a:pt x="6124" y="18615"/>
                  <a:pt x="6102" y="18703"/>
                </a:cubicBezTo>
              </a:path>
              <a:path w="4912" h="2035">
                <a:moveTo>
                  <a:pt x="6772" y="17959"/>
                </a:moveTo>
                <a:cubicBezTo>
                  <a:pt x="6918" y="17959"/>
                  <a:pt x="7088" y="17941"/>
                  <a:pt x="7218" y="17983"/>
                </a:cubicBezTo>
                <a:cubicBezTo>
                  <a:pt x="7226" y="17983"/>
                  <a:pt x="7235" y="17983"/>
                  <a:pt x="7243" y="17983"/>
                </a:cubicBezTo>
                <a:cubicBezTo>
                  <a:pt x="7276" y="17885"/>
                  <a:pt x="7397" y="17788"/>
                  <a:pt x="7466" y="17711"/>
                </a:cubicBezTo>
              </a:path>
              <a:path w="4912" h="2035">
                <a:moveTo>
                  <a:pt x="8161" y="17487"/>
                </a:moveTo>
                <a:cubicBezTo>
                  <a:pt x="8161" y="17495"/>
                  <a:pt x="8161" y="17504"/>
                  <a:pt x="8161" y="17512"/>
                </a:cubicBezTo>
                <a:cubicBezTo>
                  <a:pt x="8210" y="17496"/>
                  <a:pt x="8194" y="17455"/>
                  <a:pt x="8186" y="17413"/>
                </a:cubicBezTo>
                <a:cubicBezTo>
                  <a:pt x="8186" y="17388"/>
                  <a:pt x="8186" y="17380"/>
                  <a:pt x="8186" y="17363"/>
                </a:cubicBezTo>
                <a:cubicBezTo>
                  <a:pt x="8125" y="17363"/>
                  <a:pt x="8065" y="17352"/>
                  <a:pt x="8012" y="17388"/>
                </a:cubicBezTo>
                <a:cubicBezTo>
                  <a:pt x="7949" y="17430"/>
                  <a:pt x="7934" y="17477"/>
                  <a:pt x="7913" y="17537"/>
                </a:cubicBezTo>
                <a:cubicBezTo>
                  <a:pt x="7885" y="17616"/>
                  <a:pt x="7878" y="17656"/>
                  <a:pt x="7913" y="17735"/>
                </a:cubicBezTo>
                <a:cubicBezTo>
                  <a:pt x="7967" y="17856"/>
                  <a:pt x="8012" y="17909"/>
                  <a:pt x="8136" y="17909"/>
                </a:cubicBezTo>
                <a:cubicBezTo>
                  <a:pt x="8204" y="17909"/>
                  <a:pt x="8234" y="17896"/>
                  <a:pt x="8260" y="17835"/>
                </a:cubicBezTo>
              </a:path>
              <a:path w="4912" h="2035">
                <a:moveTo>
                  <a:pt x="8409" y="17487"/>
                </a:moveTo>
                <a:cubicBezTo>
                  <a:pt x="8388" y="17557"/>
                  <a:pt x="8384" y="17590"/>
                  <a:pt x="8384" y="17661"/>
                </a:cubicBezTo>
                <a:cubicBezTo>
                  <a:pt x="8384" y="17754"/>
                  <a:pt x="8414" y="17785"/>
                  <a:pt x="8458" y="17859"/>
                </a:cubicBezTo>
                <a:cubicBezTo>
                  <a:pt x="8501" y="17931"/>
                  <a:pt x="8525" y="17934"/>
                  <a:pt x="8607" y="17934"/>
                </a:cubicBezTo>
                <a:cubicBezTo>
                  <a:pt x="8665" y="17934"/>
                  <a:pt x="8677" y="17874"/>
                  <a:pt x="8706" y="17835"/>
                </a:cubicBezTo>
                <a:cubicBezTo>
                  <a:pt x="8739" y="17791"/>
                  <a:pt x="8768" y="17696"/>
                  <a:pt x="8756" y="17636"/>
                </a:cubicBezTo>
                <a:cubicBezTo>
                  <a:pt x="8746" y="17586"/>
                  <a:pt x="8711" y="17504"/>
                  <a:pt x="8682" y="17462"/>
                </a:cubicBezTo>
                <a:cubicBezTo>
                  <a:pt x="8661" y="17431"/>
                  <a:pt x="8593" y="17415"/>
                  <a:pt x="8558" y="17413"/>
                </a:cubicBezTo>
                <a:cubicBezTo>
                  <a:pt x="8461" y="17406"/>
                  <a:pt x="8375" y="17477"/>
                  <a:pt x="8334" y="17562"/>
                </a:cubicBezTo>
                <a:cubicBezTo>
                  <a:pt x="8334" y="17603"/>
                  <a:pt x="8334" y="17611"/>
                  <a:pt x="8334" y="17636"/>
                </a:cubicBezTo>
              </a:path>
              <a:path w="4912" h="2035">
                <a:moveTo>
                  <a:pt x="8954" y="17363"/>
                </a:moveTo>
                <a:cubicBezTo>
                  <a:pt x="8891" y="17369"/>
                  <a:pt x="8839" y="17363"/>
                  <a:pt x="8830" y="17438"/>
                </a:cubicBezTo>
                <a:cubicBezTo>
                  <a:pt x="8823" y="17498"/>
                  <a:pt x="8843" y="17539"/>
                  <a:pt x="8880" y="17587"/>
                </a:cubicBezTo>
                <a:cubicBezTo>
                  <a:pt x="8925" y="17645"/>
                  <a:pt x="8983" y="17705"/>
                  <a:pt x="9029" y="17760"/>
                </a:cubicBezTo>
                <a:cubicBezTo>
                  <a:pt x="9063" y="17800"/>
                  <a:pt x="9149" y="17845"/>
                  <a:pt x="9128" y="17909"/>
                </a:cubicBezTo>
                <a:cubicBezTo>
                  <a:pt x="9113" y="17954"/>
                  <a:pt x="9036" y="17984"/>
                  <a:pt x="9004" y="18008"/>
                </a:cubicBezTo>
                <a:cubicBezTo>
                  <a:pt x="8958" y="18043"/>
                  <a:pt x="8914" y="18033"/>
                  <a:pt x="8855" y="18033"/>
                </a:cubicBezTo>
                <a:cubicBezTo>
                  <a:pt x="8797" y="18033"/>
                  <a:pt x="8805" y="17973"/>
                  <a:pt x="8781" y="17934"/>
                </a:cubicBezTo>
              </a:path>
              <a:path w="4912" h="2035">
                <a:moveTo>
                  <a:pt x="9277" y="17512"/>
                </a:moveTo>
                <a:cubicBezTo>
                  <a:pt x="9322" y="17601"/>
                  <a:pt x="9364" y="17693"/>
                  <a:pt x="9401" y="17785"/>
                </a:cubicBezTo>
                <a:cubicBezTo>
                  <a:pt x="9445" y="17894"/>
                  <a:pt x="9480" y="17993"/>
                  <a:pt x="9550" y="18083"/>
                </a:cubicBezTo>
              </a:path>
              <a:path w="4912" h="2035">
                <a:moveTo>
                  <a:pt x="9624" y="17537"/>
                </a:moveTo>
                <a:cubicBezTo>
                  <a:pt x="9500" y="17691"/>
                  <a:pt x="9370" y="17849"/>
                  <a:pt x="9252" y="18008"/>
                </a:cubicBezTo>
                <a:cubicBezTo>
                  <a:pt x="9236" y="18033"/>
                  <a:pt x="9219" y="18058"/>
                  <a:pt x="9203" y="18083"/>
                </a:cubicBezTo>
              </a:path>
              <a:path w="4912" h="2035">
                <a:moveTo>
                  <a:pt x="8062" y="18157"/>
                </a:moveTo>
                <a:cubicBezTo>
                  <a:pt x="8173" y="18222"/>
                  <a:pt x="8260" y="18230"/>
                  <a:pt x="8384" y="18256"/>
                </a:cubicBezTo>
                <a:cubicBezTo>
                  <a:pt x="8518" y="18285"/>
                  <a:pt x="8645" y="18281"/>
                  <a:pt x="8781" y="18281"/>
                </a:cubicBezTo>
                <a:cubicBezTo>
                  <a:pt x="8974" y="18281"/>
                  <a:pt x="9163" y="18279"/>
                  <a:pt x="9351" y="18306"/>
                </a:cubicBezTo>
                <a:cubicBezTo>
                  <a:pt x="9395" y="18312"/>
                  <a:pt x="9520" y="18331"/>
                  <a:pt x="9475" y="18331"/>
                </a:cubicBezTo>
                <a:cubicBezTo>
                  <a:pt x="9451" y="18331"/>
                  <a:pt x="9442" y="18331"/>
                  <a:pt x="9426" y="18331"/>
                </a:cubicBezTo>
              </a:path>
              <a:path w="4912" h="2035">
                <a:moveTo>
                  <a:pt x="8359" y="18504"/>
                </a:moveTo>
                <a:cubicBezTo>
                  <a:pt x="8310" y="18482"/>
                  <a:pt x="8308" y="18479"/>
                  <a:pt x="8260" y="18479"/>
                </a:cubicBezTo>
                <a:cubicBezTo>
                  <a:pt x="8260" y="18568"/>
                  <a:pt x="8314" y="18627"/>
                  <a:pt x="8359" y="18703"/>
                </a:cubicBezTo>
                <a:cubicBezTo>
                  <a:pt x="8407" y="18784"/>
                  <a:pt x="8469" y="18854"/>
                  <a:pt x="8508" y="18926"/>
                </a:cubicBezTo>
                <a:cubicBezTo>
                  <a:pt x="8538" y="18956"/>
                  <a:pt x="8543" y="18970"/>
                  <a:pt x="8508" y="19000"/>
                </a:cubicBezTo>
                <a:cubicBezTo>
                  <a:pt x="8505" y="19001"/>
                  <a:pt x="8274" y="19051"/>
                  <a:pt x="8260" y="18951"/>
                </a:cubicBezTo>
                <a:cubicBezTo>
                  <a:pt x="8247" y="18863"/>
                  <a:pt x="8266" y="18843"/>
                  <a:pt x="8310" y="18777"/>
                </a:cubicBezTo>
              </a:path>
              <a:path w="4912" h="2035">
                <a:moveTo>
                  <a:pt x="8657" y="18604"/>
                </a:moveTo>
                <a:cubicBezTo>
                  <a:pt x="8661" y="18622"/>
                  <a:pt x="8682" y="18902"/>
                  <a:pt x="8706" y="18951"/>
                </a:cubicBezTo>
                <a:cubicBezTo>
                  <a:pt x="8734" y="18979"/>
                  <a:pt x="8743" y="18983"/>
                  <a:pt x="8731" y="18926"/>
                </a:cubicBezTo>
              </a:path>
              <a:path w="4912" h="2035">
                <a:moveTo>
                  <a:pt x="8781" y="18355"/>
                </a:moveTo>
                <a:cubicBezTo>
                  <a:pt x="8811" y="18363"/>
                  <a:pt x="8825" y="18372"/>
                  <a:pt x="8855" y="18380"/>
                </a:cubicBezTo>
              </a:path>
              <a:path w="4912" h="2035">
                <a:moveTo>
                  <a:pt x="8880" y="18802"/>
                </a:moveTo>
                <a:cubicBezTo>
                  <a:pt x="8880" y="18827"/>
                  <a:pt x="8880" y="18851"/>
                  <a:pt x="8880" y="18876"/>
                </a:cubicBezTo>
                <a:cubicBezTo>
                  <a:pt x="8880" y="18940"/>
                  <a:pt x="8904" y="18807"/>
                  <a:pt x="8905" y="18802"/>
                </a:cubicBezTo>
                <a:cubicBezTo>
                  <a:pt x="8918" y="18728"/>
                  <a:pt x="8941" y="18692"/>
                  <a:pt x="8979" y="18628"/>
                </a:cubicBezTo>
                <a:cubicBezTo>
                  <a:pt x="9005" y="18584"/>
                  <a:pt x="9024" y="18533"/>
                  <a:pt x="9079" y="18529"/>
                </a:cubicBezTo>
                <a:cubicBezTo>
                  <a:pt x="9204" y="18520"/>
                  <a:pt x="9234" y="18602"/>
                  <a:pt x="9277" y="18703"/>
                </a:cubicBezTo>
                <a:cubicBezTo>
                  <a:pt x="9320" y="18805"/>
                  <a:pt x="9241" y="19009"/>
                  <a:pt x="9351" y="19025"/>
                </a:cubicBezTo>
                <a:cubicBezTo>
                  <a:pt x="9425" y="18989"/>
                  <a:pt x="9458" y="19001"/>
                  <a:pt x="9451" y="18951"/>
                </a:cubicBezTo>
              </a:path>
              <a:path w="4912" h="2035">
                <a:moveTo>
                  <a:pt x="9500" y="18579"/>
                </a:moveTo>
                <a:cubicBezTo>
                  <a:pt x="9553" y="18691"/>
                  <a:pt x="9573" y="18817"/>
                  <a:pt x="9624" y="18926"/>
                </a:cubicBezTo>
                <a:cubicBezTo>
                  <a:pt x="9695" y="19030"/>
                  <a:pt x="9748" y="19051"/>
                  <a:pt x="9872" y="18976"/>
                </a:cubicBezTo>
              </a:path>
              <a:path w="4912" h="2035">
                <a:moveTo>
                  <a:pt x="9798" y="18504"/>
                </a:moveTo>
                <a:cubicBezTo>
                  <a:pt x="9677" y="18589"/>
                  <a:pt x="9561" y="18658"/>
                  <a:pt x="9475" y="18777"/>
                </a:cubicBezTo>
                <a:cubicBezTo>
                  <a:pt x="9466" y="18790"/>
                  <a:pt x="9326" y="18999"/>
                  <a:pt x="9327" y="19000"/>
                </a:cubicBezTo>
                <a:cubicBezTo>
                  <a:pt x="9352" y="19000"/>
                  <a:pt x="9376" y="19000"/>
                  <a:pt x="9401" y="19000"/>
                </a:cubicBezTo>
              </a:path>
              <a:path w="4912" h="2035">
                <a:moveTo>
                  <a:pt x="9128" y="17066"/>
                </a:moveTo>
                <a:cubicBezTo>
                  <a:pt x="9153" y="17066"/>
                  <a:pt x="9161" y="17066"/>
                  <a:pt x="9153" y="17090"/>
                </a:cubicBezTo>
                <a:cubicBezTo>
                  <a:pt x="9140" y="17086"/>
                  <a:pt x="9098" y="17040"/>
                  <a:pt x="9128" y="17016"/>
                </a:cubicBezTo>
                <a:cubicBezTo>
                  <a:pt x="9139" y="17007"/>
                  <a:pt x="9173" y="16974"/>
                  <a:pt x="9203" y="16991"/>
                </a:cubicBezTo>
                <a:cubicBezTo>
                  <a:pt x="9216" y="16998"/>
                  <a:pt x="9270" y="17075"/>
                  <a:pt x="9277" y="17090"/>
                </a:cubicBezTo>
                <a:cubicBezTo>
                  <a:pt x="9300" y="17141"/>
                  <a:pt x="9283" y="17250"/>
                  <a:pt x="9252" y="17289"/>
                </a:cubicBezTo>
                <a:cubicBezTo>
                  <a:pt x="9223" y="17325"/>
                  <a:pt x="9173" y="17385"/>
                  <a:pt x="9128" y="17388"/>
                </a:cubicBezTo>
                <a:cubicBezTo>
                  <a:pt x="9066" y="17393"/>
                  <a:pt x="9055" y="17369"/>
                  <a:pt x="9004" y="17363"/>
                </a:cubicBezTo>
                <a:cubicBezTo>
                  <a:pt x="8953" y="17357"/>
                  <a:pt x="8978" y="17316"/>
                  <a:pt x="8979" y="17314"/>
                </a:cubicBezTo>
                <a:cubicBezTo>
                  <a:pt x="8986" y="17292"/>
                  <a:pt x="9018" y="17269"/>
                  <a:pt x="9054" y="17289"/>
                </a:cubicBezTo>
                <a:cubicBezTo>
                  <a:pt x="9097" y="17313"/>
                  <a:pt x="9138" y="17340"/>
                  <a:pt x="9178" y="17363"/>
                </a:cubicBezTo>
                <a:cubicBezTo>
                  <a:pt x="9236" y="17396"/>
                  <a:pt x="9271" y="17455"/>
                  <a:pt x="9327" y="17487"/>
                </a:cubicBezTo>
                <a:cubicBezTo>
                  <a:pt x="9363" y="17508"/>
                  <a:pt x="9388" y="17527"/>
                  <a:pt x="9401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6153120"/>
            <a:ext cx="1527120" cy="696960"/>
          </a:xfrm>
          <a:custGeom>
            <a:avLst/>
            <a:gdLst/>
            <a:ahLst/>
            <a:rect l="l" t="t" r="r" b="b"/>
            <a:pathLst>
              <a:path w="4242" h="1936">
                <a:moveTo>
                  <a:pt x="10517" y="17959"/>
                </a:moveTo>
                <a:cubicBezTo>
                  <a:pt x="10575" y="17959"/>
                  <a:pt x="10633" y="17959"/>
                  <a:pt x="10691" y="17959"/>
                </a:cubicBezTo>
              </a:path>
              <a:path w="4242" h="1936">
                <a:moveTo>
                  <a:pt x="10468" y="18107"/>
                </a:moveTo>
                <a:cubicBezTo>
                  <a:pt x="10604" y="18164"/>
                  <a:pt x="10669" y="18182"/>
                  <a:pt x="10815" y="18182"/>
                </a:cubicBezTo>
              </a:path>
              <a:path w="4242" h="1936">
                <a:moveTo>
                  <a:pt x="11385" y="17338"/>
                </a:moveTo>
                <a:cubicBezTo>
                  <a:pt x="11385" y="17515"/>
                  <a:pt x="11381" y="17690"/>
                  <a:pt x="11361" y="17859"/>
                </a:cubicBezTo>
                <a:cubicBezTo>
                  <a:pt x="11355" y="17906"/>
                  <a:pt x="11361" y="17960"/>
                  <a:pt x="11361" y="18008"/>
                </a:cubicBezTo>
              </a:path>
              <a:path w="4242" h="1936">
                <a:moveTo>
                  <a:pt x="11609" y="17587"/>
                </a:moveTo>
                <a:cubicBezTo>
                  <a:pt x="11737" y="17587"/>
                  <a:pt x="11780" y="17600"/>
                  <a:pt x="11881" y="17562"/>
                </a:cubicBezTo>
              </a:path>
              <a:path w="4242" h="1936">
                <a:moveTo>
                  <a:pt x="12254" y="17537"/>
                </a:moveTo>
                <a:cubicBezTo>
                  <a:pt x="12254" y="17471"/>
                  <a:pt x="12247" y="17468"/>
                  <a:pt x="12179" y="17462"/>
                </a:cubicBezTo>
                <a:cubicBezTo>
                  <a:pt x="12124" y="17457"/>
                  <a:pt x="12090" y="17502"/>
                  <a:pt x="12055" y="17537"/>
                </a:cubicBezTo>
                <a:cubicBezTo>
                  <a:pt x="12000" y="17592"/>
                  <a:pt x="11983" y="17653"/>
                  <a:pt x="12005" y="17735"/>
                </a:cubicBezTo>
                <a:cubicBezTo>
                  <a:pt x="12017" y="17782"/>
                  <a:pt x="12091" y="17914"/>
                  <a:pt x="12129" y="17934"/>
                </a:cubicBezTo>
                <a:cubicBezTo>
                  <a:pt x="12146" y="17934"/>
                  <a:pt x="12162" y="17934"/>
                  <a:pt x="12179" y="17934"/>
                </a:cubicBezTo>
              </a:path>
              <a:path w="4242" h="1936">
                <a:moveTo>
                  <a:pt x="12502" y="17512"/>
                </a:moveTo>
                <a:cubicBezTo>
                  <a:pt x="12423" y="17591"/>
                  <a:pt x="12390" y="17651"/>
                  <a:pt x="12427" y="17785"/>
                </a:cubicBezTo>
                <a:cubicBezTo>
                  <a:pt x="12441" y="17836"/>
                  <a:pt x="12549" y="17944"/>
                  <a:pt x="12601" y="17959"/>
                </a:cubicBezTo>
                <a:cubicBezTo>
                  <a:pt x="12677" y="17980"/>
                  <a:pt x="12713" y="17938"/>
                  <a:pt x="12750" y="17884"/>
                </a:cubicBezTo>
                <a:cubicBezTo>
                  <a:pt x="12804" y="17805"/>
                  <a:pt x="12830" y="17725"/>
                  <a:pt x="12799" y="17636"/>
                </a:cubicBezTo>
                <a:cubicBezTo>
                  <a:pt x="12759" y="17522"/>
                  <a:pt x="12719" y="17449"/>
                  <a:pt x="12601" y="17413"/>
                </a:cubicBezTo>
                <a:cubicBezTo>
                  <a:pt x="12562" y="17401"/>
                  <a:pt x="12560" y="17412"/>
                  <a:pt x="12551" y="17438"/>
                </a:cubicBezTo>
              </a:path>
              <a:path w="4242" h="1936">
                <a:moveTo>
                  <a:pt x="12874" y="17338"/>
                </a:moveTo>
                <a:cubicBezTo>
                  <a:pt x="12852" y="17393"/>
                  <a:pt x="12888" y="17495"/>
                  <a:pt x="12923" y="17562"/>
                </a:cubicBezTo>
                <a:cubicBezTo>
                  <a:pt x="12960" y="17634"/>
                  <a:pt x="13097" y="17752"/>
                  <a:pt x="13097" y="17835"/>
                </a:cubicBezTo>
                <a:cubicBezTo>
                  <a:pt x="13097" y="17912"/>
                  <a:pt x="13054" y="17909"/>
                  <a:pt x="12998" y="17909"/>
                </a:cubicBezTo>
                <a:cubicBezTo>
                  <a:pt x="12933" y="17909"/>
                  <a:pt x="12904" y="17860"/>
                  <a:pt x="12874" y="17810"/>
                </a:cubicBezTo>
                <a:cubicBezTo>
                  <a:pt x="12866" y="17793"/>
                  <a:pt x="12857" y="17777"/>
                  <a:pt x="12849" y="17760"/>
                </a:cubicBezTo>
              </a:path>
              <a:path w="4242" h="1936">
                <a:moveTo>
                  <a:pt x="13122" y="17090"/>
                </a:moveTo>
                <a:cubicBezTo>
                  <a:pt x="13275" y="17099"/>
                  <a:pt x="13312" y="17104"/>
                  <a:pt x="13395" y="17239"/>
                </a:cubicBezTo>
                <a:cubicBezTo>
                  <a:pt x="13425" y="17288"/>
                  <a:pt x="13419" y="17379"/>
                  <a:pt x="13370" y="17413"/>
                </a:cubicBezTo>
                <a:cubicBezTo>
                  <a:pt x="13347" y="17429"/>
                  <a:pt x="13265" y="17438"/>
                  <a:pt x="13320" y="17438"/>
                </a:cubicBezTo>
              </a:path>
              <a:path w="4242" h="1936">
                <a:moveTo>
                  <a:pt x="13519" y="17413"/>
                </a:moveTo>
                <a:cubicBezTo>
                  <a:pt x="13593" y="17487"/>
                  <a:pt x="13661" y="17546"/>
                  <a:pt x="13742" y="17611"/>
                </a:cubicBezTo>
                <a:cubicBezTo>
                  <a:pt x="13796" y="17654"/>
                  <a:pt x="13832" y="17636"/>
                  <a:pt x="13891" y="17611"/>
                </a:cubicBezTo>
              </a:path>
              <a:path w="4242" h="1936">
                <a:moveTo>
                  <a:pt x="13841" y="17413"/>
                </a:moveTo>
                <a:cubicBezTo>
                  <a:pt x="13869" y="17539"/>
                  <a:pt x="13887" y="17660"/>
                  <a:pt x="13915" y="17785"/>
                </a:cubicBezTo>
                <a:cubicBezTo>
                  <a:pt x="13933" y="17865"/>
                  <a:pt x="13957" y="17934"/>
                  <a:pt x="13990" y="18008"/>
                </a:cubicBezTo>
              </a:path>
              <a:path w="4242" h="1936">
                <a:moveTo>
                  <a:pt x="13915" y="17413"/>
                </a:moveTo>
                <a:cubicBezTo>
                  <a:pt x="13749" y="17513"/>
                  <a:pt x="13688" y="17591"/>
                  <a:pt x="13568" y="17735"/>
                </a:cubicBezTo>
                <a:cubicBezTo>
                  <a:pt x="13498" y="17806"/>
                  <a:pt x="13476" y="17827"/>
                  <a:pt x="13444" y="17884"/>
                </a:cubicBezTo>
              </a:path>
              <a:path w="4242" h="1936">
                <a:moveTo>
                  <a:pt x="13568" y="17388"/>
                </a:moveTo>
                <a:cubicBezTo>
                  <a:pt x="13632" y="17451"/>
                  <a:pt x="13703" y="17500"/>
                  <a:pt x="13767" y="17562"/>
                </a:cubicBezTo>
                <a:cubicBezTo>
                  <a:pt x="13869" y="17660"/>
                  <a:pt x="13947" y="17778"/>
                  <a:pt x="14039" y="17884"/>
                </a:cubicBezTo>
                <a:cubicBezTo>
                  <a:pt x="14084" y="17937"/>
                  <a:pt x="14119" y="17983"/>
                  <a:pt x="14188" y="17983"/>
                </a:cubicBezTo>
              </a:path>
              <a:path w="4242" h="1936">
                <a:moveTo>
                  <a:pt x="14089" y="17438"/>
                </a:moveTo>
                <a:cubicBezTo>
                  <a:pt x="14013" y="17475"/>
                  <a:pt x="13953" y="17504"/>
                  <a:pt x="13891" y="17562"/>
                </a:cubicBezTo>
                <a:cubicBezTo>
                  <a:pt x="13826" y="17623"/>
                  <a:pt x="13743" y="17697"/>
                  <a:pt x="13692" y="17760"/>
                </a:cubicBezTo>
                <a:cubicBezTo>
                  <a:pt x="13643" y="17820"/>
                  <a:pt x="13600" y="17857"/>
                  <a:pt x="13543" y="17909"/>
                </a:cubicBezTo>
                <a:cubicBezTo>
                  <a:pt x="13535" y="17917"/>
                  <a:pt x="13527" y="17926"/>
                  <a:pt x="13519" y="17934"/>
                </a:cubicBezTo>
              </a:path>
              <a:path w="4242" h="1936">
                <a:moveTo>
                  <a:pt x="11633" y="18033"/>
                </a:moveTo>
                <a:cubicBezTo>
                  <a:pt x="11723" y="18044"/>
                  <a:pt x="11813" y="18046"/>
                  <a:pt x="11906" y="18058"/>
                </a:cubicBezTo>
                <a:cubicBezTo>
                  <a:pt x="12104" y="18083"/>
                  <a:pt x="12303" y="18086"/>
                  <a:pt x="12502" y="18107"/>
                </a:cubicBezTo>
                <a:cubicBezTo>
                  <a:pt x="12716" y="18130"/>
                  <a:pt x="12932" y="18165"/>
                  <a:pt x="13146" y="18182"/>
                </a:cubicBezTo>
                <a:cubicBezTo>
                  <a:pt x="13254" y="18190"/>
                  <a:pt x="13446" y="18213"/>
                  <a:pt x="13543" y="18157"/>
                </a:cubicBezTo>
                <a:cubicBezTo>
                  <a:pt x="13551" y="18149"/>
                  <a:pt x="13560" y="18140"/>
                  <a:pt x="13568" y="18132"/>
                </a:cubicBezTo>
              </a:path>
              <a:path w="4242" h="1936">
                <a:moveTo>
                  <a:pt x="12675" y="18157"/>
                </a:moveTo>
                <a:cubicBezTo>
                  <a:pt x="12663" y="18159"/>
                  <a:pt x="12419" y="18188"/>
                  <a:pt x="12402" y="18231"/>
                </a:cubicBezTo>
                <a:cubicBezTo>
                  <a:pt x="12374" y="18302"/>
                  <a:pt x="12436" y="18361"/>
                  <a:pt x="12477" y="18405"/>
                </a:cubicBezTo>
                <a:cubicBezTo>
                  <a:pt x="12548" y="18481"/>
                  <a:pt x="12623" y="18564"/>
                  <a:pt x="12675" y="18653"/>
                </a:cubicBezTo>
                <a:cubicBezTo>
                  <a:pt x="12710" y="18713"/>
                  <a:pt x="12705" y="18779"/>
                  <a:pt x="12650" y="18827"/>
                </a:cubicBezTo>
                <a:cubicBezTo>
                  <a:pt x="12622" y="18851"/>
                  <a:pt x="12536" y="18869"/>
                  <a:pt x="12502" y="18852"/>
                </a:cubicBezTo>
                <a:cubicBezTo>
                  <a:pt x="12401" y="18801"/>
                  <a:pt x="12427" y="18698"/>
                  <a:pt x="12427" y="18604"/>
                </a:cubicBezTo>
              </a:path>
              <a:path w="4242" h="1936">
                <a:moveTo>
                  <a:pt x="12799" y="18728"/>
                </a:moveTo>
                <a:cubicBezTo>
                  <a:pt x="12836" y="18973"/>
                  <a:pt x="12792" y="18925"/>
                  <a:pt x="12849" y="18852"/>
                </a:cubicBezTo>
              </a:path>
              <a:path w="4242" h="1936">
                <a:moveTo>
                  <a:pt x="12898" y="18331"/>
                </a:moveTo>
                <a:cubicBezTo>
                  <a:pt x="12973" y="18301"/>
                  <a:pt x="12974" y="18339"/>
                  <a:pt x="13047" y="18405"/>
                </a:cubicBezTo>
              </a:path>
              <a:path w="4242" h="1936">
                <a:moveTo>
                  <a:pt x="12998" y="18876"/>
                </a:moveTo>
                <a:cubicBezTo>
                  <a:pt x="13037" y="18903"/>
                  <a:pt x="13041" y="18860"/>
                  <a:pt x="13072" y="18802"/>
                </a:cubicBezTo>
                <a:cubicBezTo>
                  <a:pt x="13118" y="18715"/>
                  <a:pt x="13135" y="18619"/>
                  <a:pt x="13171" y="18529"/>
                </a:cubicBezTo>
                <a:cubicBezTo>
                  <a:pt x="13226" y="18597"/>
                  <a:pt x="13236" y="18672"/>
                  <a:pt x="13271" y="18752"/>
                </a:cubicBezTo>
                <a:cubicBezTo>
                  <a:pt x="13344" y="18920"/>
                  <a:pt x="13318" y="19001"/>
                  <a:pt x="13494" y="19000"/>
                </a:cubicBezTo>
              </a:path>
              <a:path w="4242" h="1936">
                <a:moveTo>
                  <a:pt x="13494" y="18405"/>
                </a:moveTo>
                <a:cubicBezTo>
                  <a:pt x="13557" y="18544"/>
                  <a:pt x="13620" y="18693"/>
                  <a:pt x="13692" y="18827"/>
                </a:cubicBezTo>
                <a:cubicBezTo>
                  <a:pt x="13709" y="18852"/>
                  <a:pt x="13725" y="18876"/>
                  <a:pt x="13742" y="18901"/>
                </a:cubicBezTo>
              </a:path>
              <a:path w="4242" h="1936">
                <a:moveTo>
                  <a:pt x="13767" y="18405"/>
                </a:moveTo>
                <a:cubicBezTo>
                  <a:pt x="13609" y="18518"/>
                  <a:pt x="13531" y="18581"/>
                  <a:pt x="13444" y="18752"/>
                </a:cubicBezTo>
                <a:cubicBezTo>
                  <a:pt x="13346" y="18944"/>
                  <a:pt x="13364" y="18916"/>
                  <a:pt x="13543" y="18926"/>
                </a:cubicBezTo>
              </a:path>
              <a:path w="4242" h="1936">
                <a:moveTo>
                  <a:pt x="14412" y="18331"/>
                </a:moveTo>
                <a:cubicBezTo>
                  <a:pt x="14478" y="18331"/>
                  <a:pt x="14626" y="18331"/>
                  <a:pt x="14560" y="18331"/>
                </a:cubicBezTo>
              </a:path>
              <a:path w="4242" h="1936">
                <a:moveTo>
                  <a:pt x="14511" y="18529"/>
                </a:moveTo>
                <a:cubicBezTo>
                  <a:pt x="14577" y="18562"/>
                  <a:pt x="14643" y="18595"/>
                  <a:pt x="14709" y="186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1800" y="6045120"/>
            <a:ext cx="1892160" cy="804960"/>
          </a:xfrm>
          <a:custGeom>
            <a:avLst/>
            <a:gdLst/>
            <a:ahLst/>
            <a:rect l="l" t="t" r="r" b="b"/>
            <a:pathLst>
              <a:path w="5260" h="2233">
                <a:moveTo>
                  <a:pt x="15701" y="17239"/>
                </a:moveTo>
                <a:cubicBezTo>
                  <a:pt x="15680" y="17234"/>
                  <a:pt x="15586" y="17186"/>
                  <a:pt x="15577" y="17190"/>
                </a:cubicBezTo>
                <a:cubicBezTo>
                  <a:pt x="15551" y="17200"/>
                  <a:pt x="15550" y="17222"/>
                  <a:pt x="15528" y="17239"/>
                </a:cubicBezTo>
                <a:cubicBezTo>
                  <a:pt x="15540" y="17320"/>
                  <a:pt x="15561" y="17342"/>
                  <a:pt x="15602" y="17413"/>
                </a:cubicBezTo>
                <a:cubicBezTo>
                  <a:pt x="15684" y="17556"/>
                  <a:pt x="15774" y="17647"/>
                  <a:pt x="15801" y="17810"/>
                </a:cubicBezTo>
                <a:cubicBezTo>
                  <a:pt x="15809" y="17856"/>
                  <a:pt x="15784" y="17942"/>
                  <a:pt x="15726" y="17959"/>
                </a:cubicBezTo>
                <a:cubicBezTo>
                  <a:pt x="15682" y="17972"/>
                  <a:pt x="15602" y="17920"/>
                  <a:pt x="15577" y="17884"/>
                </a:cubicBezTo>
                <a:cubicBezTo>
                  <a:pt x="15523" y="17808"/>
                  <a:pt x="15510" y="17725"/>
                  <a:pt x="15503" y="17636"/>
                </a:cubicBezTo>
              </a:path>
              <a:path w="5260" h="2233">
                <a:moveTo>
                  <a:pt x="15949" y="17338"/>
                </a:moveTo>
                <a:cubicBezTo>
                  <a:pt x="15964" y="17460"/>
                  <a:pt x="15958" y="17644"/>
                  <a:pt x="15999" y="17760"/>
                </a:cubicBezTo>
                <a:cubicBezTo>
                  <a:pt x="16022" y="17783"/>
                  <a:pt x="16030" y="17794"/>
                  <a:pt x="16024" y="17760"/>
                </a:cubicBezTo>
              </a:path>
              <a:path w="5260" h="2233">
                <a:moveTo>
                  <a:pt x="15900" y="16867"/>
                </a:moveTo>
                <a:cubicBezTo>
                  <a:pt x="15980" y="16832"/>
                  <a:pt x="15955" y="16839"/>
                  <a:pt x="16049" y="16867"/>
                </a:cubicBezTo>
              </a:path>
              <a:path w="5260" h="2233">
                <a:moveTo>
                  <a:pt x="16123" y="17413"/>
                </a:moveTo>
                <a:cubicBezTo>
                  <a:pt x="16161" y="17512"/>
                  <a:pt x="16197" y="17582"/>
                  <a:pt x="16197" y="17686"/>
                </a:cubicBezTo>
                <a:cubicBezTo>
                  <a:pt x="16241" y="17671"/>
                  <a:pt x="16222" y="17615"/>
                  <a:pt x="16222" y="17562"/>
                </a:cubicBezTo>
                <a:cubicBezTo>
                  <a:pt x="16222" y="17462"/>
                  <a:pt x="16226" y="17396"/>
                  <a:pt x="16247" y="17314"/>
                </a:cubicBezTo>
                <a:cubicBezTo>
                  <a:pt x="16315" y="17314"/>
                  <a:pt x="16353" y="17359"/>
                  <a:pt x="16396" y="17413"/>
                </a:cubicBezTo>
                <a:cubicBezTo>
                  <a:pt x="16471" y="17508"/>
                  <a:pt x="16504" y="17632"/>
                  <a:pt x="16570" y="17735"/>
                </a:cubicBezTo>
                <a:cubicBezTo>
                  <a:pt x="16608" y="17794"/>
                  <a:pt x="16619" y="17897"/>
                  <a:pt x="16619" y="17810"/>
                </a:cubicBezTo>
                <a:cubicBezTo>
                  <a:pt x="16619" y="17752"/>
                  <a:pt x="16619" y="17727"/>
                  <a:pt x="16619" y="17686"/>
                </a:cubicBezTo>
              </a:path>
              <a:path w="5260" h="2233">
                <a:moveTo>
                  <a:pt x="16594" y="16818"/>
                </a:moveTo>
                <a:cubicBezTo>
                  <a:pt x="16670" y="16804"/>
                  <a:pt x="16775" y="16800"/>
                  <a:pt x="16842" y="16867"/>
                </a:cubicBezTo>
                <a:cubicBezTo>
                  <a:pt x="16864" y="16911"/>
                  <a:pt x="16867" y="16923"/>
                  <a:pt x="16892" y="16942"/>
                </a:cubicBezTo>
                <a:cubicBezTo>
                  <a:pt x="16849" y="16976"/>
                  <a:pt x="16807" y="17002"/>
                  <a:pt x="16768" y="17041"/>
                </a:cubicBezTo>
                <a:cubicBezTo>
                  <a:pt x="16719" y="17090"/>
                  <a:pt x="16754" y="17143"/>
                  <a:pt x="16793" y="17190"/>
                </a:cubicBezTo>
                <a:cubicBezTo>
                  <a:pt x="16836" y="17242"/>
                  <a:pt x="16884" y="17260"/>
                  <a:pt x="16942" y="17289"/>
                </a:cubicBezTo>
              </a:path>
              <a:path w="5260" h="2233">
                <a:moveTo>
                  <a:pt x="17066" y="17165"/>
                </a:moveTo>
                <a:cubicBezTo>
                  <a:pt x="17124" y="17319"/>
                  <a:pt x="17198" y="17459"/>
                  <a:pt x="17264" y="17611"/>
                </a:cubicBezTo>
                <a:cubicBezTo>
                  <a:pt x="17313" y="17725"/>
                  <a:pt x="17365" y="17787"/>
                  <a:pt x="17438" y="17884"/>
                </a:cubicBezTo>
              </a:path>
              <a:path w="5260" h="2233">
                <a:moveTo>
                  <a:pt x="17462" y="17314"/>
                </a:moveTo>
                <a:cubicBezTo>
                  <a:pt x="17229" y="17493"/>
                  <a:pt x="17108" y="17592"/>
                  <a:pt x="16942" y="17810"/>
                </a:cubicBezTo>
                <a:cubicBezTo>
                  <a:pt x="16895" y="17879"/>
                  <a:pt x="16883" y="17899"/>
                  <a:pt x="16842" y="17934"/>
                </a:cubicBezTo>
              </a:path>
              <a:path w="5260" h="2233">
                <a:moveTo>
                  <a:pt x="17214" y="18083"/>
                </a:moveTo>
                <a:cubicBezTo>
                  <a:pt x="17048" y="18053"/>
                  <a:pt x="16887" y="18058"/>
                  <a:pt x="16718" y="18058"/>
                </a:cubicBezTo>
                <a:cubicBezTo>
                  <a:pt x="16549" y="18058"/>
                  <a:pt x="16388" y="18072"/>
                  <a:pt x="16222" y="18083"/>
                </a:cubicBezTo>
                <a:cubicBezTo>
                  <a:pt x="16092" y="18092"/>
                  <a:pt x="15951" y="18074"/>
                  <a:pt x="15825" y="18107"/>
                </a:cubicBezTo>
                <a:cubicBezTo>
                  <a:pt x="15809" y="18115"/>
                  <a:pt x="15792" y="18124"/>
                  <a:pt x="15776" y="18132"/>
                </a:cubicBezTo>
                <a:cubicBezTo>
                  <a:pt x="15776" y="18196"/>
                  <a:pt x="15764" y="18197"/>
                  <a:pt x="15825" y="18231"/>
                </a:cubicBezTo>
                <a:cubicBezTo>
                  <a:pt x="15882" y="18259"/>
                  <a:pt x="15905" y="18270"/>
                  <a:pt x="15949" y="18281"/>
                </a:cubicBezTo>
              </a:path>
              <a:path w="5260" h="2233">
                <a:moveTo>
                  <a:pt x="16594" y="18455"/>
                </a:moveTo>
                <a:cubicBezTo>
                  <a:pt x="16517" y="18384"/>
                  <a:pt x="16452" y="18317"/>
                  <a:pt x="16346" y="18306"/>
                </a:cubicBezTo>
                <a:cubicBezTo>
                  <a:pt x="16330" y="18306"/>
                  <a:pt x="16313" y="18306"/>
                  <a:pt x="16297" y="18306"/>
                </a:cubicBezTo>
                <a:cubicBezTo>
                  <a:pt x="16297" y="18376"/>
                  <a:pt x="16304" y="18470"/>
                  <a:pt x="16346" y="18529"/>
                </a:cubicBezTo>
                <a:cubicBezTo>
                  <a:pt x="16445" y="18669"/>
                  <a:pt x="16519" y="18779"/>
                  <a:pt x="16570" y="18951"/>
                </a:cubicBezTo>
                <a:cubicBezTo>
                  <a:pt x="16570" y="18979"/>
                  <a:pt x="16568" y="18990"/>
                  <a:pt x="16545" y="19000"/>
                </a:cubicBezTo>
                <a:cubicBezTo>
                  <a:pt x="16478" y="18987"/>
                  <a:pt x="16417" y="18982"/>
                  <a:pt x="16371" y="18926"/>
                </a:cubicBezTo>
                <a:cubicBezTo>
                  <a:pt x="16327" y="18871"/>
                  <a:pt x="16305" y="18794"/>
                  <a:pt x="16297" y="18728"/>
                </a:cubicBezTo>
              </a:path>
              <a:path w="5260" h="2233">
                <a:moveTo>
                  <a:pt x="16842" y="18653"/>
                </a:moveTo>
                <a:cubicBezTo>
                  <a:pt x="16835" y="18757"/>
                  <a:pt x="16818" y="18845"/>
                  <a:pt x="16818" y="18951"/>
                </a:cubicBezTo>
                <a:cubicBezTo>
                  <a:pt x="16818" y="18959"/>
                  <a:pt x="16818" y="18968"/>
                  <a:pt x="16818" y="18976"/>
                </a:cubicBezTo>
              </a:path>
              <a:path w="5260" h="2233">
                <a:moveTo>
                  <a:pt x="16917" y="18231"/>
                </a:moveTo>
                <a:cubicBezTo>
                  <a:pt x="16933" y="18248"/>
                  <a:pt x="16950" y="18264"/>
                  <a:pt x="16966" y="18281"/>
                </a:cubicBezTo>
              </a:path>
              <a:path w="5260" h="2233">
                <a:moveTo>
                  <a:pt x="17041" y="18752"/>
                </a:moveTo>
                <a:cubicBezTo>
                  <a:pt x="17041" y="18863"/>
                  <a:pt x="17014" y="18886"/>
                  <a:pt x="17066" y="18926"/>
                </a:cubicBezTo>
                <a:cubicBezTo>
                  <a:pt x="17104" y="18847"/>
                  <a:pt x="17148" y="18722"/>
                  <a:pt x="17165" y="18628"/>
                </a:cubicBezTo>
                <a:cubicBezTo>
                  <a:pt x="17175" y="18571"/>
                  <a:pt x="17177" y="18551"/>
                  <a:pt x="17214" y="18504"/>
                </a:cubicBezTo>
                <a:cubicBezTo>
                  <a:pt x="17238" y="18565"/>
                  <a:pt x="17284" y="18635"/>
                  <a:pt x="17314" y="18703"/>
                </a:cubicBezTo>
                <a:cubicBezTo>
                  <a:pt x="17353" y="18790"/>
                  <a:pt x="17404" y="18876"/>
                  <a:pt x="17462" y="18951"/>
                </a:cubicBezTo>
              </a:path>
              <a:path w="5260" h="2233">
                <a:moveTo>
                  <a:pt x="17512" y="18479"/>
                </a:moveTo>
                <a:cubicBezTo>
                  <a:pt x="17622" y="18598"/>
                  <a:pt x="17669" y="18682"/>
                  <a:pt x="17735" y="18827"/>
                </a:cubicBezTo>
                <a:cubicBezTo>
                  <a:pt x="17772" y="18908"/>
                  <a:pt x="17800" y="18941"/>
                  <a:pt x="17859" y="19000"/>
                </a:cubicBezTo>
              </a:path>
              <a:path w="5260" h="2233">
                <a:moveTo>
                  <a:pt x="17909" y="18504"/>
                </a:moveTo>
                <a:cubicBezTo>
                  <a:pt x="17776" y="18602"/>
                  <a:pt x="17695" y="18665"/>
                  <a:pt x="17636" y="18827"/>
                </a:cubicBezTo>
                <a:cubicBezTo>
                  <a:pt x="17608" y="18905"/>
                  <a:pt x="17635" y="19025"/>
                  <a:pt x="17537" y="19025"/>
                </a:cubicBezTo>
              </a:path>
              <a:path w="5260" h="2233">
                <a:moveTo>
                  <a:pt x="17983" y="18083"/>
                </a:moveTo>
                <a:cubicBezTo>
                  <a:pt x="18174" y="18088"/>
                  <a:pt x="18303" y="18112"/>
                  <a:pt x="18479" y="18132"/>
                </a:cubicBezTo>
              </a:path>
              <a:path w="5260" h="2233">
                <a:moveTo>
                  <a:pt x="18132" y="18256"/>
                </a:moveTo>
                <a:cubicBezTo>
                  <a:pt x="18195" y="18315"/>
                  <a:pt x="18357" y="18495"/>
                  <a:pt x="18455" y="18504"/>
                </a:cubicBezTo>
                <a:cubicBezTo>
                  <a:pt x="18488" y="18496"/>
                  <a:pt x="18521" y="18487"/>
                  <a:pt x="18554" y="18479"/>
                </a:cubicBezTo>
              </a:path>
              <a:path w="5260" h="2233">
                <a:moveTo>
                  <a:pt x="19273" y="17959"/>
                </a:moveTo>
                <a:cubicBezTo>
                  <a:pt x="19234" y="17905"/>
                  <a:pt x="19047" y="17671"/>
                  <a:pt x="18951" y="17735"/>
                </a:cubicBezTo>
                <a:cubicBezTo>
                  <a:pt x="18951" y="17743"/>
                  <a:pt x="18951" y="17752"/>
                  <a:pt x="18951" y="17760"/>
                </a:cubicBezTo>
                <a:cubicBezTo>
                  <a:pt x="18922" y="17888"/>
                  <a:pt x="19004" y="17934"/>
                  <a:pt x="19050" y="18058"/>
                </a:cubicBezTo>
                <a:cubicBezTo>
                  <a:pt x="19101" y="18196"/>
                  <a:pt x="19182" y="18339"/>
                  <a:pt x="19224" y="18479"/>
                </a:cubicBezTo>
                <a:cubicBezTo>
                  <a:pt x="19224" y="18521"/>
                  <a:pt x="19224" y="18529"/>
                  <a:pt x="19224" y="18554"/>
                </a:cubicBezTo>
                <a:cubicBezTo>
                  <a:pt x="19126" y="18542"/>
                  <a:pt x="19119" y="18517"/>
                  <a:pt x="19075" y="18430"/>
                </a:cubicBezTo>
                <a:cubicBezTo>
                  <a:pt x="19037" y="18355"/>
                  <a:pt x="19005" y="18292"/>
                  <a:pt x="19000" y="18207"/>
                </a:cubicBezTo>
                <a:cubicBezTo>
                  <a:pt x="19000" y="18150"/>
                  <a:pt x="19005" y="18129"/>
                  <a:pt x="19050" y="18107"/>
                </a:cubicBezTo>
              </a:path>
              <a:path w="5260" h="2233">
                <a:moveTo>
                  <a:pt x="19397" y="18107"/>
                </a:moveTo>
                <a:cubicBezTo>
                  <a:pt x="19397" y="18135"/>
                  <a:pt x="19404" y="18570"/>
                  <a:pt x="19422" y="18554"/>
                </a:cubicBezTo>
                <a:cubicBezTo>
                  <a:pt x="19430" y="18537"/>
                  <a:pt x="19439" y="18521"/>
                  <a:pt x="19447" y="18504"/>
                </a:cubicBezTo>
              </a:path>
              <a:path w="5260" h="2233">
                <a:moveTo>
                  <a:pt x="19546" y="17711"/>
                </a:moveTo>
                <a:cubicBezTo>
                  <a:pt x="19586" y="17711"/>
                  <a:pt x="19605" y="17722"/>
                  <a:pt x="19621" y="17760"/>
                </a:cubicBezTo>
              </a:path>
              <a:path w="5260" h="2233">
                <a:moveTo>
                  <a:pt x="19670" y="18157"/>
                </a:moveTo>
                <a:cubicBezTo>
                  <a:pt x="19670" y="18298"/>
                  <a:pt x="19654" y="18346"/>
                  <a:pt x="19695" y="18455"/>
                </a:cubicBezTo>
                <a:cubicBezTo>
                  <a:pt x="19718" y="18363"/>
                  <a:pt x="19724" y="18263"/>
                  <a:pt x="19745" y="18157"/>
                </a:cubicBezTo>
                <a:cubicBezTo>
                  <a:pt x="19759" y="18086"/>
                  <a:pt x="19803" y="18021"/>
                  <a:pt x="19819" y="17959"/>
                </a:cubicBezTo>
                <a:cubicBezTo>
                  <a:pt x="19874" y="17999"/>
                  <a:pt x="19909" y="18033"/>
                  <a:pt x="19943" y="18107"/>
                </a:cubicBezTo>
                <a:cubicBezTo>
                  <a:pt x="19971" y="18167"/>
                  <a:pt x="20022" y="18437"/>
                  <a:pt x="20092" y="18430"/>
                </a:cubicBezTo>
                <a:cubicBezTo>
                  <a:pt x="20100" y="18413"/>
                  <a:pt x="20109" y="18397"/>
                  <a:pt x="20117" y="18380"/>
                </a:cubicBezTo>
              </a:path>
              <a:path w="5260" h="2233">
                <a:moveTo>
                  <a:pt x="20265" y="17760"/>
                </a:moveTo>
                <a:cubicBezTo>
                  <a:pt x="20349" y="17950"/>
                  <a:pt x="20411" y="18140"/>
                  <a:pt x="20489" y="18331"/>
                </a:cubicBezTo>
                <a:cubicBezTo>
                  <a:pt x="20497" y="18347"/>
                  <a:pt x="20505" y="18364"/>
                  <a:pt x="20513" y="18380"/>
                </a:cubicBezTo>
              </a:path>
              <a:path w="5260" h="2233">
                <a:moveTo>
                  <a:pt x="20762" y="17711"/>
                </a:moveTo>
                <a:cubicBezTo>
                  <a:pt x="20575" y="17846"/>
                  <a:pt x="20447" y="17966"/>
                  <a:pt x="20315" y="18157"/>
                </a:cubicBezTo>
                <a:cubicBezTo>
                  <a:pt x="20198" y="18333"/>
                  <a:pt x="20150" y="18412"/>
                  <a:pt x="20092" y="185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9000" y="1857240"/>
            <a:ext cx="3349800" cy="714600"/>
          </a:xfrm>
          <a:custGeom>
            <a:avLst/>
            <a:gdLst/>
            <a:ahLst/>
            <a:rect l="l" t="t" r="r" b="b"/>
            <a:pathLst>
              <a:path w="9303" h="1986">
                <a:moveTo>
                  <a:pt x="3026" y="7144"/>
                </a:moveTo>
                <a:cubicBezTo>
                  <a:pt x="3078" y="7073"/>
                  <a:pt x="3106" y="7001"/>
                  <a:pt x="3175" y="6921"/>
                </a:cubicBezTo>
                <a:cubicBezTo>
                  <a:pt x="3312" y="6762"/>
                  <a:pt x="3455" y="6603"/>
                  <a:pt x="3621" y="6474"/>
                </a:cubicBezTo>
                <a:cubicBezTo>
                  <a:pt x="3786" y="6346"/>
                  <a:pt x="3961" y="6207"/>
                  <a:pt x="4142" y="6102"/>
                </a:cubicBezTo>
                <a:cubicBezTo>
                  <a:pt x="4363" y="5973"/>
                  <a:pt x="4604" y="5857"/>
                  <a:pt x="4837" y="5755"/>
                </a:cubicBezTo>
                <a:cubicBezTo>
                  <a:pt x="5211" y="5591"/>
                  <a:pt x="5582" y="5476"/>
                  <a:pt x="5978" y="5383"/>
                </a:cubicBezTo>
                <a:cubicBezTo>
                  <a:pt x="6489" y="5264"/>
                  <a:pt x="7017" y="5181"/>
                  <a:pt x="7541" y="5159"/>
                </a:cubicBezTo>
                <a:cubicBezTo>
                  <a:pt x="8058" y="5137"/>
                  <a:pt x="8565" y="5183"/>
                  <a:pt x="9079" y="5234"/>
                </a:cubicBezTo>
                <a:cubicBezTo>
                  <a:pt x="9418" y="5267"/>
                  <a:pt x="9719" y="5347"/>
                  <a:pt x="10046" y="5432"/>
                </a:cubicBezTo>
                <a:cubicBezTo>
                  <a:pt x="10351" y="5511"/>
                  <a:pt x="10609" y="5635"/>
                  <a:pt x="10889" y="5779"/>
                </a:cubicBezTo>
                <a:cubicBezTo>
                  <a:pt x="11128" y="5902"/>
                  <a:pt x="11368" y="6013"/>
                  <a:pt x="11584" y="6176"/>
                </a:cubicBezTo>
                <a:cubicBezTo>
                  <a:pt x="11790" y="6332"/>
                  <a:pt x="12002" y="6500"/>
                  <a:pt x="12204" y="6648"/>
                </a:cubicBezTo>
                <a:cubicBezTo>
                  <a:pt x="12222" y="6661"/>
                  <a:pt x="12298" y="6691"/>
                  <a:pt x="12303" y="6697"/>
                </a:cubicBezTo>
                <a:cubicBezTo>
                  <a:pt x="12325" y="6722"/>
                  <a:pt x="12258" y="6695"/>
                  <a:pt x="12278" y="6722"/>
                </a:cubicBezTo>
                <a:cubicBezTo>
                  <a:pt x="12270" y="6722"/>
                  <a:pt x="12262" y="6722"/>
                  <a:pt x="12254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Vide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8-11-24T18:27:43Z</dcterms:modified>
  <cp:revision>21</cp:revision>
  <dc:subject/>
  <dc:title>Lesson 5.2 part one</dc:title>
</cp:coreProperties>
</file>